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cashreg.wav" ContentType="audio/x-wav"/>
  <Override PartName="/ppt/media/image5.jpeg" ContentType="image/jpeg"/>
  <Override PartName="/ppt/media/camera.wav" ContentType="audio/x-wav"/>
  <Override PartName="/ppt/media/image16.png" ContentType="image/png"/>
  <Override PartName="/ppt/media/image1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8.jpeg" ContentType="image/jpeg"/>
  <Override PartName="/ppt/media/image12.png" ContentType="image/png"/>
  <Override PartName="/ppt/media/image1.png" ContentType="image/png"/>
  <Override PartName="/ppt/media/type.wav" ContentType="audio/x-wav"/>
  <Override PartName="/ppt/media/image17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796A-B38E-4782-A2C7-11E90FF7C4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C06C-9236-4BFA-9897-DFBD862EFC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EFF0-F509-45C9-8007-36394A3C09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1FED-422C-45A0-8B36-AF028D6786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A5C8-E312-4BB0-A607-07DD83FDBE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67AA-FA2C-4FC7-98BE-ADA72057AB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11BB-623A-4240-A1FA-B7B3A00D6C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3AA7-93DB-4B87-B637-91343DA5BB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A489-D194-4E0A-8D5C-04B595D294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F11D-77E5-4755-AE8A-2DC2A061626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7873-0086-42E7-B565-B5473BDA0C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E22B-BC4E-4E98-9EB0-344CB5FA4B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9BCA-2615-4E49-9CFF-39BB98E837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1E3C-EE0D-412B-A836-4294D37AC3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546F-BBFA-495F-9022-4D81F695DD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3F20-557F-4A06-B04B-6C1E20D102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E634-FDF1-444A-9941-2EE8DDB15F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4E03-5B4D-47A0-9B96-C3D87EA4DA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DDD-E5A8-470B-9391-28EA6A49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3FB-8A91-4981-9C0C-AAB1E7D6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A16-B724-43F2-BFA1-FD30CC21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142-BE6F-40FF-9ACD-28254022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30D-E7A2-4680-A02C-593B9A69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0543-31FB-4C4E-B5C4-F2698940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E93-9054-4897-8584-AD317630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7074-4749-48FD-AA4B-C733A54F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0EC-9345-4CF8-8BC4-4A488259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A8B-99A6-46B1-953C-F79908BC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7E8-F463-4644-975E-A394DB31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276-80A3-43D1-9C40-14DA7C90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F157-64D0-4C1E-A3A2-79485D29D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9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895480" y="9144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nit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 rot="272400">
            <a:off x="1752120" y="1218960"/>
            <a:ext cx="64771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3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School Lunc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3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62520" y="525780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校午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%Y6XWRF@AKEK$Z62LPZLML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2" descr="VYI9RKP~N0077(RSG@0)IH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85800" y="1523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 has 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676520" y="2362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80880" y="4586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have 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09480" y="31240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 needs 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542880" y="5334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we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57200" y="6019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need 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)3ZH3]V[KU)]6XG8Y4S76X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2057400" y="3581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果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952880" y="350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8077320" y="3581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舰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981080" y="6400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胶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952880" y="6248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蓝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8001000" y="6400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F{DG2ZP5)0C3HDU}{GB[3D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2952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想要些果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410080" y="228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你的水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553080" y="3429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是水果，我要的是果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0" y="3505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好的，给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3716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谢谢。为什么果汁是蓝色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200400" y="251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蓝莓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320040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是我们的新果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6400800" y="6400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谢谢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V{FT6LNX~RGMZS7ISWKQ~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6324480" y="609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怀特先生和怀特太太想买些豆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11480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豆腐在哪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19920" y="1981080"/>
            <a:ext cx="3124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那边，果汁旁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648320" y="2438280"/>
            <a:ext cx="3124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，那是奶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410080" y="2819520"/>
            <a:ext cx="3124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边是豆腐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715000" y="335268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能是。一起去看看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572000" y="3886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噢，不是。这是黄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267080" y="43434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豆腐在哪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6095880" y="45720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扰了，豆腐在哪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6934320" y="5029200"/>
            <a:ext cx="2361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噢，我很抱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6781680" y="5334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豆腐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0" y="6400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我们就去买些奶酪和黄油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4419720" y="6400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可以做些三明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QQ图片201411021554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3276720" y="1905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276720" y="2438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3276720" y="2971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K}CDCX9_VA)U5HE06Z00)[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JYI(0HB5N0F_30PB)YR747G"/>
          <p:cNvPicPr/>
          <p:nvPr/>
        </p:nvPicPr>
        <p:blipFill>
          <a:blip r:embed="rId2"/>
          <a:stretch/>
        </p:blipFill>
        <p:spPr>
          <a:xfrm>
            <a:off x="990720" y="2514600"/>
            <a:ext cx="8153280" cy="1066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[05]8M~B4AFO_1W%O~$NH96"/>
          <p:cNvPicPr/>
          <p:nvPr/>
        </p:nvPicPr>
        <p:blipFill>
          <a:blip r:embed="rId3"/>
          <a:stretch/>
        </p:blipFill>
        <p:spPr>
          <a:xfrm>
            <a:off x="1066680" y="4114800"/>
            <a:ext cx="8077320" cy="1066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2X435B@(IZD1ZPL`N@`@%O1"/>
          <p:cNvPicPr/>
          <p:nvPr/>
        </p:nvPicPr>
        <p:blipFill>
          <a:blip r:embed="rId4"/>
          <a:stretch/>
        </p:blipFill>
        <p:spPr>
          <a:xfrm>
            <a:off x="1066680" y="5791320"/>
            <a:ext cx="80773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UW1EP`MPNGR8Q)PRVBBC@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4038480" y="33670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ege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581280" y="3962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ny fr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895480" y="4419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660760" y="47862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eed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648320" y="46483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o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362320" y="5105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828800" y="54864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 we need any m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828800" y="58942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QQ图片20140913174045_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0" y="3962520"/>
            <a:ext cx="914400" cy="5205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很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486400" y="1447920"/>
            <a:ext cx="2743200" cy="520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也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0" y="685800"/>
            <a:ext cx="6629400" cy="5205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果果和托尼、珍妮在学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0" y="2666880"/>
            <a:ext cx="3048120" cy="5205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时候吃午饭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7696080" y="4203720"/>
            <a:ext cx="1447920" cy="520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我们一起做我们自己的午餐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QQ图片20140913174110"/>
          <p:cNvPicPr/>
          <p:nvPr/>
        </p:nvPicPr>
        <p:blipFill>
          <a:blip r:embed="rId1"/>
          <a:srcRect l="2563" t="0" r="0" b="44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80880" y="1066680"/>
            <a:ext cx="3124440" cy="520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需要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5257800"/>
            <a:ext cx="4724280" cy="520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需要一些米饭和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QQ图片20140913174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5105520" y="4572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有一些水果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676520" y="5791320"/>
            <a:ext cx="31240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，我们没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YM`VE[W@[59AAWH(P7G1P~H"/>
          <p:cNvPicPr/>
          <p:nvPr/>
        </p:nvPicPr>
        <p:blipFill>
          <a:blip r:embed="rId1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0" y="0"/>
            <a:ext cx="3200400" cy="520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好的。   我们需要一些米饭，肉和水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200400" y="5181480"/>
            <a:ext cx="3962520" cy="520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也需要一些蔬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{B54JXA1K$SM3[DBC(HS_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332000" y="43434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es, he does.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e ne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some fru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219320" y="4952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o, he doesn’t.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e ne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some veget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373040" y="5562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e ne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ome sa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378080" y="61945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e ne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some tofu, meat and ju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267080" y="762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、丽莎、果果和格林一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191120" y="2743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要做午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705720" y="28195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们需要一些东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QU[V@RNPI5`0LJG~I4)8}]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28600" y="0"/>
            <a:ext cx="426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喜欢学校的蔬菜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19920" y="0"/>
            <a:ext cx="3124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起来学做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743200" y="121932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蔬菜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590920" y="1752480"/>
            <a:ext cx="1447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需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286000" y="220968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土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2514600" y="259092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西红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895480" y="297180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胡萝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2819520" y="335268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勺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895480" y="380988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勺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362320" y="426708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你要这样做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648320" y="16002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洗土豆并削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4648320" y="2057400"/>
            <a:ext cx="4190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将土豆、西红柿和胡萝卜切成小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4572000" y="2895480"/>
            <a:ext cx="4191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将盐、胡萝卜和土豆放在水里，煮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分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572000" y="3657600"/>
            <a:ext cx="4191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放入西红柿。煮上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分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4572000" y="4114800"/>
            <a:ext cx="4191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放入糖。再煮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分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4800600" y="4495680"/>
            <a:ext cx="335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现在你的蔬菜汤好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)U3VJH}P]43$J03CE04E~F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8381880" y="3352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010280" y="46483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666880" y="3276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638680" y="3276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267080" y="46483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K_~VZ%B]P9[G`HOH`OE98Y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5029200" y="41911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tat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895480" y="4495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omat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57800" y="48006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arr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905120" y="54100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029200" y="54100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9T01:03:07Z</dcterms:created>
  <dc:creator/>
  <dc:description/>
  <dc:language>en-US</dc:language>
  <cp:lastModifiedBy/>
  <dcterms:modified xsi:type="dcterms:W3CDTF">2016-12-29T01:43:27Z</dcterms:modified>
  <cp:revision>1</cp:revision>
  <dc:subject/>
  <dc:title/>
</cp:coreProperties>
</file>