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4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28.wmf" ContentType="image/x-wmf"/>
  <Override PartName="/ppt/media/image18.png" ContentType="image/png"/>
  <Override PartName="/ppt/media/image6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991"/>
                </a:solidFill>
                <a:latin typeface="幼圆"/>
              </a:rPr>
              <a:t>Click to move the slide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D3B3-DD83-490D-8779-15EAB289FC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5728-1FC6-4B28-A67D-FE5FD9AB2E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BE12-A3C3-4F2F-8054-F30650E1DB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5F48-1538-473B-81C9-3912CFAE99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CEF7-3120-4576-94DD-B011825BE4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2637-934C-41A9-B417-BD8AB8D783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9D35-69C5-44C8-ACEC-15049089D4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929A-0A80-4C0F-B243-9AD7E46710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B11E-94AC-484D-B2B8-6C5FFFADF2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FEDA-829C-45AF-B4CB-C909899ECC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0DFB-B3BB-40CF-9834-99A157919D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04A0-2326-45DD-889B-09C5348984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CE9-5465-427D-9883-C020E7BA1F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5495-F5C3-469E-869B-F6CC600A70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B31-59E5-4E92-AE85-7C4401DDD0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4F81-93BD-493F-9544-715E8F5787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59EC-2389-4A0B-9F8D-2A52129E8B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988D-4182-4D4B-B947-099FE1E946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70A-1C34-4F09-B7C3-9161E902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176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F1E-FEAA-495F-9CCC-2496E08A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EDB-C059-4A1C-B2C1-664AE9EC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480-B217-4F5C-9C5A-67C5BD89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8F8A-AAE3-46C2-B84F-A3DC97C0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9AF9-DB55-483D-A0E7-0076A44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5A2-7D8C-4694-BCBA-4820514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770A-7A73-4EE7-8165-BA99DE7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5FEE-D341-4DC3-9136-5100FE6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662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4EAD-923C-47D8-92CF-22A09C0E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66CF-ED61-4860-AF22-01972025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685-1FE4-481B-B192-88E23CF1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045C-E47E-46D6-A319-AC5174B3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872C-2AF1-43A7-9752-5C9CB4E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40" y="36176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78A5-6ABF-4E0D-8C68-2AA887B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F196-8DA3-4BE6-B82E-1856E22B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72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640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904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72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640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9E18-1548-46A2-8212-89752613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655E-23D1-48DD-87F0-811BDB34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8FF6-9ADF-4240-90EE-8A0EDECA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C999-75B6-4E19-AA96-CD62B74E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1C95D-B9FD-420F-BA87-B6928651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E813-AE69-49BD-BB54-4383547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AC4-6342-4EA6-8EAE-80A8195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19040" y="662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48CD9-B34B-4899-95BB-7E70D7F8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AB04-2D80-48F4-8DCE-CE38892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3816-7FC9-440E-AD2F-E41D52A3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5DA0-CAAF-4B27-9872-D1FAA7D7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9040" y="36176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8A1AB-DD54-4C7C-BC84-2800C8E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50DB3-50C9-4424-8C8D-5717BF5D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2272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6400" y="9050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904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2272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6400" y="3617640"/>
            <a:ext cx="26697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8D29-3491-4028-9EC4-D206DDF4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3A7-E994-4E6E-9FF5-742D678B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DC1-2566-442F-9660-CD3318AA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662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00B-E37E-4C1F-B023-2D9EA7EF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499-5CFE-40AB-B92B-1BB9A8C0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6176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ABE5-A34D-4761-BA23-ECF4453F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905040"/>
            <a:ext cx="40460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17640"/>
            <a:ext cx="829152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756-10A7-466F-86D2-6A5BD6E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FBA9-6774-4384-8C35-DA28272D61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0" t="0" r="0" b="10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矩形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991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0783-A46B-45DB-9857-573038A11EB5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Click to edit the outline text format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Second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Third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Four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Fif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Six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Seven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6991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19040" y="905040"/>
            <a:ext cx="8291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Click to edit the outline text format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Second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Third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Four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Fif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Six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4749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7577"/>
                </a:solidFill>
                <a:latin typeface="幼圆"/>
              </a:rPr>
              <a:t>Seventh Outline Level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49596"/>
                </a:solidFill>
                <a:latin typeface="Times New Roman"/>
                <a:ea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1802-76BC-47F7-A8BD-CD0A8BD67150}" type="slidenum">
              <a:rPr b="0" lang="zh-CN" sz="1200" spc="-1" strike="noStrike">
                <a:solidFill>
                  <a:srgbClr val="949596"/>
                </a:solidFill>
                <a:latin typeface="Times New Roman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4.jpe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7.jpeg"/><Relationship Id="rId3" Type="http://schemas.openxmlformats.org/officeDocument/2006/relationships/image" Target="../media/image2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jpeg"/><Relationship Id="rId3" Type="http://schemas.openxmlformats.org/officeDocument/2006/relationships/slide" Target="slide8.xml"/><Relationship Id="rId4" Type="http://schemas.openxmlformats.org/officeDocument/2006/relationships/image" Target="../media/image9.jpeg"/><Relationship Id="rId5" Type="http://schemas.openxmlformats.org/officeDocument/2006/relationships/slide" Target="slide7.xml"/><Relationship Id="rId6" Type="http://schemas.openxmlformats.org/officeDocument/2006/relationships/image" Target="../media/image10.png"/><Relationship Id="rId7" Type="http://schemas.openxmlformats.org/officeDocument/2006/relationships/slide" Target="slide10.xml"/><Relationship Id="rId8" Type="http://schemas.openxmlformats.org/officeDocument/2006/relationships/image" Target="../media/image11.jpeg"/><Relationship Id="rId9" Type="http://schemas.openxmlformats.org/officeDocument/2006/relationships/slide" Target="slide9.xml"/><Relationship Id="rId10" Type="http://schemas.openxmlformats.org/officeDocument/2006/relationships/image" Target="../media/image12.jpeg"/><Relationship Id="rId11" Type="http://schemas.openxmlformats.org/officeDocument/2006/relationships/slide" Target="slide12.xml"/><Relationship Id="rId12" Type="http://schemas.openxmlformats.org/officeDocument/2006/relationships/image" Target="../media/image29.jpeg"/><Relationship Id="rId13" Type="http://schemas.openxmlformats.org/officeDocument/2006/relationships/slide" Target="slide11.xml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5.xml"/><Relationship Id="rId6" Type="http://schemas.openxmlformats.org/officeDocument/2006/relationships/image" Target="../media/image8.jpeg"/><Relationship Id="rId7" Type="http://schemas.openxmlformats.org/officeDocument/2006/relationships/slide" Target="slide8.xml"/><Relationship Id="rId8" Type="http://schemas.openxmlformats.org/officeDocument/2006/relationships/image" Target="../media/image9.jpe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10.xml"/><Relationship Id="rId12" Type="http://schemas.openxmlformats.org/officeDocument/2006/relationships/image" Target="../media/image11.jpeg"/><Relationship Id="rId13" Type="http://schemas.openxmlformats.org/officeDocument/2006/relationships/slide" Target="slide9.xml"/><Relationship Id="rId14" Type="http://schemas.openxmlformats.org/officeDocument/2006/relationships/image" Target="../media/image12.jpeg"/><Relationship Id="rId15" Type="http://schemas.openxmlformats.org/officeDocument/2006/relationships/slide" Target="slide12.xml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jpeg"/><Relationship Id="rId19" Type="http://schemas.openxmlformats.org/officeDocument/2006/relationships/slide" Target="slide6.xml"/><Relationship Id="rId20" Type="http://schemas.openxmlformats.org/officeDocument/2006/relationships/image" Target="../media/image6.jpeg"/><Relationship Id="rId21" Type="http://schemas.openxmlformats.org/officeDocument/2006/relationships/slide" Target="slide11.xml"/><Relationship Id="rId22" Type="http://schemas.openxmlformats.org/officeDocument/2006/relationships/image" Target="../media/image16.jpeg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4.xml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857160" y="1714680"/>
            <a:ext cx="7829640" cy="19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Unit 5 School Lunch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3280" y="3069720"/>
            <a:ext cx="16192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rice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pic>
        <p:nvPicPr>
          <p:cNvPr id="184" name="Picture 4" descr="ric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60" y="333360"/>
            <a:ext cx="2735280" cy="25923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3276720" y="1844640"/>
            <a:ext cx="594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Do we have any 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276720" y="3213000"/>
            <a:ext cx="55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Yes,we 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3"/>
          <a:stretch/>
        </p:blipFill>
        <p:spPr>
          <a:xfrm>
            <a:off x="1187280" y="4076640"/>
            <a:ext cx="1055880" cy="7938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3997440" y="333360"/>
            <a:ext cx="3489120" cy="87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7280" y="2997360"/>
            <a:ext cx="1152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tofu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pic>
        <p:nvPicPr>
          <p:cNvPr id="190" name="Picture 4" descr="tofu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549360"/>
            <a:ext cx="2952720" cy="25923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3276720" y="1844640"/>
            <a:ext cx="5940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Do we have any tof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276720" y="3213000"/>
            <a:ext cx="55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No,we don'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914400" cy="11052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9"/>
          <p:cNvSpPr/>
          <p:nvPr/>
        </p:nvSpPr>
        <p:spPr>
          <a:xfrm>
            <a:off x="3997440" y="333360"/>
            <a:ext cx="3489120" cy="87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99640" y="3358800"/>
            <a:ext cx="25210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meat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pic>
        <p:nvPicPr>
          <p:cNvPr id="196" name="Picture 4" descr="meat">
            <a:hlinkClick r:id="rId1" action="ppaction://hlinksldjump"/>
          </p:cNvPr>
          <p:cNvPicPr/>
          <p:nvPr/>
        </p:nvPicPr>
        <p:blipFill>
          <a:blip r:embed="rId2">
            <a:lum bright="-36000"/>
          </a:blip>
          <a:stretch/>
        </p:blipFill>
        <p:spPr>
          <a:xfrm>
            <a:off x="181080" y="404640"/>
            <a:ext cx="2987640" cy="2638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3276720" y="3718080"/>
            <a:ext cx="59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Do we have any m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203640" y="451008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No,we don'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276720" y="1054080"/>
            <a:ext cx="480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hat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276720" y="2349360"/>
            <a:ext cx="583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e have some 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3"/>
          <a:stretch/>
        </p:blipFill>
        <p:spPr>
          <a:xfrm>
            <a:off x="1476360" y="4076640"/>
            <a:ext cx="914400" cy="11048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1"/>
          <p:cNvSpPr/>
          <p:nvPr/>
        </p:nvSpPr>
        <p:spPr>
          <a:xfrm>
            <a:off x="3997440" y="333360"/>
            <a:ext cx="3489120" cy="87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619280" y="477720"/>
            <a:ext cx="3490920" cy="868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Host Control 188" descr=""/>
          <p:cNvPicPr/>
          <p:nvPr/>
        </p:nvPicPr>
        <p:blipFill>
          <a:blip r:embed="rId2"/>
          <a:stretch/>
        </p:blipFill>
        <p:spPr>
          <a:xfrm>
            <a:off x="1371600" y="1200240"/>
            <a:ext cx="680256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8680" y="68040"/>
            <a:ext cx="2568600" cy="841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7494b"/>
                </a:solidFill>
                <a:latin typeface="幼圆"/>
              </a:rPr>
              <a:t>Game Play</a:t>
            </a: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 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pic>
        <p:nvPicPr>
          <p:cNvPr id="206" name="Picture 4" descr="vegetabl">
            <a:hlinkClick r:id="rId1" action="ppaction://hlinksldjump"/>
          </p:cNvPr>
          <p:cNvPicPr/>
          <p:nvPr/>
        </p:nvPicPr>
        <p:blipFill>
          <a:blip r:embed="rId2">
            <a:lum bright="-18000"/>
          </a:blip>
          <a:srcRect l="-12509" t="10280" r="-4649" b="-23230"/>
          <a:stretch/>
        </p:blipFill>
        <p:spPr>
          <a:xfrm>
            <a:off x="1979640" y="3718080"/>
            <a:ext cx="1728720" cy="1360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sugar">
            <a:hlinkClick r:id="rId3" action="ppaction://hlinksldjump"/>
          </p:cNvPr>
          <p:cNvPicPr/>
          <p:nvPr/>
        </p:nvPicPr>
        <p:blipFill>
          <a:blip r:embed="rId4">
            <a:lum bright="-30000"/>
          </a:blip>
          <a:srcRect l="19766" t="7483" r="6293" b="21063"/>
          <a:stretch/>
        </p:blipFill>
        <p:spPr>
          <a:xfrm>
            <a:off x="4429080" y="5445000"/>
            <a:ext cx="1371600" cy="9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juice">
            <a:hlinkClick r:id="rId5" action="ppaction://hlinksldjump"/>
          </p:cNvPr>
          <p:cNvPicPr/>
          <p:nvPr/>
        </p:nvPicPr>
        <p:blipFill>
          <a:blip r:embed="rId6"/>
          <a:srcRect l="37415" t="9347" r="39210" b="42908"/>
          <a:stretch/>
        </p:blipFill>
        <p:spPr>
          <a:xfrm>
            <a:off x="7308720" y="1844640"/>
            <a:ext cx="7923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rice">
            <a:hlinkClick r:id="rId7" action="ppaction://hlinksldjump"/>
          </p:cNvPr>
          <p:cNvPicPr/>
          <p:nvPr/>
        </p:nvPicPr>
        <p:blipFill>
          <a:blip r:embed="rId8">
            <a:lum bright="-48000"/>
          </a:blip>
          <a:srcRect l="23791" t="8667" r="22260" b="18216"/>
          <a:stretch/>
        </p:blipFill>
        <p:spPr>
          <a:xfrm>
            <a:off x="5364000" y="1123920"/>
            <a:ext cx="1079640" cy="11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salt">
            <a:hlinkClick r:id="rId9" action="ppaction://hlinksldjump"/>
          </p:cNvPr>
          <p:cNvPicPr/>
          <p:nvPr/>
        </p:nvPicPr>
        <p:blipFill>
          <a:blip r:embed="rId10">
            <a:lum bright="-30000"/>
          </a:blip>
          <a:srcRect l="32691" t="0" r="31406" b="6475"/>
          <a:stretch/>
        </p:blipFill>
        <p:spPr>
          <a:xfrm>
            <a:off x="4645080" y="2925720"/>
            <a:ext cx="934920" cy="187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meat">
            <a:hlinkClick r:id="rId11" action="ppaction://hlinksldjump"/>
          </p:cNvPr>
          <p:cNvPicPr/>
          <p:nvPr/>
        </p:nvPicPr>
        <p:blipFill>
          <a:blip r:embed="rId12">
            <a:lum bright="-36000"/>
          </a:blip>
          <a:srcRect l="10601" t="8314" r="13889" b="10658"/>
          <a:stretch/>
        </p:blipFill>
        <p:spPr>
          <a:xfrm>
            <a:off x="250920" y="4508640"/>
            <a:ext cx="1295280" cy="1003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tofu">
            <a:hlinkClick r:id="rId13" action="ppaction://hlinksldjump"/>
          </p:cNvPr>
          <p:cNvPicPr/>
          <p:nvPr/>
        </p:nvPicPr>
        <p:blipFill>
          <a:blip r:embed="rId14">
            <a:lum bright="-48000"/>
          </a:blip>
          <a:stretch/>
        </p:blipFill>
        <p:spPr>
          <a:xfrm>
            <a:off x="6877080" y="3789360"/>
            <a:ext cx="1270080" cy="100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fruit"/>
          <p:cNvPicPr/>
          <p:nvPr/>
        </p:nvPicPr>
        <p:blipFill>
          <a:blip r:embed="rId15"/>
          <a:stretch/>
        </p:blipFill>
        <p:spPr>
          <a:xfrm>
            <a:off x="2124000" y="1844640"/>
            <a:ext cx="16574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19040" y="1917360"/>
            <a:ext cx="82915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227577"/>
                </a:solidFill>
                <a:latin typeface="幼圆"/>
              </a:rPr>
              <a:t>Group Work</a:t>
            </a:r>
            <a:endParaRPr b="0" lang="en-US" sz="9600" spc="-1" strike="noStrike">
              <a:solidFill>
                <a:srgbClr val="227577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 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904680"/>
            <a:ext cx="8291520" cy="30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What do we have?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We have some ____.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Do we have any _____?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No,we don't./ Yes, we do.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76720" y="3718080"/>
            <a:ext cx="59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492360" y="4581360"/>
            <a:ext cx="554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76720" y="1054080"/>
            <a:ext cx="480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6084720" y="2709720"/>
            <a:ext cx="30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vegetabl"/>
          <p:cNvPicPr/>
          <p:nvPr/>
        </p:nvPicPr>
        <p:blipFill>
          <a:blip r:embed="rId5">
            <a:lum bright="-18000"/>
          </a:blip>
          <a:srcRect l="-12509" t="10280" r="-4649" b="-23230"/>
          <a:stretch/>
        </p:blipFill>
        <p:spPr>
          <a:xfrm>
            <a:off x="3564000" y="5589720"/>
            <a:ext cx="1728720" cy="1360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gar"/>
          <p:cNvPicPr/>
          <p:nvPr/>
        </p:nvPicPr>
        <p:blipFill>
          <a:blip r:embed="rId6">
            <a:lum bright="-30000"/>
          </a:blip>
          <a:srcRect l="19766" t="7483" r="6293" b="21063"/>
          <a:stretch/>
        </p:blipFill>
        <p:spPr>
          <a:xfrm>
            <a:off x="5724360" y="5229360"/>
            <a:ext cx="1371600" cy="93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juice"/>
          <p:cNvPicPr/>
          <p:nvPr/>
        </p:nvPicPr>
        <p:blipFill>
          <a:blip r:embed="rId7"/>
          <a:srcRect l="37415" t="9347" r="39210" b="42908"/>
          <a:stretch/>
        </p:blipFill>
        <p:spPr>
          <a:xfrm>
            <a:off x="6875640" y="1413000"/>
            <a:ext cx="792000" cy="1212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rice"/>
          <p:cNvPicPr/>
          <p:nvPr/>
        </p:nvPicPr>
        <p:blipFill>
          <a:blip r:embed="rId8">
            <a:lum bright="-48000"/>
          </a:blip>
          <a:srcRect l="23791" t="8667" r="22260" b="18216"/>
          <a:stretch/>
        </p:blipFill>
        <p:spPr>
          <a:xfrm>
            <a:off x="5364000" y="1123920"/>
            <a:ext cx="1079640" cy="1100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salt"/>
          <p:cNvPicPr/>
          <p:nvPr/>
        </p:nvPicPr>
        <p:blipFill>
          <a:blip r:embed="rId9">
            <a:lum bright="-30000"/>
          </a:blip>
          <a:srcRect l="32691" t="0" r="31406" b="6475"/>
          <a:stretch/>
        </p:blipFill>
        <p:spPr>
          <a:xfrm>
            <a:off x="2411280" y="4726080"/>
            <a:ext cx="935280" cy="1874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meat"/>
          <p:cNvPicPr/>
          <p:nvPr/>
        </p:nvPicPr>
        <p:blipFill>
          <a:blip r:embed="rId10">
            <a:lum bright="-36000"/>
          </a:blip>
          <a:srcRect l="10601" t="8314" r="13889" b="10658"/>
          <a:stretch/>
        </p:blipFill>
        <p:spPr>
          <a:xfrm>
            <a:off x="250920" y="4508640"/>
            <a:ext cx="1295280" cy="1003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tofu"/>
          <p:cNvPicPr/>
          <p:nvPr/>
        </p:nvPicPr>
        <p:blipFill>
          <a:blip r:embed="rId11">
            <a:lum bright="-48000"/>
          </a:blip>
          <a:stretch/>
        </p:blipFill>
        <p:spPr>
          <a:xfrm>
            <a:off x="7596360" y="5157720"/>
            <a:ext cx="127152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t01480686f2eeea5ced"/>
          <p:cNvPicPr/>
          <p:nvPr/>
        </p:nvPicPr>
        <p:blipFill>
          <a:blip r:embed="rId12"/>
          <a:srcRect l="32913" t="23763" r="45213" b="26290"/>
          <a:stretch/>
        </p:blipFill>
        <p:spPr>
          <a:xfrm>
            <a:off x="7956720" y="1197000"/>
            <a:ext cx="792000" cy="1317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t018c7414d71e52db78"/>
          <p:cNvPicPr/>
          <p:nvPr/>
        </p:nvPicPr>
        <p:blipFill>
          <a:blip r:embed="rId13">
            <a:lum bright="-18000"/>
          </a:blip>
          <a:stretch/>
        </p:blipFill>
        <p:spPr>
          <a:xfrm>
            <a:off x="6946920" y="328464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fruit"/>
          <p:cNvPicPr/>
          <p:nvPr/>
        </p:nvPicPr>
        <p:blipFill>
          <a:blip r:embed="rId14"/>
          <a:stretch/>
        </p:blipFill>
        <p:spPr>
          <a:xfrm>
            <a:off x="3708360" y="3933720"/>
            <a:ext cx="165564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068360" y="980640"/>
            <a:ext cx="464364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ctr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7577"/>
                </a:solidFill>
                <a:latin typeface="幼圆"/>
              </a:rPr>
              <a:t>Homework</a:t>
            </a:r>
            <a:endParaRPr b="0" lang="en-US" sz="3600" spc="-1" strike="noStrike">
              <a:solidFill>
                <a:srgbClr val="227577"/>
              </a:solidFill>
              <a:latin typeface="幼圆"/>
            </a:endParaRPr>
          </a:p>
          <a:p>
            <a:pPr marL="35712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7577"/>
                </a:solidFill>
                <a:latin typeface="幼圆"/>
              </a:rPr>
              <a:t>1.Copy the word. 4 times each word.</a:t>
            </a:r>
            <a:endParaRPr b="0" lang="en-US" sz="3600" spc="-1" strike="noStrike">
              <a:solidFill>
                <a:srgbClr val="227577"/>
              </a:solidFill>
              <a:latin typeface="幼圆"/>
            </a:endParaRPr>
          </a:p>
          <a:p>
            <a:pPr marL="35712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7577"/>
                </a:solidFill>
                <a:latin typeface="幼圆"/>
              </a:rPr>
              <a:t>2.Recite the words.</a:t>
            </a:r>
            <a:endParaRPr b="0" lang="en-US" sz="3600" spc="-1" strike="noStrike">
              <a:solidFill>
                <a:srgbClr val="227577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662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学习目标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905040"/>
            <a:ext cx="8291520" cy="14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 algn="just">
              <a:lnSpc>
                <a:spcPct val="90000"/>
              </a:lnSpc>
              <a:spcBef>
                <a:spcPts val="180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1.</a:t>
            </a: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认读单词 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marL="3535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  </a:t>
            </a: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juice, rice, salt, sugar, 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  <a:p>
            <a:pPr marL="353520" indent="0" algn="just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  </a:t>
            </a: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meat, vegetables, tofu and fruit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3141720"/>
            <a:ext cx="8351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学习句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What do we have?    We have some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Do we have any sal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Yes, we do./ No, we do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27577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03280" y="2925720"/>
            <a:ext cx="5689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Look  and  S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oshan-Mingdeng-Kitchen-Cabinet-Co.,-Ltd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40" y="1054080"/>
            <a:ext cx="8964720" cy="5877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t01ee46ac5f3bc65e9a"/>
          <p:cNvPicPr/>
          <p:nvPr/>
        </p:nvPicPr>
        <p:blipFill>
          <a:blip r:embed="rId3"/>
          <a:srcRect l="0" t="23349" r="0" b="26078"/>
          <a:stretch/>
        </p:blipFill>
        <p:spPr>
          <a:xfrm>
            <a:off x="2413080" y="5086440"/>
            <a:ext cx="1011240" cy="790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4"/>
          <a:stretch/>
        </p:blipFill>
        <p:spPr>
          <a:xfrm>
            <a:off x="7358040" y="4443480"/>
            <a:ext cx="1582920" cy="24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81080" y="189000"/>
            <a:ext cx="85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ook,Gogo is in the kitchen. He is hung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in the kitc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vegetabl">
            <a:hlinkClick r:id="rId5" action="ppaction://hlinksldjump"/>
          </p:cNvPr>
          <p:cNvPicPr/>
          <p:nvPr/>
        </p:nvPicPr>
        <p:blipFill>
          <a:blip r:embed="rId6">
            <a:lum bright="-18000"/>
          </a:blip>
          <a:srcRect l="-12509" t="10280" r="-4649" b="-23230"/>
          <a:stretch/>
        </p:blipFill>
        <p:spPr>
          <a:xfrm>
            <a:off x="4788000" y="4437000"/>
            <a:ext cx="1322280" cy="104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ugar">
            <a:hlinkClick r:id="rId7" action="ppaction://hlinksldjump"/>
          </p:cNvPr>
          <p:cNvPicPr/>
          <p:nvPr/>
        </p:nvPicPr>
        <p:blipFill>
          <a:blip r:embed="rId8">
            <a:lum bright="-30000"/>
          </a:blip>
          <a:srcRect l="19766" t="7483" r="6293" b="21063"/>
          <a:stretch/>
        </p:blipFill>
        <p:spPr>
          <a:xfrm>
            <a:off x="6013440" y="3933720"/>
            <a:ext cx="798480" cy="544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uice">
            <a:hlinkClick r:id="rId9" action="ppaction://hlinksldjump"/>
          </p:cNvPr>
          <p:cNvPicPr/>
          <p:nvPr/>
        </p:nvPicPr>
        <p:blipFill>
          <a:blip r:embed="rId10"/>
          <a:srcRect l="37415" t="9347" r="39210" b="42908"/>
          <a:stretch/>
        </p:blipFill>
        <p:spPr>
          <a:xfrm>
            <a:off x="4500720" y="4149720"/>
            <a:ext cx="431640" cy="662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rice">
            <a:hlinkClick r:id="rId11" action="ppaction://hlinksldjump"/>
          </p:cNvPr>
          <p:cNvPicPr/>
          <p:nvPr/>
        </p:nvPicPr>
        <p:blipFill>
          <a:blip r:embed="rId12">
            <a:lum bright="-48000"/>
          </a:blip>
          <a:srcRect l="23791" t="8667" r="22260" b="18216"/>
          <a:stretch/>
        </p:blipFill>
        <p:spPr>
          <a:xfrm>
            <a:off x="5148360" y="3860640"/>
            <a:ext cx="576000" cy="58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salt">
            <a:hlinkClick r:id="rId13" action="ppaction://hlinksldjump"/>
          </p:cNvPr>
          <p:cNvPicPr/>
          <p:nvPr/>
        </p:nvPicPr>
        <p:blipFill>
          <a:blip r:embed="rId14">
            <a:lum bright="-30000"/>
          </a:blip>
          <a:srcRect l="32691" t="0" r="31406" b="6475"/>
          <a:stretch/>
        </p:blipFill>
        <p:spPr>
          <a:xfrm>
            <a:off x="7885080" y="3718080"/>
            <a:ext cx="374760" cy="75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meat">
            <a:hlinkClick r:id="rId15" action="ppaction://hlinksldjump"/>
          </p:cNvPr>
          <p:cNvPicPr/>
          <p:nvPr/>
        </p:nvPicPr>
        <p:blipFill>
          <a:blip r:embed="rId16">
            <a:lum bright="-36000"/>
          </a:blip>
          <a:srcRect l="10601" t="8333" r="13914" b="10696"/>
          <a:stretch/>
        </p:blipFill>
        <p:spPr>
          <a:xfrm>
            <a:off x="2629080" y="5229360"/>
            <a:ext cx="574560" cy="446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t01480686f2eeea5ced"/>
          <p:cNvPicPr/>
          <p:nvPr/>
        </p:nvPicPr>
        <p:blipFill>
          <a:blip r:embed="rId17"/>
          <a:srcRect l="32913" t="23763" r="45213" b="26290"/>
          <a:stretch/>
        </p:blipFill>
        <p:spPr>
          <a:xfrm>
            <a:off x="2197080" y="4005360"/>
            <a:ext cx="476280" cy="792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t018c7414d71e52db78"/>
          <p:cNvPicPr/>
          <p:nvPr/>
        </p:nvPicPr>
        <p:blipFill>
          <a:blip r:embed="rId18">
            <a:lum bright="-18000"/>
          </a:blip>
          <a:stretch/>
        </p:blipFill>
        <p:spPr>
          <a:xfrm>
            <a:off x="1260360" y="4870440"/>
            <a:ext cx="105588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6">
            <a:hlinkClick r:id="rId19" action="ppaction://hlinksldjump"/>
          </p:cNvPr>
          <p:cNvSpPr/>
          <p:nvPr/>
        </p:nvSpPr>
        <p:spPr>
          <a:xfrm>
            <a:off x="2987640" y="35020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5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7" descr="t01ee46ac5f3bc65e9a"/>
          <p:cNvPicPr/>
          <p:nvPr/>
        </p:nvPicPr>
        <p:blipFill>
          <a:blip r:embed="rId20"/>
          <a:srcRect l="0" t="23349" r="0" b="26078"/>
          <a:stretch/>
        </p:blipFill>
        <p:spPr>
          <a:xfrm>
            <a:off x="6732720" y="4005360"/>
            <a:ext cx="1011240" cy="79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tofu">
            <a:hlinkClick r:id="rId21" action="ppaction://hlinksldjump"/>
          </p:cNvPr>
          <p:cNvPicPr/>
          <p:nvPr/>
        </p:nvPicPr>
        <p:blipFill>
          <a:blip r:embed="rId22">
            <a:lum bright="-48000"/>
          </a:blip>
          <a:stretch/>
        </p:blipFill>
        <p:spPr>
          <a:xfrm>
            <a:off x="6948360" y="4149720"/>
            <a:ext cx="6368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1080" y="1773360"/>
            <a:ext cx="4657680" cy="12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7494b"/>
                </a:solidFill>
                <a:latin typeface="幼圆"/>
              </a:rPr>
              <a:t>What do we have?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7440" y="333000"/>
            <a:ext cx="3489120" cy="87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227577"/>
                </a:solidFill>
                <a:latin typeface="幼圆"/>
              </a:rPr>
              <a:t>Listen and say</a:t>
            </a:r>
            <a:endParaRPr b="0" lang="en-US" sz="2200" spc="-1" strike="noStrike">
              <a:solidFill>
                <a:srgbClr val="227577"/>
              </a:solidFill>
              <a:latin typeface="幼圆"/>
            </a:endParaRPr>
          </a:p>
        </p:txBody>
      </p:sp>
      <p:pic>
        <p:nvPicPr>
          <p:cNvPr id="157" name="Picture 4" descr="vegetab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04640"/>
            <a:ext cx="2808360" cy="2970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052720" y="3860640"/>
            <a:ext cx="6985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e have some vegetab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66800" y="3344760"/>
            <a:ext cx="23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4720" y="2638440"/>
            <a:ext cx="223200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5520" indent="-33552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7577"/>
                </a:solidFill>
                <a:latin typeface="幼圆"/>
              </a:rPr>
              <a:t>fruit</a:t>
            </a:r>
            <a:endParaRPr b="0" lang="en-US" sz="4400" spc="-1" strike="noStrike">
              <a:solidFill>
                <a:srgbClr val="227577"/>
              </a:solidFill>
              <a:latin typeface="幼圆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421080" y="1773360"/>
            <a:ext cx="46576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hat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203640" y="4365720"/>
            <a:ext cx="55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e have some 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fruit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08000" y="477720"/>
            <a:ext cx="2919240" cy="20113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4356000" y="404640"/>
            <a:ext cx="3490920" cy="868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3933360"/>
            <a:ext cx="14418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juice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pic>
        <p:nvPicPr>
          <p:cNvPr id="166" name="Picture 4" descr="juic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080" y="1341360"/>
            <a:ext cx="3166920" cy="23767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421080" y="1773360"/>
            <a:ext cx="46576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hat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203640" y="4365720"/>
            <a:ext cx="55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e have some 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997440" y="333360"/>
            <a:ext cx="3489120" cy="87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7280" y="4005360"/>
            <a:ext cx="1873440" cy="50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86991"/>
                </a:solidFill>
                <a:latin typeface="幼圆"/>
              </a:rPr>
              <a:t>sugar</a:t>
            </a:r>
            <a:endParaRPr b="1" lang="en-US" sz="4000" spc="-1" strike="noStrike">
              <a:solidFill>
                <a:srgbClr val="286991"/>
              </a:solidFill>
              <a:latin typeface="幼圆"/>
            </a:endParaRPr>
          </a:p>
        </p:txBody>
      </p:sp>
      <p:pic>
        <p:nvPicPr>
          <p:cNvPr id="171" name="Picture 4" descr="suga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334800"/>
            <a:ext cx="3313080" cy="3384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3421080" y="1773360"/>
            <a:ext cx="46576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hat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203640" y="4365720"/>
            <a:ext cx="554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e have some 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997440" y="333360"/>
            <a:ext cx="3489120" cy="87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alt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1080" y="477720"/>
            <a:ext cx="2879640" cy="31402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8360" y="3717720"/>
            <a:ext cx="1870200" cy="55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6991"/>
                </a:solidFill>
                <a:latin typeface="幼圆"/>
              </a:rPr>
              <a:t>salt</a:t>
            </a:r>
            <a:endParaRPr b="1" lang="en-US" sz="3200" spc="-1" strike="noStrike">
              <a:solidFill>
                <a:srgbClr val="286991"/>
              </a:solidFill>
              <a:latin typeface="幼圆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76720" y="3718080"/>
            <a:ext cx="59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Do we have any ____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203640" y="451008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Yes,we 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76720" y="1054080"/>
            <a:ext cx="480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hat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276720" y="2349360"/>
            <a:ext cx="583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We have some 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3"/>
          <a:stretch/>
        </p:blipFill>
        <p:spPr>
          <a:xfrm>
            <a:off x="1476360" y="4365720"/>
            <a:ext cx="1054080" cy="7938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1"/>
          <p:cNvSpPr/>
          <p:nvPr/>
        </p:nvSpPr>
        <p:spPr>
          <a:xfrm>
            <a:off x="3997440" y="333360"/>
            <a:ext cx="3489120" cy="870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Listen and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01:17:16Z</dcterms:created>
  <dc:creator/>
  <dc:description/>
  <dc:language>en-US</dc:language>
  <cp:lastModifiedBy/>
  <dcterms:modified xsi:type="dcterms:W3CDTF">2016-12-29T01:17:18Z</dcterms:modified>
  <cp:revision>1</cp:revision>
  <dc:subject/>
  <dc:title/>
</cp:coreProperties>
</file>