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5CAD-29F1-4EAB-8D8A-66FE81B504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B98B-42BE-4A36-8014-78C553FB95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FB7E-FCED-4EF4-834B-D4DCF70D8D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1621-C782-4360-BC8C-C81551CF88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AAB6-0F56-4C19-A075-7575A934FC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0DD-A043-467F-A24C-7AD20FCFA8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A7E-7DB0-41C1-B71C-095C15101E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2048-1A8E-4524-BD6E-5AFA7716F5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8EA-8197-47AF-A30B-0EB71A91B6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A489-E54D-4A03-8C14-5EFD6A1F4C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F692-F903-42DB-A8EE-E6374E6D7B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830-5494-4006-B1C5-A325222B1A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2AA5-3A4D-4559-B9DA-4DD8823B37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84FD-6B82-4142-AF4D-1D225DDEDE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C8D0-63C0-4601-AF77-36B9AC592A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9E69-6006-4CCE-8E93-4E63DC805F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59F5-025E-4098-BFC3-00D8DDB1B5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A124-8E5F-49B0-B92B-FFD0AA57E8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431-AE81-42FC-BC38-4D400224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2B8-A9DE-4EE3-BB7A-B3C92446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56D-684F-46CA-BE28-049E57E4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80A-18A5-42DE-B25F-D084C901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D6E-6B1D-462D-AD94-70163FDF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DC3-6F51-4910-BA4D-ECBB1D4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CDE-C3D4-487E-A6BE-D5526F3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369-1CAD-416F-AEA7-9A067C0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263-7471-4F1F-A7AB-8C92E8DC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1A5-13C3-4A9C-9F78-4247EA0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78A-A345-4209-89CF-AE69903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BC4-D5BF-4624-BDFD-523CF9A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433-A39E-492E-B20B-33779C91B9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Vocabulary.mp3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arget.swf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9600" y="39600"/>
            <a:ext cx="72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Unit 6 shopping for a school pa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829760" y="77148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Vocabulary &amp;targ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ad after the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2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 and sa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rcRect l="0" t="0" r="0" b="13667"/>
          <a:stretch/>
        </p:blipFill>
        <p:spPr>
          <a:xfrm>
            <a:off x="0" y="743040"/>
            <a:ext cx="1979640" cy="2257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2"/>
          <a:srcRect l="0" t="0" r="0" b="3773"/>
          <a:stretch/>
        </p:blipFill>
        <p:spPr>
          <a:xfrm>
            <a:off x="2484360" y="789120"/>
            <a:ext cx="2165400" cy="24256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3"/>
          <a:stretch/>
        </p:blipFill>
        <p:spPr>
          <a:xfrm>
            <a:off x="4932360" y="789120"/>
            <a:ext cx="2141640" cy="2520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"/>
          <p:cNvPicPr/>
          <p:nvPr/>
        </p:nvPicPr>
        <p:blipFill>
          <a:blip r:embed="rId4"/>
          <a:stretch/>
        </p:blipFill>
        <p:spPr>
          <a:xfrm>
            <a:off x="7345440" y="757080"/>
            <a:ext cx="1834920" cy="2600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"/>
          <p:cNvPicPr/>
          <p:nvPr/>
        </p:nvPicPr>
        <p:blipFill>
          <a:blip r:embed="rId5"/>
          <a:stretch/>
        </p:blipFill>
        <p:spPr>
          <a:xfrm>
            <a:off x="0" y="4005360"/>
            <a:ext cx="2603520" cy="2840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" descr=""/>
          <p:cNvPicPr/>
          <p:nvPr/>
        </p:nvPicPr>
        <p:blipFill>
          <a:blip r:embed="rId6"/>
          <a:srcRect l="0" t="0" r="0" b="4974"/>
          <a:stretch/>
        </p:blipFill>
        <p:spPr>
          <a:xfrm>
            <a:off x="2771640" y="3862440"/>
            <a:ext cx="2905200" cy="2852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7"/>
          <a:srcRect l="0" t="0" r="0" b="5225"/>
          <a:stretch/>
        </p:blipFill>
        <p:spPr>
          <a:xfrm>
            <a:off x="5391000" y="4005360"/>
            <a:ext cx="37893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Blank filling </a:t>
            </a:r>
            <a:r>
              <a:rPr b="0" lang="zh-CN" sz="4400" spc="-1" strike="noStrike">
                <a:solidFill>
                  <a:srgbClr val="92d050"/>
                </a:solidFill>
                <a:latin typeface="Calibri"/>
              </a:rPr>
              <a:t>填补单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528560"/>
            <a:ext cx="8856720" cy="47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_ n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 _ 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_  x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_ 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_ f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y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_ gh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  h _ ndred                 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_  _ 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 _  nsive           10 d _ l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08000" y="112536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1640" y="1611360"/>
            <a:ext cx="2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137840" y="160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74600" y="160020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983880" y="2752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809520" y="282420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546960" y="275112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893960" y="393372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5906160" y="3851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1400760" y="506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4429440" y="501480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ok ,where is kangka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内容占位符 2" descr=""/>
          <p:cNvPicPr/>
          <p:nvPr/>
        </p:nvPicPr>
        <p:blipFill>
          <a:blip r:embed="rId2"/>
          <a:stretch/>
        </p:blipFill>
        <p:spPr>
          <a:xfrm>
            <a:off x="0" y="1197000"/>
            <a:ext cx="453384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3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564000" cy="4869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-15480" y="4618080"/>
            <a:ext cx="60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uess,Where is Jenny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rcRect l="0" t="0" r="0" b="4735"/>
          <a:stretch/>
        </p:blipFill>
        <p:spPr>
          <a:xfrm>
            <a:off x="0" y="-217440"/>
            <a:ext cx="2276640" cy="2717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"/>
          <p:cNvPicPr/>
          <p:nvPr/>
        </p:nvPicPr>
        <p:blipFill>
          <a:blip r:embed="rId2"/>
          <a:srcRect l="0" t="0" r="0" b="5815"/>
          <a:stretch/>
        </p:blipFill>
        <p:spPr>
          <a:xfrm>
            <a:off x="3276720" y="-23760"/>
            <a:ext cx="1871640" cy="22384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"/>
          <p:cNvPicPr/>
          <p:nvPr/>
        </p:nvPicPr>
        <p:blipFill>
          <a:blip r:embed="rId3"/>
          <a:stretch/>
        </p:blipFill>
        <p:spPr>
          <a:xfrm>
            <a:off x="6516720" y="4680"/>
            <a:ext cx="2482920" cy="2347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532800" y="178452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600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492360" y="156060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58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-72360" y="3533760"/>
            <a:ext cx="9353880" cy="703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:How much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the…./How much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he…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9360" y="4618080"/>
            <a:ext cx="4713120" cy="76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:It’s  …./they ar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9720" y="5754600"/>
            <a:ext cx="9078120" cy="703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: Hey ,that’s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hea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wow that’s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xpensi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22320" y="1700280"/>
            <a:ext cx="8820000" cy="5324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794120" y="2608200"/>
            <a:ext cx="3492360" cy="1739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e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cabulary&amp;tag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矩形 3" descr=""/>
          <p:cNvPicPr/>
          <p:nvPr/>
        </p:nvPicPr>
        <p:blipFill>
          <a:blip r:embed="rId1"/>
          <a:stretch/>
        </p:blipFill>
        <p:spPr>
          <a:xfrm>
            <a:off x="950760" y="2048040"/>
            <a:ext cx="7120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rcRect l="0" t="0" r="0" b="4554"/>
          <a:stretch/>
        </p:blipFill>
        <p:spPr>
          <a:xfrm>
            <a:off x="395280" y="0"/>
            <a:ext cx="835344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4939920" y="1916280"/>
            <a:ext cx="122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8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2000" y="3768840"/>
            <a:ext cx="880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ow much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those  T- shirt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62000" y="5373720"/>
            <a:ext cx="9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y  are  ______________yu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638440" y="4913280"/>
            <a:ext cx="31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ixty-eigh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if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-6480" y="0"/>
            <a:ext cx="4897440" cy="3357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897800" y="1197000"/>
            <a:ext cx="122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57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13120" y="3357720"/>
            <a:ext cx="70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ow  much 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the desk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64480" y="4894200"/>
            <a:ext cx="705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t’s________________yua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464200" y="4894200"/>
            <a:ext cx="263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fty-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-9360" y="3429000"/>
            <a:ext cx="594036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6451200" y="5373720"/>
            <a:ext cx="13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$5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7360" y="333360"/>
            <a:ext cx="89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How  much 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those  chairs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11280" y="14842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Calibri"/>
              </a:rPr>
              <a:t>They  ar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1" lang="en-US" sz="4800" spc="-1" strike="noStrike">
                <a:solidFill>
                  <a:srgbClr val="92d050"/>
                </a:solidFill>
                <a:latin typeface="Calibri"/>
              </a:rPr>
              <a:t>dollar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371400" y="128412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fty-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How much money you need to pay?</a:t>
            </a:r>
            <a:br>
              <a:rPr sz="4000"/>
            </a:b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I need to pa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yua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28440" y="2349360"/>
            <a:ext cx="2311560" cy="3140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21603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616320" y="5877000"/>
            <a:ext cx="10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720680" y="5492880"/>
            <a:ext cx="10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8176320" y="3443400"/>
            <a:ext cx="5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5008320" y="77148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919600" y="36273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6735960" y="353520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to 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ice-crea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3" descr=""/>
          <p:cNvPicPr/>
          <p:nvPr/>
        </p:nvPicPr>
        <p:blipFill>
          <a:blip r:embed="rId1"/>
          <a:stretch/>
        </p:blipFill>
        <p:spPr>
          <a:xfrm>
            <a:off x="611280" y="1312920"/>
            <a:ext cx="194472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" descr=""/>
          <p:cNvPicPr/>
          <p:nvPr/>
        </p:nvPicPr>
        <p:blipFill>
          <a:blip r:embed="rId2"/>
          <a:stretch/>
        </p:blipFill>
        <p:spPr>
          <a:xfrm>
            <a:off x="6156360" y="4162320"/>
            <a:ext cx="298764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559240" y="37749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299200" y="634032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0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03120" y="4214880"/>
            <a:ext cx="371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Cheap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便宜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3925080" y="1844640"/>
            <a:ext cx="48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Expensive</a:t>
            </a: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贵的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 to  shoes  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rcRect l="0" t="0" r="0" b="3970"/>
          <a:stretch/>
        </p:blipFill>
        <p:spPr>
          <a:xfrm>
            <a:off x="34920" y="907920"/>
            <a:ext cx="3421080" cy="2878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2"/>
          <a:srcRect l="0" t="0" r="0" b="4712"/>
          <a:stretch/>
        </p:blipFill>
        <p:spPr>
          <a:xfrm>
            <a:off x="4152960" y="3645000"/>
            <a:ext cx="4960800" cy="3498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160520" y="1484280"/>
            <a:ext cx="13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15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60360" y="5340240"/>
            <a:ext cx="188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500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01:24:10Z</dcterms:created>
  <dc:creator/>
  <dc:description/>
  <dc:language>en-US</dc:language>
  <cp:lastModifiedBy/>
  <dcterms:modified xsi:type="dcterms:W3CDTF">2016-12-29T01:44:53Z</dcterms:modified>
  <cp:revision>1</cp:revision>
  <dc:subject/>
  <dc:title/>
</cp:coreProperties>
</file>