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5383"/>
                </a:solidFill>
                <a:latin typeface="Baskerville Old Face"/>
              </a:rPr>
              <a:t>Click to move the slide</a:t>
            </a: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BE9D-2653-4E57-A504-9EF6753EFC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CB3-2766-4A5F-886E-5861564DD72B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A2B-1069-429A-A295-3F36D0BFA0A1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FEE-2D7C-425D-B960-9826DA3DB516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59ED-FE02-4F3C-B5D3-AB7A1462BBA8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82E-8F1D-4CF1-A1B0-4641A06F7395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9CC-A24B-4E3B-9CED-EC6963515EC7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FE5-435C-43F9-8E40-DEF92B9FB8E7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421-7AAB-4A26-A9F5-8532DFEB285D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E8EC-899C-4DE3-AD0E-94915E184C84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8967-9D5B-4476-8351-0D0E8D98548E}" type="slidenum">
              <a:rPr b="0" lang="zh-CN" sz="1200" spc="-1" strike="noStrike">
                <a:solidFill>
                  <a:srgbClr val="4749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EB9-A838-4532-9328-EBC7F653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200" y="392652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90D-9E5B-4F42-AE67-60CC6DE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916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5B8-6821-4F4E-95B4-C3942A3D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004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188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20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004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188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F6C-897E-40F3-8D77-5EFAB7DC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0E2-7079-4FDC-861B-B4BA6D2D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C95-3A22-46B3-9F15-D52619D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830D-E13E-4470-AF9A-3ADB16CD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25D-15E9-43D8-AE37-313D29DC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12C4-7B76-4A3C-AF19-5A63044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19240" y="158400"/>
            <a:ext cx="6703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D5D1-AABA-49A2-A63E-405EBE8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348-C074-4831-97E9-515AB6D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A23-E4E5-46DF-B86C-7022247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916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2686-B8E8-49B5-81CF-F6223D2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562E-DD90-4447-B863-F6E049B1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200" y="392652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F6F1-93C7-4F3D-8073-B0883DF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916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D7CC-B483-447C-9422-7A709EDB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004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1880" y="118404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20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004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1880" y="3926520"/>
            <a:ext cx="26204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7C8D-4E6B-466B-89B1-7558C023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B56-5057-491E-BF7C-5FE2CC1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6B6-7DA5-49FB-A5F5-03124E9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254-439D-4EEC-9354-DF7B5F3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19240" y="158400"/>
            <a:ext cx="6703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90E-E0F0-4346-85EA-79E47A0F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F99-764A-4F62-B987-C7D9D61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9160" y="392652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396-4E28-4084-A14E-427302A6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9160" y="1184040"/>
            <a:ext cx="397188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200" y="3926520"/>
            <a:ext cx="8139240" cy="25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6BF-8C54-41BD-BE6E-0294FBBB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-16" b="1258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5383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49ab5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8BA6-27A0-4D36-815E-47EA8D869716}" type="datetime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FA1D-07D3-46A9-B4C3-FDB6E86551FA}" type="slidenum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8895" t="8928" r="2873" b="4090"/>
          <a:stretch/>
        </p:blipFill>
        <p:spPr>
          <a:xfrm>
            <a:off x="0" y="0"/>
            <a:ext cx="918828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19240" y="158400"/>
            <a:ext cx="6703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5383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e65383"/>
              </a:solidFill>
              <a:latin typeface="Baskerville Old Fac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200" y="1184040"/>
            <a:ext cx="813924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49ab5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143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9143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CAC-3FD1-46AA-B203-4AEDD026E41A}" type="datetime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AA8-E29C-4E19-997F-DB51299583F3}" type="slidenum">
              <a:rPr b="0" lang="zh-CN" sz="1200" spc="-1" strike="noStrike">
                <a:solidFill>
                  <a:srgbClr val="9495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4440" y="2803680"/>
            <a:ext cx="87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Bell MT"/>
              </a:rPr>
              <a:t>Shopping for a School Par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63480" y="1841400"/>
            <a:ext cx="790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7494b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47494b"/>
                </a:solidFill>
                <a:latin typeface="Arial"/>
              </a:rPr>
              <a:t>逛逛你家周围的商场，你觉得什么东西是贵的，什么东西是便宜的？</a:t>
            </a:r>
            <a:endParaRPr b="0" lang="en-US" sz="60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5229360" y="1828800"/>
            <a:ext cx="22129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5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73320" y="1828800"/>
            <a:ext cx="219384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4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4680" y="4518000"/>
            <a:ext cx="21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for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537160" y="4518000"/>
            <a:ext cx="21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fif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5254560" y="1828800"/>
            <a:ext cx="217188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7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278000" y="1828800"/>
            <a:ext cx="231624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6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44680" y="4518000"/>
            <a:ext cx="218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six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286240" y="4518000"/>
            <a:ext cx="29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seven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5673600" y="1828800"/>
            <a:ext cx="211788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9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1486080" y="1830240"/>
            <a:ext cx="22348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8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47760" y="4518000"/>
            <a:ext cx="25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nine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537160" y="451800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ninety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3119400" y="1660680"/>
            <a:ext cx="25081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文鼎淹水體"/>
              </a:rPr>
              <a:t>100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文鼎淹水體"/>
              <a:ea typeface="文鼎淹水體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49560" y="4581360"/>
            <a:ext cx="50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7494b"/>
                </a:solidFill>
                <a:latin typeface="Century Schoolbook"/>
              </a:rPr>
              <a:t>one hundred</a:t>
            </a:r>
            <a:endParaRPr b="0" lang="en-US" sz="54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027760" y="2889360"/>
            <a:ext cx="2023920" cy="242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051680" y="1859040"/>
            <a:ext cx="1736640" cy="24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196920" y="239760"/>
            <a:ext cx="2203560" cy="240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196920" y="4334040"/>
            <a:ext cx="2203560" cy="240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2599560" y="104472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How much is the guitar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580120" y="5442120"/>
            <a:ext cx="57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Wow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That's </a:t>
            </a:r>
            <a:r>
              <a:rPr b="1" lang="zh-CN" sz="3600" spc="-1" strike="noStrike">
                <a:solidFill>
                  <a:srgbClr val="92000a"/>
                </a:solidFill>
                <a:latin typeface="Arial"/>
              </a:rPr>
              <a:t>expensive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319640" y="2889360"/>
            <a:ext cx="19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It's 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＄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85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684840" y="4295880"/>
            <a:ext cx="2254320" cy="254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rcRect l="0" t="0" r="0" b="4868"/>
          <a:stretch/>
        </p:blipFill>
        <p:spPr>
          <a:xfrm>
            <a:off x="7101000" y="1684440"/>
            <a:ext cx="1992240" cy="24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187200" y="4167360"/>
            <a:ext cx="2203560" cy="254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187200" y="163440"/>
            <a:ext cx="2203560" cy="2549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598120" y="1044720"/>
            <a:ext cx="64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How much are those socks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09480" y="5442120"/>
            <a:ext cx="46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Hey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That's </a:t>
            </a:r>
            <a:r>
              <a:rPr b="1" lang="zh-CN" sz="3600" spc="-1" strike="noStrike">
                <a:solidFill>
                  <a:srgbClr val="92000a"/>
                </a:solidFill>
                <a:latin typeface="Arial"/>
              </a:rPr>
              <a:t>cheap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895480" y="2712960"/>
            <a:ext cx="26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They're 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＄</a:t>
            </a:r>
            <a:r>
              <a:rPr b="1" lang="zh-CN" sz="3600" spc="-1" strike="noStrike">
                <a:solidFill>
                  <a:srgbClr val="47494b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48640" y="217800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7494b"/>
                </a:solidFill>
                <a:latin typeface="Bodoni MT Condensed"/>
              </a:rPr>
              <a:t>cheap</a:t>
            </a:r>
            <a:endParaRPr b="0" lang="en-US" sz="8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6200" y="2178000"/>
            <a:ext cx="527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7494b"/>
                </a:solidFill>
                <a:latin typeface="Bodoni MT Condensed"/>
              </a:rPr>
              <a:t>expensive</a:t>
            </a:r>
            <a:endParaRPr b="0" lang="en-US" sz="8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660280" y="43038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7494b"/>
                </a:solidFill>
                <a:latin typeface="Bodoni MT Condensed"/>
              </a:rPr>
              <a:t>昂贵的</a:t>
            </a:r>
            <a:endParaRPr b="0" lang="en-US" sz="60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82040" y="44085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7494b"/>
                </a:solidFill>
                <a:latin typeface="Bodoni MT Condensed"/>
              </a:rPr>
              <a:t>便宜的</a:t>
            </a:r>
            <a:endParaRPr b="0" lang="en-US" sz="60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31120" y="96048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7494b"/>
                </a:solidFill>
                <a:latin typeface="Arial"/>
              </a:rPr>
              <a:t>1$</a:t>
            </a:r>
            <a:endParaRPr b="0" lang="en-US" sz="96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981160" y="3052800"/>
            <a:ext cx="36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7494b"/>
                </a:solidFill>
                <a:latin typeface="Arial"/>
              </a:rPr>
              <a:t>1 </a:t>
            </a:r>
            <a:r>
              <a:rPr b="1" lang="zh-CN" sz="7200" spc="-1" strike="noStrike">
                <a:solidFill>
                  <a:srgbClr val="92000a"/>
                </a:solidFill>
                <a:latin typeface="Arial"/>
              </a:rPr>
              <a:t>dollar</a:t>
            </a:r>
            <a:endParaRPr b="0" lang="en-US" sz="7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294000" y="4965840"/>
            <a:ext cx="27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7494b"/>
                </a:solidFill>
                <a:latin typeface="Arial"/>
              </a:rPr>
              <a:t>1</a:t>
            </a:r>
            <a:r>
              <a:rPr b="1" lang="zh-CN" sz="7200" spc="-1" strike="noStrike">
                <a:solidFill>
                  <a:srgbClr val="92000a"/>
                </a:solidFill>
                <a:latin typeface="Arial"/>
              </a:rPr>
              <a:t>美元</a:t>
            </a:r>
            <a:endParaRPr b="0" lang="en-US" sz="72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464000" y="2514600"/>
            <a:ext cx="0" cy="538200"/>
          </a:xfrm>
          <a:prstGeom prst="line">
            <a:avLst/>
          </a:prstGeom>
          <a:ln w="5724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611600" y="2516040"/>
            <a:ext cx="1800" cy="538200"/>
          </a:xfrm>
          <a:prstGeom prst="line">
            <a:avLst/>
          </a:prstGeom>
          <a:ln w="5724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527720" y="4317840"/>
            <a:ext cx="1440" cy="538200"/>
          </a:xfrm>
          <a:prstGeom prst="line">
            <a:avLst/>
          </a:prstGeom>
          <a:ln w="5724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676760" y="4319640"/>
            <a:ext cx="0" cy="538200"/>
          </a:xfrm>
          <a:prstGeom prst="line">
            <a:avLst/>
          </a:prstGeom>
          <a:ln w="57240">
            <a:solidFill>
              <a:srgbClr val="474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749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25:44Z</dcterms:created>
  <dc:creator/>
  <dc:description/>
  <dc:language>en-US</dc:language>
  <cp:lastModifiedBy/>
  <dcterms:modified xsi:type="dcterms:W3CDTF">2016-12-29T01:25:46Z</dcterms:modified>
  <cp:revision>1</cp:revision>
  <dc:subject/>
  <dc:title/>
</cp:coreProperties>
</file>