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479-BCBB-495F-B42A-B7EDF6E2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1D2-2D19-43AF-92BE-4511C1C3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845A9-B546-4640-8111-67EB96E4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E6F83-C191-4AA5-B306-D2E3A0FA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D799B-C869-4A6D-B513-783085B9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2DFE7-1D76-4178-BBD0-46A2B6FA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2AFAF-D371-4E75-AA31-AA2C6EAD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E2C85-ADA3-4AEF-808B-7C8ADE1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8E58C-01B6-4E21-BB5F-CCBB82D4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93FE0-47ED-4B9E-9D54-02C25FD8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612F8-2BE9-4507-A345-A62042B9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E47C2-6829-4DC4-8478-3FD0DA2A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BAE-2C61-4DB1-BF9A-178516A8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9450D-1930-4B3B-90A9-B7207F4F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1A97B-23B4-4A89-946F-CF90668D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9F047-845E-41B8-AC4C-E153FD31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79A2C-2DD7-44C8-8B26-AAC00F8D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62FE4-32B0-4864-BEE3-2503AB4D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48AE8-1C23-4BF7-AEB7-DD053198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07ED8-8D7A-46A0-9B68-5A4F87BA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334DC-44E3-4587-A8E3-47C83B17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55914-EFFF-4BAE-A088-456B7CDF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573C7-F6B7-4D65-A185-0165ACCB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DAD-F9F9-4BD4-BF0B-20F77AEC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2A8D8-5334-4C3A-BCF5-2A1C730D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D5C1A-E4FD-4333-9487-CC9A37D3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624E2-1BE3-4764-9921-AD63808D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FAB78-31F7-4AA4-B6D4-1715B4B3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EB623-FC0F-4D26-8D56-F02576DA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696EA-BA0D-4672-81CB-EFCF59CF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B88F4-58FC-4BE2-B0D8-85BD6CD9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A452E-11A7-4819-A673-9B24FD4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A6355-62D0-4D98-877E-A70AE849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9B7FE-D788-4DC7-95FC-EE966534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1E96-04A6-4969-95C2-3330092B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1CFFB-AAA6-4013-8891-1B8B7350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98310-E79C-46D8-996A-EA248056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27858-F20B-49AF-8CC9-145BAA63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ECD08-F3F3-4E8F-8D74-08B0DA8B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BFCCF-F3B1-4844-AFA7-10C3CE52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C4306-10C9-4D79-9B7C-DA75436E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0BEF9-FFB3-4142-97E8-585651B5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32D07-E632-4938-82C2-47B2481F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2F83A-955D-4F8A-B32F-9F3CBDCE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DEA77-8385-4FB4-AA84-204A6FD8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6BF6-CFFA-4B7E-8747-39BCE45E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CD4D3-53EB-488C-A3FA-06D12BD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750E1-53A1-48D4-ABDE-492AA75F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847F4-5DF7-4686-B1BF-92E52938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D3B7F-4DDF-473F-B5EE-B396A30D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DE315-3944-4B36-882B-534708F5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92D8-47A3-4D18-B461-8E122DBA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FD38-523E-4F32-BF46-241523AE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56CC-59F1-4605-8D5E-CFC4183C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FD46-5059-4976-B4D1-0B90ED9D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5202-B3C9-4A72-8AD8-A2BD9864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1AD-BD22-4A43-B64C-E644CB54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C9D3-D9FC-4B68-BCAA-4DABE162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F8B2-6C4D-417E-BFA2-05DE1637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54A8-5E6C-448B-B9B3-971B56CA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E921-C580-4C54-826D-F2F0E5B4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94A1-DA51-45E8-A46E-618FCCC6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EACF-53FF-4880-98F7-A9155272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660BF-78D7-432E-952B-AC3BDA40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69B8-05AE-4244-8F91-45B1D3B0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84284-CEF1-4DBE-9961-BCC9E1A2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CB3C-99FA-44F8-BB20-F55D718B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991-3BEA-4B52-B709-2B0397EB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00CC-31CB-401D-8AD4-70CFA1CB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2FFA3-DBE6-4B13-870A-462CF85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420F-C559-4037-A14C-DC9E0EB8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13F46-5053-4DB9-882B-FA8A67D2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FE2A-E00D-470A-B18D-E6E3DA81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9C96-D230-4503-8EBE-E7E0804E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0370-FB1B-47E8-99BF-C7731317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448EE-0B4A-4AB4-B990-46F05634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9040-59E0-45B1-AB5B-D6A7977A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C0B7-0502-462C-AE2F-04A0C412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1D1-7074-4B31-9CEF-F7E1A2A3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ED0F-CB42-4C3F-9BDF-673C48B3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AC127-1B44-4F85-8D05-513F8D46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BC3E3-2690-42A3-8826-2C915642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B57FD-80F5-42F0-8FCC-E8868D40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05C13-85E1-4392-BFE1-1A09D0A8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DF5B-D9E5-4250-B222-EB810E69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15F62-5E81-4562-BA0C-CBE3F3DD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612BF-D721-438B-A33D-55EF79A9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30852-6923-4089-A13D-990DE9F0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18535-E259-498E-9D4E-E6CC8E43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105-05C2-49B7-A9AC-3E7F9DDC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0C086-B6D9-4E58-AEC2-683A6085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F24D5-9B04-4D73-80ED-64D0AA18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3A073-E334-4C54-A6FE-EC4C6566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C70F0-C049-4282-8980-E1FCE9C7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C8435-2CF9-448C-9940-4FFE440B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3FB70-7C06-48B4-9540-841AAF2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FBB9C-555F-41B1-B21C-ECA2A930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E1669-8C52-4D3D-AC74-2E4FF605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7DC93-25A9-4904-89FB-5A803718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3D774-BF05-4DA6-8135-9D9EBAD5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479-0888-4954-AF0F-92BEB483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57C9-1BDB-462E-8312-F8417FBF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B4EB1-F314-40D5-B73D-E08E6287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ECEB1-EA55-4F95-ACDB-321A0BE6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6FC6C-5932-46BB-A4EF-297BAFF6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2B5EE-B0EF-4FDA-A4D9-A0210C19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0F90-F602-4EEB-9E32-04E0CF0D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427EE-97B3-4938-A50C-D58860E6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52692-C7EA-43CA-A079-5B562565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CDB53-1208-4F2E-86A7-E0EFE2AA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CDA9-1222-4E94-AC87-3142F62A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623-EFD0-4CE7-A5B3-FF7C687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7A29A-DE01-4601-853E-C0287C60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EF9AB-6DDB-4B02-8A66-27CFF236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C101F-1379-4072-A209-B4C15F18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D4589-B0E3-4C13-A1DE-C381B385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4F5E2-4606-49E3-8C02-40B8DED6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448F6-5984-4FA8-8CA5-00C8DC22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4D1F9-D2B8-44E2-BD13-5E29400E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717EE-5AFD-4B42-9D2F-156D57AD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75D1C-B108-4447-A385-DFCD106F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E60F3-0911-4D6E-9354-4825C79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B01-37E7-4B2D-A9CB-F95BD7E9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509C-0CF2-4DC9-A38E-249AB24F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BB568-D9D7-499C-8086-0DE8F0A7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D7FFF-4825-4164-8B82-9B8B439E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11D9E-FE2A-4295-B92F-AAF1A9EC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4F7EA-E195-4202-B59F-D3E959F1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3098B-C101-4E0B-8119-6CD27123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1A1F2-F6AA-4698-94B8-4748D61B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A96C0-6E9D-4B2D-BE60-355A7C9A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51465-8B1B-48FB-AE6A-0BC9F394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DEA37-A2D0-4215-82B9-EB352F4E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245-90A4-4949-8CB0-C78C52DA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C3805-3986-42B7-A7A5-0606696F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C1DB2-DA07-41D7-B2A9-BA806479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D6215-ED01-41B1-8A95-5A69CB18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2ECFA-54F2-45B1-B59F-4D0204DF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D72DA-2C27-40BD-A6EA-AE096ADD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A76A0-003B-40AB-A703-83D31201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DB0D7-F921-487A-B5DC-23301FEC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029A5-A327-4727-961B-D41FDE35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9183A-B558-49CA-BE5F-34383DE6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E2274-24DC-400A-82F1-655DA5CA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C39B-111B-460F-9D95-CEFDF9AC3E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A009-4FB2-42E3-BE7A-EF2D271949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BB68-EC0C-4150-8CAF-4504B002F0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63D0-0BD8-438A-83B3-2D657B24F6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5A2E-D028-4BE7-B4B2-FC9B13E753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89BB-B8D2-4DB1-A6B1-7B469D4C87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D81B-9DEE-450C-92D7-9A077E4BB0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AEDA-07C4-47D2-9D63-33A9D9CBB7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EA6D-3B37-4CD6-A25A-CD56D9230F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D9A5-482D-4F83-A5D5-6F459CF88E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61B1-8438-44E2-91B6-E053BF101F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F65C-606D-4A4C-AA40-DEBE476BEE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464040" y="717480"/>
            <a:ext cx="769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00"/>
                </a:solidFill>
                <a:latin typeface="Times New Roman"/>
              </a:rPr>
              <a:t>Unit 2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zh-CN" sz="5400" spc="-1" strike="noStrike">
                <a:solidFill>
                  <a:srgbClr val="000000"/>
                </a:solidFill>
                <a:latin typeface="Times New Roman"/>
              </a:rPr>
              <a:t>I'd like a hambur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ac8f2f5428342147-7b1ec723b1979c27-58a7dde104d038e7c87a3d7a9d1b8dff"/>
          <p:cNvPicPr/>
          <p:nvPr/>
        </p:nvPicPr>
        <p:blipFill>
          <a:blip r:embed="rId1"/>
          <a:srcRect l="0" t="0" r="2373" b="8896"/>
          <a:stretch/>
        </p:blipFill>
        <p:spPr>
          <a:xfrm>
            <a:off x="4500720" y="2924280"/>
            <a:ext cx="30002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u=1687922813,2654661607&amp;fm=23&amp;gp=0"/>
          <p:cNvPicPr/>
          <p:nvPr/>
        </p:nvPicPr>
        <p:blipFill>
          <a:blip r:embed="rId1"/>
          <a:stretch/>
        </p:blipFill>
        <p:spPr>
          <a:xfrm>
            <a:off x="2700360" y="1989000"/>
            <a:ext cx="3905280" cy="267516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2343960" y="795240"/>
            <a:ext cx="497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1253880" y="5270400"/>
            <a:ext cx="21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I'd lik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u=1687922813,2654661607&amp;fm=23&amp;gp=0"/>
          <p:cNvPicPr/>
          <p:nvPr/>
        </p:nvPicPr>
        <p:blipFill>
          <a:blip r:embed="rId1"/>
          <a:stretch/>
        </p:blipFill>
        <p:spPr>
          <a:xfrm>
            <a:off x="2700360" y="1989000"/>
            <a:ext cx="3905280" cy="267516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3"/>
          <p:cNvSpPr/>
          <p:nvPr/>
        </p:nvSpPr>
        <p:spPr>
          <a:xfrm>
            <a:off x="2343960" y="795240"/>
            <a:ext cx="497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257480" y="5270400"/>
            <a:ext cx="476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I'd like</a:t>
            </a: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 a humbur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ac8f2f5428342147-7b1ec723b1979c27-58a7dde104d038e7c87a3d7a9d1b8dff"/>
          <p:cNvPicPr/>
          <p:nvPr/>
        </p:nvPicPr>
        <p:blipFill>
          <a:blip r:embed="rId2"/>
          <a:srcRect l="0" t="0" r="4237" b="7924"/>
          <a:stretch/>
        </p:blipFill>
        <p:spPr>
          <a:xfrm>
            <a:off x="6272280" y="4664160"/>
            <a:ext cx="2014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u=1687922813,2654661607&amp;fm=23&amp;gp=0"/>
          <p:cNvPicPr/>
          <p:nvPr/>
        </p:nvPicPr>
        <p:blipFill>
          <a:blip r:embed="rId1"/>
          <a:stretch/>
        </p:blipFill>
        <p:spPr>
          <a:xfrm>
            <a:off x="2700360" y="1989000"/>
            <a:ext cx="3905280" cy="26751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3"/>
          <p:cNvSpPr/>
          <p:nvPr/>
        </p:nvSpPr>
        <p:spPr>
          <a:xfrm>
            <a:off x="2343960" y="795240"/>
            <a:ext cx="497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256400" y="527040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I'd like</a:t>
            </a: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 two sandwich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ac8f2f5428342147-7b1ec723b1979c27-0639172ad2086799d02aa70475e675e9"/>
          <p:cNvPicPr/>
          <p:nvPr/>
        </p:nvPicPr>
        <p:blipFill>
          <a:blip r:embed="rId2"/>
          <a:srcRect l="0" t="0" r="0" b="5365"/>
          <a:stretch/>
        </p:blipFill>
        <p:spPr>
          <a:xfrm>
            <a:off x="6605640" y="4664160"/>
            <a:ext cx="23432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u=1687922813,2654661607&amp;fm=23&amp;gp=0"/>
          <p:cNvPicPr/>
          <p:nvPr/>
        </p:nvPicPr>
        <p:blipFill>
          <a:blip r:embed="rId1"/>
          <a:stretch/>
        </p:blipFill>
        <p:spPr>
          <a:xfrm>
            <a:off x="2700360" y="1989000"/>
            <a:ext cx="3905280" cy="267516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2343960" y="795240"/>
            <a:ext cx="497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254960" y="527040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I'd like</a:t>
            </a: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 a Co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0a01749785ede162-100732b71bc852e2-2ec29d38f8ff2c38efe670dbd467c042"/>
          <p:cNvPicPr/>
          <p:nvPr/>
        </p:nvPicPr>
        <p:blipFill>
          <a:blip r:embed="rId2"/>
          <a:stretch/>
        </p:blipFill>
        <p:spPr>
          <a:xfrm>
            <a:off x="6605640" y="4437000"/>
            <a:ext cx="20286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u=1687922813,2654661607&amp;fm=23&amp;gp=0"/>
          <p:cNvPicPr/>
          <p:nvPr/>
        </p:nvPicPr>
        <p:blipFill>
          <a:blip r:embed="rId1"/>
          <a:stretch/>
        </p:blipFill>
        <p:spPr>
          <a:xfrm>
            <a:off x="2700360" y="1989000"/>
            <a:ext cx="3905280" cy="267516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"/>
          <p:cNvSpPr/>
          <p:nvPr/>
        </p:nvSpPr>
        <p:spPr>
          <a:xfrm>
            <a:off x="2343960" y="795240"/>
            <a:ext cx="497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254960" y="5270400"/>
            <a:ext cx="406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I'd like</a:t>
            </a: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 some f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3c10e0240c32d084-05b4878914e20f0f-ad6c3ec12448f25bd0c1d8112608bad1"/>
          <p:cNvPicPr/>
          <p:nvPr/>
        </p:nvPicPr>
        <p:blipFill>
          <a:blip r:embed="rId2"/>
          <a:stretch/>
        </p:blipFill>
        <p:spPr>
          <a:xfrm>
            <a:off x="5940360" y="4869000"/>
            <a:ext cx="2371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288520" y="965160"/>
            <a:ext cx="497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6600"/>
                </a:solidFill>
                <a:latin typeface="Arial"/>
              </a:rPr>
              <a:t>I'd lik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ac8f2f5428342147-7b1ec723b1979c27-58a7dde104d038e7c87a3d7a9d1b8dff"/>
          <p:cNvPicPr/>
          <p:nvPr/>
        </p:nvPicPr>
        <p:blipFill>
          <a:blip r:embed="rId1"/>
          <a:srcRect l="0" t="0" r="-2260" b="10276"/>
          <a:stretch/>
        </p:blipFill>
        <p:spPr>
          <a:xfrm>
            <a:off x="1203480" y="2492280"/>
            <a:ext cx="2154240" cy="16509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ac8f2f5428342147-7b1ec723b1979c27-0639172ad2086799d02aa70475e675e9"/>
          <p:cNvPicPr/>
          <p:nvPr/>
        </p:nvPicPr>
        <p:blipFill>
          <a:blip r:embed="rId2"/>
          <a:srcRect l="0" t="0" r="2016" b="5847"/>
          <a:stretch/>
        </p:blipFill>
        <p:spPr>
          <a:xfrm>
            <a:off x="4776840" y="2316240"/>
            <a:ext cx="2295360" cy="1898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0a01749785ede162-100732b71bc852e2-2ec29d38f8ff2c38efe670dbd467c042"/>
          <p:cNvPicPr/>
          <p:nvPr/>
        </p:nvPicPr>
        <p:blipFill>
          <a:blip r:embed="rId3"/>
          <a:stretch/>
        </p:blipFill>
        <p:spPr>
          <a:xfrm>
            <a:off x="2255760" y="4508640"/>
            <a:ext cx="2028960" cy="21621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3c10e0240c32d084-05b4878914e20f0f-ad6c3ec12448f25bd0c1d8112608bad1"/>
          <p:cNvPicPr/>
          <p:nvPr/>
        </p:nvPicPr>
        <p:blipFill>
          <a:blip r:embed="rId4"/>
          <a:stretch/>
        </p:blipFill>
        <p:spPr>
          <a:xfrm>
            <a:off x="5148360" y="4822920"/>
            <a:ext cx="2371680" cy="18478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7"/>
          <p:cNvSpPr/>
          <p:nvPr/>
        </p:nvSpPr>
        <p:spPr>
          <a:xfrm>
            <a:off x="179640" y="44280"/>
            <a:ext cx="438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00"/>
                </a:solidFill>
                <a:latin typeface="Arial"/>
              </a:rPr>
              <a:t>Let's practi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u=1687922813,2654661607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3905280" cy="26748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2127960" y="444600"/>
            <a:ext cx="497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1117440" y="5013360"/>
            <a:ext cx="485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I'd like</a:t>
            </a: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 some chic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and orange ju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3ed4899f-b337-4aee-ac91-354c6054738c"/>
          <p:cNvPicPr/>
          <p:nvPr/>
        </p:nvPicPr>
        <p:blipFill>
          <a:blip r:embed="rId2"/>
          <a:stretch/>
        </p:blipFill>
        <p:spPr>
          <a:xfrm>
            <a:off x="5970600" y="2565360"/>
            <a:ext cx="2305080" cy="18734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u=2051617239,1898273744&amp;fm=116&amp;gp=0[1]"/>
          <p:cNvPicPr/>
          <p:nvPr/>
        </p:nvPicPr>
        <p:blipFill>
          <a:blip r:embed="rId3"/>
          <a:srcRect l="0" t="0" r="0" b="8401"/>
          <a:stretch/>
        </p:blipFill>
        <p:spPr>
          <a:xfrm>
            <a:off x="6408720" y="4653000"/>
            <a:ext cx="18669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u=1687922813,2654661607&amp;fm=23&amp;gp=0"/>
          <p:cNvPicPr/>
          <p:nvPr/>
        </p:nvPicPr>
        <p:blipFill>
          <a:blip r:embed="rId1"/>
          <a:stretch/>
        </p:blipFill>
        <p:spPr>
          <a:xfrm>
            <a:off x="755640" y="1557360"/>
            <a:ext cx="3905280" cy="26748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1624680" y="444600"/>
            <a:ext cx="497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757440" y="5157720"/>
            <a:ext cx="411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I'd like</a:t>
            </a: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 some be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and coff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u=3178334870,337087002&amp;fm=21&amp;gp=0"/>
          <p:cNvPicPr/>
          <p:nvPr/>
        </p:nvPicPr>
        <p:blipFill>
          <a:blip r:embed="rId2"/>
          <a:stretch/>
        </p:blipFill>
        <p:spPr>
          <a:xfrm>
            <a:off x="5726160" y="2781360"/>
            <a:ext cx="2663640" cy="19429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u=1386953670,523823800&amp;fm=23&amp;gp=0"/>
          <p:cNvPicPr/>
          <p:nvPr/>
        </p:nvPicPr>
        <p:blipFill>
          <a:blip r:embed="rId3"/>
          <a:stretch/>
        </p:blipFill>
        <p:spPr>
          <a:xfrm>
            <a:off x="5726160" y="5157720"/>
            <a:ext cx="273672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宋玉交</cp:lastModifiedBy>
  <dcterms:modified xsi:type="dcterms:W3CDTF">2015-02-14T18:10:35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