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type.wav" ContentType="audio/x-wav"/>
  <Override PartName="/ppt/media/image20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4.png" ContentType="image/png"/>
  <Override PartName="/ppt/media/image24.gif" ContentType="image/gif"/>
  <Override PartName="/ppt/media/image17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F3A-2F5F-486F-8E76-AE5F2312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EE79-0960-45EE-9ACF-CCB8A6D1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A41-4CE1-482F-803D-7FC3ADAAF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0EB-23A4-466B-B3E3-924410C32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D5D-8303-459B-B234-74D42538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9AD-0BC5-4E37-B1D2-CE601EAB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3C4-505E-45A0-990B-EF2547C8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2E5-F183-46E9-8B94-C1CD916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CE5-2C6B-4F9D-B4E4-737F75B2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0C6-9093-4F02-8E83-49D7358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93B-D1C8-4A4E-BF61-CC62FF25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95A-FCB7-46AD-A44B-4ABD1DEC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A247-B102-46BF-A9BE-E19A92605A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19.jpeg"/><Relationship Id="rId6" Type="http://schemas.openxmlformats.org/officeDocument/2006/relationships/image" Target="../media/image22.jpeg"/><Relationship Id="rId7" Type="http://schemas.openxmlformats.org/officeDocument/2006/relationships/image" Target="../media/image20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785880"/>
            <a:ext cx="7199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n I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use your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pencil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,please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用"/>
          <p:cNvPicPr/>
          <p:nvPr/>
        </p:nvPicPr>
        <p:blipFill>
          <a:blip r:embed="rId1"/>
          <a:stretch/>
        </p:blipFill>
        <p:spPr>
          <a:xfrm>
            <a:off x="108000" y="189000"/>
            <a:ext cx="4321080" cy="3816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500040" y="4143240"/>
            <a:ext cx="213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429160" y="4643280"/>
            <a:ext cx="322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borrow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图片1"/>
          <p:cNvPicPr/>
          <p:nvPr/>
        </p:nvPicPr>
        <p:blipFill>
          <a:blip r:embed="rId2"/>
          <a:srcRect l="0" t="0" r="0" b="6357"/>
          <a:stretch/>
        </p:blipFill>
        <p:spPr>
          <a:xfrm>
            <a:off x="5429160" y="1428840"/>
            <a:ext cx="3022560" cy="27144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823320" y="53578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；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5811120" y="59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13840" y="785520"/>
            <a:ext cx="86439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Can I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orro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 pencil,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344880" y="364320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Yes. Here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68360" y="1173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cc"/>
                </a:solidFill>
                <a:latin typeface="Times New Roman"/>
              </a:rPr>
              <a:t>Sentence patterns </a:t>
            </a:r>
            <a:r>
              <a:rPr b="1" i="1" lang="zh-CN" sz="2400" spc="-1" strike="noStrike">
                <a:solidFill>
                  <a:srgbClr val="ff99cc"/>
                </a:solidFill>
                <a:latin typeface="Times New Roman"/>
              </a:rPr>
              <a:t>句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2122560" y="157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问我能借一只铅笔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1276200" y="43578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好的。给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85840" y="2214720"/>
            <a:ext cx="86439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Can I  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your pencil,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2503440" y="2857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问我能用一下你的铅笔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95480" y="1922400"/>
            <a:ext cx="39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09101109285602"/>
          <p:cNvPicPr/>
          <p:nvPr/>
        </p:nvPicPr>
        <p:blipFill>
          <a:blip r:embed="rId1"/>
          <a:srcRect l="0" t="0" r="0" b="3439"/>
          <a:stretch/>
        </p:blipFill>
        <p:spPr>
          <a:xfrm>
            <a:off x="539640" y="620640"/>
            <a:ext cx="8317080" cy="60231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6"/>
          <p:cNvSpPr/>
          <p:nvPr/>
        </p:nvSpPr>
        <p:spPr>
          <a:xfrm>
            <a:off x="5580000" y="4292640"/>
            <a:ext cx="3097440" cy="273528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6227640" y="5084640"/>
            <a:ext cx="21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cuse 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1763640" y="4292640"/>
            <a:ext cx="2952720" cy="3313080"/>
          </a:xfrm>
          <a:prstGeom prst="irregularSeal1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340000" y="551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6560" y="907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Excuse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Y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Can I borrow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 penci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ple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Yes. Here you 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You are welcome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280" y="1341000"/>
            <a:ext cx="7126200" cy="38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B-Can I </a:t>
            </a: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use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… </a:t>
            </a: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,p</a:t>
            </a: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lease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-Yes, here you 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B-Thank yo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-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You are welco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63640" y="33804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3eb55034-196c-433d-a0df-3e72dadb1b17"/>
          <p:cNvPicPr/>
          <p:nvPr/>
        </p:nvPicPr>
        <p:blipFill>
          <a:blip r:embed="rId1">
            <a:alphaModFix amt="0"/>
          </a:blip>
          <a:srcRect l="40197" t="0" r="0" b="0"/>
          <a:stretch/>
        </p:blipFill>
        <p:spPr>
          <a:xfrm>
            <a:off x="3714840" y="2421000"/>
            <a:ext cx="546120" cy="11239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2124000" y="2349360"/>
            <a:ext cx="25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imes New Roman"/>
              </a:rPr>
              <a:t>schoolba</a:t>
            </a:r>
            <a:r>
              <a:rPr b="1" lang="en-US" sz="4400" spc="-1" strike="noStrike">
                <a:solidFill>
                  <a:srgbClr val="3366ff"/>
                </a:solidFill>
                <a:latin typeface="方正舒体"/>
                <a:ea typeface="方正舒体"/>
              </a:rPr>
              <a:t>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93080" y="3860640"/>
            <a:ext cx="139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imes New Roman"/>
              </a:rPr>
              <a:t>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1547288_093356073_2"/>
          <p:cNvPicPr/>
          <p:nvPr/>
        </p:nvPicPr>
        <p:blipFill>
          <a:blip r:embed="rId2"/>
          <a:stretch/>
        </p:blipFill>
        <p:spPr>
          <a:xfrm>
            <a:off x="826920" y="5157720"/>
            <a:ext cx="1368720" cy="225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324000" y="4797360"/>
            <a:ext cx="216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400" spc="-1" strike="noStrike">
                <a:solidFill>
                  <a:srgbClr val="3366ff"/>
                </a:solidFill>
                <a:latin typeface="Times New Roman"/>
              </a:rPr>
              <a:t>pe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u=1414685863,167060748&amp;fm=51&amp;gp=0"/>
          <p:cNvPicPr/>
          <p:nvPr/>
        </p:nvPicPr>
        <p:blipFill>
          <a:blip r:embed="rId3"/>
          <a:stretch/>
        </p:blipFill>
        <p:spPr>
          <a:xfrm>
            <a:off x="7451640" y="508464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0"/>
          <p:cNvSpPr/>
          <p:nvPr/>
        </p:nvSpPr>
        <p:spPr>
          <a:xfrm>
            <a:off x="6769080" y="5300640"/>
            <a:ext cx="237492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imes New Roman"/>
              </a:rPr>
              <a:t>era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7500600" y="907920"/>
            <a:ext cx="1642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imes New Roman"/>
              </a:rPr>
              <a:t>th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3eb55034-196c-433d-a0df-3e72dadb1b17"/>
          <p:cNvPicPr/>
          <p:nvPr/>
        </p:nvPicPr>
        <p:blipFill>
          <a:blip r:embed="rId4"/>
          <a:stretch/>
        </p:blipFill>
        <p:spPr>
          <a:xfrm>
            <a:off x="5003640" y="0"/>
            <a:ext cx="1170000" cy="1438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1547288_093356073_2"/>
          <p:cNvPicPr/>
          <p:nvPr/>
        </p:nvPicPr>
        <p:blipFill>
          <a:blip r:embed="rId5"/>
          <a:stretch/>
        </p:blipFill>
        <p:spPr>
          <a:xfrm>
            <a:off x="4427640" y="2205000"/>
            <a:ext cx="1368360" cy="225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u=1125313594,3385117747&amp;fm=51&amp;gp=0"/>
          <p:cNvPicPr/>
          <p:nvPr/>
        </p:nvPicPr>
        <p:blipFill>
          <a:blip r:embed="rId6"/>
          <a:srcRect l="0" t="0" r="0" b="11429"/>
          <a:stretch/>
        </p:blipFill>
        <p:spPr>
          <a:xfrm>
            <a:off x="500040" y="214200"/>
            <a:ext cx="1619280" cy="1071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u=1414685863,167060748&amp;fm=51&amp;gp=0"/>
          <p:cNvPicPr/>
          <p:nvPr/>
        </p:nvPicPr>
        <p:blipFill>
          <a:blip r:embed="rId7"/>
          <a:stretch/>
        </p:blipFill>
        <p:spPr>
          <a:xfrm>
            <a:off x="6084720" y="2602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u=1125313594,3385117747&amp;fm=51&amp;gp=0"/>
          <p:cNvPicPr/>
          <p:nvPr/>
        </p:nvPicPr>
        <p:blipFill>
          <a:blip r:embed="rId8"/>
          <a:srcRect l="0" t="0" r="0" b="19226"/>
          <a:stretch/>
        </p:blipFill>
        <p:spPr>
          <a:xfrm>
            <a:off x="4211640" y="3933720"/>
            <a:ext cx="1728720" cy="781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8"/>
          <p:cNvSpPr/>
          <p:nvPr/>
        </p:nvSpPr>
        <p:spPr>
          <a:xfrm>
            <a:off x="4500720" y="4076640"/>
            <a:ext cx="10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imes New Roman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9" descr="HSL1WC~]88UH6_KT7F)}VDV"/>
          <p:cNvPicPr/>
          <p:nvPr/>
        </p:nvPicPr>
        <p:blipFill>
          <a:blip r:embed="rId9"/>
          <a:stretch/>
        </p:blipFill>
        <p:spPr>
          <a:xfrm>
            <a:off x="4788000" y="2205000"/>
            <a:ext cx="1511280" cy="10414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0"/>
          <p:cNvSpPr/>
          <p:nvPr/>
        </p:nvSpPr>
        <p:spPr>
          <a:xfrm>
            <a:off x="4644720" y="213372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Times New Roman"/>
              </a:rPr>
              <a:t>bru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1" descr="HSL1WC~]88UH6_KT7F)}VDV"/>
          <p:cNvPicPr/>
          <p:nvPr/>
        </p:nvPicPr>
        <p:blipFill>
          <a:blip r:embed="rId10"/>
          <a:stretch/>
        </p:blipFill>
        <p:spPr>
          <a:xfrm>
            <a:off x="3564000" y="1484280"/>
            <a:ext cx="115236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5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5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83040" y="45720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99"/>
                </a:solidFill>
                <a:latin typeface="Times New Roman"/>
              </a:rPr>
              <a:t>Homework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428920" y="1071720"/>
            <a:ext cx="57913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Copy the new words and phrases for 4 ti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抄写单词、词组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英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Make 3 sentences with the sentence patter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仿照</a:t>
            </a:r>
            <a:r>
              <a:rPr b="1" lang="en-US" sz="3600" spc="-1" strike="noStrike">
                <a:solidFill>
                  <a:srgbClr val="00206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2060"/>
                </a:solidFill>
                <a:latin typeface="Times New Roman"/>
              </a:rPr>
              <a:t>个例句，各造一个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21"/>
          <p:cNvPicPr/>
          <p:nvPr/>
        </p:nvPicPr>
        <p:blipFill>
          <a:blip r:embed="rId1"/>
          <a:stretch/>
        </p:blipFill>
        <p:spPr>
          <a:xfrm>
            <a:off x="8153280" y="57150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2003108211646906"/>
          <p:cNvPicPr/>
          <p:nvPr/>
        </p:nvPicPr>
        <p:blipFill>
          <a:blip r:embed="rId2"/>
          <a:stretch/>
        </p:blipFill>
        <p:spPr>
          <a:xfrm>
            <a:off x="6934320" y="0"/>
            <a:ext cx="20574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105840" y="33336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cc"/>
                </a:solidFill>
                <a:latin typeface="Times New Roman"/>
              </a:rPr>
              <a:t>Picture 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4920" y="1125360"/>
            <a:ext cx="885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幼圆"/>
              </a:rPr>
              <a:t>--Excuse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幼圆"/>
              </a:rPr>
              <a:t>--Y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幼圆"/>
              </a:rPr>
              <a:t>--Can I use your pencil,plea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幼圆"/>
              </a:rPr>
              <a:t>--Yes.Here you a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181080" y="333360"/>
            <a:ext cx="243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cc"/>
                </a:solidFill>
                <a:latin typeface="Times New Roman"/>
              </a:rPr>
              <a:t>Picture 3-4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6840" y="1233360"/>
            <a:ext cx="886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--Can I use your ruler,pleas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--Thank you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--You're welco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181080" y="117360"/>
            <a:ext cx="25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99cc"/>
                </a:solidFill>
                <a:latin typeface="Times New Roman"/>
              </a:rPr>
              <a:t>Picture 5-6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0" y="1628640"/>
            <a:ext cx="9150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--Can I use your English book,pl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--Peter,where are your th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--They're in my schoolba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--Where's your schoolb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--At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3886200" y="114300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Chinese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boo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语文书"/>
          <p:cNvPicPr/>
          <p:nvPr/>
        </p:nvPicPr>
        <p:blipFill>
          <a:blip r:embed="rId1"/>
          <a:stretch/>
        </p:blipFill>
        <p:spPr>
          <a:xfrm>
            <a:off x="108000" y="117360"/>
            <a:ext cx="3378240" cy="4896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4591800" y="264312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文；中文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中国的；中国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cc"/>
                </a:solidFill>
                <a:latin typeface="Arial"/>
              </a:rPr>
              <a:t>C.Let's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4920" y="2421000"/>
            <a:ext cx="8778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--Can I use a/your pencil,plea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--Yes.Here you a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889360" y="5103720"/>
            <a:ext cx="60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clean the blackboard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擦黑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draw a line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画直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3eb55034-196c-433d-a0df-3e72dadb1b17"/>
          <p:cNvPicPr/>
          <p:nvPr/>
        </p:nvPicPr>
        <p:blipFill>
          <a:blip r:embed="rId1"/>
          <a:srcRect l="34807" t="0" r="0" b="0"/>
          <a:stretch/>
        </p:blipFill>
        <p:spPr>
          <a:xfrm>
            <a:off x="2286000" y="692280"/>
            <a:ext cx="3000240" cy="5661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5003640" y="2565360"/>
            <a:ext cx="46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English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5649480" y="20718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英语；英语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29120" y="3785760"/>
            <a:ext cx="394344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dictiona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111480" y="379404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字典1"/>
          <p:cNvPicPr/>
          <p:nvPr/>
        </p:nvPicPr>
        <p:blipFill>
          <a:blip r:embed="rId1"/>
          <a:stretch/>
        </p:blipFill>
        <p:spPr>
          <a:xfrm>
            <a:off x="34920" y="117360"/>
            <a:ext cx="3780000" cy="251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字典"/>
          <p:cNvPicPr/>
          <p:nvPr/>
        </p:nvPicPr>
        <p:blipFill>
          <a:blip r:embed="rId2"/>
          <a:stretch/>
        </p:blipFill>
        <p:spPr>
          <a:xfrm>
            <a:off x="5508720" y="44280"/>
            <a:ext cx="3382920" cy="3384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6660000" y="49291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字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56280" y="3000240"/>
            <a:ext cx="297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ctionar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655800" y="4357800"/>
            <a:ext cx="22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glu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administrator\appdata\roaming\360se6\User Data\temp\0070130058.jpg"/>
          <p:cNvPicPr/>
          <p:nvPr/>
        </p:nvPicPr>
        <p:blipFill>
          <a:blip r:embed="rId1"/>
          <a:srcRect l="0" t="3330" r="0" b="0"/>
          <a:stretch/>
        </p:blipFill>
        <p:spPr>
          <a:xfrm>
            <a:off x="2714760" y="357120"/>
            <a:ext cx="4286160" cy="41436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4375440" y="571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胶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35280" y="4365360"/>
            <a:ext cx="55800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eras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3875400" y="5715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橡皮擦；黑板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:\users\administrator\appdata\roaming\360se6\User Data\temp\5665600.jpg"/>
          <p:cNvPicPr/>
          <p:nvPr/>
        </p:nvPicPr>
        <p:blipFill>
          <a:blip r:embed="rId1"/>
          <a:stretch/>
        </p:blipFill>
        <p:spPr>
          <a:xfrm>
            <a:off x="2500200" y="428760"/>
            <a:ext cx="35006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714760" y="4286160"/>
            <a:ext cx="468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mark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马克1"/>
          <p:cNvPicPr/>
          <p:nvPr/>
        </p:nvPicPr>
        <p:blipFill>
          <a:blip r:embed="rId1"/>
          <a:srcRect l="0" t="0" r="0" b="5142"/>
          <a:stretch/>
        </p:blipFill>
        <p:spPr>
          <a:xfrm>
            <a:off x="-38160" y="0"/>
            <a:ext cx="3043440" cy="4071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马克"/>
          <p:cNvPicPr/>
          <p:nvPr/>
        </p:nvPicPr>
        <p:blipFill>
          <a:blip r:embed="rId2"/>
          <a:stretch/>
        </p:blipFill>
        <p:spPr>
          <a:xfrm>
            <a:off x="3133800" y="-96840"/>
            <a:ext cx="5622840" cy="367020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3174480" y="56437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记号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2987640" y="4221000"/>
            <a:ext cx="28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ng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s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物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语文书"/>
          <p:cNvPicPr/>
          <p:nvPr/>
        </p:nvPicPr>
        <p:blipFill>
          <a:blip r:embed="rId1"/>
          <a:stretch/>
        </p:blipFill>
        <p:spPr>
          <a:xfrm>
            <a:off x="571680" y="285840"/>
            <a:ext cx="1677960" cy="2431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3eb55034-196c-433d-a0df-3e72dadb1b17"/>
          <p:cNvPicPr/>
          <p:nvPr/>
        </p:nvPicPr>
        <p:blipFill>
          <a:blip r:embed="rId2"/>
          <a:srcRect l="36373" t="0" r="0" b="0"/>
          <a:stretch/>
        </p:blipFill>
        <p:spPr>
          <a:xfrm>
            <a:off x="7215120" y="3429000"/>
            <a:ext cx="1500120" cy="290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字典"/>
          <p:cNvPicPr/>
          <p:nvPr/>
        </p:nvPicPr>
        <p:blipFill>
          <a:blip r:embed="rId3"/>
          <a:stretch/>
        </p:blipFill>
        <p:spPr>
          <a:xfrm>
            <a:off x="2500200" y="2097000"/>
            <a:ext cx="2143080" cy="2144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c:\users\administrator\appdata\roaming\360se6\User Data\temp\0070130058.jpg"/>
          <p:cNvPicPr/>
          <p:nvPr/>
        </p:nvPicPr>
        <p:blipFill>
          <a:blip r:embed="rId4"/>
          <a:stretch/>
        </p:blipFill>
        <p:spPr>
          <a:xfrm>
            <a:off x="4000680" y="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马克1"/>
          <p:cNvPicPr/>
          <p:nvPr/>
        </p:nvPicPr>
        <p:blipFill>
          <a:blip r:embed="rId5"/>
          <a:srcRect l="0" t="0" r="0" b="9633"/>
          <a:stretch/>
        </p:blipFill>
        <p:spPr>
          <a:xfrm>
            <a:off x="357120" y="3786120"/>
            <a:ext cx="1681200" cy="2143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users\administrator\appdata\roaming\360se6\User Data\temp\5665600.jpg"/>
          <p:cNvPicPr/>
          <p:nvPr/>
        </p:nvPicPr>
        <p:blipFill>
          <a:blip r:embed="rId6"/>
          <a:stretch/>
        </p:blipFill>
        <p:spPr>
          <a:xfrm>
            <a:off x="5929200" y="28584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c:\users\administrator\appdata\roaming\360se6\User Data\temp\excusemepardonsorry.jpg"/>
          <p:cNvPicPr/>
          <p:nvPr/>
        </p:nvPicPr>
        <p:blipFill>
          <a:blip r:embed="rId1"/>
          <a:stretch/>
        </p:blipFill>
        <p:spPr>
          <a:xfrm>
            <a:off x="500040" y="235080"/>
            <a:ext cx="6143760" cy="3789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71760" y="47862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02440" y="4500720"/>
            <a:ext cx="33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xcuse  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517760" y="5572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请原谅；打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  </dc:description>
  <cp:keywords/>
  <dc:language>en-US</dc:language>
  <cp:lastModifiedBy>宋玉交</cp:lastModifiedBy>
  <dcterms:modified xsi:type="dcterms:W3CDTF">2015-02-15T07:52:53Z</dcterms:modified>
  <cp:revision>6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