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C2F-F8E0-455C-9136-76F2BE84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A1A-1AE8-4865-B908-29A0CDCC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089-3C3A-4A26-AB2F-63198D39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96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20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96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3C8-DA5D-4BC2-9C0E-48F2959D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2DC-0C16-45FE-ADDA-69ED1008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C3C-2056-4A05-BC2E-040C6B20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5559-1B89-469B-8019-BCCE6F6A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50D5-D452-471D-B8AB-79C5524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97D4-17F3-4258-99B1-ED73963E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200" y="7128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D81-0420-4D38-B4A9-E763EED0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DE40-BD18-455B-B537-F23EFFC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1B3-E7B4-4844-93CF-A40F380C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7F55-1E58-463F-8585-BEDB753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5C12-B6C7-4A0F-83B8-8D5ADD4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A98E-B8FD-41CC-BC6A-0836D258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B97E-156A-4DA4-9BEA-98D14309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96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20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96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1700-6E4C-4F8E-B085-3856238A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1152-A630-45F1-8127-F9A945A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5D67-DECA-45A8-B98E-9822B1E6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B1A5-463C-4039-9AC5-9A89F3B3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DF83-EC6F-49F4-9A86-255A7216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CCD8-836C-4D37-ABD8-116AF00D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610-454B-4CF0-B965-0C24833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200" y="7128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C0E3-7223-4459-A43A-1672F84C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0972-AFC5-41F8-941E-28C7A00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36A5-6C15-43DE-9622-6987E8C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B3C3-98AC-442D-A3F0-362459E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F2CD-C0E9-4D35-9535-977AD746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A61B-DF8E-4753-A4DE-FAD1B54D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396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20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396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106B-94C0-47CF-A418-EC7E248D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595-D51C-48C5-AE54-9EA353AE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7D0-3CB1-44DE-ACC6-3E991C6F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200" y="7128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BAA-A9EE-4114-B0A3-07D36F5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6DD-1A36-415B-89F3-FD61C75C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D9E-D6B7-4631-9630-271D6D99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BBD-37DF-4805-9138-94BFCFD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E27C-30D7-4265-B16B-7C314AFC8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798824651442546269414.jpg"/>
          <p:cNvPicPr/>
          <p:nvPr/>
        </p:nvPicPr>
        <p:blipFill>
          <a:blip r:embed="rId2"/>
          <a:srcRect l="936" t="2872" r="2827" b="89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-4680"/>
            <a:ext cx="9144000" cy="686268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7877-AB14-4943-B4B8-F5E7FB16D050}" type="slidenum">
              <a:rPr b="0" lang="en-US" sz="9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798824651442546269414.jpg"/>
          <p:cNvPicPr/>
          <p:nvPr/>
        </p:nvPicPr>
        <p:blipFill>
          <a:blip r:embed="rId2"/>
          <a:srcRect l="936" t="2872" r="2827" b="89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761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5C15-A6FD-4E94-BF81-7253C9FD7D03}" type="slidenum">
              <a:rPr b="0" lang="en-US" sz="9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0200" y="1260000"/>
            <a:ext cx="873936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</a:rPr>
              <a:t>Lesson 4 Making Dinner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幼圆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</a:rPr>
              <a:t>做晚餐</a:t>
            </a:r>
            <a:endParaRPr b="1" lang="en-US" sz="48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200" y="-10332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New words: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6560" y="398160"/>
            <a:ext cx="905832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1.dinner /`din ə/n.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正餐；晚餐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2.hungry / `hΛŋgri/adj.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饥饿的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3.lunch /lΛt∫/n.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午餐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4.vegetable /`vedʒtəbl/n.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蔬菜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5.potato /pəteitəu/n.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土豆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6.carrot  /`kærət/n.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胡萝卜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7.ready  /`redi/adj.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准备好的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8.wash / wɒ∫/v.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洗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9.dirty/` də:ti/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脏的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10.dish/di∫/n. 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盘子；碟子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11.clean/kli:n/adj. (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干净的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1 Time for dinner!</a:t>
            </a: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该吃晚餐了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080" y="1031760"/>
            <a:ext cx="922968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Li Ming: What time is it?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几点钟了？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Jenny: It's half past six. Time for dinner!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六点半了，该吃晚饭了！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I'm hungry, Mum!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我饿了，妈妈！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I only ate an apple for lunch.What's for dinner?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我午餐只吃了一个苹果。晚饭吃什么啊？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0520" y="343080"/>
            <a:ext cx="8369280" cy="65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Mrs.Smith:I'm cooking meat and vegetables.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我正在做肉和蔬菜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Jenny: Let's help my mother make dinner.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让我们帮妈妈做晚饭吧，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She needs some vegetables.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她需要一些蔬菜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The tomatoes are in the fridge.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西红柿在冰箱里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360" y="447840"/>
            <a:ext cx="8439480" cy="58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The potatoes and carrots are on the table.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土豆和胡萝卜在桌子上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Mrs.Smith:Dinner's ready!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晚饭做好了！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Li Ming:This dinner looks so good,Mrs.Smith.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这顿晚餐看起来很美味，史密斯太太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help</a:t>
            </a: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的用法：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1440" y="866880"/>
            <a:ext cx="902304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Let's help my mother make dinner.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help v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帮助。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help sb. in doing sth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帮助某人做某事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, help sb to do sth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帮助某人做某事。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I help my grandpa in watering flowers every morning.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每天上午，我都帮助我爷爷一起浇花。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I help my grandpa to water flowers every morning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每天上午，我都帮我爷爷去浇花。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need </a:t>
            </a: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的用法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360" y="866880"/>
            <a:ext cx="875520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She needs some vegetables.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她需要一些蔬菜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need v.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需要，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need to do sth.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需要做某事，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need sth.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需要某物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例如：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We need to water the flowers.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我们需要给这些花浇水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I need a watch.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我需要一块手表。</a:t>
            </a:r>
            <a:endParaRPr b="0" lang="en-US" sz="3600" spc="-1" strike="noStrike">
              <a:solidFill>
                <a:srgbClr val="ba7612"/>
              </a:solidFill>
              <a:latin typeface="幼圆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2 Let's wash the dishes.</a:t>
            </a: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我们洗盘子吧。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5280" y="866880"/>
            <a:ext cx="905508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Li Ming: May I help you?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我可以棒你吗？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Mr.Smith: Sure,Li Ming!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当然可以，李明！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I wash the dirty dishes. You can dry them.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我洗脏盘子。你可以擦干这些盘子。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Li Ming: Great!Now the dishes are clean and dry!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太棒了！现在这些胖子都擦干变干净了！ </a:t>
            </a:r>
            <a:endParaRPr b="0" lang="en-US" sz="2400" spc="-1" strike="noStrike">
              <a:solidFill>
                <a:srgbClr val="ba7612"/>
              </a:solidFill>
              <a:latin typeface="幼圆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幼圆"/>
              </a:rPr>
              <a:t>3 Let's do it!</a:t>
            </a:r>
            <a:endParaRPr b="1" lang="en-US" sz="3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4080" y="866520"/>
            <a:ext cx="8720280" cy="67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5 Mrs. Smith is in the kitchen. She is going to ________ dinner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4 Her hands are ___________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2 She is _________ her hands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8 She is ___________ eggs in the kitchen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1 They are having dinner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7 The dishes are __________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9 Mr.Smith is ________ the dishes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3 Li Ming is drying the dishes.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5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6 The dishes are ________ and dty now. </a:t>
            </a:r>
            <a:endParaRPr b="0" lang="en-US" sz="2800" spc="-1" strike="noStrike">
              <a:solidFill>
                <a:srgbClr val="ba7612"/>
              </a:solidFill>
              <a:latin typeface="幼圆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405440" y="12398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714840" y="1817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214000" y="24526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15440" y="31147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900600" y="427356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901240" y="49086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736800" y="621180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dreamsummit</cp:lastModifiedBy>
  <dcterms:modified xsi:type="dcterms:W3CDTF">2015-11-09T01:39:3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