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975-4D11-451F-B09D-2BE6E49F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2A3-397E-4012-9A4C-C6F3E75D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92C-0F6F-4176-B287-364C18DE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2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2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18D-3E83-4BA0-84C1-8A88106E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8312-E330-4587-BF4D-7A06B29C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BE10-6375-4B2A-AC3B-2D7A0271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A58E-F0E1-4435-BBCC-C2B1AD6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E1C2-BB77-4B5D-8064-A204723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E972-31B9-461A-87C0-741DEBE4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666720"/>
            <a:ext cx="82152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CE4F-5912-46A8-853C-4830EEC3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A7EB-F438-411B-B929-B96C0C6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A83-E524-4B2E-8052-45F66058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27B9-7E9C-4065-8B1D-23E5AFF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1F55-09BB-4812-9703-5A2D1E9C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6727-7EA0-4DC8-A268-3A9FE7E5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566-D986-4322-BC1F-99047F24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52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300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8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52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300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85D4-A7A3-4134-B500-0F5BA0E9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DDFB-D38B-4B25-AD11-FB2CC088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544F-963A-45CF-B9C4-5EE40F4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1AE8-80E6-458D-AC9D-43CA01FE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1A68-09E4-4868-AD9A-E7E50F76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BCA6-B89A-4354-BC21-B0340C47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41B-8144-4F38-969A-57A3DAB0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7840" y="666720"/>
            <a:ext cx="82152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25EB-2F2C-4C5F-908B-DAD50C7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5065-1562-4C80-ACAF-CB42E823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A390-5C65-4D39-AE66-FC3A0C4F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B3AB-F863-4FC1-AB93-E3DC2EB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4447-D6D3-40B2-AF79-AD15A3B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0969-021F-4A01-BA51-DB1102AB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52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00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78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52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00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A29A-32DA-4E6B-8414-FCDB944C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94C-D9DA-42C3-B0BD-BB1A6E2E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2A0-B5BA-4211-B89A-B6B689C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666720"/>
            <a:ext cx="82152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5BE-CCE3-4A14-80C7-46B2D18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937-E38B-4865-8A94-BE7F572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5F0-72AB-486F-8D90-C884BA6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3E5-F6BE-4C83-9F52-38940144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6FF-E2AE-4FD6-9A0A-408EF1C4E7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75240"/>
            <a:ext cx="20574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75240"/>
            <a:ext cx="30859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75240"/>
            <a:ext cx="20574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FC5-85AD-41FB-9C47-1F06674FFDD5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71b1d8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817e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0" t="131" r="0" b="0"/>
          <a:stretch/>
        </p:blipFill>
        <p:spPr>
          <a:xfrm>
            <a:off x="3240" y="-12600"/>
            <a:ext cx="914076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71b1d8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817e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0F3-B5BA-4167-9425-621D77987B42}" type="slidenum"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482480"/>
            <a:ext cx="758988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817e"/>
                </a:solidFill>
                <a:latin typeface="华文中宋"/>
              </a:rPr>
              <a:t>Lesson6 Baby Becky at Home</a:t>
            </a:r>
            <a:endParaRPr b="1" lang="en-US" sz="40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6181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贝基宝贝在家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91880" y="831600"/>
            <a:ext cx="8831160" cy="60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My name is Baby Becky. I say "goo". I say"blub". I say "waaaaa". I say"mine". I like to help my mother. After lunch, my mother washes the dishes. I dry the dishes.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 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我的名字叫贝基宝贝。我说“咕”。我说“哭”。我说“哇哇哇哇”。我说“我的”。我喜欢帮我的妈妈。午饭后，我妈妈洗碗。我擦干盘子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7320" y="705960"/>
            <a:ext cx="8748720" cy="646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Oh, no!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噢，不！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I make a house with the dishes.My mother says."Baby Becky, don't play with the dishes1""Mine!"I say."No,play with your toys,"says my mother. I don't want my toys. I want the dishes."Mine!" I say.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我用盘子建了一座房子。我妈妈说：“贝基宝贝，不要玩盘子！”我说：“我的！”“不行，玩你 的玩具去。”妈妈说。我不想玩我的玩具。我想玩盘子。我说：“我的！”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" y="549360"/>
            <a:ext cx="9163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Look out.Baby Becky!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小心啊，贝基宝贝！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I like to cook. I open the fridge. I see tomatoes,eggs and milk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我喜欢烹饪。我打开冰箱。我看见了西红柿，鸡蛋和牛奶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Oh,no!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噢，不！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I make dinner. I cook eggs for dinner. My mother says,"Baby Becky! Don't play with the eggs!" "Mine!" I say. "No!" says my mother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我做晚饭。我晚饭煎鸡蛋。我妈妈说：“贝基宝贝！不要玩鸡蛋！” “我的”我说。“不！”我妈妈说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23760" y="615960"/>
            <a:ext cx="899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幼圆"/>
              </a:rPr>
              <a:t>My mother says,"Baby Becky! You are dirty!" We go to the bathroom. I put my toy in the toilet!"No,Baby Becky! No! No! Don't play in the toilet." "Mine!" I say."Oh,no!"says my mother.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幼圆"/>
              </a:rPr>
              <a:t>我妈妈说：“贝基宝贝！你太脏了！”我们去浴室。我把玩具放进了马桶里。“不，贝基宝贝！不！不！不要在马桶里玩！”“我的”我说。“哦，不！”妈妈说。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3520" y="701640"/>
            <a:ext cx="821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No, Baby Becky!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不，宝贝贝基！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I am tired of sitting in the water. I want a shower. Now I am clean. There's water everywhere in the bathroom.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我厌倦了坐在水里，我想淋浴。现在我干净了。浴室里到处都是谁。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8000" y="3985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817e"/>
                </a:solidFill>
                <a:latin typeface="华文中宋"/>
              </a:rPr>
              <a:t>物主代词：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025640"/>
          <a:ext cx="8756640" cy="5470560"/>
        </p:xfrm>
        <a:graphic>
          <a:graphicData uri="http://schemas.openxmlformats.org/drawingml/2006/table">
            <a:tbl>
              <a:tblPr/>
              <a:tblGrid>
                <a:gridCol w="806400"/>
                <a:gridCol w="1155960"/>
                <a:gridCol w="914400"/>
                <a:gridCol w="1012680"/>
                <a:gridCol w="1014480"/>
                <a:gridCol w="2036880"/>
                <a:gridCol w="1815840"/>
              </a:tblGrid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人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主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宾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形容词性物主代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名词性物主代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30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单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人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人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人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人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我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人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你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人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他们、她们、它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i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600" y="772920"/>
            <a:ext cx="9072720" cy="63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My mother is in the living room. She is tired."What time is it?" she says. "Oh,no! It's six o'clock! Time to make dinner!"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我妈妈在客厅里。她累了。“几点了？”她说。“哦，不！六点钟了！该做晚饭了！”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We go to the kitchen.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"Mine!" I say. "Yes,"says my mother."It's yours now."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我们去了厨房。“我的！”我说，“是的，”妈妈说：“现在它是你的了。”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62080" y="713880"/>
            <a:ext cx="8557920" cy="594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物主代词的用法：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1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形容词性物主代词相当于形容词，在句中只能用作定语，用在名词前。例如：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Is that your bike?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那是你的自行车吗？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2 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名词性物主代词起名词的作用，相当于形容词性物主代词加所修饰的名词，可做主语、表语、宾语。例如：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Look at the two pencils. The red one is yours and the blue one is mine.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看这两支铅笔。红色的是你的，蓝色的是我的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3 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为避免重复使用名词，有时可用名词性物主代词来代替“形容词性物主代词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+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名词”的形式。例如：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My bag is yellow,and hers(her bag)is red.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我的包是黄色的，她的是红色的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dreamsummit</cp:lastModifiedBy>
  <dcterms:modified xsi:type="dcterms:W3CDTF">2015-11-09T02:08:0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