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1A89-3C95-4698-853C-4C83D4434933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AD9F-BFB3-475E-94A8-1E49680B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94B-B4B8-4E40-8C29-B8225AA5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4EB-F66A-4834-87A4-C7B43C82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9C7-2229-4A35-B6A1-EC4B188C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F3F-A36A-431B-809E-C9220EF2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D5D-291E-4522-8B97-CF0F1161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634-586B-4178-8B92-F0DB651E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AE6-098A-4334-879A-7822DC5C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CF3-1C68-4AC6-BC66-A06B48E2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FEA-3904-4871-9C75-0CDD5F02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249-2FE0-4622-A493-0A8BA764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2E6-03B9-4968-8106-A076DBF9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C05-EF2E-42BE-ABB9-7ABE7817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049F-4DFA-40F0-B622-62EEA04E85E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634F-2F9D-406F-9D0F-C78DE6541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:\市里课\QQ截图20140916135357.png"/>
          <p:cNvPicPr/>
          <p:nvPr/>
        </p:nvPicPr>
        <p:blipFill>
          <a:blip r:embed="rId1"/>
          <a:stretch/>
        </p:blipFill>
        <p:spPr>
          <a:xfrm>
            <a:off x="2071800" y="2000160"/>
            <a:ext cx="4857480" cy="322416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71280" y="285840"/>
            <a:ext cx="6572520" cy="1071360"/>
          </a:xfrm>
          <a:custGeom>
            <a:avLst/>
            <a:gdLst>
              <a:gd name="textAreaLeft" fmla="*/ 0 w 6572520"/>
              <a:gd name="textAreaRight" fmla="*/ 6572880 w 657252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0" y="0"/>
                </a:lnTo>
                <a:lnTo>
                  <a:pt x="21600" y="10800"/>
                </a:lnTo>
                <a:lnTo>
                  <a:pt x="197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0"/>
          </a:gradFill>
          <a:ln w="19080">
            <a:solidFill>
              <a:srgbClr val="c0c0c0"/>
            </a:solidFill>
            <a:miter/>
          </a:ln>
          <a:effectLst>
            <a:outerShdw dist="107932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1280" y="50652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Lesson 6 Baby Becky 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Administrator\Desktop\QQ截图20140922050912.png"/>
          <p:cNvPicPr/>
          <p:nvPr/>
        </p:nvPicPr>
        <p:blipFill>
          <a:blip r:embed="rId1"/>
          <a:stretch/>
        </p:blipFill>
        <p:spPr>
          <a:xfrm>
            <a:off x="714240" y="785880"/>
            <a:ext cx="1195560" cy="129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Administrator\Desktop\QQ截图20140922050952.png"/>
          <p:cNvPicPr/>
          <p:nvPr/>
        </p:nvPicPr>
        <p:blipFill>
          <a:blip r:embed="rId2"/>
          <a:stretch/>
        </p:blipFill>
        <p:spPr>
          <a:xfrm>
            <a:off x="785880" y="2714760"/>
            <a:ext cx="1143000" cy="1260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2308320" y="5000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aby Be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93600" y="50004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ou are di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292840" y="1285920"/>
            <a:ext cx="28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o, Baby Be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236320" y="2048040"/>
            <a:ext cx="52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o! No! Don't play in the toi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359440" y="31431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C:\Users\Administrator\Desktop\QQ截图20140922050912.png"/>
          <p:cNvPicPr/>
          <p:nvPr/>
        </p:nvPicPr>
        <p:blipFill>
          <a:blip r:embed="rId3"/>
          <a:stretch/>
        </p:blipFill>
        <p:spPr>
          <a:xfrm>
            <a:off x="785880" y="4559400"/>
            <a:ext cx="1193760" cy="12985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2364480" y="4762440"/>
            <a:ext cx="28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o, Baby Be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2428920" y="1143000"/>
            <a:ext cx="4643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2428920" y="1857240"/>
            <a:ext cx="3071880" cy="2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2428920" y="2714760"/>
            <a:ext cx="5214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2428920" y="3786120"/>
            <a:ext cx="1214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2428920" y="5429160"/>
            <a:ext cx="3071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357800" y="5716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858000" y="5000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072040" y="13572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7500960" y="20480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5143680" y="471492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214800" y="3143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2357280" y="4643280"/>
            <a:ext cx="3071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2428920" y="4046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h, n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3643200" y="40719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71280" y="142920"/>
            <a:ext cx="4643640" cy="1071360"/>
          </a:xfrm>
          <a:custGeom>
            <a:avLst/>
            <a:gdLst>
              <a:gd name="textAreaLeft" fmla="*/ 0 w 4643640"/>
              <a:gd name="textAreaRight" fmla="*/ 4644000 w 464364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8" y="0"/>
                </a:lnTo>
                <a:lnTo>
                  <a:pt x="21600" y="10800"/>
                </a:lnTo>
                <a:lnTo>
                  <a:pt x="1903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0"/>
          </a:gradFill>
          <a:ln w="19080">
            <a:solidFill>
              <a:srgbClr val="c0c0c0"/>
            </a:solidFill>
            <a:miter/>
          </a:ln>
          <a:effectLst>
            <a:outerShdw dist="107932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I:\市里课\QQ截图20140916135420.png"/>
          <p:cNvPicPr/>
          <p:nvPr/>
        </p:nvPicPr>
        <p:blipFill>
          <a:blip r:embed="rId1"/>
          <a:stretch/>
        </p:blipFill>
        <p:spPr>
          <a:xfrm>
            <a:off x="5357880" y="2714760"/>
            <a:ext cx="3581280" cy="38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I:\市里课\QQ截图20140916135357.png"/>
          <p:cNvPicPr/>
          <p:nvPr/>
        </p:nvPicPr>
        <p:blipFill>
          <a:blip r:embed="rId2"/>
          <a:stretch/>
        </p:blipFill>
        <p:spPr>
          <a:xfrm>
            <a:off x="642960" y="2571840"/>
            <a:ext cx="4032360" cy="3819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85880" y="70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Scene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I:\市里课\QQ截图20140916135434.png"/>
          <p:cNvPicPr/>
          <p:nvPr/>
        </p:nvPicPr>
        <p:blipFill>
          <a:blip r:embed="rId1"/>
          <a:stretch/>
        </p:blipFill>
        <p:spPr>
          <a:xfrm>
            <a:off x="428760" y="2071800"/>
            <a:ext cx="5862600" cy="2952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4867200" y="7142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What time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4765320" y="1643040"/>
            <a:ext cx="4044240" cy="1377720"/>
            <a:chOff x="4765320" y="1643040"/>
            <a:chExt cx="4044240" cy="1377720"/>
          </a:xfrm>
        </p:grpSpPr>
        <p:sp>
          <p:nvSpPr>
            <p:cNvPr id="134" name="Rectangle 5"/>
            <p:cNvSpPr/>
            <p:nvPr/>
          </p:nvSpPr>
          <p:spPr>
            <a:xfrm>
              <a:off x="4765320" y="1643040"/>
              <a:ext cx="404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Oh, no! It's six o'clock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4770720" y="2500200"/>
              <a:ext cx="375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Time to make dinner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7"/>
          <p:cNvSpPr/>
          <p:nvPr/>
        </p:nvSpPr>
        <p:spPr>
          <a:xfrm>
            <a:off x="4572000" y="714240"/>
            <a:ext cx="4429080" cy="2357640"/>
          </a:xfrm>
          <a:prstGeom prst="wedgeRoundRectCallout">
            <a:avLst>
              <a:gd name="adj1" fmla="val -103240"/>
              <a:gd name="adj2" fmla="val 50249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286000" y="5643720"/>
            <a:ext cx="2857680" cy="1000080"/>
          </a:xfrm>
          <a:prstGeom prst="wedgeRoundRectCallout">
            <a:avLst>
              <a:gd name="adj1" fmla="val 8782"/>
              <a:gd name="adj2" fmla="val -213115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20480" y="5905440"/>
            <a:ext cx="29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es, I’m hung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71280" y="142920"/>
            <a:ext cx="4643640" cy="1071360"/>
          </a:xfrm>
          <a:custGeom>
            <a:avLst/>
            <a:gdLst>
              <a:gd name="textAreaLeft" fmla="*/ 0 w 4643640"/>
              <a:gd name="textAreaRight" fmla="*/ 4644000 w 464364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8" y="0"/>
                </a:lnTo>
                <a:lnTo>
                  <a:pt x="21600" y="10800"/>
                </a:lnTo>
                <a:lnTo>
                  <a:pt x="1903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0"/>
          </a:gradFill>
          <a:ln w="19080">
            <a:solidFill>
              <a:srgbClr val="c0c0c0"/>
            </a:solidFill>
            <a:miter/>
          </a:ln>
          <a:effectLst>
            <a:outerShdw dist="107932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I:\市里课\QQ截图20140916135434.png"/>
          <p:cNvPicPr/>
          <p:nvPr/>
        </p:nvPicPr>
        <p:blipFill>
          <a:blip r:embed="rId1"/>
          <a:stretch/>
        </p:blipFill>
        <p:spPr>
          <a:xfrm>
            <a:off x="1000080" y="3143160"/>
            <a:ext cx="5000760" cy="3380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33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Scene I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I:\市里课\QQ截图20140916135444.png"/>
          <p:cNvPicPr/>
          <p:nvPr/>
        </p:nvPicPr>
        <p:blipFill>
          <a:blip r:embed="rId1"/>
          <a:stretch/>
        </p:blipFill>
        <p:spPr>
          <a:xfrm>
            <a:off x="214200" y="1214280"/>
            <a:ext cx="5072040" cy="41418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571680" y="5357880"/>
            <a:ext cx="1857240" cy="1000080"/>
          </a:xfrm>
          <a:prstGeom prst="wedgeRoundRectCallout">
            <a:avLst>
              <a:gd name="adj1" fmla="val 52138"/>
              <a:gd name="adj2" fmla="val -208689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27000" y="55720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714920" y="857160"/>
            <a:ext cx="3429000" cy="1357560"/>
          </a:xfrm>
          <a:prstGeom prst="wedgeRoundRectCallout">
            <a:avLst>
              <a:gd name="adj1" fmla="val -131865"/>
              <a:gd name="adj2" fmla="val 48078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654080" y="13334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378040" y="135720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t's yours 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U1L601_012裁.mp3" descr="1074221871441875159709.png"/>
          <p:cNvPicPr/>
          <p:nvPr/>
        </p:nvPicPr>
        <p:blipFill>
          <a:blip r:embed="rId2"/>
          <a:stretch/>
        </p:blipFill>
        <p:spPr>
          <a:xfrm>
            <a:off x="2000160" y="564372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71280" y="142920"/>
            <a:ext cx="4643640" cy="1071360"/>
          </a:xfrm>
          <a:custGeom>
            <a:avLst/>
            <a:gdLst>
              <a:gd name="textAreaLeft" fmla="*/ 0 w 4643640"/>
              <a:gd name="textAreaRight" fmla="*/ 4644000 w 464364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8" y="0"/>
                </a:lnTo>
                <a:lnTo>
                  <a:pt x="21600" y="10800"/>
                </a:lnTo>
                <a:lnTo>
                  <a:pt x="1903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0"/>
          </a:gradFill>
          <a:ln w="19080">
            <a:solidFill>
              <a:srgbClr val="c0c0c0"/>
            </a:solidFill>
            <a:miter/>
          </a:ln>
          <a:effectLst>
            <a:outerShdw dist="107932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I:\市里课\QQ截图20140916135444.png"/>
          <p:cNvPicPr/>
          <p:nvPr/>
        </p:nvPicPr>
        <p:blipFill>
          <a:blip r:embed="rId1"/>
          <a:stretch/>
        </p:blipFill>
        <p:spPr>
          <a:xfrm>
            <a:off x="214200" y="2428920"/>
            <a:ext cx="5286600" cy="40258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85840" y="142920"/>
            <a:ext cx="397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Scene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0" y="2071800"/>
            <a:ext cx="2571840" cy="971280"/>
          </a:xfrm>
          <a:custGeom>
            <a:avLst/>
            <a:gdLst>
              <a:gd name="textAreaLeft" fmla="*/ 0 w 2571840"/>
              <a:gd name="textAreaRight" fmla="*/ 2572200 w 257184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5" y="0"/>
                </a:lnTo>
                <a:lnTo>
                  <a:pt x="21600" y="10800"/>
                </a:lnTo>
                <a:lnTo>
                  <a:pt x="174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0"/>
          </a:gradFill>
          <a:ln w="19080">
            <a:solidFill>
              <a:srgbClr val="c0c0c0"/>
            </a:solidFill>
            <a:miter/>
          </a:ln>
          <a:effectLst>
            <a:outerShdw dist="107932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cen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3929040"/>
            <a:ext cx="2500200" cy="971640"/>
          </a:xfrm>
          <a:custGeom>
            <a:avLst/>
            <a:gdLst>
              <a:gd name="textAreaLeft" fmla="*/ 0 w 2500200"/>
              <a:gd name="textAreaRight" fmla="*/ 2500560 w 250020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6" y="0"/>
                </a:lnTo>
                <a:lnTo>
                  <a:pt x="21600" y="10800"/>
                </a:lnTo>
                <a:lnTo>
                  <a:pt x="172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0"/>
          </a:gradFill>
          <a:ln w="19080">
            <a:solidFill>
              <a:srgbClr val="c0c0c0"/>
            </a:solidFill>
            <a:miter/>
          </a:ln>
          <a:effectLst>
            <a:outerShdw dist="107932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cene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5715000"/>
            <a:ext cx="2643120" cy="971640"/>
          </a:xfrm>
          <a:custGeom>
            <a:avLst/>
            <a:gdLst>
              <a:gd name="textAreaLeft" fmla="*/ 0 w 2643120"/>
              <a:gd name="textAreaRight" fmla="*/ 2643480 w 264312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19" y="0"/>
                </a:lnTo>
                <a:lnTo>
                  <a:pt x="21600" y="10800"/>
                </a:lnTo>
                <a:lnTo>
                  <a:pt x="1751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0"/>
          </a:gradFill>
          <a:ln w="19080">
            <a:solidFill>
              <a:srgbClr val="c0c0c0"/>
            </a:solidFill>
            <a:miter/>
          </a:ln>
          <a:effectLst>
            <a:outerShdw dist="107932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cene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0" y="0"/>
            <a:ext cx="2428920" cy="107172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0"/>
          </a:gradFill>
          <a:ln w="19080">
            <a:solidFill>
              <a:srgbClr val="c0c0c0"/>
            </a:solidFill>
            <a:miter/>
          </a:ln>
          <a:effectLst>
            <a:outerShdw dist="107932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cen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I:\市里课\QQ截图20140916135444.png"/>
          <p:cNvPicPr/>
          <p:nvPr/>
        </p:nvPicPr>
        <p:blipFill>
          <a:blip r:embed="rId1"/>
          <a:stretch/>
        </p:blipFill>
        <p:spPr>
          <a:xfrm>
            <a:off x="3071880" y="5008680"/>
            <a:ext cx="2428920" cy="18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I:\市里课\QQ截图20140916135434.png"/>
          <p:cNvPicPr/>
          <p:nvPr/>
        </p:nvPicPr>
        <p:blipFill>
          <a:blip r:embed="rId2"/>
          <a:stretch/>
        </p:blipFill>
        <p:spPr>
          <a:xfrm>
            <a:off x="3143160" y="3549600"/>
            <a:ext cx="2357640" cy="159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I:\市里课\QQ截图20140916135357.png"/>
          <p:cNvPicPr/>
          <p:nvPr/>
        </p:nvPicPr>
        <p:blipFill>
          <a:blip r:embed="rId3"/>
          <a:stretch/>
        </p:blipFill>
        <p:spPr>
          <a:xfrm>
            <a:off x="2928960" y="1785960"/>
            <a:ext cx="2023920" cy="191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I:\市里课\QQ截图20140916135420.png"/>
          <p:cNvPicPr/>
          <p:nvPr/>
        </p:nvPicPr>
        <p:blipFill>
          <a:blip r:embed="rId4"/>
          <a:stretch/>
        </p:blipFill>
        <p:spPr>
          <a:xfrm>
            <a:off x="5072040" y="1846440"/>
            <a:ext cx="2000160" cy="2154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I:\市里课\QQ截图20140916135249.png"/>
          <p:cNvPicPr/>
          <p:nvPr/>
        </p:nvPicPr>
        <p:blipFill>
          <a:blip r:embed="rId5"/>
          <a:stretch/>
        </p:blipFill>
        <p:spPr>
          <a:xfrm>
            <a:off x="2714760" y="0"/>
            <a:ext cx="2228760" cy="1928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I:\市里课\QQ截图20140916135316.png"/>
          <p:cNvPicPr/>
          <p:nvPr/>
        </p:nvPicPr>
        <p:blipFill>
          <a:blip r:embed="rId6"/>
          <a:stretch/>
        </p:blipFill>
        <p:spPr>
          <a:xfrm>
            <a:off x="4929120" y="109440"/>
            <a:ext cx="2000160" cy="1703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I:\市里课\QQ截图20140916135337.png"/>
          <p:cNvPicPr/>
          <p:nvPr/>
        </p:nvPicPr>
        <p:blipFill>
          <a:blip r:embed="rId7"/>
          <a:stretch/>
        </p:blipFill>
        <p:spPr>
          <a:xfrm>
            <a:off x="7143840" y="0"/>
            <a:ext cx="200016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C:\Users\Administrator\Desktop\4981255_134340345103_2.jpg"/>
          <p:cNvPicPr/>
          <p:nvPr/>
        </p:nvPicPr>
        <p:blipFill>
          <a:blip r:embed="rId1"/>
          <a:srcRect l="0" t="0" r="-152" b="52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0" y="28584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istrator\Desktop\2345截图20140916225915.jpg"/>
          <p:cNvPicPr/>
          <p:nvPr/>
        </p:nvPicPr>
        <p:blipFill>
          <a:blip r:embed="rId1"/>
          <a:stretch/>
        </p:blipFill>
        <p:spPr>
          <a:xfrm>
            <a:off x="0" y="2643120"/>
            <a:ext cx="35910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250920" y="189000"/>
            <a:ext cx="4681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put them in order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6227640" y="6165720"/>
            <a:ext cx="3603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6946920" y="6165720"/>
            <a:ext cx="35892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7740720" y="6165720"/>
            <a:ext cx="3585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3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8461440" y="6165720"/>
            <a:ext cx="3585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Picture 7" descr="I:\市里课\QQ截图20140916135337.png"/>
          <p:cNvPicPr/>
          <p:nvPr/>
        </p:nvPicPr>
        <p:blipFill>
          <a:blip r:embed="rId1"/>
          <a:stretch/>
        </p:blipFill>
        <p:spPr>
          <a:xfrm>
            <a:off x="2000160" y="2770200"/>
            <a:ext cx="2643120" cy="287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I:\市里课\QQ截图20140916135420.png"/>
          <p:cNvPicPr/>
          <p:nvPr/>
        </p:nvPicPr>
        <p:blipFill>
          <a:blip r:embed="rId2"/>
          <a:stretch/>
        </p:blipFill>
        <p:spPr>
          <a:xfrm>
            <a:off x="4567320" y="1500120"/>
            <a:ext cx="229068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:\市里课\QQ截图20140916135434.png"/>
          <p:cNvPicPr/>
          <p:nvPr/>
        </p:nvPicPr>
        <p:blipFill>
          <a:blip r:embed="rId3"/>
          <a:stretch/>
        </p:blipFill>
        <p:spPr>
          <a:xfrm>
            <a:off x="0" y="4357800"/>
            <a:ext cx="2357280" cy="250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I:\市里课\QQ截图20140916135444.png"/>
          <p:cNvPicPr/>
          <p:nvPr/>
        </p:nvPicPr>
        <p:blipFill>
          <a:blip r:embed="rId4"/>
          <a:stretch/>
        </p:blipFill>
        <p:spPr>
          <a:xfrm>
            <a:off x="6929280" y="343080"/>
            <a:ext cx="2214720" cy="28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6459 -0.58407 E">
                                      <p:cBhvr>
                                        <p:cTn id="6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693 -0.74136 E">
                                      <p:cBhvr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427 -0.36363 E">
                                      <p:cBhvr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285 -0.8989 E">
                                      <p:cBhvr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I:\市里课\9.23\QQ截图20140917173014.png"/>
          <p:cNvPicPr/>
          <p:nvPr/>
        </p:nvPicPr>
        <p:blipFill>
          <a:blip r:embed="rId1"/>
          <a:stretch/>
        </p:blipFill>
        <p:spPr>
          <a:xfrm>
            <a:off x="0" y="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I:\市里课\9.23\QQ截图20140917173026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:\市里课\9.23\QQ截图20140917173042.png"/>
          <p:cNvPicPr/>
          <p:nvPr/>
        </p:nvPicPr>
        <p:blipFill>
          <a:blip r:embed="rId3"/>
          <a:stretch/>
        </p:blipFill>
        <p:spPr>
          <a:xfrm>
            <a:off x="0" y="3571920"/>
            <a:ext cx="4572000" cy="32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I:\市里课\9.23\QQ截图20140917173057.png"/>
          <p:cNvPicPr/>
          <p:nvPr/>
        </p:nvPicPr>
        <p:blipFill>
          <a:blip r:embed="rId4"/>
          <a:stretch/>
        </p:blipFill>
        <p:spPr>
          <a:xfrm>
            <a:off x="4572000" y="3571920"/>
            <a:ext cx="4572000" cy="3214800"/>
          </a:xfrm>
          <a:prstGeom prst="rect">
            <a:avLst/>
          </a:prstGeom>
          <a:ln w="0">
            <a:noFill/>
          </a:ln>
        </p:spPr>
      </p:pic>
      <p:sp>
        <p:nvSpPr>
          <p:cNvPr id="66" name="Line 7"/>
          <p:cNvSpPr/>
          <p:nvPr/>
        </p:nvSpPr>
        <p:spPr>
          <a:xfrm>
            <a:off x="1071720" y="3643200"/>
            <a:ext cx="15714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857840" y="2355840"/>
            <a:ext cx="3214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1857240" y="650088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857840" y="6141960"/>
            <a:ext cx="13572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6500880" y="6141960"/>
            <a:ext cx="10713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:\市里课\QQ截图20140916135249.png"/>
          <p:cNvPicPr/>
          <p:nvPr/>
        </p:nvPicPr>
        <p:blipFill>
          <a:blip r:embed="rId1"/>
          <a:stretch/>
        </p:blipFill>
        <p:spPr>
          <a:xfrm>
            <a:off x="214200" y="1357200"/>
            <a:ext cx="4415040" cy="38214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214280" y="1571760"/>
            <a:ext cx="178596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35780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h, no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249080" y="785880"/>
            <a:ext cx="46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aby Beck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on'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050840" y="51436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332600" y="178596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986400" y="5643720"/>
            <a:ext cx="38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don’t want my toy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5000760" y="56437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want the dishe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050840" y="621504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4357800" y="214200"/>
            <a:ext cx="4643280" cy="2214720"/>
          </a:xfrm>
          <a:prstGeom prst="wedgeRoundRectCallout">
            <a:avLst>
              <a:gd name="adj1" fmla="val -56962"/>
              <a:gd name="adj2" fmla="val 61166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928800" y="5214960"/>
            <a:ext cx="7500960" cy="1500120"/>
          </a:xfrm>
          <a:prstGeom prst="wedgeRoundRectCallout">
            <a:avLst>
              <a:gd name="adj1" fmla="val -25111"/>
              <a:gd name="adj2" fmla="val -100402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U1L601_012裁.mp3" descr="9108364291441875159589.png"/>
          <p:cNvPicPr/>
          <p:nvPr/>
        </p:nvPicPr>
        <p:blipFill>
          <a:blip r:embed="rId2"/>
          <a:stretch/>
        </p:blipFill>
        <p:spPr>
          <a:xfrm>
            <a:off x="2214720" y="6234120"/>
            <a:ext cx="42840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I:\市里课\QQ截图20140916135316.png"/>
          <p:cNvPicPr/>
          <p:nvPr/>
        </p:nvPicPr>
        <p:blipFill>
          <a:blip r:embed="rId1"/>
          <a:stretch/>
        </p:blipFill>
        <p:spPr>
          <a:xfrm>
            <a:off x="785880" y="1500120"/>
            <a:ext cx="4708440" cy="3621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4572000" y="571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Look out, Baby Beck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4500720" y="428760"/>
            <a:ext cx="4429080" cy="1000080"/>
          </a:xfrm>
          <a:prstGeom prst="wedgeRoundRectCallout">
            <a:avLst>
              <a:gd name="adj1" fmla="val -47750"/>
              <a:gd name="adj2" fmla="val 126050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2786040" y="5072040"/>
            <a:ext cx="4643640" cy="1000080"/>
          </a:xfrm>
          <a:prstGeom prst="wedgeRoundRectCallout">
            <a:avLst>
              <a:gd name="adj1" fmla="val -51879"/>
              <a:gd name="adj2" fmla="val -170351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857680" y="5334120"/>
            <a:ext cx="53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ilk, eggs and tomat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:\市里课\QQ截图20140916135337.png"/>
          <p:cNvPicPr/>
          <p:nvPr/>
        </p:nvPicPr>
        <p:blipFill>
          <a:blip r:embed="rId1"/>
          <a:stretch/>
        </p:blipFill>
        <p:spPr>
          <a:xfrm>
            <a:off x="1368360" y="1571760"/>
            <a:ext cx="5492880" cy="39290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>
            <a:off x="2428920" y="142884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57200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h, no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572000" y="785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aby Beck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643280" y="14288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on't play with the egg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407960" y="5643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643280" y="20718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o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4357800" y="214200"/>
            <a:ext cx="4643280" cy="2357640"/>
          </a:xfrm>
          <a:prstGeom prst="wedgeRoundRectCallout">
            <a:avLst>
              <a:gd name="adj1" fmla="val -84597"/>
              <a:gd name="adj2" fmla="val 56504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1285920" y="5572080"/>
            <a:ext cx="4643280" cy="642960"/>
          </a:xfrm>
          <a:prstGeom prst="wedgeRoundRectCallout">
            <a:avLst>
              <a:gd name="adj1" fmla="val 30379"/>
              <a:gd name="adj2" fmla="val -235236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71280" y="142920"/>
            <a:ext cx="4643640" cy="1071360"/>
          </a:xfrm>
          <a:custGeom>
            <a:avLst/>
            <a:gdLst>
              <a:gd name="textAreaLeft" fmla="*/ 0 w 4643640"/>
              <a:gd name="textAreaRight" fmla="*/ 4644000 w 464364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8" y="0"/>
                </a:lnTo>
                <a:lnTo>
                  <a:pt x="21600" y="10800"/>
                </a:lnTo>
                <a:lnTo>
                  <a:pt x="1903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0"/>
          </a:gradFill>
          <a:ln w="19080">
            <a:solidFill>
              <a:srgbClr val="c0c0c0"/>
            </a:solidFill>
            <a:miter/>
          </a:ln>
          <a:effectLst>
            <a:outerShdw dist="107932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214560" y="142560"/>
            <a:ext cx="43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Scene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I:\市里课\QQ截图20140916135337.png"/>
          <p:cNvPicPr/>
          <p:nvPr/>
        </p:nvPicPr>
        <p:blipFill>
          <a:blip r:embed="rId1"/>
          <a:stretch/>
        </p:blipFill>
        <p:spPr>
          <a:xfrm>
            <a:off x="6419880" y="3571920"/>
            <a:ext cx="2724120" cy="2786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I:\市里课\QQ截图20140916135316.png"/>
          <p:cNvPicPr/>
          <p:nvPr/>
        </p:nvPicPr>
        <p:blipFill>
          <a:blip r:embed="rId2"/>
          <a:stretch/>
        </p:blipFill>
        <p:spPr>
          <a:xfrm>
            <a:off x="3357720" y="2857680"/>
            <a:ext cx="2714400" cy="281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I:\市里课\QQ截图20140916135249.png"/>
          <p:cNvPicPr/>
          <p:nvPr/>
        </p:nvPicPr>
        <p:blipFill>
          <a:blip r:embed="rId3"/>
          <a:stretch/>
        </p:blipFill>
        <p:spPr>
          <a:xfrm>
            <a:off x="0" y="1785960"/>
            <a:ext cx="33019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J:\9.23\QQ截图20140917173115.png"/>
          <p:cNvPicPr/>
          <p:nvPr/>
        </p:nvPicPr>
        <p:blipFill>
          <a:blip r:embed="rId1"/>
          <a:stretch/>
        </p:blipFill>
        <p:spPr>
          <a:xfrm>
            <a:off x="0" y="0"/>
            <a:ext cx="4357800" cy="6215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J:\9.23\QQ截图20140917173127.png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26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14:31:22Z</dcterms:created>
  <dc:creator>Administrator</dc:creator>
  <dc:description/>
  <dc:language>en-US</dc:language>
  <cp:lastModifiedBy>dreamsummit</cp:lastModifiedBy>
  <dcterms:modified xsi:type="dcterms:W3CDTF">2015-11-09T02:08:00Z</dcterms:modified>
  <cp:revision>58</cp:revision>
  <dc:subject/>
  <dc:title>幻灯片 1</dc:title>
</cp:coreProperties>
</file>