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AE6-8F5D-4327-A167-86FA66CD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9F8F-93AA-41C7-A688-1F0A7186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A10-029F-4C56-9A3C-36EBAB61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14B-C74A-4E07-B6B1-8BB2DD3E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4845-2B09-4CF5-BF0D-0730E4DE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8EB-DBCA-4A40-B55B-E93D0DAE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B127-0711-4729-B856-4B620D6F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B52F-F71A-4413-9DED-EA1C314C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A40-5851-4C13-BF82-06F77BA8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210-2E11-4DA1-9E8B-2F206460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E49-00CB-4876-A461-61E9BF75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23F-8530-495E-BC77-A5F1B7FC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F081-4009-457E-99F6-A76B02233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928880" y="785880"/>
            <a:ext cx="47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Lesson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857240" y="1928880"/>
            <a:ext cx="6553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Always Do  Your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Homework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24000" y="404640"/>
          <a:ext cx="8496000" cy="6348600"/>
        </p:xfrm>
        <a:graphic>
          <a:graphicData uri="http://schemas.openxmlformats.org/drawingml/2006/table">
            <a:tbl>
              <a:tblPr/>
              <a:tblGrid>
                <a:gridCol w="1368360"/>
                <a:gridCol w="1871640"/>
                <a:gridCol w="2087640"/>
                <a:gridCol w="1584360"/>
                <a:gridCol w="1584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homewo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 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 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4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4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4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4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4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4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4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4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4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4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4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4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根据图标内容填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Steven           helps his m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Danny           wears dres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Jenny         does her homew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 Li Ming        helps his m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Danny        helps his m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2916360" y="2205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2843280" y="2852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2771640" y="3500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>
            <a:off x="2916360" y="41497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2771640" y="494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.Master new wo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, often,  sometimes, 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.Master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’s put a/an…for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制表格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t’s put a/an …fo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预习下一课小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预习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出你知道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频率副词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频率副词说一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1116000" y="765000"/>
            <a:ext cx="70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Arial"/>
              </a:rPr>
              <a:t>Study  Aim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755640" y="2133720"/>
            <a:ext cx="770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.Master new wo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, often,  sometimes, 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.Master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’s put a/an …for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2"/>
          <p:cNvSpPr/>
          <p:nvPr/>
        </p:nvSpPr>
        <p:spPr>
          <a:xfrm>
            <a:off x="0" y="0"/>
            <a:ext cx="9144000" cy="23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30200" y="112536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t’s put an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A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alway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79280" y="2781360"/>
          <a:ext cx="8809200" cy="2016000"/>
        </p:xfrm>
        <a:graphic>
          <a:graphicData uri="http://schemas.openxmlformats.org/drawingml/2006/table">
            <a:tbl>
              <a:tblPr/>
              <a:tblGrid>
                <a:gridCol w="1728720"/>
                <a:gridCol w="2324160"/>
                <a:gridCol w="1852560"/>
                <a:gridCol w="1390680"/>
                <a:gridCol w="151308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y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wo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your 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 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 M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36"/>
          <p:cNvSpPr/>
          <p:nvPr/>
        </p:nvSpPr>
        <p:spPr>
          <a:xfrm>
            <a:off x="1190520" y="5445000"/>
            <a:ext cx="68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ng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lway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oes 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7"/>
          <p:cNvSpPr/>
          <p:nvPr/>
        </p:nvSpPr>
        <p:spPr>
          <a:xfrm>
            <a:off x="4657680" y="5254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8"/>
          <p:cNvSpPr/>
          <p:nvPr/>
        </p:nvSpPr>
        <p:spPr>
          <a:xfrm>
            <a:off x="1455840" y="4797360"/>
            <a:ext cx="88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1"/>
          <p:cNvSpPr/>
          <p:nvPr/>
        </p:nvSpPr>
        <p:spPr>
          <a:xfrm>
            <a:off x="2485800" y="4076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5"/>
          <p:cNvSpPr/>
          <p:nvPr/>
        </p:nvSpPr>
        <p:spPr>
          <a:xfrm>
            <a:off x="0" y="0"/>
            <a:ext cx="9144000" cy="28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539640" y="83664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Let’s put an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for </a:t>
            </a:r>
            <a:r>
              <a:rPr b="0" lang="en-US" sz="5400" spc="-1" strike="noStrike">
                <a:solidFill>
                  <a:srgbClr val="ff33cc"/>
                </a:solidFill>
                <a:latin typeface="Arial"/>
              </a:rPr>
              <a:t>ofte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50920" y="3284640"/>
          <a:ext cx="8570880" cy="1873080"/>
        </p:xfrm>
        <a:graphic>
          <a:graphicData uri="http://schemas.openxmlformats.org/drawingml/2006/table">
            <a:tbl>
              <a:tblPr/>
              <a:tblGrid>
                <a:gridCol w="1296720"/>
                <a:gridCol w="2016360"/>
                <a:gridCol w="2303280"/>
                <a:gridCol w="1441440"/>
                <a:gridCol w="151308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homewo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 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 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39"/>
          <p:cNvSpPr/>
          <p:nvPr/>
        </p:nvSpPr>
        <p:spPr>
          <a:xfrm>
            <a:off x="4140360" y="4365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2"/>
          <p:cNvSpPr/>
          <p:nvPr/>
        </p:nvSpPr>
        <p:spPr>
          <a:xfrm>
            <a:off x="1023840" y="559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4"/>
          <p:cNvSpPr/>
          <p:nvPr/>
        </p:nvSpPr>
        <p:spPr>
          <a:xfrm>
            <a:off x="885240" y="5697360"/>
            <a:ext cx="728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enny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ofte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elps her m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5"/>
          <p:cNvSpPr/>
          <p:nvPr/>
        </p:nvSpPr>
        <p:spPr>
          <a:xfrm>
            <a:off x="0" y="260280"/>
            <a:ext cx="9144000" cy="249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79280" y="5445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30200" y="1197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Let’s put an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for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sometimes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3068640"/>
          <a:ext cx="8424720" cy="1873080"/>
        </p:xfrm>
        <a:graphic>
          <a:graphicData uri="http://schemas.openxmlformats.org/drawingml/2006/table">
            <a:tbl>
              <a:tblPr/>
              <a:tblGrid>
                <a:gridCol w="1296720"/>
                <a:gridCol w="1872000"/>
                <a:gridCol w="2232000"/>
                <a:gridCol w="1584360"/>
                <a:gridCol w="14396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homewo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 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 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75"/>
          <p:cNvSpPr/>
          <p:nvPr/>
        </p:nvSpPr>
        <p:spPr>
          <a:xfrm>
            <a:off x="5994360" y="40417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6"/>
          <p:cNvSpPr/>
          <p:nvPr/>
        </p:nvSpPr>
        <p:spPr>
          <a:xfrm>
            <a:off x="809640" y="5530680"/>
            <a:ext cx="77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ven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someti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walks to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"/>
          <p:cNvSpPr/>
          <p:nvPr/>
        </p:nvSpPr>
        <p:spPr>
          <a:xfrm>
            <a:off x="0" y="0"/>
            <a:ext cx="9144000" cy="28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39640" y="62064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Let’s put an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for </a:t>
            </a:r>
            <a:r>
              <a:rPr b="0" lang="en-US" sz="5400" spc="-1" strike="noStrike">
                <a:solidFill>
                  <a:srgbClr val="ff33cc"/>
                </a:solidFill>
                <a:latin typeface="Arial"/>
              </a:rPr>
              <a:t>nev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3068640"/>
          <a:ext cx="8497800" cy="1976400"/>
        </p:xfrm>
        <a:graphic>
          <a:graphicData uri="http://schemas.openxmlformats.org/drawingml/2006/table">
            <a:tbl>
              <a:tblPr/>
              <a:tblGrid>
                <a:gridCol w="1225440"/>
                <a:gridCol w="1871640"/>
                <a:gridCol w="2160720"/>
                <a:gridCol w="1539720"/>
                <a:gridCol w="1700280"/>
              </a:tblGrid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homewo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 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 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29"/>
          <p:cNvSpPr/>
          <p:nvPr/>
        </p:nvSpPr>
        <p:spPr>
          <a:xfrm>
            <a:off x="1455480" y="5386320"/>
            <a:ext cx="62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nny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nev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wears dr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1"/>
          <p:cNvSpPr/>
          <p:nvPr/>
        </p:nvSpPr>
        <p:spPr>
          <a:xfrm>
            <a:off x="7935840" y="559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7451640" y="4365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7526880" y="42512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324000" y="189000"/>
          <a:ext cx="8572320" cy="4130640"/>
        </p:xfrm>
        <a:graphic>
          <a:graphicData uri="http://schemas.openxmlformats.org/drawingml/2006/table">
            <a:tbl>
              <a:tblPr/>
              <a:tblGrid>
                <a:gridCol w="1795320"/>
                <a:gridCol w="1828800"/>
                <a:gridCol w="2125800"/>
                <a:gridCol w="1390680"/>
                <a:gridCol w="1431720"/>
              </a:tblGrid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y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wo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your 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 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243"/>
          <p:cNvSpPr/>
          <p:nvPr/>
        </p:nvSpPr>
        <p:spPr>
          <a:xfrm>
            <a:off x="2176560" y="84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4"/>
          <p:cNvSpPr/>
          <p:nvPr/>
        </p:nvSpPr>
        <p:spPr>
          <a:xfrm>
            <a:off x="183960" y="4724280"/>
            <a:ext cx="8023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: Do you …help your mother,   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:Ye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: Let’s put a/an …for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55:33Z</dcterms:created>
  <dc:creator>新课标第一网xkb1.com;微软用户</dc:creator>
  <dc:description>新课标第一网xkb1.com</dc:description>
  <cp:keywords>新课标第一网xkb1.com</cp:keywords>
  <dc:language>en-US</dc:language>
  <cp:lastModifiedBy>dreamsummit</cp:lastModifiedBy>
  <dcterms:modified xsi:type="dcterms:W3CDTF">2015-11-09T09:11:38Z</dcterms:modified>
  <cp:revision>27</cp:revision>
  <dc:subject>新课标第一网xkb1.com</dc:subject>
  <dc:title>新课标第一网xkb1.com</dc:title>
</cp:coreProperties>
</file>