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96A-4230-4681-989B-53A0EAA9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118-2A5B-4FE7-8F83-5467174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EE1-5778-47C5-84BC-067D020C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C29-78A0-4211-9391-4D75E334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522-702B-47F9-BD5E-729F8D22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723-0F60-4647-9468-CC9DF171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438-CADE-4165-BA15-399EC30B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AD2-5FF4-4FF6-9ECC-50AAEFB1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558-C732-4919-A8E8-27B721FF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2E9-91EB-41DD-A772-4968F36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3BB-FF8A-4F87-9E67-382D0ED4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F59-802C-4AA8-A6E8-BA98665C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66B6-63F2-431C-9095-9289128D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ahoma"/>
              </a:rPr>
              <a:t>Lesson 11</a:t>
            </a:r>
            <a:br>
              <a:rPr sz="5400"/>
            </a:br>
            <a:r>
              <a:rPr b="1" lang="zh-CN" sz="5400" spc="-1" strike="noStrike">
                <a:solidFill>
                  <a:srgbClr val="ff0066"/>
                </a:solidFill>
                <a:latin typeface="Tahoma"/>
              </a:rPr>
              <a:t>Always Do Your Homewor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09480" y="457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冀教版小学英语六年级上册第二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:\2课题与讲座\2012讲座\2012整合\ppt图片\116.png"/>
          <p:cNvPicPr/>
          <p:nvPr/>
        </p:nvPicPr>
        <p:blipFill>
          <a:blip r:embed="rId2"/>
          <a:stretch/>
        </p:blipFill>
        <p:spPr>
          <a:xfrm rot="20287200">
            <a:off x="286920" y="3649680"/>
            <a:ext cx="324324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71800" y="152280"/>
            <a:ext cx="4724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Courier New"/>
              </a:rPr>
              <a:t>Homework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2819520" y="1981080"/>
            <a:ext cx="632448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Make a survey for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your family and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your friends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and make a char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990720" y="685800"/>
            <a:ext cx="6781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lways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0a0"/>
                </a:solidFill>
                <a:latin typeface="Arial"/>
              </a:rPr>
              <a:t>u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sually      </a:t>
            </a:r>
            <a:r>
              <a:rPr b="1" lang="zh-CN" sz="6600" spc="-1" strike="noStrike">
                <a:solidFill>
                  <a:srgbClr val="7030a0"/>
                </a:solidFill>
                <a:latin typeface="Arial"/>
              </a:rPr>
              <a:t>U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ometimes </a:t>
            </a:r>
            <a:r>
              <a:rPr b="1" lang="zh-CN" sz="66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ever        </a:t>
            </a:r>
            <a:r>
              <a:rPr b="1" lang="zh-CN" sz="6600" spc="-1" strike="noStrike">
                <a:solidFill>
                  <a:srgbClr val="00b05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09480" y="1143000"/>
          <a:ext cx="7847280" cy="5397480"/>
        </p:xfrm>
        <a:graphic>
          <a:graphicData uri="http://schemas.openxmlformats.org/drawingml/2006/table">
            <a:tbl>
              <a:tblPr/>
              <a:tblGrid>
                <a:gridCol w="1608120"/>
                <a:gridCol w="1667160"/>
                <a:gridCol w="1676160"/>
                <a:gridCol w="1447920"/>
                <a:gridCol w="1447920"/>
              </a:tblGrid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p you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k to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r dr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      usually      sometimes     nev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zh-CN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WordArt 88"/>
          <p:cNvSpPr txBox="1"/>
          <p:nvPr/>
        </p:nvSpPr>
        <p:spPr>
          <a:xfrm>
            <a:off x="533520" y="3049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Char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143000"/>
          <a:ext cx="7847280" cy="5397480"/>
        </p:xfrm>
        <a:graphic>
          <a:graphicData uri="http://schemas.openxmlformats.org/drawingml/2006/table">
            <a:tbl>
              <a:tblPr/>
              <a:tblGrid>
                <a:gridCol w="1608120"/>
                <a:gridCol w="1667160"/>
                <a:gridCol w="1676160"/>
                <a:gridCol w="1447920"/>
                <a:gridCol w="1447920"/>
              </a:tblGrid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p you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k to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r dr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      usually      sometimes     nev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zh-CN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WordArt 88"/>
          <p:cNvSpPr txBox="1"/>
          <p:nvPr/>
        </p:nvSpPr>
        <p:spPr>
          <a:xfrm>
            <a:off x="533520" y="3049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Char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9" name="WordArt 89"/>
          <p:cNvSpPr txBox="1"/>
          <p:nvPr/>
        </p:nvSpPr>
        <p:spPr>
          <a:xfrm>
            <a:off x="762120" y="23623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宋体"/>
              </a:rPr>
              <a:t>Li M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50" name="WordArt 90"/>
          <p:cNvSpPr txBox="1"/>
          <p:nvPr/>
        </p:nvSpPr>
        <p:spPr>
          <a:xfrm>
            <a:off x="990720" y="3124080"/>
            <a:ext cx="90000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Jen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1" name="WordArt 91"/>
          <p:cNvSpPr txBox="1"/>
          <p:nvPr/>
        </p:nvSpPr>
        <p:spPr>
          <a:xfrm>
            <a:off x="914400" y="3962520"/>
            <a:ext cx="106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Stev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sp>
        <p:nvSpPr>
          <p:cNvPr id="52" name="WordArt 92"/>
          <p:cNvSpPr txBox="1"/>
          <p:nvPr/>
        </p:nvSpPr>
        <p:spPr>
          <a:xfrm>
            <a:off x="914400" y="4876920"/>
            <a:ext cx="114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Dan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es Li Ming always  do his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es Jenny always help her m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es Steven always walk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es Li Ming Danny always wear dress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143000" y="685800"/>
            <a:ext cx="45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Listen and Answer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" name="Picture 4" descr="M:\2课题与讲座\2012讲座\2012整合\ppt图片\198.png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531720"/>
          <a:ext cx="7618320" cy="6318360"/>
        </p:xfrm>
        <a:graphic>
          <a:graphicData uri="http://schemas.openxmlformats.org/drawingml/2006/table">
            <a:tbl>
              <a:tblPr/>
              <a:tblGrid>
                <a:gridCol w="1488960"/>
                <a:gridCol w="1739880"/>
                <a:gridCol w="1656000"/>
                <a:gridCol w="1490400"/>
                <a:gridCol w="1243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p you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k to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r dr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 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      usually      sometimes     nev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zh-CN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1143000"/>
          <a:ext cx="7847280" cy="5397480"/>
        </p:xfrm>
        <a:graphic>
          <a:graphicData uri="http://schemas.openxmlformats.org/drawingml/2006/table">
            <a:tbl>
              <a:tblPr/>
              <a:tblGrid>
                <a:gridCol w="1608120"/>
                <a:gridCol w="1667160"/>
                <a:gridCol w="1676160"/>
                <a:gridCol w="1447920"/>
                <a:gridCol w="1447920"/>
              </a:tblGrid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p you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k to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r dr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      usually      sometimes     nev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zh-CN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WordArt 88"/>
          <p:cNvSpPr txBox="1"/>
          <p:nvPr/>
        </p:nvSpPr>
        <p:spPr>
          <a:xfrm>
            <a:off x="685800" y="457200"/>
            <a:ext cx="404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Do you always...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44324331441958694059.png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582565701441958694084.png"/>
          <p:cNvPicPr/>
          <p:nvPr/>
        </p:nvPicPr>
        <p:blipFill>
          <a:blip r:embed="rId2"/>
          <a:stretch/>
        </p:blipFill>
        <p:spPr>
          <a:xfrm>
            <a:off x="228600" y="1523880"/>
            <a:ext cx="8915400" cy="301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11-09T09:11:54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