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20.jpeg" ContentType="image/jpeg"/>
  <Override PartName="/ppt/media/image9.png" ContentType="image/png"/>
  <Override PartName="/ppt/media/image6.gif" ContentType="image/gif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BC64-B3B6-4AED-BD53-88395713D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1AEF-D3D8-41A5-9A33-2702BFF6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F506-AE19-4D02-83D5-A845B488F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6E92-0C0B-45C3-B7CF-F6830BDA0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3C80-FB3D-42F1-941A-5574D3685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4412-BCF9-49E7-AD5C-EDEAAF22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D043-C276-4D5D-AF75-E6F2F830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B94E-85E4-4371-A617-DF35D461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2AB5-F817-40F7-8E19-49BAC10C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87D6-2914-4EE3-BB56-9C527AE9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79CC-47D4-4369-BBE9-269E2492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CFE0-F3C0-445C-9072-2B0FC87D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BA3B-AF0C-4121-A377-20F4F95C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687E-E1B8-41BC-A9E6-970C50A6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B653-3F4C-4E00-A74B-779F02E3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1275-7491-4A73-ADB5-C5DF134A7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BEDD-F14D-4B62-90D4-25AE90E0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E84D2-5B7D-416A-BF07-369542F41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95E09-5499-4511-BA1F-97D3EE83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FBBB6-B84B-42CE-86F2-DCFC6306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DC6DD-E1C3-437E-B88D-29D52C88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04785-05AA-43BA-800D-875050FD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EE8B-4034-4CCE-8ADD-CB78C1C7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A73C0-934B-4B86-958F-DE25438E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FE52D-8854-470B-8D37-DA61B1F9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8A022-ACFD-4DB3-9408-BEEF67C5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F0DBE-7373-4201-AE42-0EF5209E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92FDB-A206-46D9-972B-BA47A4AE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35970-8826-440E-9DF5-CBB1133D0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DA6DD-FE9A-4DBC-BD80-39568E4DC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BD08-68B9-4848-AA3D-A8231992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9402-19DB-46AC-9657-4C46255D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8138-6F64-46DD-9A3B-6A85F9E3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B5C7-7E60-4A24-870A-99AE7CB8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9D00-A09B-4CBB-B6C0-1E24AA1A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21CA-6E38-483F-981A-301A3FBA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9461-D28A-4F57-967E-7CF928C49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0C07-C949-4C00-9E40-42F76D46C29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113A-C2FF-4C22-AA9B-E39044B88B4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3564000" y="198900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124000" y="692280"/>
            <a:ext cx="44640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Lesson   17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9" name="Picture 5" descr="2"/>
          <p:cNvPicPr/>
          <p:nvPr/>
        </p:nvPicPr>
        <p:blipFill>
          <a:blip r:embed="rId1"/>
          <a:stretch/>
        </p:blipFill>
        <p:spPr>
          <a:xfrm>
            <a:off x="250920" y="189000"/>
            <a:ext cx="2160360" cy="1620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1"/>
          <p:cNvPicPr/>
          <p:nvPr/>
        </p:nvPicPr>
        <p:blipFill>
          <a:blip r:embed="rId2"/>
          <a:stretch/>
        </p:blipFill>
        <p:spPr>
          <a:xfrm>
            <a:off x="6372360" y="260280"/>
            <a:ext cx="1944720" cy="1460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3"/>
          <p:cNvPicPr/>
          <p:nvPr/>
        </p:nvPicPr>
        <p:blipFill>
          <a:blip r:embed="rId3"/>
          <a:stretch/>
        </p:blipFill>
        <p:spPr>
          <a:xfrm>
            <a:off x="324000" y="4724280"/>
            <a:ext cx="1942920" cy="1543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200432383127"/>
          <p:cNvPicPr/>
          <p:nvPr/>
        </p:nvPicPr>
        <p:blipFill>
          <a:blip r:embed="rId4"/>
          <a:stretch/>
        </p:blipFill>
        <p:spPr>
          <a:xfrm>
            <a:off x="324000" y="2205000"/>
            <a:ext cx="1779480" cy="2158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478764491442214079787.png"/>
          <p:cNvPicPr/>
          <p:nvPr/>
        </p:nvPicPr>
        <p:blipFill>
          <a:blip r:embed="rId5"/>
          <a:stretch/>
        </p:blipFill>
        <p:spPr>
          <a:xfrm>
            <a:off x="3127320" y="2487600"/>
            <a:ext cx="5235480" cy="95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389a86e0-da21-4a75-a698-844e9ed32c1b_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022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"/>
          <p:cNvSpPr/>
          <p:nvPr/>
        </p:nvSpPr>
        <p:spPr>
          <a:xfrm>
            <a:off x="285840" y="1214280"/>
            <a:ext cx="45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Magic   Box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93" name="Picture 4" descr="mzl_yvzmjqli_1024x1024-65.jpg"/>
          <p:cNvPicPr/>
          <p:nvPr/>
        </p:nvPicPr>
        <p:blipFill>
          <a:blip r:embed="rId2"/>
          <a:stretch/>
        </p:blipFill>
        <p:spPr>
          <a:xfrm>
            <a:off x="158760" y="2919240"/>
            <a:ext cx="3559320" cy="251784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3786120" y="32148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游戏规则：每组派个代表来捉题目，根据题目内容完成任务，可以获得相应的星星数。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539640" y="2433240"/>
            <a:ext cx="8961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Comic Sans MS"/>
              </a:rPr>
              <a:t>   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zh-CN" sz="3600" spc="-1" strike="noStrike">
                <a:solidFill>
                  <a:srgbClr val="003366"/>
                </a:solidFill>
                <a:latin typeface="Comic Sans MS"/>
              </a:rPr>
              <a:t>I like all the  </a:t>
            </a:r>
            <a:r>
              <a:rPr b="0" lang="zh-CN" sz="3600" spc="-1" strike="noStrike" u="sng">
                <a:solidFill>
                  <a:srgbClr val="003366"/>
                </a:solidFill>
                <a:uFillTx/>
                <a:latin typeface="Comic Sans MS"/>
              </a:rPr>
              <a:t>        </a:t>
            </a:r>
            <a:r>
              <a:rPr b="0" lang="zh-CN" sz="3600" spc="-1" strike="noStrike">
                <a:solidFill>
                  <a:srgbClr val="003366"/>
                </a:solidFill>
                <a:latin typeface="Comic Sans MS"/>
              </a:rPr>
              <a:t>.   I  like</a:t>
            </a:r>
            <a:r>
              <a:rPr b="0" lang="zh-CN" sz="3600" spc="-1" strike="noStrike" u="sng">
                <a:solidFill>
                  <a:srgbClr val="003366"/>
                </a:solidFill>
                <a:uFillTx/>
                <a:latin typeface="Comic Sans MS"/>
              </a:rPr>
              <a:t>       .</a:t>
            </a:r>
            <a:r>
              <a:rPr b="0" lang="zh-CN" sz="3600" spc="-1" strike="noStrike">
                <a:solidFill>
                  <a:srgbClr val="003366"/>
                </a:solidFill>
                <a:latin typeface="Comic Sans MS"/>
              </a:rPr>
              <a:t>Why?  </a:t>
            </a:r>
            <a:r>
              <a:rPr b="0" lang="zh-CN" sz="3600" spc="-1" strike="noStrike" u="sng">
                <a:solidFill>
                  <a:srgbClr val="003366"/>
                </a:solidFill>
                <a:uFillTx/>
                <a:latin typeface="Comic Sans MS"/>
              </a:rPr>
              <a:t>                      </a:t>
            </a:r>
            <a:r>
              <a:rPr b="0" lang="zh-CN" sz="3600" spc="-1" strike="noStrike" u="sng">
                <a:solidFill>
                  <a:srgbClr val="003366"/>
                </a:solidFill>
                <a:uFillTx/>
                <a:latin typeface="Comic Sans MS"/>
              </a:rPr>
              <a:t>	</a:t>
            </a:r>
            <a:r>
              <a:rPr b="0" lang="zh-CN" sz="3600" spc="-1" strike="noStrike">
                <a:solidFill>
                  <a:srgbClr val="003366"/>
                </a:solidFill>
                <a:latin typeface="Comic Sans MS"/>
              </a:rPr>
              <a:t>I like to</a:t>
            </a:r>
            <a:r>
              <a:rPr b="0" lang="zh-CN" sz="3600" spc="-1" strike="noStrike" u="sng">
                <a:solidFill>
                  <a:srgbClr val="003366"/>
                </a:solidFill>
                <a:uFillTx/>
                <a:latin typeface="Comic Sans MS"/>
              </a:rPr>
              <a:t>        </a:t>
            </a:r>
            <a:r>
              <a:rPr b="0" lang="zh-CN" sz="3600" spc="-1" strike="noStrike">
                <a:solidFill>
                  <a:srgbClr val="003366"/>
                </a:solidFill>
                <a:latin typeface="Comic Sans MS"/>
              </a:rPr>
              <a:t>  a snowman with my friends. I like </a:t>
            </a:r>
            <a:r>
              <a:rPr b="0" lang="zh-CN" sz="3600" spc="-1" strike="noStrike" u="sng">
                <a:solidFill>
                  <a:srgbClr val="003366"/>
                </a:solidFill>
                <a:uFillTx/>
                <a:latin typeface="Comic Sans MS"/>
              </a:rPr>
              <a:t>       </a:t>
            </a:r>
            <a:r>
              <a:rPr b="0" lang="zh-CN" sz="3600" spc="-1" strike="noStrike">
                <a:solidFill>
                  <a:srgbClr val="003366"/>
                </a:solidFill>
                <a:latin typeface="Comic Sans MS"/>
              </a:rPr>
              <a:t> I love to </a:t>
            </a:r>
            <a:r>
              <a:rPr b="0" lang="zh-CN" sz="3600" spc="-1" strike="noStrike" u="sng">
                <a:solidFill>
                  <a:srgbClr val="003366"/>
                </a:solidFill>
                <a:uFillTx/>
                <a:latin typeface="Comic Sans MS"/>
              </a:rPr>
              <a:t>         </a:t>
            </a:r>
            <a:r>
              <a:rPr b="0" lang="zh-CN" sz="3600" spc="-1" strike="noStrike">
                <a:solidFill>
                  <a:srgbClr val="003366"/>
                </a:solidFill>
                <a:latin typeface="Comic Sans MS"/>
              </a:rPr>
              <a:t> . I like         I love to        in the sea.  My favourite season is </a:t>
            </a:r>
            <a:r>
              <a:rPr b="0" lang="zh-CN" sz="3600" spc="-1" strike="noStrike" u="sng">
                <a:solidFill>
                  <a:srgbClr val="003366"/>
                </a:solidFill>
                <a:uFillTx/>
                <a:latin typeface="Comic Sans MS"/>
              </a:rPr>
              <a:t>        .</a:t>
            </a:r>
            <a:r>
              <a:rPr b="0" lang="zh-CN" sz="3600" spc="-1" strike="noStrike">
                <a:solidFill>
                  <a:srgbClr val="003366"/>
                </a:solidFill>
                <a:latin typeface="Comic Sans MS"/>
              </a:rPr>
              <a:t>I like to</a:t>
            </a:r>
            <a:r>
              <a:rPr b="0" lang="zh-CN" sz="3600" spc="-1" strike="noStrike" u="sng">
                <a:solidFill>
                  <a:srgbClr val="003366"/>
                </a:solidFill>
                <a:uFillTx/>
                <a:latin typeface="Comic Sans MS"/>
              </a:rPr>
              <a:t>      .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Comic Sans MS"/>
              </a:rPr>
              <a:t>and I like to </a:t>
            </a:r>
            <a:r>
              <a:rPr b="0" lang="zh-CN" sz="3600" spc="-1" strike="noStrike" u="sng">
                <a:solidFill>
                  <a:srgbClr val="003366"/>
                </a:solidFill>
                <a:uFillTx/>
                <a:latin typeface="Comic Sans MS"/>
              </a:rPr>
              <a:t>    </a:t>
            </a:r>
            <a:r>
              <a:rPr b="0" lang="zh-CN" sz="3600" spc="-1" strike="noStrike">
                <a:solidFill>
                  <a:srgbClr val="003366"/>
                </a:solidFill>
                <a:latin typeface="Comic Sans MS"/>
              </a:rPr>
              <a:t> fruits.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1187280" y="98100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Comic Sans MS"/>
              </a:rPr>
              <a:t>Task 4  Fill in the blank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492360" y="30531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season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6370560" y="3021480"/>
            <a:ext cx="15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winter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6659640" y="3989520"/>
            <a:ext cx="151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plant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tree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0" y="3597480"/>
            <a:ext cx="15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Because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3132000" y="3669120"/>
            <a:ext cx="15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make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2" name="Rectangle 9"/>
          <p:cNvSpPr/>
          <p:nvPr/>
        </p:nvSpPr>
        <p:spPr>
          <a:xfrm>
            <a:off x="3492360" y="4173840"/>
            <a:ext cx="15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spring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3" name="Rectangle 10"/>
          <p:cNvSpPr/>
          <p:nvPr/>
        </p:nvSpPr>
        <p:spPr>
          <a:xfrm>
            <a:off x="1258920" y="4792680"/>
            <a:ext cx="15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summer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4" name="Rectangle 11"/>
          <p:cNvSpPr/>
          <p:nvPr/>
        </p:nvSpPr>
        <p:spPr>
          <a:xfrm>
            <a:off x="4284720" y="4750200"/>
            <a:ext cx="15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swim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Rectangle 12"/>
          <p:cNvSpPr/>
          <p:nvPr/>
        </p:nvSpPr>
        <p:spPr>
          <a:xfrm>
            <a:off x="4572000" y="5283720"/>
            <a:ext cx="15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autum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2916360" y="5829840"/>
            <a:ext cx="15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ea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7" name="Rectangle 14"/>
          <p:cNvSpPr/>
          <p:nvPr/>
        </p:nvSpPr>
        <p:spPr>
          <a:xfrm>
            <a:off x="7629480" y="5283720"/>
            <a:ext cx="15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fly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a kite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389a86e0-da21-4a75-a698-844e9ed32c1b_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022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3"/>
          <p:cNvSpPr/>
          <p:nvPr/>
        </p:nvSpPr>
        <p:spPr>
          <a:xfrm>
            <a:off x="324000" y="2638800"/>
            <a:ext cx="932472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Can I help you?  Yes ,please.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May I take your picture,Jenny? Sure.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Do you like these bananas or those bananas?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I like these bananas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324000" y="1700280"/>
            <a:ext cx="73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Listen and repeat.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2143080" y="87480"/>
            <a:ext cx="2357640" cy="1636560"/>
          </a:xfrm>
          <a:prstGeom prst="irregularSeal1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3"/>
          <p:cNvSpPr/>
          <p:nvPr/>
        </p:nvSpPr>
        <p:spPr>
          <a:xfrm>
            <a:off x="468360" y="765000"/>
            <a:ext cx="77770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Homework: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Make a survey in your family, you can ask your parents what their favourite seasons are. Then you can make a chart.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WordArt 3"/>
          <p:cNvSpPr txBox="1"/>
          <p:nvPr/>
        </p:nvSpPr>
        <p:spPr>
          <a:xfrm>
            <a:off x="1763640" y="692280"/>
            <a:ext cx="61581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2064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宋体"/>
              </a:rPr>
              <a:t>Now let’s sing a song!</a:t>
            </a:r>
            <a:endParaRPr b="1" lang="en-US" sz="3200" spc="1" strike="noStrike">
              <a:ln w="4140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宋体"/>
              <a:ea typeface="宋体"/>
            </a:endParaRPr>
          </a:p>
        </p:txBody>
      </p:sp>
      <p:sp>
        <p:nvSpPr>
          <p:cNvPr id="214" name="WordArt 4"/>
          <p:cNvSpPr txBox="1"/>
          <p:nvPr/>
        </p:nvSpPr>
        <p:spPr>
          <a:xfrm>
            <a:off x="3419640" y="2852640"/>
            <a:ext cx="31683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Seasons!</a:t>
            </a:r>
            <a:endParaRPr b="1" lang="en-US" sz="32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WordArt 3"/>
          <p:cNvSpPr txBox="1"/>
          <p:nvPr/>
        </p:nvSpPr>
        <p:spPr>
          <a:xfrm>
            <a:off x="3203640" y="1484280"/>
            <a:ext cx="4032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50000"/>
                    </a:srgbClr>
                  </a:outerShdw>
                </a:effectLst>
                <a:latin typeface="宋体"/>
              </a:rPr>
              <a:t>See you!</a:t>
            </a:r>
            <a:endParaRPr b="1" lang="en-US" sz="32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7" name="AutoShape 4">
            <a:hlinkClick r:id="rId2"/>
          </p:cNvPr>
          <p:cNvSpPr/>
          <p:nvPr/>
        </p:nvSpPr>
        <p:spPr>
          <a:xfrm>
            <a:off x="7839000" y="5611680"/>
            <a:ext cx="219240" cy="603360"/>
          </a:xfrm>
          <a:custGeom>
            <a:avLst/>
            <a:gdLst>
              <a:gd name="textAreaLeft" fmla="*/ 14040 w 219240"/>
              <a:gd name="textAreaRight" fmla="*/ 205200 w 219240"/>
              <a:gd name="textAreaTop" fmla="*/ 14040 h 603360"/>
              <a:gd name="textAreaBottom" fmla="*/ 589320 h 603360"/>
            </a:gdLst>
            <a:ahLst/>
            <a:rect l="textAreaLeft" t="textAreaTop" r="textAreaRight" b="textAreaBottom"/>
            <a:pathLst>
              <a:path w="21600" h="59382">
                <a:moveTo>
                  <a:pt x="0" y="0"/>
                </a:moveTo>
                <a:lnTo>
                  <a:pt x="21600" y="0"/>
                </a:lnTo>
                <a:lnTo>
                  <a:pt x="21600" y="59382"/>
                </a:lnTo>
                <a:lnTo>
                  <a:pt x="0" y="59382"/>
                </a:lnTo>
                <a:close/>
              </a:path>
              <a:path fill="lightenLess" w="21600" h="593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9382">
                <a:moveTo>
                  <a:pt x="21600" y="0"/>
                </a:moveTo>
                <a:lnTo>
                  <a:pt x="21600" y="59382"/>
                </a:lnTo>
                <a:lnTo>
                  <a:pt x="20200" y="57982"/>
                </a:lnTo>
                <a:lnTo>
                  <a:pt x="20200" y="1400"/>
                </a:lnTo>
                <a:close/>
              </a:path>
              <a:path fill="darkenLess" w="21600" h="59382">
                <a:moveTo>
                  <a:pt x="21600" y="59382"/>
                </a:moveTo>
                <a:lnTo>
                  <a:pt x="0" y="59382"/>
                </a:lnTo>
                <a:lnTo>
                  <a:pt x="1400" y="57982"/>
                </a:lnTo>
                <a:lnTo>
                  <a:pt x="20200" y="57982"/>
                </a:lnTo>
                <a:close/>
              </a:path>
              <a:path fill="lighten" w="21600" h="59382">
                <a:moveTo>
                  <a:pt x="0" y="59382"/>
                </a:moveTo>
                <a:lnTo>
                  <a:pt x="0" y="0"/>
                </a:lnTo>
                <a:lnTo>
                  <a:pt x="1400" y="1400"/>
                </a:lnTo>
                <a:lnTo>
                  <a:pt x="1400" y="57982"/>
                </a:lnTo>
                <a:close/>
              </a:path>
              <a:path fill="darken" w="21600" h="59382">
                <a:moveTo>
                  <a:pt x="3794" y="27298"/>
                </a:moveTo>
                <a:lnTo>
                  <a:pt x="8224" y="27298"/>
                </a:lnTo>
                <a:lnTo>
                  <a:pt x="12645" y="22685"/>
                </a:lnTo>
                <a:lnTo>
                  <a:pt x="12645" y="36698"/>
                </a:lnTo>
                <a:lnTo>
                  <a:pt x="8224" y="32085"/>
                </a:lnTo>
                <a:lnTo>
                  <a:pt x="3794" y="32085"/>
                </a:lnTo>
                <a:close/>
              </a:path>
              <a:path fill="darken" w="21600" h="59382">
                <a:moveTo>
                  <a:pt x="14299" y="29691"/>
                </a:moveTo>
                <a:lnTo>
                  <a:pt x="17806" y="29691"/>
                </a:lnTo>
              </a:path>
              <a:path fill="darken" w="21600" h="59382">
                <a:moveTo>
                  <a:pt x="14299" y="27298"/>
                </a:moveTo>
                <a:lnTo>
                  <a:pt x="17806" y="24530"/>
                </a:lnTo>
              </a:path>
              <a:path fill="darken" w="21600" h="59382">
                <a:moveTo>
                  <a:pt x="14299" y="32085"/>
                </a:moveTo>
                <a:lnTo>
                  <a:pt x="17806" y="34852"/>
                </a:ln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18" name="file 小学英语三年级起点六年级上册 Unit 3 lesson 22(0).mp3" descr="4180070511442214079926.png"/>
          <p:cNvPicPr/>
          <p:nvPr/>
        </p:nvPicPr>
        <p:blipFill>
          <a:blip r:embed="rId3"/>
          <a:stretch/>
        </p:blipFill>
        <p:spPr>
          <a:xfrm>
            <a:off x="7429680" y="42148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能听懂、会说、认读并书写下列词汇：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能认读并理解并运用下列句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Why? Becaus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养成良好的学习英语习惯，表达我们对大自然的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5">
            <a:hlinkClick r:id="rId1" action="ppaction://hlinksldjump"/>
          </p:cNvPr>
          <p:cNvSpPr/>
          <p:nvPr/>
        </p:nvSpPr>
        <p:spPr>
          <a:xfrm>
            <a:off x="5643720" y="5357880"/>
            <a:ext cx="928440" cy="11541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68664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Play g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 Guessing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 Guessing my 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">
            <a:hlinkClick r:id="rId2" action="ppaction://hlinksldjump"/>
          </p:cNvPr>
          <p:cNvSpPr/>
          <p:nvPr/>
        </p:nvSpPr>
        <p:spPr>
          <a:xfrm>
            <a:off x="5357880" y="2000160"/>
            <a:ext cx="1285920" cy="1154160"/>
          </a:xfrm>
          <a:prstGeom prst="rightArrow">
            <a:avLst>
              <a:gd name="adj1" fmla="val 50000"/>
              <a:gd name="adj2" fmla="val 50323"/>
            </a:avLst>
          </a:prstGeom>
          <a:solidFill>
            <a:srgbClr val="757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0399"/>
          <p:cNvPicPr/>
          <p:nvPr/>
        </p:nvPicPr>
        <p:blipFill>
          <a:blip r:embed="rId1"/>
          <a:stretch/>
        </p:blipFill>
        <p:spPr>
          <a:xfrm>
            <a:off x="7020000" y="260280"/>
            <a:ext cx="1326960" cy="1497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2"/>
          <p:cNvPicPr/>
          <p:nvPr/>
        </p:nvPicPr>
        <p:blipFill>
          <a:blip r:embed="rId2"/>
          <a:stretch/>
        </p:blipFill>
        <p:spPr>
          <a:xfrm>
            <a:off x="4643280" y="396252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1"/>
          <p:cNvPicPr/>
          <p:nvPr/>
        </p:nvPicPr>
        <p:blipFill>
          <a:blip r:embed="rId3"/>
          <a:stretch/>
        </p:blipFill>
        <p:spPr>
          <a:xfrm>
            <a:off x="1295280" y="396252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3"/>
          <p:cNvPicPr/>
          <p:nvPr/>
        </p:nvPicPr>
        <p:blipFill>
          <a:blip r:embed="rId4"/>
          <a:stretch/>
        </p:blipFill>
        <p:spPr>
          <a:xfrm>
            <a:off x="4716360" y="1197000"/>
            <a:ext cx="2362320" cy="18763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200432383127"/>
          <p:cNvPicPr/>
          <p:nvPr/>
        </p:nvPicPr>
        <p:blipFill>
          <a:blip r:embed="rId5"/>
          <a:stretch/>
        </p:blipFill>
        <p:spPr>
          <a:xfrm>
            <a:off x="1219320" y="1143000"/>
            <a:ext cx="2514600" cy="19479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1523880" y="32004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pring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5076720" y="31240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ummer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1219320" y="57913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autumn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5076720" y="5791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winter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250920" y="189000"/>
            <a:ext cx="76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Play a game    Guessing season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0" name="AutoShape 12"/>
          <p:cNvSpPr/>
          <p:nvPr/>
        </p:nvSpPr>
        <p:spPr>
          <a:xfrm>
            <a:off x="7929720" y="5616720"/>
            <a:ext cx="1000080" cy="787320"/>
          </a:xfrm>
          <a:custGeom>
            <a:avLst/>
            <a:gdLst>
              <a:gd name="textAreaLeft" fmla="*/ 195120 w 1000080"/>
              <a:gd name="textAreaRight" fmla="*/ 731880 w 1000080"/>
              <a:gd name="textAreaTop" fmla="*/ 105480 h 787320"/>
              <a:gd name="textAreaBottom" fmla="*/ 681840 h 78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434" hR="21600" stAng="10800000" swAng="-5400000"/>
                <a:lnTo>
                  <a:pt x="11589" y="21600"/>
                </a:lnTo>
                <a:arcTo wR="8434" hR="21600" stAng="5400000" swAng="-3391488"/>
                <a:lnTo>
                  <a:pt x="21332" y="5400"/>
                </a:lnTo>
                <a:lnTo>
                  <a:pt x="18446" y="0"/>
                </a:lnTo>
                <a:lnTo>
                  <a:pt x="15023" y="5400"/>
                </a:lnTo>
                <a:lnTo>
                  <a:pt x="16600" y="5400"/>
                </a:lnTo>
                <a:arcTo wR="8434" hR="21600" stAng="2008512" swAng="3136380"/>
                <a:lnTo>
                  <a:pt x="10012" y="21219"/>
                </a:lnTo>
                <a:arcTo wR="8434" hR="21600" stAng="5655108" swAng="5144892"/>
                <a:close/>
              </a:path>
              <a:path fill="darkenLess" w="21600" h="21600">
                <a:moveTo>
                  <a:pt x="0" y="0"/>
                </a:moveTo>
                <a:arcTo wR="8434" hR="21600" stAng="10800000" swAng="-5400000"/>
                <a:lnTo>
                  <a:pt x="11589" y="21600"/>
                </a:lnTo>
                <a:arcTo wR="8434" hR="21600" stAng="5400000" swAng="255108"/>
                <a:lnTo>
                  <a:pt x="10012" y="21219"/>
                </a:lnTo>
                <a:arcTo wR="8434" hR="21600" stAng="5655108" swAng="5144892"/>
                <a:close/>
              </a:path>
            </a:pathLst>
          </a:custGeom>
          <a:solidFill>
            <a:srgbClr val="1e46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下雪4"/>
          <p:cNvPicPr/>
          <p:nvPr/>
        </p:nvPicPr>
        <p:blipFill>
          <a:blip r:embed="rId1"/>
          <a:stretch/>
        </p:blipFill>
        <p:spPr>
          <a:xfrm>
            <a:off x="7089840" y="-6480"/>
            <a:ext cx="2060640" cy="1712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粉色花春雨"/>
          <p:cNvPicPr/>
          <p:nvPr/>
        </p:nvPicPr>
        <p:blipFill>
          <a:blip r:embed="rId2"/>
          <a:stretch/>
        </p:blipFill>
        <p:spPr>
          <a:xfrm>
            <a:off x="7089840" y="1779480"/>
            <a:ext cx="2060640" cy="1744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秋叶"/>
          <p:cNvPicPr/>
          <p:nvPr/>
        </p:nvPicPr>
        <p:blipFill>
          <a:blip r:embed="rId3"/>
          <a:stretch/>
        </p:blipFill>
        <p:spPr>
          <a:xfrm>
            <a:off x="7089840" y="5224320"/>
            <a:ext cx="2060640" cy="16401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5"/>
          <p:cNvSpPr/>
          <p:nvPr/>
        </p:nvSpPr>
        <p:spPr>
          <a:xfrm>
            <a:off x="179280" y="260280"/>
            <a:ext cx="67690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ow’s the weather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i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winter/spring/summer/autum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t’s ______________in winter.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t’s ________________in spring.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t’s________________ in summer.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t’s ________________in autumn.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65" name="Picture 6" descr="夏天"/>
          <p:cNvPicPr/>
          <p:nvPr/>
        </p:nvPicPr>
        <p:blipFill>
          <a:blip r:embed="rId4"/>
          <a:stretch/>
        </p:blipFill>
        <p:spPr>
          <a:xfrm>
            <a:off x="7089840" y="3565440"/>
            <a:ext cx="2060640" cy="16527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7"/>
          <p:cNvSpPr/>
          <p:nvPr/>
        </p:nvSpPr>
        <p:spPr>
          <a:xfrm>
            <a:off x="1042920" y="2637000"/>
            <a:ext cx="3457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1044720" y="5492880"/>
            <a:ext cx="311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ool and wind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y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1070280" y="2635200"/>
            <a:ext cx="31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arm and rain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y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1265400" y="4064040"/>
            <a:ext cx="29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ot and sunn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y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897120" y="156384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cold and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now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y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324000" y="404640"/>
            <a:ext cx="777708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Task 1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Listen and answer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：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What is Li Ming’s favourite season?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Autumn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Comic Sans MS"/>
              </a:rPr>
              <a:t>Why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Because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…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286240" y="4714920"/>
            <a:ext cx="278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wh-y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be-c-au-se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Let’s do 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643040" y="1571760"/>
            <a:ext cx="49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Read after …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跟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643040" y="2357280"/>
            <a:ext cx="49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Read in your group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714680" y="4000680"/>
            <a:ext cx="49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Retell it according to…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1643040" y="3143160"/>
            <a:ext cx="49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Read loudly.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2214720" y="785880"/>
            <a:ext cx="57592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I like…. Why? Because I like … I like to… And I like…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79" name="Picture 3" descr="u=3529940683,65260750&amp;fm=21&amp;gp=0"/>
          <p:cNvPicPr/>
          <p:nvPr/>
        </p:nvPicPr>
        <p:blipFill>
          <a:blip r:embed="rId1"/>
          <a:stretch/>
        </p:blipFill>
        <p:spPr>
          <a:xfrm>
            <a:off x="-6480" y="4925880"/>
            <a:ext cx="2084400" cy="1724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14bOOOPIC07"/>
          <p:cNvPicPr/>
          <p:nvPr/>
        </p:nvPicPr>
        <p:blipFill>
          <a:blip r:embed="rId2"/>
          <a:stretch/>
        </p:blipFill>
        <p:spPr>
          <a:xfrm>
            <a:off x="-6480" y="133200"/>
            <a:ext cx="2011320" cy="1671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61"/>
          <p:cNvPicPr/>
          <p:nvPr/>
        </p:nvPicPr>
        <p:blipFill>
          <a:blip r:embed="rId3"/>
          <a:stretch/>
        </p:blipFill>
        <p:spPr>
          <a:xfrm>
            <a:off x="7265880" y="5450040"/>
            <a:ext cx="1884600" cy="1274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240371-14010513092979"/>
          <p:cNvPicPr/>
          <p:nvPr/>
        </p:nvPicPr>
        <p:blipFill>
          <a:blip r:embed="rId4"/>
          <a:stretch/>
        </p:blipFill>
        <p:spPr>
          <a:xfrm>
            <a:off x="-6480" y="3352680"/>
            <a:ext cx="2048040" cy="1365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u=2672152736,3435554350&amp;fm=21&amp;gp=0"/>
          <p:cNvPicPr/>
          <p:nvPr/>
        </p:nvPicPr>
        <p:blipFill>
          <a:blip r:embed="rId5"/>
          <a:stretch/>
        </p:blipFill>
        <p:spPr>
          <a:xfrm>
            <a:off x="-6480" y="1852560"/>
            <a:ext cx="2084400" cy="152388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8"/>
          <p:cNvSpPr/>
          <p:nvPr/>
        </p:nvSpPr>
        <p:spPr>
          <a:xfrm>
            <a:off x="6500880" y="-71280"/>
            <a:ext cx="2643120" cy="77508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Comic Sans MS"/>
              </a:rPr>
              <a:t>Let’s do it !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2143080" y="2143080"/>
            <a:ext cx="57596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I like… It’s … I love the …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nd I love to …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2214720" y="3571920"/>
            <a:ext cx="5759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I like… I like… I love to…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2143080" y="5715000"/>
            <a:ext cx="57596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y favourite season is…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It’s… I like to …And I love to …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08000" y="0"/>
            <a:ext cx="511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395280" y="476280"/>
            <a:ext cx="6696000" cy="66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Task 2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Group work 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What’s your favourite season?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My favourite season is_______.                                               (Winter /Spring/Summer/autumn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Why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Because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I like to ________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in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________.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7T08:22:58Z</dcterms:created>
  <dc:creator>ACER</dc:creator>
  <dc:description/>
  <dc:language>en-US</dc:language>
  <cp:lastModifiedBy>dreamsummit</cp:lastModifiedBy>
  <dcterms:modified xsi:type="dcterms:W3CDTF">2015-11-10T01:00:15Z</dcterms:modified>
  <cp:revision>27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