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39316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00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316d"/>
              </a:buClr>
              <a:buFont typeface="Times New Roman"/>
              <a:buChar char="–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316d"/>
              </a:buClr>
              <a:buFont typeface="Times New Roman"/>
              <a:buChar char="–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316d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39316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39316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0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39316d"/>
                </a:solidFill>
                <a:latin typeface="Arial"/>
              </a:rPr>
              <a:t>Lesson  23</a:t>
            </a:r>
            <a:endParaRPr b="1" lang="en-US" sz="54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31413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39316d"/>
                </a:solidFill>
                <a:latin typeface="Arial"/>
              </a:rPr>
              <a:t>It's Christmas morning!</a:t>
            </a:r>
            <a:endParaRPr b="0" lang="en-US" sz="48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4000" cy="692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562680" y="5173560"/>
            <a:ext cx="10523160" cy="128628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t‘s wonderful! Now our Christmas tr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ill always have 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something Chines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2360" y="692280"/>
            <a:ext cx="8352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Arial Unicode MS"/>
              </a:rPr>
              <a:t>1 Who brought these gifts?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Arial Unicode MS"/>
              </a:rPr>
              <a:t>2 What’s on the box of Lynn's gift?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Arial Unicode MS"/>
              </a:rPr>
              <a:t>3 What’s Li Ming’s gift?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Arial Unicode MS"/>
              </a:rPr>
              <a:t>4 What does Li Ming give Mr and Mrs Smith?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</a:pP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7640" y="262080"/>
            <a:ext cx="9072360" cy="69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Ⅰ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choose the best answer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1 It has her name _____it!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A at        B on        C for          D in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2 She opens it ______</a:t>
            </a:r>
            <a:br>
              <a:rPr sz="3600"/>
            </a:b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   A quick    B fast      C quickly    D quiet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3 We want to send the pictures ____my  mother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A to        B for         C at             D on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628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2924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4149720"/>
            <a:ext cx="5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4 Li Ming _____his gift_____Mr. and Mrs Smith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A give …to       B gives…to       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  <a:ea typeface="宋体"/>
              </a:rPr>
              <a:t>    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C giving…to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9316d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5 Our Christmas tree will always have something Chinese _____it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A to       B for     C at     D on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4720" y="119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429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80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9316d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Ⅰ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choose the best answer.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9316d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1 I want to buy something ____my family 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for Christmas.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A on      B for      C to       D about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9316d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2 ___you going to give something to  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Jenny's family?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A Is       B are      C Are      D Do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9316d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3 Danny helps ____put up our Christmas 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tree.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9316d"/>
                </a:solidFill>
                <a:latin typeface="Arial"/>
              </a:rPr>
              <a:t>A I     B we     C us      D it</a:t>
            </a:r>
            <a:endParaRPr b="0" lang="en-US" sz="32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90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4365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39316d"/>
                </a:solidFill>
                <a:latin typeface="Arial"/>
              </a:rPr>
              <a:t>4 Jesus was the ____of God. 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39316d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9316d"/>
                </a:solidFill>
                <a:latin typeface="Arial"/>
              </a:rPr>
              <a:t>A daughter    B son    C son’s 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39316d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9316d"/>
                </a:solidFill>
                <a:latin typeface="Arial"/>
              </a:rPr>
              <a:t>D daughters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0540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Ⅱ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answer the question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1 What's Christmas?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2 When is Christmas?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3 What gifts do you like for Christmas?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4 Where do we put star?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5 Do you like Christmas?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364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</a:pPr>
            <a:endParaRPr b="0" lang="en-US" sz="14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Ⅲ </a:t>
            </a: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Choose the right word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1 Merry is an old word____English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2 Merry and happy are ____same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3 I want to buy a tall Christmas tree ___ my family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4 Would you like ____ new sweater?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9316d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39316d"/>
                </a:solidFill>
                <a:latin typeface="Arial"/>
              </a:rPr>
              <a:t>5 We give gifts to our friends and family ____ Christmas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39316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558972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in   at     the   for  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7180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4869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134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198900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068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7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7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2360" y="44280"/>
            <a:ext cx="822960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Comic Sans MS"/>
                <a:ea typeface="Arial Unicode MS"/>
              </a:rPr>
              <a:t>I don’t know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Comic Sans MS"/>
              </a:rPr>
              <a:t>I don’t think so. I think ...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this morning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今天早上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bring--brought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带来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them          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他们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another      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另一个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camera      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相机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lantern        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灯笼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wonderful   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极好的</a:t>
            </a: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5184720" cy="533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292720" y="476280"/>
            <a:ext cx="3851280" cy="34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t’s _________ mor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is morning we open our ______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1125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Arial Unicode MS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3789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7885080" cy="533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42560" y="4723920"/>
            <a:ext cx="6769080" cy="1613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id Santa bring gifts?</a:t>
            </a:r>
            <a:endParaRPr b="0" lang="en-US" sz="44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00080" y="-19080"/>
            <a:ext cx="9282240" cy="687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437000" y="746280"/>
            <a:ext cx="293760" cy="5508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95640" y="156600"/>
            <a:ext cx="8207640" cy="2211480"/>
          </a:xfrm>
          <a:prstGeom prst="cloudCallout">
            <a:avLst>
              <a:gd name="adj1" fmla="val -20912"/>
              <a:gd name="adj2" fmla="val -7743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ome on ,Lynn! Let's go and 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" y="1440"/>
            <a:ext cx="91422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1123920"/>
            <a:ext cx="4824360" cy="108108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27960"/>
            <a:ext cx="6429240" cy="890640"/>
          </a:xfrm>
          <a:prstGeom prst="wedgeRoundRectCallout">
            <a:avLst>
              <a:gd name="adj1" fmla="val 12023"/>
              <a:gd name="adj2" fmla="val 217634"/>
              <a:gd name="adj3" fmla="val 16667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He did  bring gif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105120" y="117000"/>
            <a:ext cx="935676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Li Ming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o brought these gifts,Jenny? Did Santa bring them?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Jenny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I don’t think so. I think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Mum and Dad brought them, but Lynn is little! She thinks Santa brought them!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Lynn 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Look! Santa brought me toys! This is for you,Li Ming! 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 from Santa! Open it,Li Ming.</a:t>
            </a:r>
            <a:endParaRPr b="0" lang="en-US" sz="40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929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Li Ming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t's a camera! </a:t>
            </a:r>
            <a:endParaRPr b="0" lang="en-US" sz="44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wanted a camera! </a:t>
            </a:r>
            <a:endParaRPr b="0" lang="en-US" sz="4400" spc="-1" strike="noStrike">
              <a:solidFill>
                <a:srgbClr val="39316d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ow I can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take picture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and send them to my mother and father!</a:t>
            </a:r>
            <a:endParaRPr b="0" lang="en-US" sz="4400" spc="-1" strike="noStrike">
              <a:solidFill>
                <a:srgbClr val="39316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6360" y="11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zh-CN" sz="2800" spc="-1" strike="noStrike">
              <a:solidFill>
                <a:srgbClr val="39316d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0760" cy="6881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8000" y="185040"/>
            <a:ext cx="8605800" cy="1433520"/>
          </a:xfrm>
          <a:prstGeom prst="wedgeRectCallout">
            <a:avLst>
              <a:gd name="adj1" fmla="val 356"/>
              <a:gd name="adj2" fmla="val 758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Oh!Thank you,Li M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s it from Chi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300640"/>
            <a:ext cx="6985080" cy="100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151960"/>
            <a:ext cx="7134480" cy="128628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es! It's a Chinese lante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sked my mother to send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7:55:02Z</dcterms:created>
  <dc:creator>微软中国</dc:creator>
  <dc:description/>
  <dc:language>en-US</dc:language>
  <cp:lastModifiedBy>acer1</cp:lastModifiedBy>
  <dcterms:modified xsi:type="dcterms:W3CDTF">2015-09-15T07:11:49Z</dcterms:modified>
  <cp:revision>21</cp:revision>
  <dc:subject/>
  <dc:title>Lesson 30 It’s Christmas mo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