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7AFD-D260-4C6E-A276-596C673F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9F1-66B9-4045-A599-4E1414FA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29F-D167-47AC-84D3-5D81D8FC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559-1FE3-444C-8018-CD535FF7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13DB-75B6-4B30-B9F4-801ADD5F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3F27-9622-44CD-A934-A3613C3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872D-BB08-46A4-87C5-4D45CEB5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6323-581D-422E-8C5A-65AE63B1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BC25-C1B2-49C5-9F91-2817011F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F093-EA04-4B5E-AF07-EA6421D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4CD1-76BE-4649-9C21-C09D453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E84-A412-4283-875F-2357D10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0339-8BED-4F7B-B349-FAD66AC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131-8412-4EB4-B010-41F440FA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D7A4-1A85-4001-B339-DAAD55E6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F572-BCED-4147-84F8-14C5A88C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C189-F9A8-4B74-9B09-DA93F8DC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B12-A13A-4F97-9C98-78E4911F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F59-DEBA-4B5C-8D69-34DC3BDA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6E1-D639-4C8D-8608-C5D37F5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676-61E6-4687-BB25-4725357A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6CF-0973-4EAF-A3DC-B5A2C7AB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228-5903-47E7-ADD8-9EEC309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F6C-1768-4AF0-B360-CEBA45B5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600"/>
            <a:ext cx="2867760" cy="3276000"/>
            <a:chOff x="6273360" y="-21600"/>
            <a:chExt cx="286776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920" y="283068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7960" y="1444680"/>
              <a:ext cx="1006200" cy="753840"/>
              <a:chOff x="7797960" y="1444680"/>
              <a:chExt cx="100620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7960" y="1444680"/>
                <a:ext cx="100620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30120"/>
                <a:ext cx="24264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600"/>
              <a:ext cx="2867760" cy="2269080"/>
              <a:chOff x="6273360" y="-21600"/>
              <a:chExt cx="28677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2880" y="808200"/>
                  <a:ext cx="2984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600"/>
                <a:ext cx="2867760" cy="2269080"/>
                <a:chOff x="6273360" y="-21600"/>
                <a:chExt cx="286776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3480"/>
                  <a:ext cx="1063440" cy="1140840"/>
                  <a:chOff x="7835040" y="843480"/>
                  <a:chExt cx="106344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32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5280" y="1603080"/>
                    <a:ext cx="47448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5120" y="771480"/>
                  <a:ext cx="1265400" cy="1051920"/>
                  <a:chOff x="7845120" y="771480"/>
                  <a:chExt cx="1265400" cy="105192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640" y="1022400"/>
                    <a:ext cx="93024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560" y="1425600"/>
                    <a:ext cx="50004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39720" y="735840"/>
                  <a:ext cx="1289520" cy="829080"/>
                  <a:chOff x="7839720" y="735840"/>
                  <a:chExt cx="1289520" cy="82908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7840" y="925560"/>
                    <a:ext cx="890640" cy="15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880"/>
                    <a:ext cx="47808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8280" y="696960"/>
                  <a:ext cx="1302840" cy="669600"/>
                  <a:chOff x="7838280" y="696960"/>
                  <a:chExt cx="130284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3680" y="825480"/>
                    <a:ext cx="85896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640" y="1029960"/>
                    <a:ext cx="461880" cy="271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8800"/>
                  <a:ext cx="1223640" cy="417960"/>
                  <a:chOff x="7852680" y="65880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11360"/>
                    <a:ext cx="79344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040"/>
                    <a:ext cx="425520" cy="252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040" y="633600"/>
                  <a:ext cx="1107000" cy="183960"/>
                  <a:chOff x="7871040" y="633600"/>
                  <a:chExt cx="1107000" cy="18396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120" y="647640"/>
                    <a:ext cx="720720" cy="112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9600" y="637920"/>
                    <a:ext cx="38592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20480"/>
                  <a:ext cx="983520" cy="327600"/>
                  <a:chOff x="7845840" y="420480"/>
                  <a:chExt cx="983520" cy="32760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800" y="564840"/>
                    <a:ext cx="631800" cy="111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7200"/>
                    <a:ext cx="3398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760"/>
                  <a:ext cx="1063800" cy="1140480"/>
                  <a:chOff x="6538320" y="905760"/>
                  <a:chExt cx="1063800" cy="11404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400" y="1195920"/>
                    <a:ext cx="88452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7200" cy="1052280"/>
                  <a:chOff x="6303600" y="861480"/>
                  <a:chExt cx="126720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760"/>
                    <a:ext cx="9320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240" y="828000"/>
                  <a:ext cx="1289520" cy="829440"/>
                  <a:chOff x="6285240" y="828000"/>
                  <a:chExt cx="1289520" cy="82944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7720"/>
                    <a:ext cx="890640" cy="15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040" y="1318680"/>
                    <a:ext cx="479520" cy="24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6960"/>
                  <a:ext cx="1304280" cy="669600"/>
                  <a:chOff x="6273360" y="786960"/>
                  <a:chExt cx="1304280" cy="66960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48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12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160"/>
                  <a:ext cx="1223280" cy="416520"/>
                  <a:chOff x="6338520" y="749160"/>
                  <a:chExt cx="1223280" cy="41652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36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480"/>
                    <a:ext cx="426960" cy="24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800" y="722520"/>
                  <a:ext cx="1106640" cy="185040"/>
                  <a:chOff x="6436800" y="722520"/>
                  <a:chExt cx="1106640" cy="18504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8360"/>
                    <a:ext cx="7207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600" y="726840"/>
                    <a:ext cx="387360" cy="175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840"/>
                  <a:ext cx="984600" cy="325800"/>
                  <a:chOff x="6585480" y="510840"/>
                  <a:chExt cx="984600" cy="3258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2520" y="655560"/>
                    <a:ext cx="6336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756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240"/>
                  <a:ext cx="967680" cy="452520"/>
                  <a:chOff x="6637680" y="390240"/>
                  <a:chExt cx="967680" cy="45252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280"/>
                    <a:ext cx="631800" cy="111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040"/>
                    <a:ext cx="3398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080" y="221040"/>
                  <a:ext cx="904680" cy="628560"/>
                  <a:chOff x="6751080" y="221040"/>
                  <a:chExt cx="90468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4840" y="57276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69800" y="301320"/>
                    <a:ext cx="3416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000" y="57600"/>
                  <a:ext cx="826920" cy="762120"/>
                  <a:chOff x="6867000" y="57600"/>
                  <a:chExt cx="826920" cy="7621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5680" y="501120"/>
                    <a:ext cx="64116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7440" y="153720"/>
                    <a:ext cx="346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520" y="16560"/>
                  <a:ext cx="607680" cy="785880"/>
                  <a:chOff x="7112520" y="16560"/>
                  <a:chExt cx="607680" cy="78588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960" y="477720"/>
                    <a:ext cx="565200" cy="111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960" y="10440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8200" y="-21600"/>
                  <a:ext cx="465840" cy="810000"/>
                  <a:chOff x="7288200" y="-21600"/>
                  <a:chExt cx="465840" cy="8100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1400" y="459720"/>
                    <a:ext cx="54504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640" y="272520"/>
                  <a:ext cx="964080" cy="462600"/>
                  <a:chOff x="7793640" y="27252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1120" y="50940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760"/>
                    <a:ext cx="33984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120" y="135720"/>
                  <a:ext cx="916200" cy="606240"/>
                  <a:chOff x="7737120" y="135720"/>
                  <a:chExt cx="916200" cy="6062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040" y="47124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2600" y="212400"/>
                    <a:ext cx="339840" cy="174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240" y="486720"/>
                  <a:ext cx="528840" cy="7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2560" y="101160"/>
                  <a:ext cx="282600" cy="1170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120" y="-11160"/>
                  <a:ext cx="498240" cy="791280"/>
                  <a:chOff x="7665120" y="-11160"/>
                  <a:chExt cx="49824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2800" y="465480"/>
                    <a:ext cx="546840" cy="95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8840"/>
                    <a:ext cx="29232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3320" y="39600"/>
                  <a:ext cx="786240" cy="746640"/>
                  <a:chOff x="7663320" y="39600"/>
                  <a:chExt cx="786240" cy="74664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560" y="455400"/>
                    <a:ext cx="59220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21320"/>
                    <a:ext cx="31896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9040" y="-360"/>
                  <a:ext cx="177480" cy="745560"/>
                  <a:chOff x="7709040" y="-360"/>
                  <a:chExt cx="17748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480" y="477720"/>
                    <a:ext cx="488880" cy="44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172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50280"/>
                  <a:chOff x="6711120" y="929880"/>
                  <a:chExt cx="912960" cy="12502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440" y="1255680"/>
                    <a:ext cx="88416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400"/>
                    <a:ext cx="474480" cy="252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920"/>
                  <a:ext cx="616320" cy="1248120"/>
                  <a:chOff x="7014960" y="979920"/>
                  <a:chExt cx="61632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2640" y="1308240"/>
                    <a:ext cx="8175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440" y="1851840"/>
                    <a:ext cx="439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4320" cy="1217880"/>
                  <a:chOff x="7312680" y="1001160"/>
                  <a:chExt cx="36432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7360" y="1328040"/>
                    <a:ext cx="78516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4000" y="1877040"/>
                    <a:ext cx="420840" cy="226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320" y="909720"/>
                  <a:ext cx="951120" cy="1229760"/>
                  <a:chOff x="7798320" y="909720"/>
                  <a:chExt cx="951120" cy="122976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8880" y="1229040"/>
                    <a:ext cx="88560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840" cy="253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160" y="956880"/>
                  <a:ext cx="732240" cy="1262160"/>
                  <a:chOff x="7787160" y="956880"/>
                  <a:chExt cx="73224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8040" y="1290240"/>
                    <a:ext cx="846000" cy="15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104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4760"/>
                  <a:ext cx="510120" cy="1242720"/>
                  <a:chOff x="7757280" y="1004760"/>
                  <a:chExt cx="510120" cy="124272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7320" y="1350720"/>
                    <a:ext cx="82080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920" y="1908000"/>
                    <a:ext cx="441360" cy="19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520" cy="1156680"/>
                  <a:chOff x="7733880" y="1058760"/>
                  <a:chExt cx="290520" cy="115668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720"/>
                    <a:ext cx="754920" cy="127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920" y="1901160"/>
                    <a:ext cx="40536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1680" y="1078200"/>
                  <a:ext cx="274680" cy="1131840"/>
                  <a:chOff x="7501680" y="1078200"/>
                  <a:chExt cx="27468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680" y="1401840"/>
                    <a:ext cx="73764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9080" y="192960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200"/>
                <a:ext cx="24912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760"/>
                <a:ext cx="1089000" cy="1185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400" y="232200"/>
                <a:ext cx="1311120" cy="10494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0880" y="757080"/>
                <a:ext cx="638280" cy="12225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600" y="820800"/>
                <a:ext cx="1033560" cy="1220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09440" y="600120"/>
                <a:ext cx="1219320" cy="1222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3040" y="773280"/>
                <a:ext cx="191880" cy="1222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0560" y="765000"/>
                <a:ext cx="515880" cy="1222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080" y="608040"/>
                <a:ext cx="736560" cy="12222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9560" y="1352520"/>
                <a:ext cx="24768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840" y="1102320"/>
                <a:ext cx="225360" cy="4302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38160" y="419040"/>
                <a:ext cx="1306440" cy="1222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9680" y="160200"/>
                <a:ext cx="950760" cy="1182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3080" y="654120"/>
                <a:ext cx="393840" cy="11840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880" y="1285920"/>
                <a:ext cx="557280" cy="780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5880" y="458640"/>
                <a:ext cx="3574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7720" y="225360"/>
                <a:ext cx="214560" cy="781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960" y="1170000"/>
                <a:ext cx="517680" cy="822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760" y="754200"/>
                <a:ext cx="777960" cy="547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3160"/>
                <a:ext cx="339840" cy="734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600" y="783720"/>
                <a:ext cx="228600" cy="4302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8040" y="773280"/>
                <a:ext cx="225360" cy="4298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311-A943-4329-8EAA-D9E4EFF92D2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4800"/>
            <a:ext cx="6895080" cy="5453280"/>
            <a:chOff x="2010960" y="244800"/>
            <a:chExt cx="6895080" cy="54532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400"/>
                <a:ext cx="2286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4800"/>
              <a:ext cx="6895080" cy="5453280"/>
              <a:chOff x="2010960" y="244800"/>
              <a:chExt cx="6895080" cy="54532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4800"/>
                <a:ext cx="6891480" cy="5453280"/>
                <a:chOff x="2010960" y="244800"/>
                <a:chExt cx="6891480" cy="54532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360" y="1266840"/>
                  <a:ext cx="3600360" cy="2651040"/>
                  <a:chOff x="3735360" y="1266840"/>
                  <a:chExt cx="360036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360" y="1266840"/>
                    <a:ext cx="360036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4800"/>
                  <a:ext cx="6891480" cy="5453280"/>
                  <a:chOff x="2010960" y="244800"/>
                  <a:chExt cx="6891480" cy="54532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880" y="2323080"/>
                    <a:ext cx="2559240" cy="2743560"/>
                    <a:chOff x="5762880" y="2323080"/>
                    <a:chExt cx="2559240" cy="27435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5040" y="3020040"/>
                      <a:ext cx="212544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840" y="4147200"/>
                      <a:ext cx="114156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48840"/>
                    <a:ext cx="3040920" cy="2529360"/>
                    <a:chOff x="5787000" y="2148840"/>
                    <a:chExt cx="304092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6720" y="2752200"/>
                      <a:ext cx="2236680" cy="427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440" y="3722760"/>
                      <a:ext cx="1200240" cy="671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920" y="2065320"/>
                    <a:ext cx="3096360" cy="1993320"/>
                    <a:chOff x="5776920" y="2065320"/>
                    <a:chExt cx="3096360" cy="19933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8480" y="2521080"/>
                      <a:ext cx="213984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480"/>
                      <a:ext cx="114948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640" y="1969920"/>
                    <a:ext cx="3133800" cy="1608480"/>
                    <a:chOff x="5768640" y="1969920"/>
                    <a:chExt cx="3133800" cy="160848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600" y="2279160"/>
                      <a:ext cx="206856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80280"/>
                    <a:ext cx="2940120" cy="1001880"/>
                    <a:chOff x="5806080" y="188028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6280"/>
                      <a:ext cx="190512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7800" y="2212920"/>
                      <a:ext cx="1022400" cy="603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800" y="1815840"/>
                    <a:ext cx="2658960" cy="445320"/>
                    <a:chOff x="5851800" y="1815840"/>
                    <a:chExt cx="2658960" cy="44532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680" y="1852200"/>
                      <a:ext cx="173052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360"/>
                      <a:ext cx="930240" cy="422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9160" y="1305000"/>
                    <a:ext cx="2363400" cy="786240"/>
                    <a:chOff x="5789160" y="1305000"/>
                    <a:chExt cx="2363400" cy="78624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880" y="1653840"/>
                      <a:ext cx="15192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92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5360"/>
                    <a:ext cx="2558520" cy="2741040"/>
                    <a:chOff x="2646000" y="2475360"/>
                    <a:chExt cx="2558520" cy="27410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5480" y="3172680"/>
                      <a:ext cx="212580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7000"/>
                    <a:ext cx="3041280" cy="2530080"/>
                    <a:chOff x="2085480" y="2367000"/>
                    <a:chExt cx="304128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70360"/>
                      <a:ext cx="2236680" cy="428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240" cy="673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1200" y="2284200"/>
                    <a:ext cx="3096360" cy="1992240"/>
                    <a:chOff x="2041200" y="2284200"/>
                    <a:chExt cx="309636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800" y="2739960"/>
                      <a:ext cx="213984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400" y="3465360"/>
                      <a:ext cx="1149840" cy="586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520"/>
                    <a:ext cx="3134520" cy="1608120"/>
                    <a:chOff x="2010960" y="2189520"/>
                    <a:chExt cx="313452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4680" y="2498760"/>
                      <a:ext cx="2067120" cy="412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920" y="2097720"/>
                    <a:ext cx="2940120" cy="1001880"/>
                    <a:chOff x="2167920" y="2097720"/>
                    <a:chExt cx="2940120" cy="100188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280" y="2223720"/>
                      <a:ext cx="1905120" cy="384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200" y="2432160"/>
                      <a:ext cx="1022400" cy="601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280"/>
                    <a:ext cx="2659320" cy="446760"/>
                    <a:chOff x="2403360" y="2033280"/>
                    <a:chExt cx="2659320" cy="44676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8920" y="2069640"/>
                      <a:ext cx="173052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400" y="2044440"/>
                      <a:ext cx="930240" cy="42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560" y="1522440"/>
                    <a:ext cx="2363400" cy="788040"/>
                    <a:chOff x="2761560" y="1522440"/>
                    <a:chExt cx="236340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320" y="1872720"/>
                      <a:ext cx="151920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64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7680"/>
                    <a:ext cx="2324880" cy="1083600"/>
                    <a:chOff x="2887560" y="1237680"/>
                    <a:chExt cx="2324880" cy="10836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1240"/>
                      <a:ext cx="81576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960"/>
                    <a:ext cx="2170440" cy="1508400"/>
                    <a:chOff x="3161160" y="831960"/>
                    <a:chExt cx="217044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5680" y="1674360"/>
                      <a:ext cx="152064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3480"/>
                      <a:ext cx="8161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560" cy="1832400"/>
                    <a:chOff x="3437640" y="436320"/>
                    <a:chExt cx="1987560" cy="183240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10040" y="1501920"/>
                      <a:ext cx="154296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6360"/>
                      <a:ext cx="8287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2320" cy="1887480"/>
                    <a:chOff x="4027320" y="335160"/>
                    <a:chExt cx="1462320" cy="18874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9440" y="1445400"/>
                      <a:ext cx="13557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900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4800"/>
                    <a:ext cx="1123560" cy="1947960"/>
                    <a:chOff x="4447800" y="244800"/>
                    <a:chExt cx="112356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440" y="1401480"/>
                      <a:ext cx="13096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920" y="439200"/>
                      <a:ext cx="70308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2440" y="952200"/>
                    <a:ext cx="2317320" cy="1113120"/>
                    <a:chOff x="5662440" y="952200"/>
                    <a:chExt cx="2317320" cy="111312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6320" y="1523880"/>
                      <a:ext cx="151920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680" y="1090080"/>
                      <a:ext cx="81612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30320" y="626760"/>
                    <a:ext cx="2198160" cy="1451520"/>
                    <a:chOff x="5530320" y="626760"/>
                    <a:chExt cx="21981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960" y="1430280"/>
                      <a:ext cx="1519200" cy="265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1080"/>
                      <a:ext cx="8157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760" y="1466280"/>
                    <a:ext cx="1265400" cy="179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40360"/>
                    <a:ext cx="681120" cy="282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6800" y="269640"/>
                    <a:ext cx="1196640" cy="1902600"/>
                    <a:chOff x="5356800" y="269640"/>
                    <a:chExt cx="1196640" cy="19026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8240" y="1420200"/>
                      <a:ext cx="130824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4920"/>
                      <a:ext cx="703080" cy="357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520" y="388800"/>
                    <a:ext cx="1891080" cy="1796760"/>
                    <a:chOff x="5348520" y="388800"/>
                    <a:chExt cx="189108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440" y="1390320"/>
                      <a:ext cx="1423800" cy="33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5120" y="583920"/>
                      <a:ext cx="763560" cy="522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94120"/>
                    <a:ext cx="428760" cy="1795320"/>
                    <a:chOff x="5457960" y="294120"/>
                    <a:chExt cx="4287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880" y="1446120"/>
                      <a:ext cx="1176480" cy="106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4280" y="535320"/>
                      <a:ext cx="630360" cy="165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1520"/>
                    <a:ext cx="2195640" cy="3003480"/>
                    <a:chOff x="3062880" y="2531520"/>
                    <a:chExt cx="219564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1080" y="3315240"/>
                      <a:ext cx="2125440" cy="383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080" y="4592520"/>
                      <a:ext cx="1141560" cy="604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880" y="2650320"/>
                    <a:ext cx="1483200" cy="3000240"/>
                    <a:chOff x="3791880" y="2650320"/>
                    <a:chExt cx="148320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6960"/>
                      <a:ext cx="10540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800" cy="2928960"/>
                    <a:chOff x="4509000" y="2703600"/>
                    <a:chExt cx="874800" cy="29289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840"/>
                      <a:ext cx="1887480" cy="34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160" y="4810320"/>
                      <a:ext cx="1013040" cy="544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920"/>
                    <a:ext cx="2282760" cy="2955240"/>
                    <a:chOff x="5677920" y="2482920"/>
                    <a:chExt cx="2282760" cy="295524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6200" y="324972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3280" y="4499640"/>
                      <a:ext cx="1140120" cy="604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800"/>
                    <a:ext cx="1760040" cy="3034440"/>
                    <a:chOff x="5647680" y="2593800"/>
                    <a:chExt cx="1760040" cy="30344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520"/>
                      <a:ext cx="2033640" cy="369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320"/>
                      <a:ext cx="1092240" cy="579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520"/>
                    <a:ext cx="1226520" cy="2986560"/>
                    <a:chOff x="5576400" y="2711520"/>
                    <a:chExt cx="122652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4200"/>
                      <a:ext cx="1974960" cy="303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160" y="4882320"/>
                      <a:ext cx="1058760" cy="47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8400" cy="2778840"/>
                    <a:chOff x="5521320" y="2840400"/>
                    <a:chExt cx="698400" cy="277884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8280"/>
                      <a:ext cx="181476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560" y="4863960"/>
                      <a:ext cx="974880" cy="476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2240" y="2888280"/>
                    <a:ext cx="664200" cy="2717640"/>
                    <a:chOff x="4962240" y="2888280"/>
                    <a:chExt cx="6642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760" y="3665880"/>
                      <a:ext cx="1773360" cy="231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6360" y="4932000"/>
                      <a:ext cx="95112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7640" y="681120"/>
                <a:ext cx="6728400" cy="4521240"/>
                <a:chOff x="2177640" y="681120"/>
                <a:chExt cx="672840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7640" y="681120"/>
                  <a:ext cx="6728400" cy="4521240"/>
                  <a:chOff x="2177640" y="681120"/>
                  <a:chExt cx="672840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38760" y="857880"/>
                    <a:ext cx="316728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58880" y="2273400"/>
                    <a:ext cx="2484720" cy="29289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21200" y="1754280"/>
                    <a:ext cx="1756080" cy="293040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7280" y="1295280"/>
                    <a:ext cx="3132360" cy="29368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60720" y="681120"/>
                    <a:ext cx="2279520" cy="28414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5760" y="1879560"/>
                    <a:ext cx="938520" cy="284184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9360" y="2182320"/>
                  <a:ext cx="5443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1080" y="712800"/>
              <a:ext cx="6412320" cy="4711680"/>
              <a:chOff x="2341080" y="712800"/>
              <a:chExt cx="6412320" cy="47116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7960" y="3235320"/>
                <a:ext cx="59868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0760" y="2576520"/>
                <a:ext cx="2617560" cy="2847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1760" y="2125800"/>
                <a:ext cx="1535040" cy="2928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0720" y="1739880"/>
                <a:ext cx="2932200" cy="29304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3240" y="2147760"/>
                <a:ext cx="469800" cy="2936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0320" y="2139840"/>
                <a:ext cx="1241280" cy="2930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560" y="3546360"/>
                <a:ext cx="59868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960" y="2947320"/>
                <a:ext cx="54468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7040" y="3384720"/>
                <a:ext cx="133812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760" y="1398600"/>
                <a:ext cx="85752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2120" y="3108240"/>
                <a:ext cx="1241280" cy="19749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920" y="2109960"/>
                <a:ext cx="187344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760" y="712800"/>
                <a:ext cx="81756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3960" cy="10314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6818-F85C-479F-81F9-712980B8C2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7924680" cy="26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Maddy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s Christmas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麦迪的圣诞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tory tim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At Christmas we give gif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圣诞节我们送礼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have a gift for you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要送给你们一个礼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 something very special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它是个很特别的东西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But it isn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 something new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但不是什么新鲜的西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didn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 buy a thing for you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没有给你们买东西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he things were all too small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所有的东西都太小了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My gift is that I love you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的礼物就是我爱你们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 the biggest gift of all.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它是所有礼物中最大的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能听懂会说本课的故事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:Maddy’s Christma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. Where are Maddy and Ann 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hey are in sho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2. What are they doing 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hey are shopp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3.Is Maddy having fun ? Why or why not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Yes ,he is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Because  his gift is the biggest gift of al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3.Discuss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出示问题，检查学生理解情况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1)Did Anna buy Christmas gifts for her family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2)Did Maddy buy her family a gift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3)What does Maddy give her family Christmas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(4)Does her  family like gift 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838080" y="2743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Yes ,she di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914400" y="4267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No,she didn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762120" y="5410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s a song    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my gift is I love you </a:t>
            </a:r>
            <a:r>
              <a:rPr b="0" lang="zh-CN" sz="2400" spc="-1" strike="noStrike">
                <a:solidFill>
                  <a:srgbClr val="ffcc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1430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Yes ,her family does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omorrow is Christmas. Christmas is my favour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明天是圣诞节，圣诞节时我最喜欢的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holiday! We are going ti invite my aunt, uncle and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节日！我们将要邀请我的阿姨姨夫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cousins for supper. We are going to open our gif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表姐弟来共进晚餐。我们还要打开礼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We are going to sing Christmas so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们还要唱圣诞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want to give my family something special f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想给家人不同寻常的圣诞礼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Christm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What am I going to give my family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要给家人什么呢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don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 know! Everything is too small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不知道，所有的礼物都太小了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Yesterday I went shopping with my friend Anna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昨天，我和朋友安娜去购物了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Anna bought her mother a sweater for Christm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安娜给她妈妈买了一件毛衣作为圣诞礼物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he bought her father a box of te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她给她的爸爸买了一盒茶叶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How much for one,please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请问多少钱一盒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Five dollars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五美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he bought her sister a teddy for Christm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她给她的妹妹买了一只泰迪熊作为圣诞礼物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found a nice teddy bear . But it was too  small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发现了一个不错的泰迪熊，但是它太小了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Anna talked to Santa at the sho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阿娜在商店里和圣诞老人谈话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What would you like for Christmas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你想要什么圣诞礼物？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would like a little ,little to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想要一个很小巧的玩具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think Santa was afraid of me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想我吓到了圣诞老人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oday we are getting ready for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今天我们正在为圣诞节做准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. We put lights on our ho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们把灯挂在房子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. Now we are putting up our Christmas tre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现在我们正在装饰圣诞树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We put a star on top of the tree. Then my mothe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们在树上放了一颗星星。然后妈妈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and father put gifts under the tree. My brother a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和爸爸把礼物放在了树下。     哥哥和妹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ister put gifts under the tree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，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也把礼物放在了树下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don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 have a gift! Oh, no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没有礼物！噢，不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 go to my bedroom. I work and work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我回到卧室。我不停地做着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Then I put a card  on our Christmas 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然后我在圣诞树上面放了一张卡片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On Christmas moring, my family opens my gif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圣诞节早上，我的家人打开了我的礼物。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’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s a song! everyone sings my song. Here it i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它是一首歌！大家都在唱我的歌。歌词如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2T06:30:50Z</dcterms:created>
  <dc:creator>samsung</dc:creator>
  <dc:description/>
  <dc:language>en-US</dc:language>
  <cp:lastModifiedBy>dreamsummit</cp:lastModifiedBy>
  <dcterms:modified xsi:type="dcterms:W3CDTF">2015-11-10T02:28:03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