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24.jpeg" ContentType="image/jpeg"/>
  <Override PartName="/ppt/media/image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6.gif" ContentType="image/gif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CCE-551D-4D86-9F1C-D17FEA6D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C6F-3751-4CF4-AD29-530584E5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F68-3217-4435-AB8F-459BFA91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EF8-2E48-4963-8514-5A6A503E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6E8-C320-4B99-B7C4-70468D7B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67F-F55F-40BD-AD01-E581A95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B93D-2AB6-4115-84FD-3F9F62C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14C-A932-48B2-93B1-D6FDEB0D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8850-603A-40FB-B965-8FCBBE50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CF7-A9DC-41BB-93BB-6BB3D2A0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BCF0-CCE7-4C83-A1AD-44A5150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DC0-1179-4F3E-AB10-A859140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13DC-9459-4D51-B9EC-D478B41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CF8B-0DB0-4AA6-9EB4-79AD1EA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404-8607-46F0-A3FB-EA8C596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AE1C-637B-4827-8337-6ABF528A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641-7904-43B1-B930-396B6D66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E02B-5250-403E-BFA6-65DE481F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12CF-326A-4AA5-9317-4A00AD6B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8E28-D16C-407A-90FA-80C1EDB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92C8-431D-4364-8C1C-22F1E8C9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353A-455B-4DC1-9682-D6A5C82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81F-14D6-4FE4-ADA7-00BA55DC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6983-59A9-4B93-97AB-10F0712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9B1F-C1ED-489D-94F9-7E4648A4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4A68-E18D-43B8-BC44-31E1154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66DA-7CB0-4635-9EDD-9318D06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A8AE-8AE5-462E-BB24-28B0FE1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6BE9-CF0B-42DD-A373-E2501E08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FEF7-6C14-4E11-A42C-25650E9B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F72E-1336-48EF-9A6A-F53CF044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2735-F29B-4894-8905-71AEADD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2565-7258-4FA8-8EF5-43CD946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1CA-E8E7-4917-938E-49D367B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194A-2761-4870-A10A-C694AF1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8298E-08D6-4738-803F-6605F1F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7413-E2E7-477C-B60B-C655C6A0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809D-57EB-4278-8555-6FD9EB9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0E42-B20F-4D86-A761-61EC012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16B5-53A1-4E23-9BCD-B42978D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BBBC-ADE3-445F-AE50-BEE3CE3F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C25A-2F04-454F-AAE7-AB29F4BF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2CDF-AE03-4FCF-8450-249BAF15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8415-FAD9-4383-A6E1-0CA91D15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D9D-7977-42FF-98F2-FC135D32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5F3E-DC33-40FA-B523-7BCCF5E4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C055-DB8D-472A-A761-830069C6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DD71-ED38-4949-AC36-F36DCD7A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995C-B7AE-49FD-AA3E-3A75D90A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BA65-7E18-4B7A-9F73-ACD4997D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58C4-9968-4CD0-9D95-038B51B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4A5C7-F3D9-44A4-B31D-31A0814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531F-0105-420D-97A4-0778C7D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D6D2-E055-41A9-BB49-5C68D1CF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B7F7-508C-41F4-BF78-6A3AED85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F44-65CA-4935-B566-F886B0A7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0183-5653-4FBA-819E-BE6F469F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9854-B316-46C0-8C62-87F4F9AF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3F4D-E533-4982-8EFF-ACFF87F8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943E3-2DEF-4B6F-8DE4-B79FAEB7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55A0-C771-4FA5-8AE1-48AAFBF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43254-2515-454F-914B-DAC49CAC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8C3D1-F2DE-4356-8991-523B7BF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B5B83-D214-4B31-9845-92E4A89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5641-4FDE-4BF6-8160-EF760A85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DF83-84E2-4C0A-A6E3-D4FB7C7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40B-8C4E-46B9-8703-B60FA74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4D57-C6E9-4EBB-9279-1746FB4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D593-2EE4-4984-A738-CCFB539E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9AD7-1964-4C73-B957-BE55BA0B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9749-C6C2-409F-A63F-4B41CD51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AC42-8152-4A5F-AA14-F1223E9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7E76F-F79F-4DF8-BAD4-A5809D5E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F57D-4CC8-4407-AA77-EA560A8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A0F72-B817-4DD7-A0BF-F492EA2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AFFF-158E-4676-8F48-57DEA26E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25397-EC52-4611-8611-BB2EF9F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AFD-4C1A-49CF-B064-EC0B543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9F47-61C7-4DB0-ADA7-9564DF0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15056-C902-44AD-B72E-FB0B367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A645-FC29-4F07-9679-F3A8DD95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E983A-1229-41C3-8F3A-189552C6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FDC72-8AC2-4F77-91D5-886FEB7F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3A13-F4F7-4C89-AB22-12EB361F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480F-6578-4639-AD0C-6B3AE71A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B802-8BD1-43D2-9AF5-C9A4CF48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8B219-9F53-4B83-862E-C2B8D713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5CFA-3A6A-4135-B89C-9151D5C0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2D1-E8B5-4C43-A171-6AE82788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15D83-0953-4D65-8A27-52A3AC4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7568-1C4C-4A79-B0F9-DBE7E40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CF78A-0D01-4F4A-A4B0-E3A6301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0FD1-C5F0-496B-B494-0CEDD6A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5D01-0285-4895-9B0B-30F1C48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A01C-B5B4-4AC3-85ED-C87A816B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6BCF-B45E-456C-97C4-8A9E6C91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1F9-8DD6-4337-A083-9F5732D9501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253B-E5B4-4E66-BE43-D154813C0F1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51E-3220-4504-A093-1E939D43A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1CB7-EBCE-47CB-901A-6D3B8FA225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8E3-019D-4714-B439-5B7362C41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C67-483B-48B1-AECE-1C9F0F840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DE09-CDEE-436F-901B-51C10BD2828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5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5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FA5-F30E-466A-95FE-7EC7B699A52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0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1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1.jpeg"/><Relationship Id="rId6" Type="http://schemas.openxmlformats.org/officeDocument/2006/relationships/image" Target="../media/image2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7030a0"/>
                </a:solidFill>
                <a:latin typeface="Arial"/>
              </a:rPr>
              <a:t>welcome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Arial"/>
              </a:rPr>
              <a:t>Lesson 3:Making Break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图片 3" descr="2008131104844567.jpg"/>
          <p:cNvPicPr/>
          <p:nvPr/>
        </p:nvPicPr>
        <p:blipFill>
          <a:blip r:embed="rId1"/>
          <a:stretch/>
        </p:blipFill>
        <p:spPr>
          <a:xfrm>
            <a:off x="1905120" y="2971800"/>
            <a:ext cx="5257800" cy="35812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4" descr="131935789333.gif"/>
          <p:cNvPicPr/>
          <p:nvPr/>
        </p:nvPicPr>
        <p:blipFill>
          <a:blip r:embed="rId2"/>
          <a:stretch/>
        </p:blipFill>
        <p:spPr>
          <a:xfrm>
            <a:off x="7086600" y="-38088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336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Make dialogue in group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 : Good morning 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 : Good morning 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 : What would you like for breakfast ?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 : I would like eggs, milk and toast for breakfast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 : Let’s cook eggs on the stove . Please put some dishes on the table 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 : Ok !    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 : Now breakfast is ready . This is yours . That is mine 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726320" y="304920"/>
            <a:ext cx="14176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Listen to the tape and think over these questions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at would Jenny and Li Ming like  for breakfast 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②What is Mr. Smith cooking 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③Where is the juice 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④Where do we wash dishes 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⑤What’s meaning of “ mine ” and “ yours ”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15328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-15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0066"/>
                </a:solidFill>
                <a:latin typeface="Arial"/>
              </a:rPr>
              <a:t>This is Jenny’s hous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05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0066"/>
                </a:solidFill>
                <a:latin typeface="Arial"/>
              </a:rPr>
              <a:t>Rooms in Jenny’s  hous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10240" cy="2438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4419720" y="335268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3886200" cy="2712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6019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itchen  bathroom  living room   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9528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781680" cy="47005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990720" y="5486400"/>
            <a:ext cx="70866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t’s  have  a  show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diamond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16002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What time is it ?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304920" y="2743200"/>
            <a:ext cx="2361960" cy="23446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2895480" y="4114800"/>
            <a:ext cx="1965600" cy="21337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5029200" y="1752480"/>
            <a:ext cx="3057480" cy="2819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5181480" y="4876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46483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7: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3520" y="1752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 is 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6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What would you like for breakfast?</a:t>
            </a:r>
            <a:br>
              <a:rPr sz="35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I would lik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-360"/>
            <a:ext cx="80010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4495680" cy="44197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2830680" cy="21286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384640" cy="2701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2057400" y="32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6324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34120" y="63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oo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cereal juice eggs toast j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629080" cy="17524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7162920" y="19051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2629080" cy="17528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627280" cy="22100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5867280" y="1905120"/>
            <a:ext cx="1333800" cy="12952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2895480" y="1828800"/>
            <a:ext cx="2819520" cy="415764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7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In the kitchen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is stove. We cook on the sto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is the refrigerato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t is cold inside. The juice is in the refrigerato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810240" cy="23241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4724280" y="3657600"/>
            <a:ext cx="3886200" cy="26733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4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se are dishes. We put dishes on the tabl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is the sink. After supper we wash dishes in the sink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06T08:48:1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