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8F6-A2CA-4F27-8F21-A51BD284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163-EEA2-4155-BA79-BE8B527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2AD-CA55-4A73-8166-EB436441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869-9FCD-4169-A31A-5782B95E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AB4-2BDA-4366-AC9C-B4350813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CF4-3566-4638-B8A4-D4099872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528-9897-4482-9D5A-D5CCC9EB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9A3-9AA7-4AFA-A434-74DA24D5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3B5-776B-4B21-AA7C-DBF974B3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180-50A3-48A0-9E91-0A2EEA5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154-D8E6-491A-9DDB-D8BC3A5E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C66-48A3-4AC0-AA79-483E5AE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A8D71-AC0E-4915-B16D-EA6EEFAD91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 School in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5920" y="332244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93880" y="4079880"/>
            <a:ext cx="61772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988920" y="127332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put an apple ________ the righ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r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365640" y="229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32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4"/>
          <p:cNvSpPr/>
          <p:nvPr/>
        </p:nvSpPr>
        <p:spPr>
          <a:xfrm>
            <a:off x="1033560" y="3792600"/>
            <a:ext cx="7153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1908000" y="3776760"/>
            <a:ext cx="63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put… for…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达“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代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这里表示用苹果代表正确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517680" y="1398600"/>
            <a:ext cx="808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我的日常。看表格，用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ft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ometime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ever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 make breakfas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_do my home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_clean the bed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_wash the dishe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___________ play cards with my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39" name="矩形 18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16" descr=""/>
          <p:cNvPicPr/>
          <p:nvPr/>
        </p:nvPicPr>
        <p:blipFill>
          <a:blip r:embed="rId2"/>
          <a:stretch/>
        </p:blipFill>
        <p:spPr>
          <a:xfrm>
            <a:off x="4968720" y="2330280"/>
            <a:ext cx="3992760" cy="284832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1423800" y="2128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1651320" y="31813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1707840" y="37544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1744200" y="4319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1667520" y="5403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009800" y="134604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1033560" y="2933640"/>
            <a:ext cx="763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单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, sometimes, often,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…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often clean 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t sometimes I ride my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5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5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2"/>
          <a:stretch/>
        </p:blipFill>
        <p:spPr>
          <a:xfrm>
            <a:off x="1387440" y="1457280"/>
            <a:ext cx="6464160" cy="40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文本框 8" descr=""/>
          <p:cNvPicPr/>
          <p:nvPr/>
        </p:nvPicPr>
        <p:blipFill>
          <a:blip r:embed="rId1"/>
          <a:stretch/>
        </p:blipFill>
        <p:spPr>
          <a:xfrm>
            <a:off x="1779480" y="249120"/>
            <a:ext cx="5829480" cy="649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819000" y="1235160"/>
            <a:ext cx="77425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, let’s get to work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 Ming, do you do your homewor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alway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ood ! Let’s put an A for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, do you help your moth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I often clean the fl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put an O for of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teven, do you walk to schoo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teve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sometimes. But sometimes I ride my b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put an S for some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, do you wear dress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!! I never wear dress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r. Wo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kay. Let’s put an N for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7"/>
          <p:cNvSpPr/>
          <p:nvPr/>
        </p:nvSpPr>
        <p:spPr>
          <a:xfrm>
            <a:off x="3525120" y="156204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lways /ɔːlweɪz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总是；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8"/>
          <p:cNvSpPr/>
          <p:nvPr/>
        </p:nvSpPr>
        <p:spPr>
          <a:xfrm>
            <a:off x="1351080" y="1681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1674720" y="16714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673360" y="2265480"/>
            <a:ext cx="59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always go to work by c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经常乘轿车去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9" descr="book.gif"/>
          <p:cNvPicPr/>
          <p:nvPr/>
        </p:nvPicPr>
        <p:blipFill>
          <a:blip r:embed="rId2"/>
          <a:stretch/>
        </p:blipFill>
        <p:spPr>
          <a:xfrm>
            <a:off x="609480" y="15541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矩形 1"/>
          <p:cNvSpPr/>
          <p:nvPr/>
        </p:nvSpPr>
        <p:spPr>
          <a:xfrm>
            <a:off x="1879200" y="253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904400" y="395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1686960" y="4762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2695680" y="3708360"/>
            <a:ext cx="61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动作重复、状态继续，中间没有间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2711520" y="4513320"/>
            <a:ext cx="38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v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从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7"/>
          <p:cNvSpPr/>
          <p:nvPr/>
        </p:nvSpPr>
        <p:spPr>
          <a:xfrm>
            <a:off x="3010320" y="1341360"/>
            <a:ext cx="2579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put ... for..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代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18"/>
          <p:cNvSpPr/>
          <p:nvPr/>
        </p:nvSpPr>
        <p:spPr>
          <a:xfrm>
            <a:off x="831960" y="13971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155600" y="1434960"/>
            <a:ext cx="14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949400" y="1967040"/>
            <a:ext cx="5997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put a line for a river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用线条代表河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9" descr="book.gif"/>
          <p:cNvPicPr/>
          <p:nvPr/>
        </p:nvPicPr>
        <p:blipFill>
          <a:blip r:embed="rId2"/>
          <a:stretch/>
        </p:blipFill>
        <p:spPr>
          <a:xfrm>
            <a:off x="90360" y="12700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1281240" y="2013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8" descr=""/>
          <p:cNvPicPr/>
          <p:nvPr/>
        </p:nvPicPr>
        <p:blipFill>
          <a:blip r:embed="rId3"/>
          <a:stretch/>
        </p:blipFill>
        <p:spPr>
          <a:xfrm>
            <a:off x="863640" y="2533680"/>
            <a:ext cx="325440" cy="368280"/>
          </a:xfrm>
          <a:prstGeom prst="rect">
            <a:avLst/>
          </a:prstGeom>
          <a:ln w="0">
            <a:noFill/>
          </a:ln>
        </p:spPr>
      </p:pic>
      <p:sp>
        <p:nvSpPr>
          <p:cNvPr id="88" name="矩形 16"/>
          <p:cNvSpPr/>
          <p:nvPr/>
        </p:nvSpPr>
        <p:spPr>
          <a:xfrm>
            <a:off x="1229400" y="2371680"/>
            <a:ext cx="48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886040" y="2424240"/>
            <a:ext cx="668952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含有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u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的常用短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ut o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穿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ou can put on your 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   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可以穿上你的连衣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ut ... on..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放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 put it on the 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   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请把它放在桌子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put ... in ..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放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puts the pen in the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   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她把钢笔放在盒子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7"/>
          <p:cNvSpPr/>
          <p:nvPr/>
        </p:nvSpPr>
        <p:spPr>
          <a:xfrm>
            <a:off x="2824200" y="1420920"/>
            <a:ext cx="55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metimes /sʌmtaɪmz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时；间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8"/>
          <p:cNvSpPr/>
          <p:nvPr/>
        </p:nvSpPr>
        <p:spPr>
          <a:xfrm>
            <a:off x="973080" y="1555920"/>
            <a:ext cx="17780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9"/>
          <p:cNvSpPr/>
          <p:nvPr/>
        </p:nvSpPr>
        <p:spPr>
          <a:xfrm>
            <a:off x="1297080" y="1546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295360" y="2171880"/>
            <a:ext cx="47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times I walk to the pa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时我步行去公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9" descr="book.gif"/>
          <p:cNvPicPr/>
          <p:nvPr/>
        </p:nvPicPr>
        <p:blipFill>
          <a:blip r:embed="rId2"/>
          <a:stretch/>
        </p:blipFill>
        <p:spPr>
          <a:xfrm>
            <a:off x="231840" y="142884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98" name="矩形 1"/>
          <p:cNvSpPr/>
          <p:nvPr/>
        </p:nvSpPr>
        <p:spPr>
          <a:xfrm>
            <a:off x="1501200" y="2297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1526760" y="356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2317680" y="3457440"/>
            <a:ext cx="61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动作偶尔发生，间隔较大，可以用在句首、句中或句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1"/>
          <p:cNvSpPr/>
          <p:nvPr/>
        </p:nvSpPr>
        <p:spPr>
          <a:xfrm>
            <a:off x="2266920" y="4697280"/>
            <a:ext cx="65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一些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 tim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次，回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som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773640" y="4826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1308960" y="56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2333520" y="5365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v./adj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某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度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1074600" y="1217520"/>
            <a:ext cx="6873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 and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336680" y="2131920"/>
            <a:ext cx="6551640" cy="33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074600" y="1201680"/>
            <a:ext cx="707580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ang Hong __________ reads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g Hong __________watches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uo Yang __________ plays computer game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o Yang __________has lunch at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Kim __________wears sho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m__________ goes to the cin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I 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3292560" y="1368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3132720" y="19843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m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3146400" y="2587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179880" y="32529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2388240" y="3884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2073600" y="446256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m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1681200" y="51102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ver play computer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1700280" y="569736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metimes go to the cinema.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文本框 8" descr=""/>
          <p:cNvPicPr/>
          <p:nvPr/>
        </p:nvPicPr>
        <p:blipFill>
          <a:blip r:embed="rId1"/>
          <a:stretch/>
        </p:blipFill>
        <p:spPr>
          <a:xfrm>
            <a:off x="1946160" y="131760"/>
            <a:ext cx="5778720" cy="782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074600" y="1422360"/>
            <a:ext cx="70758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you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some    sou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,     thanks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you ok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, I’m sic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t a duc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,    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2232000" y="2911320"/>
            <a:ext cx="266760" cy="333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946160" y="4160880"/>
            <a:ext cx="266760" cy="33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3949560" y="1685880"/>
            <a:ext cx="266760" cy="33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2232000" y="3516480"/>
            <a:ext cx="266760" cy="31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6"/>
          <a:stretch/>
        </p:blipFill>
        <p:spPr>
          <a:xfrm>
            <a:off x="1774800" y="2309760"/>
            <a:ext cx="266760" cy="31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7"/>
          <a:stretch/>
        </p:blipFill>
        <p:spPr>
          <a:xfrm>
            <a:off x="1847880" y="4811760"/>
            <a:ext cx="266760" cy="314280"/>
          </a:xfrm>
          <a:prstGeom prst="rect">
            <a:avLst/>
          </a:prstGeom>
          <a:ln w="0">
            <a:noFill/>
          </a:ln>
        </p:spPr>
      </p:pic>
      <p:sp>
        <p:nvSpPr>
          <p:cNvPr id="126" name="弧形 1"/>
          <p:cNvSpPr/>
          <p:nvPr/>
        </p:nvSpPr>
        <p:spPr>
          <a:xfrm rot="8458800">
            <a:off x="1168200" y="4024080"/>
            <a:ext cx="487080" cy="485640"/>
          </a:xfrm>
          <a:custGeom>
            <a:avLst/>
            <a:gdLst/>
            <a:ahLst/>
            <a:rect l="l" t="t" r="r" b="b"/>
            <a:pathLst>
              <a:path stroke="0" w="487362" h="485775">
                <a:moveTo>
                  <a:pt x="243681" y="0"/>
                </a:moveTo>
                <a:cubicBezTo>
                  <a:pt x="351651" y="0"/>
                  <a:pt x="443220" y="69991"/>
                  <a:pt x="475195" y="166887"/>
                </a:cubicBezTo>
                <a:lnTo>
                  <a:pt x="243681" y="242887"/>
                </a:lnTo>
                <a:close/>
              </a:path>
              <a:path fill="none" w="487362" h="485775">
                <a:moveTo>
                  <a:pt x="243681" y="0"/>
                </a:moveTo>
                <a:cubicBezTo>
                  <a:pt x="351651" y="0"/>
                  <a:pt x="443220" y="69991"/>
                  <a:pt x="475195" y="16688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弧形 18"/>
          <p:cNvSpPr/>
          <p:nvPr/>
        </p:nvSpPr>
        <p:spPr>
          <a:xfrm rot="8458800">
            <a:off x="2109600" y="4649400"/>
            <a:ext cx="487080" cy="485640"/>
          </a:xfrm>
          <a:custGeom>
            <a:avLst/>
            <a:gdLst/>
            <a:ahLst/>
            <a:rect l="l" t="t" r="r" b="b"/>
            <a:pathLst>
              <a:path stroke="0" w="487362" h="485775">
                <a:moveTo>
                  <a:pt x="243681" y="0"/>
                </a:moveTo>
                <a:cubicBezTo>
                  <a:pt x="351651" y="0"/>
                  <a:pt x="443220" y="69991"/>
                  <a:pt x="475195" y="166887"/>
                </a:cubicBezTo>
                <a:lnTo>
                  <a:pt x="243681" y="242887"/>
                </a:lnTo>
                <a:close/>
              </a:path>
              <a:path fill="none" w="487362" h="485775">
                <a:moveTo>
                  <a:pt x="243681" y="0"/>
                </a:moveTo>
                <a:cubicBezTo>
                  <a:pt x="351651" y="0"/>
                  <a:pt x="443220" y="69991"/>
                  <a:pt x="475195" y="16688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3:53:06Z</dcterms:modified>
  <cp:revision>6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