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gif" ContentType="image/gif"/>
  <Override PartName="/ppt/media/image13.png" ContentType="image/png"/>
  <Override PartName="/ppt/media/image17.jpeg" ContentType="image/jpeg"/>
  <Override PartName="/ppt/media/image11.gif" ContentType="image/gif"/>
  <Override PartName="/ppt/media/image14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2.wmf" ContentType="image/x-wmf"/>
  <Override PartName="/ppt/media/image3.gif" ContentType="image/gif"/>
  <Override PartName="/ppt/media/image1.jpeg" ContentType="image/jpeg"/>
  <Override PartName="/ppt/media/image7.png" ContentType="image/png"/>
  <Override PartName="/ppt/media/image4.jpeg" ContentType="image/jpeg"/>
  <Override PartName="/ppt/media/image8.gif" ContentType="image/gif"/>
  <Override PartName="/ppt/media/image6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7CCED092-09F0-4B76-93AA-C2CC8930715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9012-67D0-4943-AC01-ABD59E8A6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15E5-D644-4AE4-961D-A0BFE739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34B9-DE9C-47DB-9BB0-6F70A4E78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FFCE-20A6-4F08-85E2-2190779C8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7001-C395-428A-888A-86BCF576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0A6A-C993-4ECA-9178-74E0E95A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B568-C667-449D-9474-90626533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F88F-22EE-47D8-B5A3-232FD520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CB66-8D13-492A-93A6-6DDF08BA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1509-B1E4-446B-B6D2-A81E6132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4915-9214-4AAA-8414-48D80AC5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6269-09B2-4236-B152-12E3F691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EBB7F5EB-6DFA-4B64-93EC-5BA76445CD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6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图片1"/>
          <p:cNvPicPr/>
          <p:nvPr/>
        </p:nvPicPr>
        <p:blipFill>
          <a:blip r:embed="rId2"/>
          <a:stretch/>
        </p:blipFill>
        <p:spPr>
          <a:xfrm>
            <a:off x="762120" y="1219320"/>
            <a:ext cx="7696080" cy="4047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45720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冀教版小学英语六年级上册第二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895480"/>
            <a:ext cx="6858000" cy="16912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Lesson13  Sea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thank you"/>
          <p:cNvPicPr/>
          <p:nvPr/>
        </p:nvPicPr>
        <p:blipFill>
          <a:blip r:embed="rId1"/>
          <a:srcRect l="0" t="5960" r="0" b="0"/>
          <a:stretch/>
        </p:blipFill>
        <p:spPr>
          <a:xfrm>
            <a:off x="395280" y="981000"/>
            <a:ext cx="8317080" cy="522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秋天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54000" y="4648320"/>
            <a:ext cx="7834680" cy="581400"/>
          </a:xfrm>
          <a:prstGeom prst="rect">
            <a:avLst/>
          </a:prstGeom>
          <a:solidFill>
            <a:srgbClr val="ff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wind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blow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 the leaves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of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the tr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29120" y="5715000"/>
            <a:ext cx="5260320" cy="581400"/>
          </a:xfrm>
          <a:prstGeom prst="rect">
            <a:avLst/>
          </a:prstGeom>
          <a:solidFill>
            <a:srgbClr val="ff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put o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my sweater in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74760" y="6278400"/>
            <a:ext cx="7404480" cy="581400"/>
          </a:xfrm>
          <a:prstGeom prst="rect">
            <a:avLst/>
          </a:prstGeom>
          <a:solidFill>
            <a:srgbClr val="ff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take of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my shorts and T-shirt in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40640" y="5181480"/>
            <a:ext cx="4853160" cy="581400"/>
          </a:xfrm>
          <a:prstGeom prst="rect">
            <a:avLst/>
          </a:prstGeom>
          <a:solidFill>
            <a:srgbClr val="ff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 like to play in the w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3960" y="533520"/>
            <a:ext cx="1503720" cy="1191240"/>
          </a:xfrm>
          <a:prstGeom prst="rect">
            <a:avLst/>
          </a:prstGeom>
          <a:solidFill>
            <a:srgbClr val="ff99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</a:rPr>
              <a:t>fal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609480"/>
            <a:ext cx="358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autum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snowman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200400" y="228600"/>
            <a:ext cx="2666880" cy="1099440"/>
          </a:xfrm>
          <a:prstGeom prst="rect">
            <a:avLst/>
          </a:prstGeom>
          <a:solidFill>
            <a:srgbClr val="3366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wint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4495680"/>
            <a:ext cx="8534520" cy="76428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How’s the weather in win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5257800"/>
            <a:ext cx="8534520" cy="76428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What do you wear in win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6019920"/>
            <a:ext cx="8534520" cy="70344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What do you like to do in win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nothing"/>
          <p:cNvPicPr/>
          <p:nvPr/>
        </p:nvPicPr>
        <p:blipFill>
          <a:blip r:embed="rId2"/>
          <a:stretch/>
        </p:blipFill>
        <p:spPr>
          <a:xfrm>
            <a:off x="3962520" y="281952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80880" y="990720"/>
          <a:ext cx="8367480" cy="4623840"/>
        </p:xfrm>
        <a:graphic>
          <a:graphicData uri="http://schemas.openxmlformats.org/drawingml/2006/table">
            <a:tbl>
              <a:tblPr/>
              <a:tblGrid>
                <a:gridCol w="1327320"/>
                <a:gridCol w="2004840"/>
                <a:gridCol w="2531880"/>
                <a:gridCol w="2503440"/>
              </a:tblGrid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seas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wea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ctiv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lot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6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1752480" y="29718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Winter is c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24200" y="2819520"/>
            <a:ext cx="22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I like to  ma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a snowm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24480" y="2895480"/>
            <a:ext cx="23623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I wear m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mitt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2895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w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828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981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Fall is c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9880" y="17524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I like to play in the win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I wear my sweater in f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桃花"/>
          <p:cNvPicPr/>
          <p:nvPr/>
        </p:nvPicPr>
        <p:blipFill>
          <a:blip r:embed="rId1"/>
          <a:srcRect l="41861" t="7849" r="0" b="686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c4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62120" y="2590920"/>
            <a:ext cx="7619760" cy="1099440"/>
          </a:xfrm>
          <a:prstGeom prst="rect">
            <a:avLst/>
          </a:prstGeom>
          <a:solidFill>
            <a:srgbClr val="ff99cc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What season is it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457200"/>
            <a:ext cx="2895840" cy="1099440"/>
          </a:xfrm>
          <a:prstGeom prst="rect">
            <a:avLst/>
          </a:prstGeom>
          <a:solidFill>
            <a:srgbClr val="ff6699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spr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5029200"/>
            <a:ext cx="4343400" cy="642600"/>
          </a:xfrm>
          <a:prstGeom prst="rect">
            <a:avLst/>
          </a:prstGeom>
          <a:solidFill>
            <a:srgbClr val="ff6699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The flowers blo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609480"/>
            <a:ext cx="3504960" cy="1099440"/>
          </a:xfrm>
          <a:prstGeom prst="rect">
            <a:avLst/>
          </a:prstGeom>
          <a:solidFill>
            <a:srgbClr val="3366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</a:tabLst>
            </a:pPr>
            <a:r>
              <a:rPr b="1" lang="zh-CN" sz="6600" spc="-1" strike="noStrike">
                <a:solidFill>
                  <a:srgbClr val="ffff99"/>
                </a:solidFill>
                <a:latin typeface="Arial"/>
              </a:rPr>
              <a:t>summ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5302080"/>
            <a:ext cx="4343400" cy="1556280"/>
          </a:xfrm>
          <a:prstGeom prst="rect">
            <a:avLst/>
          </a:prstGeom>
          <a:solidFill>
            <a:srgbClr val="99cc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I like to play in the su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5667480"/>
            <a:ext cx="4495680" cy="1191240"/>
          </a:xfrm>
          <a:prstGeom prst="rect">
            <a:avLst/>
          </a:prstGeom>
          <a:solidFill>
            <a:srgbClr val="ff6699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I like the rain, but I don’t like to get w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380880" y="990720"/>
          <a:ext cx="8367480" cy="4623840"/>
        </p:xfrm>
        <a:graphic>
          <a:graphicData uri="http://schemas.openxmlformats.org/drawingml/2006/table">
            <a:tbl>
              <a:tblPr/>
              <a:tblGrid>
                <a:gridCol w="1327320"/>
                <a:gridCol w="2004840"/>
                <a:gridCol w="2531880"/>
                <a:gridCol w="2503440"/>
              </a:tblGrid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seas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wea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ctiv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lot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6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1676520" y="29718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Winter is c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324480" y="2895480"/>
            <a:ext cx="23623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I wear m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mitt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2895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w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828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52480" y="1981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Fall is c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24480" y="17524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I wear my sweater in f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17524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I like to play in the win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24200" y="2819520"/>
            <a:ext cx="22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I like to  ma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a snowm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图片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snowy"/>
          <p:cNvPicPr/>
          <p:nvPr/>
        </p:nvPicPr>
        <p:blipFill>
          <a:blip r:embed="rId2"/>
          <a:stretch/>
        </p:blipFill>
        <p:spPr>
          <a:xfrm>
            <a:off x="4572000" y="3581280"/>
            <a:ext cx="4572000" cy="3276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fall"/>
          <p:cNvPicPr/>
          <p:nvPr/>
        </p:nvPicPr>
        <p:blipFill>
          <a:blip r:embed="rId3"/>
          <a:stretch/>
        </p:blipFill>
        <p:spPr>
          <a:xfrm>
            <a:off x="0" y="3581280"/>
            <a:ext cx="4419720" cy="3222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49568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桃花"/>
          <p:cNvPicPr/>
          <p:nvPr/>
        </p:nvPicPr>
        <p:blipFill>
          <a:blip r:embed="rId4"/>
          <a:stretch/>
        </p:blipFill>
        <p:spPr>
          <a:xfrm>
            <a:off x="0" y="0"/>
            <a:ext cx="4419720" cy="3581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summer"/>
          <p:cNvPicPr/>
          <p:nvPr/>
        </p:nvPicPr>
        <p:blipFill>
          <a:blip r:embed="rId5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533520"/>
            <a:ext cx="2895480" cy="1099440"/>
          </a:xfrm>
          <a:prstGeom prst="rect">
            <a:avLst/>
          </a:prstGeom>
          <a:solidFill>
            <a:srgbClr val="ff6699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spr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609480"/>
            <a:ext cx="3504960" cy="1099440"/>
          </a:xfrm>
          <a:prstGeom prst="rect">
            <a:avLst/>
          </a:prstGeom>
          <a:solidFill>
            <a:srgbClr val="3366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</a:tabLst>
            </a:pPr>
            <a:r>
              <a:rPr b="1" lang="zh-CN" sz="6600" spc="-1" strike="noStrike">
                <a:solidFill>
                  <a:srgbClr val="ffff99"/>
                </a:solidFill>
                <a:latin typeface="Arial"/>
              </a:rPr>
              <a:t>summ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62720" y="5759280"/>
            <a:ext cx="2666880" cy="1099440"/>
          </a:xfrm>
          <a:prstGeom prst="rect">
            <a:avLst/>
          </a:prstGeom>
          <a:solidFill>
            <a:srgbClr val="3366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wint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43160" y="5759280"/>
            <a:ext cx="1392480" cy="1099440"/>
          </a:xfrm>
          <a:prstGeom prst="rect">
            <a:avLst/>
          </a:prstGeom>
          <a:solidFill>
            <a:srgbClr val="ff99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fal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2286000"/>
            <a:ext cx="6705360" cy="1739880"/>
          </a:xfrm>
          <a:prstGeom prst="rect">
            <a:avLst/>
          </a:prstGeom>
          <a:solidFill>
            <a:srgbClr val="00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What’s your favourite season? Wh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304920" y="380880"/>
            <a:ext cx="8458200" cy="6096240"/>
            <a:chOff x="304920" y="380880"/>
            <a:chExt cx="8458200" cy="6096240"/>
          </a:xfrm>
        </p:grpSpPr>
        <p:pic>
          <p:nvPicPr>
            <p:cNvPr id="104" name="" descr="05"/>
            <p:cNvPicPr/>
            <p:nvPr/>
          </p:nvPicPr>
          <p:blipFill>
            <a:blip r:embed="rId1"/>
            <a:stretch/>
          </p:blipFill>
          <p:spPr>
            <a:xfrm>
              <a:off x="304920" y="752400"/>
              <a:ext cx="8458200" cy="57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54120" y="1351080"/>
              <a:ext cx="7643880" cy="47052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0" bIns="46800" anchor="t">
              <a:noAutofit/>
            </a:bodyPr>
            <a:p>
              <a:pPr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2063880" y="380880"/>
              <a:ext cx="4538520" cy="1841760"/>
              <a:chOff x="2063880" y="380880"/>
              <a:chExt cx="4538520" cy="1841760"/>
            </a:xfrm>
          </p:grpSpPr>
          <p:pic>
            <p:nvPicPr>
              <p:cNvPr id="107" name="" descr="그림92"/>
              <p:cNvPicPr/>
              <p:nvPr/>
            </p:nvPicPr>
            <p:blipFill>
              <a:blip r:embed="rId2"/>
              <a:stretch/>
            </p:blipFill>
            <p:spPr>
              <a:xfrm>
                <a:off x="2063880" y="380880"/>
                <a:ext cx="4538520" cy="184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>
                <a:off x="2435400" y="930240"/>
                <a:ext cx="3795480" cy="11397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10800" bIns="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981000" y="2446200"/>
              <a:ext cx="5921280" cy="34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057400" y="10666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My favourite sea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133720"/>
            <a:ext cx="7238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My favourite season is spring.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Because in spring, the weather is warm and rai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The flowers bl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The trees have new l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I like to fly a kite in the pa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I always wear my jacket and p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I like spring b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Do you like spr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4"/>
          <p:cNvPicPr/>
          <p:nvPr/>
        </p:nvPicPr>
        <p:blipFill>
          <a:blip r:embed="rId3"/>
          <a:stretch/>
        </p:blipFill>
        <p:spPr>
          <a:xfrm>
            <a:off x="6629400" y="3048120"/>
            <a:ext cx="17287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38280" y="81000"/>
            <a:ext cx="6019920" cy="6777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4"/>
          <p:cNvPicPr/>
          <p:nvPr/>
        </p:nvPicPr>
        <p:blipFill>
          <a:blip r:embed="rId2"/>
          <a:stretch/>
        </p:blipFill>
        <p:spPr>
          <a:xfrm>
            <a:off x="609480" y="3048120"/>
            <a:ext cx="17290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7-09-19T13:26:12Z</dcterms:modified>
  <cp:revision>3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