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960-4859-410F-8085-4BE99BEE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A772-E974-4701-95CC-8CA37B24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F426-22F3-427D-9256-F004180F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5EE9-1AD2-433C-B3B7-691E944F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298-9D07-4774-AE4B-6DF0CA42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F5B-82FA-4BBC-9B6B-48208425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A8F9-E3EB-49A7-8128-45FCE1D6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BFE-26A2-4703-9C17-F144278E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B09-79A3-47AC-9AB1-70059EAD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53F-A6B3-401C-AFB3-69572B1B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AAA-3F72-4A14-82AA-67DFB62C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EB6E-70DB-4ACF-9D16-FFB07E93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3FCB8-8F33-48D7-BB27-340D40EA27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93600" y="155880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3 Winter in Ca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91960" y="3555000"/>
            <a:ext cx="1019160" cy="110304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693880" y="4363920"/>
            <a:ext cx="617724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1"/>
          <p:cNvGrpSpPr/>
          <p:nvPr/>
        </p:nvGrpSpPr>
        <p:grpSpPr>
          <a:xfrm>
            <a:off x="658800" y="1755720"/>
            <a:ext cx="933120" cy="642600"/>
            <a:chOff x="658800" y="1755720"/>
            <a:chExt cx="933120" cy="642600"/>
          </a:xfrm>
        </p:grpSpPr>
        <p:pic>
          <p:nvPicPr>
            <p:cNvPr id="125" name="图片 18" descr=""/>
            <p:cNvPicPr/>
            <p:nvPr/>
          </p:nvPicPr>
          <p:blipFill>
            <a:blip r:embed="rId2"/>
            <a:stretch/>
          </p:blipFill>
          <p:spPr>
            <a:xfrm>
              <a:off x="658800" y="1918440"/>
              <a:ext cx="3240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矩形 16"/>
            <p:cNvSpPr/>
            <p:nvPr/>
          </p:nvSpPr>
          <p:spPr>
            <a:xfrm>
              <a:off x="1045440" y="1755720"/>
              <a:ext cx="54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2"/>
          <p:cNvSpPr/>
          <p:nvPr/>
        </p:nvSpPr>
        <p:spPr>
          <a:xfrm>
            <a:off x="1882800" y="1806480"/>
            <a:ext cx="684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这个句型中，还可以把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our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改为其他形容词性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主代词或名词所有格形式。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s Danny’s favourite colo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丹尼最喜欢的颜色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is/Danny’s favourite colour is b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他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丹尼最喜欢的颜色是蓝色。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另外，还可以用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…best.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达“我最喜欢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 summer best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我最喜欢夏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17"/>
          <p:cNvSpPr/>
          <p:nvPr/>
        </p:nvSpPr>
        <p:spPr>
          <a:xfrm>
            <a:off x="2452680" y="1390680"/>
            <a:ext cx="62737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 like spring. I love the new leaves and flow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喜欢春天。我喜欢新的叶子和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 like to fly a kite. And I love to eat fru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喜欢放风筝。并且我喜欢吃水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18"/>
          <p:cNvSpPr/>
          <p:nvPr/>
        </p:nvSpPr>
        <p:spPr>
          <a:xfrm>
            <a:off x="631800" y="15289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9"/>
          <p:cNvSpPr/>
          <p:nvPr/>
        </p:nvSpPr>
        <p:spPr>
          <a:xfrm>
            <a:off x="1117440" y="153036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1071720" y="3459240"/>
            <a:ext cx="729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句型结构为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/lov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d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th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于描述自 己喜欢某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做某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9" descr="book.gif"/>
          <p:cNvPicPr/>
          <p:nvPr/>
        </p:nvPicPr>
        <p:blipFill>
          <a:blip r:embed="rId2"/>
          <a:stretch/>
        </p:blipFill>
        <p:spPr>
          <a:xfrm>
            <a:off x="58680" y="1420920"/>
            <a:ext cx="1087560" cy="666720"/>
          </a:xfrm>
          <a:prstGeom prst="rect">
            <a:avLst/>
          </a:prstGeom>
          <a:ln w="0">
            <a:noFill/>
          </a:ln>
        </p:spPr>
      </p:pic>
      <p:grpSp>
        <p:nvGrpSpPr>
          <p:cNvPr id="136" name="组合 26"/>
          <p:cNvGrpSpPr/>
          <p:nvPr/>
        </p:nvGrpSpPr>
        <p:grpSpPr>
          <a:xfrm>
            <a:off x="736560" y="4811760"/>
            <a:ext cx="1244520" cy="459720"/>
            <a:chOff x="736560" y="4811760"/>
            <a:chExt cx="1244520" cy="459720"/>
          </a:xfrm>
        </p:grpSpPr>
        <p:sp>
          <p:nvSpPr>
            <p:cNvPr id="137" name="TextBox 3"/>
            <p:cNvSpPr/>
            <p:nvPr/>
          </p:nvSpPr>
          <p:spPr>
            <a:xfrm>
              <a:off x="989280" y="481176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图片 29" descr="花盆.png"/>
            <p:cNvPicPr/>
            <p:nvPr/>
          </p:nvPicPr>
          <p:blipFill>
            <a:blip r:embed="rId3"/>
            <a:stretch/>
          </p:blipFill>
          <p:spPr>
            <a:xfrm>
              <a:off x="736560" y="487152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矩形 2"/>
          <p:cNvSpPr/>
          <p:nvPr/>
        </p:nvSpPr>
        <p:spPr>
          <a:xfrm>
            <a:off x="1998720" y="4754520"/>
            <a:ext cx="71499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连词成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ly, like, I, a, to, k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               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2"/>
          <p:cNvSpPr/>
          <p:nvPr/>
        </p:nvSpPr>
        <p:spPr>
          <a:xfrm flipH="1">
            <a:off x="2121840" y="5802480"/>
            <a:ext cx="34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 like to fly a k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文本框 8" descr=""/>
          <p:cNvPicPr/>
          <p:nvPr/>
        </p:nvPicPr>
        <p:blipFill>
          <a:blip r:embed="rId1"/>
          <a:stretch/>
        </p:blipFill>
        <p:spPr>
          <a:xfrm>
            <a:off x="2987640" y="131760"/>
            <a:ext cx="3610080" cy="7826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1217520" y="1217520"/>
            <a:ext cx="6873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inter, wint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 love the cold,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hite s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hy? Because I like to sk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ere I g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hat’s my favourite sea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 love the spring. D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 love the rain. I love the new le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 love the flowers,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9"/>
          <p:cNvSpPr/>
          <p:nvPr/>
        </p:nvSpPr>
        <p:spPr>
          <a:xfrm>
            <a:off x="5948280" y="1476360"/>
            <a:ext cx="2605320" cy="181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5" descr=""/>
          <p:cNvPicPr/>
          <p:nvPr/>
        </p:nvPicPr>
        <p:blipFill>
          <a:blip r:embed="rId2"/>
          <a:stretch/>
        </p:blipFill>
        <p:spPr>
          <a:xfrm>
            <a:off x="6031080" y="1681200"/>
            <a:ext cx="243648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文本框 8" descr=""/>
          <p:cNvPicPr/>
          <p:nvPr/>
        </p:nvPicPr>
        <p:blipFill>
          <a:blip r:embed="rId1"/>
          <a:stretch/>
        </p:blipFill>
        <p:spPr>
          <a:xfrm>
            <a:off x="2987640" y="131760"/>
            <a:ext cx="3610080" cy="7826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1217520" y="1217520"/>
            <a:ext cx="6873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 like sum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hy?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Because I like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 wear shorts and play out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t is fu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 like autumn. It is win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emperatures are c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 fly my kite. I ride my b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 see my friends at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文本框 8" descr=""/>
          <p:cNvPicPr/>
          <p:nvPr/>
        </p:nvPicPr>
        <p:blipFill>
          <a:blip r:embed="rId1"/>
          <a:stretch/>
        </p:blipFill>
        <p:spPr>
          <a:xfrm>
            <a:off x="2125800" y="131760"/>
            <a:ext cx="5779800" cy="7826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3"/>
          <p:cNvSpPr/>
          <p:nvPr/>
        </p:nvSpPr>
        <p:spPr>
          <a:xfrm>
            <a:off x="1117440" y="2019240"/>
            <a:ext cx="72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I     help you                                    Yes, p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you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nny?   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    bananas 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ose    banan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    bana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1609560" y="2508120"/>
            <a:ext cx="343080" cy="190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1911240" y="22129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4"/>
          <a:stretch/>
        </p:blipFill>
        <p:spPr>
          <a:xfrm>
            <a:off x="4645080" y="2755800"/>
            <a:ext cx="342720" cy="295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5"/>
          <a:stretch/>
        </p:blipFill>
        <p:spPr>
          <a:xfrm>
            <a:off x="3621240" y="3343320"/>
            <a:ext cx="342720" cy="295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6"/>
          <a:stretch/>
        </p:blipFill>
        <p:spPr>
          <a:xfrm>
            <a:off x="5904000" y="2197080"/>
            <a:ext cx="285840" cy="399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7"/>
          <a:stretch/>
        </p:blipFill>
        <p:spPr>
          <a:xfrm>
            <a:off x="5826240" y="2647800"/>
            <a:ext cx="285480" cy="400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8"/>
          <a:stretch/>
        </p:blipFill>
        <p:spPr>
          <a:xfrm>
            <a:off x="6269040" y="3290760"/>
            <a:ext cx="285840" cy="400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9"/>
          <a:stretch/>
        </p:blipFill>
        <p:spPr>
          <a:xfrm>
            <a:off x="2874960" y="3821040"/>
            <a:ext cx="28584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"/>
          <p:cNvSpPr/>
          <p:nvPr/>
        </p:nvSpPr>
        <p:spPr>
          <a:xfrm>
            <a:off x="1177920" y="1297080"/>
            <a:ext cx="8153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连词成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, why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nowman, you, lik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用所给单词的适当形式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 they like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e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1292400" y="2808360"/>
            <a:ext cx="47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y do you like the snowm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2928960" y="4138560"/>
            <a:ext cx="12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1225440" y="5045040"/>
            <a:ext cx="715356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6"/>
          <p:cNvSpPr/>
          <p:nvPr/>
        </p:nvSpPr>
        <p:spPr>
          <a:xfrm>
            <a:off x="2163600" y="5143680"/>
            <a:ext cx="44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like to do sth.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：喜欢做某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164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2"/>
          <p:cNvSpPr/>
          <p:nvPr/>
        </p:nvSpPr>
        <p:spPr>
          <a:xfrm>
            <a:off x="811080" y="1362240"/>
            <a:ext cx="804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情景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约翰想知道你为什么喜欢那只狗的时候，他应该怎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问你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What are you d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Why do you like that do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How do you know that do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3284640" y="260496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170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Box 4"/>
          <p:cNvSpPr/>
          <p:nvPr/>
        </p:nvSpPr>
        <p:spPr>
          <a:xfrm>
            <a:off x="878040" y="5079960"/>
            <a:ext cx="715320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3"/>
          <p:cNvSpPr/>
          <p:nvPr/>
        </p:nvSpPr>
        <p:spPr>
          <a:xfrm>
            <a:off x="1743120" y="5081760"/>
            <a:ext cx="67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询问原因，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hy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来引导特殊疑问句，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"/>
          <p:cNvSpPr/>
          <p:nvPr/>
        </p:nvSpPr>
        <p:spPr>
          <a:xfrm>
            <a:off x="858960" y="1494000"/>
            <a:ext cx="73738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四、按要求完成句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y favourite fruit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appl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对画线部分提问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 _______favourite fru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五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根据问句选答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     ）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s your favourite fru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     ） 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y is she so s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     ）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are you do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. Because she can’t find her 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. I’m reading a 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. Ap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939960" y="247644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hat’s  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8"/>
          <p:cNvSpPr/>
          <p:nvPr/>
        </p:nvSpPr>
        <p:spPr>
          <a:xfrm>
            <a:off x="3527280" y="52117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22"/>
          <p:cNvGrpSpPr/>
          <p:nvPr/>
        </p:nvGrpSpPr>
        <p:grpSpPr>
          <a:xfrm>
            <a:off x="7189560" y="1125360"/>
            <a:ext cx="1710000" cy="368640"/>
            <a:chOff x="7189560" y="1125360"/>
            <a:chExt cx="1710000" cy="368640"/>
          </a:xfrm>
        </p:grpSpPr>
        <p:sp>
          <p:nvSpPr>
            <p:cNvPr id="179" name="矩形 22"/>
            <p:cNvSpPr/>
            <p:nvPr/>
          </p:nvSpPr>
          <p:spPr>
            <a:xfrm>
              <a:off x="7189560" y="1142640"/>
              <a:ext cx="17100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文本框 17"/>
            <p:cNvSpPr/>
            <p:nvPr/>
          </p:nvSpPr>
          <p:spPr>
            <a:xfrm>
              <a:off x="724644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Box 3"/>
          <p:cNvSpPr/>
          <p:nvPr/>
        </p:nvSpPr>
        <p:spPr>
          <a:xfrm>
            <a:off x="1171440" y="340524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197000" y="38768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1168560" y="4309920"/>
            <a:ext cx="46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"/>
          <p:cNvSpPr/>
          <p:nvPr/>
        </p:nvSpPr>
        <p:spPr>
          <a:xfrm>
            <a:off x="1009800" y="1393920"/>
            <a:ext cx="7130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1033560" y="2665440"/>
            <a:ext cx="7912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y,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cause I like the s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s your favourite sea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favourite season is aut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 spring. I love the new leaves and flowers.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90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92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4627440" y="1643040"/>
            <a:ext cx="3665520" cy="1892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"/>
          <p:cNvPicPr/>
          <p:nvPr/>
        </p:nvPicPr>
        <p:blipFill>
          <a:blip r:embed="rId3"/>
          <a:stretch/>
        </p:blipFill>
        <p:spPr>
          <a:xfrm>
            <a:off x="912960" y="1566720"/>
            <a:ext cx="3205080" cy="19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"/>
          <p:cNvPicPr/>
          <p:nvPr/>
        </p:nvPicPr>
        <p:blipFill>
          <a:blip r:embed="rId4"/>
          <a:stretch/>
        </p:blipFill>
        <p:spPr>
          <a:xfrm>
            <a:off x="977760" y="3836880"/>
            <a:ext cx="3075120" cy="2163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5"/>
          <a:stretch/>
        </p:blipFill>
        <p:spPr>
          <a:xfrm>
            <a:off x="4773600" y="3836880"/>
            <a:ext cx="338616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文本框 8" descr=""/>
          <p:cNvPicPr/>
          <p:nvPr/>
        </p:nvPicPr>
        <p:blipFill>
          <a:blip r:embed="rId1"/>
          <a:stretch/>
        </p:blipFill>
        <p:spPr>
          <a:xfrm>
            <a:off x="1913040" y="330120"/>
            <a:ext cx="5767200" cy="554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739800" y="1341360"/>
            <a:ext cx="7931160" cy="48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like winter. Why?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cause I like the snow. 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ke to make snowmen. And I like the Sp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sti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like spring. It’s warm. I love the new lea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flowers. And I love to plant tr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like summer. I like summer holidays. I love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im in the se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 favourite season is autumn. It’s cool and windy. I like to fly a kite. And I love to eat fru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6161040" y="1647720"/>
            <a:ext cx="2604960" cy="181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"/>
          <p:cNvPicPr/>
          <p:nvPr/>
        </p:nvPicPr>
        <p:blipFill>
          <a:blip r:embed="rId2"/>
          <a:stretch/>
        </p:blipFill>
        <p:spPr>
          <a:xfrm>
            <a:off x="6400800" y="1771560"/>
            <a:ext cx="2125800" cy="15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71" name="文本框 17"/>
          <p:cNvSpPr/>
          <p:nvPr/>
        </p:nvSpPr>
        <p:spPr>
          <a:xfrm>
            <a:off x="2452680" y="1390680"/>
            <a:ext cx="627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y?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cause I like the snow.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我喜欢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18"/>
          <p:cNvSpPr/>
          <p:nvPr/>
        </p:nvSpPr>
        <p:spPr>
          <a:xfrm>
            <a:off x="631800" y="14652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9"/>
          <p:cNvSpPr/>
          <p:nvPr/>
        </p:nvSpPr>
        <p:spPr>
          <a:xfrm>
            <a:off x="1117440" y="146700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1019160" y="2763720"/>
            <a:ext cx="762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y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一个省略句，完整的句子是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y do you like winter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用于询问对方原因的句型。其问句结构为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疑问句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答语结构为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cause 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陈述句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9" descr="book.gif"/>
          <p:cNvPicPr/>
          <p:nvPr/>
        </p:nvPicPr>
        <p:blipFill>
          <a:blip r:embed="rId2"/>
          <a:stretch/>
        </p:blipFill>
        <p:spPr>
          <a:xfrm>
            <a:off x="58680" y="1357200"/>
            <a:ext cx="108756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79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"/>
          <p:cNvSpPr/>
          <p:nvPr/>
        </p:nvSpPr>
        <p:spPr>
          <a:xfrm>
            <a:off x="1107000" y="1938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1886040" y="1658880"/>
            <a:ext cx="6437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y are you crying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为什么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cause I hurt my 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因为我弄伤了我的胳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y do you like the dress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为什么喜欢这件裙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cause it is very beautiful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因为它很漂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84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9"/>
          <p:cNvSpPr/>
          <p:nvPr/>
        </p:nvSpPr>
        <p:spPr>
          <a:xfrm>
            <a:off x="928800" y="1604880"/>
            <a:ext cx="56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y / waɪ 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v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什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1425960" y="2360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"/>
          <p:cNvSpPr/>
          <p:nvPr/>
        </p:nvSpPr>
        <p:spPr>
          <a:xfrm>
            <a:off x="2205000" y="2271600"/>
            <a:ext cx="64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y are you going to the zo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为什么打算去动物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"/>
          <p:cNvSpPr/>
          <p:nvPr/>
        </p:nvSpPr>
        <p:spPr>
          <a:xfrm>
            <a:off x="1390320" y="3651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4505400" y="36511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构成特殊疑问句，用来询问原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1167840" y="4367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形近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2284560" y="4116240"/>
            <a:ext cx="371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羞怯的；腼腆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4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9"/>
          <p:cNvSpPr/>
          <p:nvPr/>
        </p:nvSpPr>
        <p:spPr>
          <a:xfrm>
            <a:off x="1300320" y="1604880"/>
            <a:ext cx="56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cause / bɪ kɒz 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onj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1681560" y="2360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"/>
          <p:cNvSpPr/>
          <p:nvPr/>
        </p:nvSpPr>
        <p:spPr>
          <a:xfrm>
            <a:off x="2460600" y="2271600"/>
            <a:ext cx="64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all like her, because she is very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都喜欢她，因为她很友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1593360" y="438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2406600" y="4130640"/>
            <a:ext cx="371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cause o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因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>
            <a:off x="924480" y="3567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"/>
          <p:cNvSpPr/>
          <p:nvPr/>
        </p:nvSpPr>
        <p:spPr>
          <a:xfrm>
            <a:off x="2379600" y="3376440"/>
            <a:ext cx="6137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 + cau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因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becau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因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7"/>
          <p:cNvSpPr/>
          <p:nvPr/>
        </p:nvSpPr>
        <p:spPr>
          <a:xfrm>
            <a:off x="2452680" y="1390680"/>
            <a:ext cx="627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What’s your favourite seas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你最喜欢的季节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My favourite season is autum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我最喜欢的季节是秋天。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18"/>
          <p:cNvSpPr/>
          <p:nvPr/>
        </p:nvSpPr>
        <p:spPr>
          <a:xfrm>
            <a:off x="631800" y="14652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9"/>
          <p:cNvSpPr/>
          <p:nvPr/>
        </p:nvSpPr>
        <p:spPr>
          <a:xfrm>
            <a:off x="1117440" y="146700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996840" y="3313080"/>
            <a:ext cx="8147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询问对方最喜欢什么的句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其问句结构是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s your favourite+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答语结构是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y favourite...i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 s your favourite su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你最喜欢的科目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y favourite subject is math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我最喜欢的科目是数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9" descr="book.gif"/>
          <p:cNvPicPr/>
          <p:nvPr/>
        </p:nvPicPr>
        <p:blipFill>
          <a:blip r:embed="rId2"/>
          <a:stretch/>
        </p:blipFill>
        <p:spPr>
          <a:xfrm>
            <a:off x="58680" y="1357200"/>
            <a:ext cx="108756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26"/>
          <p:cNvGrpSpPr/>
          <p:nvPr/>
        </p:nvGrpSpPr>
        <p:grpSpPr>
          <a:xfrm>
            <a:off x="731880" y="1762200"/>
            <a:ext cx="1244520" cy="459720"/>
            <a:chOff x="731880" y="1762200"/>
            <a:chExt cx="1244520" cy="459720"/>
          </a:xfrm>
        </p:grpSpPr>
        <p:sp>
          <p:nvSpPr>
            <p:cNvPr id="115" name="TextBox 3"/>
            <p:cNvSpPr/>
            <p:nvPr/>
          </p:nvSpPr>
          <p:spPr>
            <a:xfrm>
              <a:off x="984600" y="176220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731880" y="182196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矩形 2"/>
          <p:cNvSpPr/>
          <p:nvPr/>
        </p:nvSpPr>
        <p:spPr>
          <a:xfrm>
            <a:off x="1994040" y="1652760"/>
            <a:ext cx="7149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 s your favourite season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Swimm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Fly kites  C. Aut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 flipH="1">
            <a:off x="2763720" y="2901960"/>
            <a:ext cx="3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939960" y="4280040"/>
            <a:ext cx="73008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8"/>
          <p:cNvSpPr/>
          <p:nvPr/>
        </p:nvSpPr>
        <p:spPr>
          <a:xfrm>
            <a:off x="1814400" y="4316400"/>
            <a:ext cx="642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问句句意：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你最喜欢的季节是什么？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与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均不符合题意，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3T13:56:15Z</dcterms:modified>
  <cp:revision>6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