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CA6-CE95-4D1A-A62C-CA2E9AC1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D04-F5DF-40CA-BDEE-CAC06356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451-9CD4-4DF9-B509-63F05D1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354-CAA4-4F47-9E89-E16934C6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81D-6E98-44CE-AFF7-E72025E8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1BFC-E686-48D8-9BF5-57554522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5A7-04F1-4D59-AD33-6DD545EE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8BB-5046-4896-BFD0-161A77A5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0CF-41B0-4CB9-9728-647597B9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61D-1EF4-45AB-B139-A56675E2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E3F-B424-4029-8D65-DD26606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9B9-50D8-4B88-897F-58E70DE8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8C503-817B-42FB-87C3-4E8C06B7D3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120600" y="0"/>
            <a:ext cx="92646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7628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 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68680" y="4478400"/>
            <a:ext cx="6345000" cy="798480"/>
          </a:xfrm>
          <a:prstGeom prst="rect">
            <a:avLst/>
          </a:prstGeom>
          <a:ln w="0">
            <a:noFill/>
          </a:ln>
        </p:spPr>
      </p:pic>
      <p:sp>
        <p:nvSpPr>
          <p:cNvPr id="60" name="矩形 1"/>
          <p:cNvSpPr/>
          <p:nvPr/>
        </p:nvSpPr>
        <p:spPr>
          <a:xfrm>
            <a:off x="320364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tretch/>
        </p:blipFill>
        <p:spPr>
          <a:xfrm>
            <a:off x="3284640" y="28260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4" name="圆角矩形 18"/>
          <p:cNvSpPr/>
          <p:nvPr/>
        </p:nvSpPr>
        <p:spPr>
          <a:xfrm>
            <a:off x="1246320" y="13906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9"/>
          <p:cNvSpPr/>
          <p:nvPr/>
        </p:nvSpPr>
        <p:spPr>
          <a:xfrm>
            <a:off x="1619280" y="1409760"/>
            <a:ext cx="153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5"/>
          <p:cNvSpPr/>
          <p:nvPr/>
        </p:nvSpPr>
        <p:spPr>
          <a:xfrm>
            <a:off x="7026120" y="1054080"/>
            <a:ext cx="18846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7198920" y="1054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9" descr="book.gif"/>
          <p:cNvPicPr/>
          <p:nvPr/>
        </p:nvPicPr>
        <p:blipFill>
          <a:blip r:embed="rId2"/>
          <a:stretch/>
        </p:blipFill>
        <p:spPr>
          <a:xfrm>
            <a:off x="485640" y="12938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3102120" y="1415880"/>
            <a:ext cx="37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 up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装饰；张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2624040" y="2019240"/>
            <a:ext cx="4811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put up the Christmas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让我们装饰圣诞树吧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800360" y="4032360"/>
            <a:ext cx="70228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 up 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是动词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和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词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up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构成的“动副型”短语，如果要接名词，名词可以放在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 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up 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的中间，也可以放在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up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的后面；如果要接代词，代词必须放在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up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的中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2099880" y="21128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649440" y="2863800"/>
            <a:ext cx="1806480" cy="1514520"/>
            <a:chOff x="649440" y="2863800"/>
            <a:chExt cx="1806480" cy="1514520"/>
          </a:xfrm>
        </p:grpSpPr>
        <p:pic>
          <p:nvPicPr>
            <p:cNvPr id="124" name="图片 3" descr="泡泡1.png"/>
            <p:cNvPicPr/>
            <p:nvPr/>
          </p:nvPicPr>
          <p:blipFill>
            <a:blip r:embed="rId3"/>
            <a:stretch/>
          </p:blipFill>
          <p:spPr>
            <a:xfrm>
              <a:off x="649440" y="286380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2"/>
            <p:cNvSpPr/>
            <p:nvPr/>
          </p:nvSpPr>
          <p:spPr>
            <a:xfrm>
              <a:off x="1178640" y="3185640"/>
              <a:ext cx="68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1"/>
          <a:stretch/>
        </p:blipFill>
        <p:spPr>
          <a:xfrm>
            <a:off x="3284640" y="28260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7" name="矩形 25"/>
          <p:cNvSpPr/>
          <p:nvPr/>
        </p:nvSpPr>
        <p:spPr>
          <a:xfrm>
            <a:off x="7026120" y="1054080"/>
            <a:ext cx="18846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054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141640" y="3979800"/>
            <a:ext cx="70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up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还有“举起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1305000" y="23544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8" descr=""/>
          <p:cNvPicPr/>
          <p:nvPr/>
        </p:nvPicPr>
        <p:blipFill>
          <a:blip r:embed="rId2"/>
          <a:stretch/>
        </p:blipFill>
        <p:spPr>
          <a:xfrm>
            <a:off x="1039680" y="41324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132" name="矩形 16"/>
          <p:cNvSpPr/>
          <p:nvPr/>
        </p:nvSpPr>
        <p:spPr>
          <a:xfrm>
            <a:off x="1426680" y="39686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2327400" y="2114640"/>
            <a:ext cx="53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Christmas tree. Let’s put i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棵圣诞树。让我们装饰它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5" name="圆角矩形 18"/>
          <p:cNvSpPr/>
          <p:nvPr/>
        </p:nvSpPr>
        <p:spPr>
          <a:xfrm>
            <a:off x="1036800" y="153684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9"/>
          <p:cNvSpPr/>
          <p:nvPr/>
        </p:nvSpPr>
        <p:spPr>
          <a:xfrm>
            <a:off x="1184400" y="1585800"/>
            <a:ext cx="15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9" descr="book.gif"/>
          <p:cNvPicPr/>
          <p:nvPr/>
        </p:nvPicPr>
        <p:blipFill>
          <a:blip r:embed="rId2"/>
          <a:stretch/>
        </p:blipFill>
        <p:spPr>
          <a:xfrm>
            <a:off x="96840" y="13795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2963880" y="1593720"/>
            <a:ext cx="37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n /ðe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d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然后；接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237960" y="1774800"/>
            <a:ext cx="80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295360" y="4189320"/>
            <a:ext cx="50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+ 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母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271600" y="5043600"/>
            <a:ext cx="59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ep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n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它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2206800" y="2271600"/>
            <a:ext cx="667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we make a big snowball. Then we make  a small snowball.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首先我们制作一个大的雪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我们制作一个小的雪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1407600" y="2374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1269360" y="51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近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788040" y="4308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文本框 8" descr=""/>
          <p:cNvPicPr/>
          <p:nvPr/>
        </p:nvPicPr>
        <p:blipFill>
          <a:blip r:embed="rId1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sp>
        <p:nvSpPr>
          <p:cNvPr id="149" name="矩形 1"/>
          <p:cNvSpPr/>
          <p:nvPr/>
        </p:nvSpPr>
        <p:spPr>
          <a:xfrm>
            <a:off x="225000" y="9748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w and wri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431640" y="2997360"/>
            <a:ext cx="48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terday I bought a Christmas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morrow I’m going to put it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"/>
          <p:cNvPicPr/>
          <p:nvPr/>
        </p:nvPicPr>
        <p:blipFill>
          <a:blip r:embed="rId2"/>
          <a:stretch/>
        </p:blipFill>
        <p:spPr>
          <a:xfrm>
            <a:off x="1173240" y="1476360"/>
            <a:ext cx="2000160" cy="1695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"/>
          <p:cNvPicPr/>
          <p:nvPr/>
        </p:nvPicPr>
        <p:blipFill>
          <a:blip r:embed="rId3"/>
          <a:stretch/>
        </p:blipFill>
        <p:spPr>
          <a:xfrm>
            <a:off x="922320" y="4035600"/>
            <a:ext cx="2413080" cy="2019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"/>
          <p:cNvPicPr/>
          <p:nvPr/>
        </p:nvPicPr>
        <p:blipFill>
          <a:blip r:embed="rId4"/>
          <a:stretch/>
        </p:blipFill>
        <p:spPr>
          <a:xfrm>
            <a:off x="5724360" y="1312920"/>
            <a:ext cx="1425600" cy="14526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4621320" y="2673360"/>
            <a:ext cx="427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5"/>
          <a:stretch/>
        </p:blipFill>
        <p:spPr>
          <a:xfrm>
            <a:off x="5413320" y="3992400"/>
            <a:ext cx="2892600" cy="2025720"/>
          </a:xfrm>
          <a:prstGeom prst="rect">
            <a:avLst/>
          </a:prstGeom>
          <a:ln w="0">
            <a:noFill/>
          </a:ln>
        </p:spPr>
      </p:pic>
      <p:sp>
        <p:nvSpPr>
          <p:cNvPr id="156" name="矩形 6"/>
          <p:cNvSpPr/>
          <p:nvPr/>
        </p:nvSpPr>
        <p:spPr>
          <a:xfrm>
            <a:off x="4554360" y="2665440"/>
            <a:ext cx="4389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esterday I bought a Christmas l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/>
          <p:cNvSpPr/>
          <p:nvPr/>
        </p:nvSpPr>
        <p:spPr>
          <a:xfrm>
            <a:off x="4621320" y="3119400"/>
            <a:ext cx="43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morrow my father and I are  going to put them on our Christmas tre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17"/>
          <p:cNvSpPr/>
          <p:nvPr/>
        </p:nvSpPr>
        <p:spPr>
          <a:xfrm>
            <a:off x="3007440" y="1515960"/>
            <a:ext cx="49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omorrow /tə'mɒrəʊ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明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明日；在明天，在明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18"/>
          <p:cNvSpPr/>
          <p:nvPr/>
        </p:nvSpPr>
        <p:spPr>
          <a:xfrm>
            <a:off x="1095480" y="16066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9"/>
          <p:cNvSpPr/>
          <p:nvPr/>
        </p:nvSpPr>
        <p:spPr>
          <a:xfrm>
            <a:off x="1290600" y="163980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1943280" y="2610000"/>
            <a:ext cx="49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 I’m going to buy a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天我打算买一件连衣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9" descr="book.gif"/>
          <p:cNvPicPr/>
          <p:nvPr/>
        </p:nvPicPr>
        <p:blipFill>
          <a:blip r:embed="rId2"/>
          <a:stretch/>
        </p:blipFill>
        <p:spPr>
          <a:xfrm>
            <a:off x="58680" y="149868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1943280" y="4956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与一般将来时连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210680" y="27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1005120" y="3951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992520" y="51894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1943280" y="3816360"/>
            <a:ext cx="51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 night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明天晚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 morning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明天早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281240" y="2371680"/>
            <a:ext cx="77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今天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明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昨天，我们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pp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一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2"/>
          <p:cNvGrpSpPr/>
          <p:nvPr/>
        </p:nvGrpSpPr>
        <p:grpSpPr>
          <a:xfrm>
            <a:off x="582480" y="1835280"/>
            <a:ext cx="2340000" cy="459720"/>
            <a:chOff x="582480" y="1835280"/>
            <a:chExt cx="2340000" cy="459720"/>
          </a:xfrm>
        </p:grpSpPr>
        <p:sp>
          <p:nvSpPr>
            <p:cNvPr id="176" name="TextBox 10"/>
            <p:cNvSpPr/>
            <p:nvPr/>
          </p:nvSpPr>
          <p:spPr>
            <a:xfrm>
              <a:off x="834480" y="183528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582480" y="187200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文本框 8" descr=""/>
          <p:cNvPicPr/>
          <p:nvPr/>
        </p:nvPicPr>
        <p:blipFill>
          <a:blip r:embed="rId1"/>
          <a:stretch/>
        </p:blipFill>
        <p:spPr>
          <a:xfrm>
            <a:off x="1601640" y="204840"/>
            <a:ext cx="6704280" cy="554040"/>
          </a:xfrm>
          <a:prstGeom prst="rect">
            <a:avLst/>
          </a:prstGeom>
          <a:ln w="0">
            <a:noFill/>
          </a:ln>
        </p:spPr>
      </p:pic>
      <p:sp>
        <p:nvSpPr>
          <p:cNvPr id="179" name="矩形 1"/>
          <p:cNvSpPr/>
          <p:nvPr/>
        </p:nvSpPr>
        <p:spPr>
          <a:xfrm>
            <a:off x="1133640" y="1077840"/>
            <a:ext cx="608796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’s find the differenc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nny walked to schoo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 bought a scar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brought a Christmas tree to my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nny walks to the bus s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 buys some gif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bring some lights for the Christmas tre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nny is going to walk to the p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 is going to buy some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am going to bring a star for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6291360" y="2719440"/>
            <a:ext cx="2184480" cy="138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2"/>
          <a:stretch/>
        </p:blipFill>
        <p:spPr>
          <a:xfrm>
            <a:off x="6310440" y="2817720"/>
            <a:ext cx="212076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7"/>
          <p:cNvSpPr/>
          <p:nvPr/>
        </p:nvSpPr>
        <p:spPr>
          <a:xfrm>
            <a:off x="4696200" y="1592280"/>
            <a:ext cx="930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般现在时、一般将来时的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8"/>
          <p:cNvSpPr/>
          <p:nvPr/>
        </p:nvSpPr>
        <p:spPr>
          <a:xfrm>
            <a:off x="1095480" y="17114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9"/>
          <p:cNvSpPr/>
          <p:nvPr/>
        </p:nvSpPr>
        <p:spPr>
          <a:xfrm>
            <a:off x="1290600" y="174456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733320" y="2376360"/>
            <a:ext cx="17701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般现在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9" descr="book.gif"/>
          <p:cNvPicPr/>
          <p:nvPr/>
        </p:nvPicPr>
        <p:blipFill>
          <a:blip r:embed="rId2"/>
          <a:stretch/>
        </p:blipFill>
        <p:spPr>
          <a:xfrm>
            <a:off x="58680" y="16034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90" name="矩形 1"/>
          <p:cNvSpPr/>
          <p:nvPr/>
        </p:nvSpPr>
        <p:spPr>
          <a:xfrm>
            <a:off x="351000" y="2635200"/>
            <a:ext cx="871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733320" y="3040200"/>
            <a:ext cx="81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现在时表示经常发生的动作或存在的状态，通常与表示频率的副词（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ft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tim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sual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）连用。如果句子中的动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词，可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如果句子中的动词是行为动词，主语是非第三人称单数，那么行为动词要用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17"/>
          <p:cNvSpPr/>
          <p:nvPr/>
        </p:nvSpPr>
        <p:spPr>
          <a:xfrm>
            <a:off x="1204920" y="1928880"/>
            <a:ext cx="409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"/>
          <p:cNvSpPr/>
          <p:nvPr/>
        </p:nvSpPr>
        <p:spPr>
          <a:xfrm>
            <a:off x="351000" y="2635200"/>
            <a:ext cx="871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"/>
          <p:cNvSpPr/>
          <p:nvPr/>
        </p:nvSpPr>
        <p:spPr>
          <a:xfrm>
            <a:off x="733320" y="2635200"/>
            <a:ext cx="8177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1506600" y="32749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句子中的动词是行为动词，且主语是第三人称单数时，那么句子中的行为动词也要用第三人称单数形式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Jenny likes to sing songs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詹妮喜欢唱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"/>
          <p:cNvGrpSpPr/>
          <p:nvPr/>
        </p:nvGrpSpPr>
        <p:grpSpPr>
          <a:xfrm>
            <a:off x="714240" y="1584360"/>
            <a:ext cx="1806840" cy="1514520"/>
            <a:chOff x="714240" y="1584360"/>
            <a:chExt cx="1806840" cy="1514520"/>
          </a:xfrm>
        </p:grpSpPr>
        <p:pic>
          <p:nvPicPr>
            <p:cNvPr id="200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714240" y="1584360"/>
              <a:ext cx="180684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文本框 2"/>
            <p:cNvSpPr/>
            <p:nvPr/>
          </p:nvSpPr>
          <p:spPr>
            <a:xfrm>
              <a:off x="1220760" y="19062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26"/>
          <p:cNvGrpSpPr/>
          <p:nvPr/>
        </p:nvGrpSpPr>
        <p:grpSpPr>
          <a:xfrm>
            <a:off x="731880" y="1892160"/>
            <a:ext cx="1244520" cy="459720"/>
            <a:chOff x="731880" y="1892160"/>
            <a:chExt cx="1244520" cy="459720"/>
          </a:xfrm>
        </p:grpSpPr>
        <p:sp>
          <p:nvSpPr>
            <p:cNvPr id="206" name="TextBox 3"/>
            <p:cNvSpPr/>
            <p:nvPr/>
          </p:nvSpPr>
          <p:spPr>
            <a:xfrm>
              <a:off x="984600" y="18921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31880" y="195228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矩形 2"/>
          <p:cNvSpPr/>
          <p:nvPr/>
        </p:nvSpPr>
        <p:spPr>
          <a:xfrm>
            <a:off x="1994040" y="1652760"/>
            <a:ext cx="61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. Li 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go for a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th his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3251160" y="1897200"/>
            <a:ext cx="11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939960" y="3322800"/>
            <a:ext cx="7300800" cy="22885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8"/>
          <p:cNvSpPr/>
          <p:nvPr/>
        </p:nvSpPr>
        <p:spPr>
          <a:xfrm>
            <a:off x="1814400" y="3335400"/>
            <a:ext cx="64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这句话的主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Mr. Li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第三人称单数，句中的谓语动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也要用第三人称单数形式，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ke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句意为：李先生喜欢和他的家人一起去散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p2.so.qhimgs1.com/t01f469859b49d9d39e.jpg"/>
          <p:cNvPicPr/>
          <p:nvPr/>
        </p:nvPicPr>
        <p:blipFill>
          <a:blip r:embed="rId2"/>
          <a:stretch/>
        </p:blipFill>
        <p:spPr>
          <a:xfrm>
            <a:off x="206280" y="1419120"/>
            <a:ext cx="3186360" cy="379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g.sccnn.com/bimg/334/6833.jpg"/>
          <p:cNvPicPr/>
          <p:nvPr/>
        </p:nvPicPr>
        <p:blipFill>
          <a:blip r:embed="rId3"/>
          <a:stretch/>
        </p:blipFill>
        <p:spPr>
          <a:xfrm>
            <a:off x="3517920" y="149688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3" name="文本框 17"/>
          <p:cNvSpPr/>
          <p:nvPr/>
        </p:nvSpPr>
        <p:spPr>
          <a:xfrm>
            <a:off x="830160" y="1359000"/>
            <a:ext cx="409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803160" y="2098800"/>
            <a:ext cx="79502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将来时表示将要发生的动作或将来存在的状态，通常与表示将来的时间状语（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连用，其结构是“主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am / is / are going to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 going 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现在进行时表将来，表示“将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"/>
          <p:cNvSpPr/>
          <p:nvPr/>
        </p:nvSpPr>
        <p:spPr>
          <a:xfrm>
            <a:off x="351000" y="2635200"/>
            <a:ext cx="871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733320" y="2635200"/>
            <a:ext cx="8177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979560" y="156996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般将来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967040" y="4746600"/>
            <a:ext cx="67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going to make breakfast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天我将要做早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"/>
          <p:cNvSpPr/>
          <p:nvPr/>
        </p:nvSpPr>
        <p:spPr>
          <a:xfrm>
            <a:off x="1061640" y="486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1069920" y="1262160"/>
            <a:ext cx="7875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用所给单词的适当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at school yeste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they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they 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 work last          week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gift for his m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he did. / No, he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25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"/>
          <p:cNvSpPr/>
          <p:nvPr/>
        </p:nvSpPr>
        <p:spPr>
          <a:xfrm>
            <a:off x="2378160" y="192240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3527280" y="2468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3513240" y="30211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re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6"/>
          <p:cNvSpPr/>
          <p:nvPr/>
        </p:nvSpPr>
        <p:spPr>
          <a:xfrm>
            <a:off x="2087640" y="35798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7"/>
          <p:cNvSpPr/>
          <p:nvPr/>
        </p:nvSpPr>
        <p:spPr>
          <a:xfrm>
            <a:off x="4680000" y="35352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8"/>
          <p:cNvSpPr/>
          <p:nvPr/>
        </p:nvSpPr>
        <p:spPr>
          <a:xfrm>
            <a:off x="2449440" y="469584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4881600" y="464976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0"/>
          <p:cNvSpPr/>
          <p:nvPr/>
        </p:nvSpPr>
        <p:spPr>
          <a:xfrm>
            <a:off x="4924440" y="578340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606600" y="1469880"/>
            <a:ext cx="859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按要求完成下列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ate good food last Sun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变为一般疑问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________ good food last Su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（连词成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38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"/>
          <p:cNvSpPr/>
          <p:nvPr/>
        </p:nvSpPr>
        <p:spPr>
          <a:xfrm>
            <a:off x="1727280" y="32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3559320" y="315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1562040" y="4629240"/>
            <a:ext cx="37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at did you do yeste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554040" y="1077840"/>
            <a:ext cx="80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662040" y="2941560"/>
            <a:ext cx="79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, then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 u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 my dad bought a Christmas tr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4"/>
          <p:cNvSpPr/>
          <p:nvPr/>
        </p:nvSpPr>
        <p:spPr>
          <a:xfrm>
            <a:off x="-120600" y="0"/>
            <a:ext cx="92646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4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51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1773360" y="237960"/>
            <a:ext cx="6561000" cy="58608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216000" y="1222200"/>
            <a:ext cx="640548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esterday my dad bought a Christmas tree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’s put it up. It’s fu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, I’m going to put the lights on the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n I’m going to put Christmas things on the tr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anny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ar always goes on top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enn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Now, we put our gifts under the tree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ann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re! It’s do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 Ming: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’s beauti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6486480" y="1984320"/>
            <a:ext cx="2486160" cy="200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C:\Users\Claier\Desktop\冀教6英语资料\小动画和图片\Unit 4 图片\008.jpg"/>
          <p:cNvPicPr/>
          <p:nvPr/>
        </p:nvPicPr>
        <p:blipFill>
          <a:blip r:embed="rId2"/>
          <a:stretch/>
        </p:blipFill>
        <p:spPr>
          <a:xfrm>
            <a:off x="6600960" y="2144880"/>
            <a:ext cx="230796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 27"/>
          <p:cNvGrpSpPr/>
          <p:nvPr/>
        </p:nvGrpSpPr>
        <p:grpSpPr>
          <a:xfrm>
            <a:off x="-369720" y="4735440"/>
            <a:ext cx="1660320" cy="2216160"/>
            <a:chOff x="-369720" y="4735440"/>
            <a:chExt cx="1660320" cy="2216160"/>
          </a:xfrm>
        </p:grpSpPr>
        <p:pic>
          <p:nvPicPr>
            <p:cNvPr id="7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73544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4852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3" name="圆角矩形 18"/>
          <p:cNvSpPr/>
          <p:nvPr/>
        </p:nvSpPr>
        <p:spPr>
          <a:xfrm>
            <a:off x="979560" y="1486080"/>
            <a:ext cx="17780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9"/>
          <p:cNvSpPr/>
          <p:nvPr/>
        </p:nvSpPr>
        <p:spPr>
          <a:xfrm>
            <a:off x="1179360" y="14716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5"/>
          <p:cNvSpPr/>
          <p:nvPr/>
        </p:nvSpPr>
        <p:spPr>
          <a:xfrm>
            <a:off x="7061040" y="10065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6"/>
          <p:cNvSpPr/>
          <p:nvPr/>
        </p:nvSpPr>
        <p:spPr>
          <a:xfrm>
            <a:off x="7222680" y="973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2705040" y="1374840"/>
            <a:ext cx="618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esterday my dad bought a Christmas tr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昨天我的爸爸买了一棵圣诞树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9" descr="book.gif"/>
          <p:cNvPicPr/>
          <p:nvPr/>
        </p:nvPicPr>
        <p:blipFill>
          <a:blip r:embed="rId4"/>
          <a:stretch/>
        </p:blipFill>
        <p:spPr>
          <a:xfrm>
            <a:off x="-39600" y="132084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1000080" y="2317680"/>
            <a:ext cx="719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1676520" y="3932280"/>
            <a:ext cx="68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过去时表示过去某个时间里发生的动作或存在的状态，常与表示过去的时间状语连用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ast wee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199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727200" y="2684520"/>
            <a:ext cx="82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时态为一般过去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ugh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过去式。一般过去时的意义及用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986760" y="405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 27"/>
          <p:cNvGrpSpPr/>
          <p:nvPr/>
        </p:nvGrpSpPr>
        <p:grpSpPr>
          <a:xfrm>
            <a:off x="-369720" y="4735440"/>
            <a:ext cx="1660320" cy="2216160"/>
            <a:chOff x="-369720" y="4735440"/>
            <a:chExt cx="1660320" cy="2216160"/>
          </a:xfrm>
        </p:grpSpPr>
        <p:pic>
          <p:nvPicPr>
            <p:cNvPr id="8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73544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4852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7" name="矩形 25"/>
          <p:cNvSpPr/>
          <p:nvPr/>
        </p:nvSpPr>
        <p:spPr>
          <a:xfrm>
            <a:off x="7061040" y="10065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222680" y="973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000080" y="2317680"/>
            <a:ext cx="719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1604880" y="1341360"/>
            <a:ext cx="86029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含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be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的一般过去时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句：主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wa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r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I was late yesterday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昨天我迟到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句：主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wa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r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 not +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 were not busy yesterday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昨天不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疑问句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a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r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re you ill yesterday?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昨天生病了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回答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 was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，我生病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回答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No, I wasn’t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不，我没生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782640" y="1427040"/>
            <a:ext cx="75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用法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1270080" y="1125360"/>
            <a:ext cx="698976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含有实义动词的一般过去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句：主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过去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went home at nine o’clock yester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昨天九点钟回家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句：主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didn’t 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idn’t go home yesterday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昨天没回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疑问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id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id you go home yesterday?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昨天回家了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回答：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 did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，我回家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回答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, I didn’t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不，我没回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"/>
          <p:cNvPicPr/>
          <p:nvPr/>
        </p:nvPicPr>
        <p:blipFill>
          <a:blip r:embed="rId1"/>
          <a:stretch/>
        </p:blipFill>
        <p:spPr>
          <a:xfrm>
            <a:off x="3284640" y="26208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55520" y="1881360"/>
          <a:ext cx="7264440" cy="4419360"/>
        </p:xfrm>
        <a:graphic>
          <a:graphicData uri="http://schemas.openxmlformats.org/drawingml/2006/table">
            <a:tbl>
              <a:tblPr/>
              <a:tblGrid>
                <a:gridCol w="4191120"/>
                <a:gridCol w="3073320"/>
              </a:tblGrid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化规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一般动词词尾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ook — looked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sh — wash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不发音的字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尾的动词词尾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ive — lived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ance — dan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重读闭音节结尾，且末尾只有一个辅音字母的动词要双写辅音字母再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top — st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op — s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ut —pu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“辅音字母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+y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尾的动词要变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为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再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tudy — stud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arry — carr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矩形 1"/>
          <p:cNvSpPr/>
          <p:nvPr/>
        </p:nvSpPr>
        <p:spPr>
          <a:xfrm>
            <a:off x="658800" y="1111320"/>
            <a:ext cx="5354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动词变过去式的规则变化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6" descr=""/>
          <p:cNvPicPr/>
          <p:nvPr/>
        </p:nvPicPr>
        <p:blipFill>
          <a:blip r:embed="rId1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7"/>
          <p:cNvSpPr/>
          <p:nvPr/>
        </p:nvSpPr>
        <p:spPr>
          <a:xfrm>
            <a:off x="2365200" y="2209680"/>
            <a:ext cx="5953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过去式构成有规律，一般词尾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尾若有哑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只要直接加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尾若是“辅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y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辅重闭”作结尾，双写之后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特殊变化特殊记，争分夺秒乐哈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"/>
          <p:cNvGrpSpPr/>
          <p:nvPr/>
        </p:nvGrpSpPr>
        <p:grpSpPr>
          <a:xfrm>
            <a:off x="369720" y="2317680"/>
            <a:ext cx="2340000" cy="459720"/>
            <a:chOff x="369720" y="2317680"/>
            <a:chExt cx="2340000" cy="459720"/>
          </a:xfrm>
        </p:grpSpPr>
        <p:sp>
          <p:nvSpPr>
            <p:cNvPr id="106" name="TextBox 10"/>
            <p:cNvSpPr/>
            <p:nvPr/>
          </p:nvSpPr>
          <p:spPr>
            <a:xfrm>
              <a:off x="621720" y="231768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369720" y="235440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6" descr=""/>
          <p:cNvPicPr/>
          <p:nvPr/>
        </p:nvPicPr>
        <p:blipFill>
          <a:blip r:embed="rId1"/>
          <a:stretch/>
        </p:blipFill>
        <p:spPr>
          <a:xfrm>
            <a:off x="3284640" y="22860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7"/>
          <p:cNvSpPr/>
          <p:nvPr/>
        </p:nvSpPr>
        <p:spPr>
          <a:xfrm>
            <a:off x="431640" y="1511280"/>
            <a:ext cx="85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动词变过去式的不规则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97000" y="2362320"/>
          <a:ext cx="7023240" cy="3181320"/>
        </p:xfrm>
        <a:graphic>
          <a:graphicData uri="http://schemas.openxmlformats.org/drawingml/2006/table">
            <a:tbl>
              <a:tblPr/>
              <a:tblGrid>
                <a:gridCol w="2495520"/>
                <a:gridCol w="2185920"/>
                <a:gridCol w="234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形→过去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形→过去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形→过去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/has→h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/does → d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→ c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 → w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→ w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 → w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t → p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→ sa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n → r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3:59:15Z</dcterms:modified>
  <cp:revision>6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