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00D-F3B7-49C9-A54E-ED182505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228-B581-4DF4-AA34-15BC1C4D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FAF-5C6B-4206-BB0D-E428FE96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BCBE-5A57-4F3A-B6E4-9C767AE7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93D7-CC56-4113-A05A-15C461B2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E33E-1E28-4035-B15A-834C7176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A28D-6047-4A20-932B-78184AAA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CE50-5D85-4AA4-AAC8-37FE6AA8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DA51-B4F1-422F-B866-BF2BC80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05A8-2113-472D-81DD-4738F032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F83-4D53-4C7C-98E7-F0FBCF87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3D8-06A9-47E5-B818-272EB064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0A53-89C9-4AD2-A528-5074CA1F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2FE-F926-408A-9DEE-280E118A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78CB-6284-4C23-B2EA-072E2646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E798-F341-4BED-BBDD-45E858D7D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BE16-6DB0-4C23-AEBF-81F560D2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227-DB58-43FB-92D0-B7294494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B6BC-8DF2-4483-B17A-294041D2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74B-C84B-48B2-AB16-366C13CE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D090-B64F-40EA-A564-4674EB2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1F6-CD00-45AD-B9BF-6CF74AD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986-9F7D-4D2A-A3B9-D7CC07E6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7F0-58FB-4164-8477-79AD6FD9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39F93C-30CC-44DB-A7C8-AF91CD3F73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EFC00-47E6-4FC5-80C0-AD4A136F45A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0" y="0"/>
            <a:ext cx="9221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85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4604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23892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文本框 22" descr=""/>
          <p:cNvPicPr/>
          <p:nvPr/>
        </p:nvPicPr>
        <p:blipFill>
          <a:blip r:embed="rId9"/>
          <a:stretch/>
        </p:blipFill>
        <p:spPr>
          <a:xfrm>
            <a:off x="2744640" y="4024440"/>
            <a:ext cx="60818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822240" y="1527120"/>
            <a:ext cx="6747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按要求完成下列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some fru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就画线部分提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59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4"/>
          <p:cNvSpPr/>
          <p:nvPr/>
        </p:nvSpPr>
        <p:spPr>
          <a:xfrm>
            <a:off x="871560" y="3559320"/>
            <a:ext cx="715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7"/>
          <p:cNvSpPr/>
          <p:nvPr/>
        </p:nvSpPr>
        <p:spPr>
          <a:xfrm>
            <a:off x="1552680" y="3551400"/>
            <a:ext cx="672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询问某人想要买什么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hat do/does sb. want to buy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？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句主语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you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，故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hat d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，注意句首单词首字母大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885960" y="2863800"/>
            <a:ext cx="190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hat         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851040" y="4606920"/>
            <a:ext cx="71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判断下列句子与图片是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否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相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 man is too fu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239840" y="5408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1"/>
          <a:stretch/>
        </p:blipFill>
        <p:spPr>
          <a:xfrm>
            <a:off x="6297480" y="5060880"/>
            <a:ext cx="858960" cy="12636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69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20"/>
          <p:cNvSpPr/>
          <p:nvPr/>
        </p:nvSpPr>
        <p:spPr>
          <a:xfrm>
            <a:off x="907920" y="1554120"/>
            <a:ext cx="8077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单项选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shopping with m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’d like 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go                      B. to going                    C. go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句子接龙游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两位学生为一组，一问一答，练习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 like ...?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。然后角色互换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some eg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anks. Would you  like some banan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3240360" y="21589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633240" y="1581120"/>
            <a:ext cx="80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728640" y="2922480"/>
            <a:ext cx="75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un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unny story, have fun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...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0" y="0"/>
            <a:ext cx="92394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71600" y="4732200"/>
            <a:ext cx="65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you like for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1415880" y="2022480"/>
            <a:ext cx="2589480" cy="22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3"/>
          <a:stretch/>
        </p:blipFill>
        <p:spPr>
          <a:xfrm>
            <a:off x="4702320" y="2022480"/>
            <a:ext cx="2867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843120" y="2252520"/>
            <a:ext cx="80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 want to buy some gifts for my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know. Are you going to give Jenny’s family a gi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! I am going to give them a special gift from China for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ir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reat! Oh, look! There’s Santa! Come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, San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!  Ho! Ho! 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7960" y="4079880"/>
            <a:ext cx="2008080" cy="16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2"/>
          <a:stretch/>
        </p:blipFill>
        <p:spPr>
          <a:xfrm>
            <a:off x="6499080" y="423396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3"/>
          <a:stretch/>
        </p:blipFill>
        <p:spPr>
          <a:xfrm>
            <a:off x="1419120" y="1039680"/>
            <a:ext cx="6946920" cy="118116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1403280" y="1028880"/>
            <a:ext cx="2745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ny and Li Ming are shopping for Christmas gifts in a sh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5424480" y="1233360"/>
            <a:ext cx="2897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t Christmas, shops often have Santas. Santas are f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914400" y="1182600"/>
            <a:ext cx="7631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 always says, “Ho! Ho! H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 for Christmas, young m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ell, Santa, I would like a big, new c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 new car! Ho! Ho! Ho! That’ s  fun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 for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h! Ho! Ho! Ho! Would you like a new swe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ome to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...  I know what I would lik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h! Ho! Ho! Ho! That’s gre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7"/>
          <p:cNvSpPr/>
          <p:nvPr/>
        </p:nvSpPr>
        <p:spPr>
          <a:xfrm>
            <a:off x="2793240" y="1488960"/>
            <a:ext cx="307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你想要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8"/>
          <p:cNvSpPr/>
          <p:nvPr/>
        </p:nvSpPr>
        <p:spPr>
          <a:xfrm>
            <a:off x="965160" y="1573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9"/>
          <p:cNvSpPr/>
          <p:nvPr/>
        </p:nvSpPr>
        <p:spPr>
          <a:xfrm>
            <a:off x="1389240" y="15876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717560" y="3511440"/>
            <a:ext cx="678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要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a coat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买一件外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9" descr="book.gif"/>
          <p:cNvPicPr/>
          <p:nvPr/>
        </p:nvPicPr>
        <p:blipFill>
          <a:blip r:embed="rId1"/>
          <a:stretch/>
        </p:blipFill>
        <p:spPr>
          <a:xfrm>
            <a:off x="177840" y="1465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893880" y="363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2286000" y="2544840"/>
            <a:ext cx="60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，是询问对方想要买什么的句型，回答是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物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011240" y="2611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及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8"/>
          <p:cNvSpPr/>
          <p:nvPr/>
        </p:nvSpPr>
        <p:spPr>
          <a:xfrm>
            <a:off x="1768320" y="4619520"/>
            <a:ext cx="64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nt to bu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shi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my father.(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画线部分提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want to buy for your fa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001880" y="472932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典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9" descr="花盆.png"/>
          <p:cNvPicPr/>
          <p:nvPr/>
        </p:nvPicPr>
        <p:blipFill>
          <a:blip r:embed="rId2"/>
          <a:stretch/>
        </p:blipFill>
        <p:spPr>
          <a:xfrm>
            <a:off x="696960" y="473868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26" name="矩形 31"/>
          <p:cNvSpPr/>
          <p:nvPr/>
        </p:nvSpPr>
        <p:spPr>
          <a:xfrm>
            <a:off x="2050920" y="516564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hat              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4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1"/>
          <p:cNvSpPr/>
          <p:nvPr/>
        </p:nvSpPr>
        <p:spPr>
          <a:xfrm>
            <a:off x="2891520" y="1539720"/>
            <a:ext cx="355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ould you like a new swe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你想要一件新的毛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2054160" y="249408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...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来礼貌地询问对方的意愿或委婉地提出请求、建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跟名词或代词，表示“想要某物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some b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要些面包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please. /No,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好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太感谢了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谢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833400" y="2630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及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992160" y="1562040"/>
            <a:ext cx="1871640" cy="54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06440" y="1509840"/>
            <a:ext cx="1085760" cy="6649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9"/>
          <p:cNvSpPr/>
          <p:nvPr/>
        </p:nvSpPr>
        <p:spPr>
          <a:xfrm>
            <a:off x="1541520" y="16146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6"/>
          <p:cNvSpPr/>
          <p:nvPr/>
        </p:nvSpPr>
        <p:spPr>
          <a:xfrm>
            <a:off x="360360" y="17701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跟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”，表示“想要（某人）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Jenny to wash the dirty dis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要詹妮洗这些脏盘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No. I want to was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。我想要洗它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"/>
          <p:cNvGrpSpPr/>
          <p:nvPr/>
        </p:nvGrpSpPr>
        <p:grpSpPr>
          <a:xfrm>
            <a:off x="227160" y="1538280"/>
            <a:ext cx="1806480" cy="1515960"/>
            <a:chOff x="227160" y="1538280"/>
            <a:chExt cx="1806480" cy="1515960"/>
          </a:xfrm>
        </p:grpSpPr>
        <p:pic>
          <p:nvPicPr>
            <p:cNvPr id="146" name="图片 3" descr="泡泡1.png"/>
            <p:cNvPicPr/>
            <p:nvPr/>
          </p:nvPicPr>
          <p:blipFill>
            <a:blip r:embed="rId1"/>
            <a:stretch/>
          </p:blipFill>
          <p:spPr>
            <a:xfrm>
              <a:off x="227160" y="1538280"/>
              <a:ext cx="180648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2"/>
            <p:cNvSpPr/>
            <p:nvPr/>
          </p:nvSpPr>
          <p:spPr>
            <a:xfrm>
              <a:off x="733680" y="18601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2"/>
          <p:cNvSpPr/>
          <p:nvPr/>
        </p:nvSpPr>
        <p:spPr>
          <a:xfrm>
            <a:off x="1700280" y="2786040"/>
            <a:ext cx="69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意思不一样，不能混淆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意为“喜欢”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“想要”，相当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但是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更礼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文本框 8" descr=""/>
          <p:cNvPicPr/>
          <p:nvPr/>
        </p:nvPicPr>
        <p:blipFill>
          <a:blip r:embed="rId1"/>
          <a:stretch/>
        </p:blipFill>
        <p:spPr>
          <a:xfrm>
            <a:off x="2987640" y="21420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833400" y="1123920"/>
            <a:ext cx="77374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Part 1 and answer th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are Danny and Li Ming d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n do the shops have Sant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—————————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re is Li Ming’s special gift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oes Danny want for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you think Li Ming says in Santa’ s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1173240" y="200988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ny and Li Ming are shopping for Christmas gifts in a 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227960" y="2843280"/>
            <a:ext cx="171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t Christ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176840" y="3878280"/>
            <a:ext cx="15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om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1145880" y="4780080"/>
            <a:ext cx="3737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ny would like a big, new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143720" y="5715000"/>
            <a:ext cx="164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 don’t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4:00:42Z</dcterms:modified>
  <cp:revision>7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