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C67A-88C9-40BE-9D2A-397AD574F3A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3FC4-0C2D-4797-B5E8-FE9F37AC90E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8992-5E34-4108-8EEC-7DE83146B65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9AFF-B509-43A2-95F2-E2151CBB215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9D1D-7051-45D2-AE2A-F80A4ECF58A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6A05B-4EFC-4D11-AE6B-26FE9A64ACD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4FD1-5AF4-4DF7-A6AE-D133041A167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61BA-0298-47B4-B127-5C77E768496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A853-5C96-4250-B711-243B25D50E9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5843-E2EF-484F-9DDC-0B541582A2E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B227-C60A-401F-8642-246392B317C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8F4E-C9BD-4DAE-B822-7C225931ACA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C39A-D42E-446C-B66D-F054C2E30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0498-5CC7-4E27-BFD5-909FEAC5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E704-E3E3-4CDB-A720-503BFE02C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9F8E-FDE2-4313-80F0-0325539DD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0026-96D7-444D-B903-5D985418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50AE-7654-4BAF-8F32-EC832BD2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891E-0C6B-4F13-8A69-5D8510A8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D54F-C480-4E36-BD71-7A9DE38A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678C-444F-4F68-89D7-7BE0C10C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9154-A8E2-4023-9E32-6350B5F8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F669-D3F2-46D1-AD33-C3D7F173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FF37-BCE5-415D-AB97-8D9EDF08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DE00-291B-4E02-9DBE-D26E8063EC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ff"/>
                </a:solidFill>
                <a:latin typeface="Arial"/>
              </a:rPr>
              <a:t>冀教版五年级上册</a:t>
            </a:r>
            <a:r>
              <a:rPr b="1" lang="zh-CN" sz="4400" spc="-1" strike="noStrike">
                <a:solidFill>
                  <a:srgbClr val="ff99ff"/>
                </a:solidFill>
                <a:latin typeface="Arial"/>
              </a:rPr>
              <a:t>Unit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66ff"/>
                </a:solidFill>
                <a:latin typeface="Arial"/>
              </a:rPr>
              <a:t>Lessons   13~1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66ff"/>
                </a:solidFill>
                <a:latin typeface="Arial"/>
              </a:rPr>
              <a:t>Winter  in  Canad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春衣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WordArt 3" descr=""/>
          <p:cNvPicPr/>
          <p:nvPr/>
        </p:nvPicPr>
        <p:blipFill>
          <a:blip r:embed="rId3"/>
          <a:stretch/>
        </p:blipFill>
        <p:spPr>
          <a:xfrm>
            <a:off x="523800" y="603360"/>
            <a:ext cx="2341800" cy="774720"/>
          </a:xfrm>
          <a:prstGeom prst="rect">
            <a:avLst/>
          </a:prstGeom>
          <a:ln w="0">
            <a:noFill/>
          </a:ln>
        </p:spPr>
      </p:pic>
      <p:sp>
        <p:nvSpPr>
          <p:cNvPr id="117" name="TextBox 3"/>
          <p:cNvSpPr/>
          <p:nvPr/>
        </p:nvSpPr>
        <p:spPr>
          <a:xfrm>
            <a:off x="763560" y="3048120"/>
            <a:ext cx="7605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ake of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inter clothe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have my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mbrell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like the rain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夏衣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573360"/>
          </a:xfrm>
          <a:prstGeom prst="rect">
            <a:avLst/>
          </a:prstGeom>
          <a:ln w="0">
            <a:noFill/>
          </a:ln>
        </p:spPr>
      </p:pic>
      <p:sp>
        <p:nvSpPr>
          <p:cNvPr id="119" name="TextBox 2"/>
          <p:cNvSpPr/>
          <p:nvPr/>
        </p:nvSpPr>
        <p:spPr>
          <a:xfrm>
            <a:off x="337320" y="3284640"/>
            <a:ext cx="833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I put on my shorts and T-shir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395280" y="692280"/>
            <a:ext cx="36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   sum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3"/>
          <p:cNvSpPr txBox="1"/>
          <p:nvPr/>
        </p:nvSpPr>
        <p:spPr>
          <a:xfrm>
            <a:off x="2050920" y="333360"/>
            <a:ext cx="3745080" cy="8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in autumn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900000" y="3141720"/>
            <a:ext cx="7452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t is </a:t>
            </a:r>
            <a:r>
              <a:rPr b="1" lang="en-US" sz="4400" spc="-1" strike="noStrike">
                <a:solidFill>
                  <a:srgbClr val="00b050"/>
                </a:solidFill>
                <a:latin typeface="Arial"/>
              </a:rPr>
              <a:t>cool.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 take </a:t>
            </a:r>
            <a:r>
              <a:rPr b="1" lang="en-US" sz="4400" spc="-1" strike="noStrike">
                <a:solidFill>
                  <a:srgbClr val="00b050"/>
                </a:solidFill>
                <a:latin typeface="Arial"/>
              </a:rPr>
              <a:t>off my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h</a:t>
            </a:r>
            <a:r>
              <a:rPr b="1" lang="en-US" sz="4400" spc="-1" strike="noStrike">
                <a:solidFill>
                  <a:srgbClr val="00b050"/>
                </a:solidFill>
                <a:latin typeface="Arial"/>
              </a:rPr>
              <a:t>orts and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-shirt</a:t>
            </a:r>
            <a:r>
              <a:rPr b="1" lang="en-US" sz="4400" spc="-1" strike="noStrike">
                <a:solidFill>
                  <a:srgbClr val="00b05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Arial"/>
              </a:rPr>
              <a:t>I put on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y trousers </a:t>
            </a:r>
            <a:r>
              <a:rPr b="1" lang="en-US" sz="4400" spc="-1" strike="noStrike">
                <a:solidFill>
                  <a:srgbClr val="00b050"/>
                </a:solidFill>
                <a:latin typeface="Arial"/>
              </a:rPr>
              <a:t>and sweat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矩形 1" descr=""/>
          <p:cNvPicPr/>
          <p:nvPr/>
        </p:nvPicPr>
        <p:blipFill>
          <a:blip r:embed="rId2"/>
          <a:stretch/>
        </p:blipFill>
        <p:spPr>
          <a:xfrm>
            <a:off x="1809720" y="2736720"/>
            <a:ext cx="552924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79280" y="189000"/>
            <a:ext cx="874872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1. Winter is _______ . </a:t>
            </a:r>
            <a:r>
              <a:rPr b="0" i="1" lang="zh-CN" sz="3600" spc="-1" strike="noStrike">
                <a:solidFill>
                  <a:srgbClr val="ff3300"/>
                </a:solidFill>
                <a:latin typeface="Times New Roman"/>
              </a:rPr>
              <a:t>( cold, hot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2. Snow is _______. </a:t>
            </a:r>
            <a:r>
              <a:rPr b="0" i="1" lang="zh-CN" sz="3600" spc="-1" strike="noStrike">
                <a:solidFill>
                  <a:srgbClr val="ff3300"/>
                </a:solidFill>
                <a:latin typeface="Times New Roman"/>
              </a:rPr>
              <a:t>( black, white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3. Spring is _______ and ______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i="1" lang="zh-CN" sz="3600" spc="-1" strike="noStrike">
                <a:solidFill>
                  <a:srgbClr val="ff3300"/>
                </a:solidFill>
                <a:latin typeface="Times New Roman"/>
              </a:rPr>
              <a:t>( warm, cool )   ( snowy, rainy</a:t>
            </a:r>
            <a:r>
              <a:rPr b="0" i="1" lang="zh-CN" sz="36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i="1" lang="zh-CN" sz="36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4. The _________ bloom.</a:t>
            </a:r>
            <a:r>
              <a:rPr b="0" i="1" lang="zh-CN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Times New Roman"/>
              </a:rPr>
              <a:t>开放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5. Summer is ______ and 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zh-CN" sz="3600" spc="-1" strike="noStrike">
                <a:solidFill>
                  <a:srgbClr val="ff3300"/>
                </a:solidFill>
                <a:latin typeface="Times New Roman"/>
              </a:rPr>
              <a:t>( cold, hot )     ( sunny, snowy</a:t>
            </a:r>
            <a:r>
              <a:rPr b="0" i="1" lang="zh-CN" sz="36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i="1" lang="zh-CN" sz="36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6. Fall is _______ . </a:t>
            </a:r>
            <a:r>
              <a:rPr b="0" i="1" lang="zh-CN" sz="3600" spc="-1" strike="noStrike">
                <a:solidFill>
                  <a:srgbClr val="ff3300"/>
                </a:solidFill>
                <a:latin typeface="Times New Roman"/>
              </a:rPr>
              <a:t>( warm, cool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7. The wind _____   </a:t>
            </a:r>
            <a:r>
              <a:rPr b="0" i="1" lang="zh-CN" sz="3600" spc="-1" strike="noStrike">
                <a:solidFill>
                  <a:srgbClr val="ff3300"/>
                </a:solidFill>
                <a:latin typeface="Times New Roman"/>
              </a:rPr>
              <a:t>( blow / blows )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 the _____  </a:t>
            </a:r>
            <a:r>
              <a:rPr b="0" i="1" lang="zh-CN" sz="3600" spc="-1" strike="noStrike">
                <a:solidFill>
                  <a:srgbClr val="ff3300"/>
                </a:solidFill>
                <a:latin typeface="Times New Roman"/>
              </a:rPr>
              <a:t>( leafs / leaves )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 off the tre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771640" y="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ZDBT"/>
                <a:ea typeface="BZDBT"/>
              </a:rPr>
              <a:t> </a:t>
            </a:r>
            <a:r>
              <a:rPr b="1" i="1" lang="en-US" sz="4000" spc="-1" strike="noStrike">
                <a:solidFill>
                  <a:srgbClr val="0066ff"/>
                </a:solidFill>
                <a:latin typeface="BZDBT"/>
                <a:ea typeface="BZDBT"/>
              </a:rPr>
              <a:t>co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411280" y="69228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BZDBT"/>
                <a:ea typeface="BZDBT"/>
              </a:rPr>
              <a:t> </a:t>
            </a:r>
            <a:r>
              <a:rPr b="1" i="1" lang="en-US" sz="4000" spc="-1" strike="noStrike">
                <a:solidFill>
                  <a:srgbClr val="0066ff"/>
                </a:solidFill>
                <a:latin typeface="BZDBT"/>
                <a:ea typeface="BZDBT"/>
              </a:rPr>
              <a:t>wh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2843280" y="134136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BZDBT"/>
                <a:ea typeface="BZDBT"/>
              </a:rPr>
              <a:t> </a:t>
            </a:r>
            <a:r>
              <a:rPr b="1" i="1" lang="en-US" sz="4000" spc="-1" strike="noStrike">
                <a:solidFill>
                  <a:srgbClr val="0066ff"/>
                </a:solidFill>
                <a:latin typeface="BZDBT"/>
                <a:ea typeface="BZDBT"/>
              </a:rPr>
              <a:t>wa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148360" y="134136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BZDBT"/>
                <a:ea typeface="BZDBT"/>
              </a:rPr>
              <a:t> </a:t>
            </a:r>
            <a:r>
              <a:rPr b="1" i="1" lang="en-US" sz="4000" spc="-1" strike="noStrike">
                <a:solidFill>
                  <a:srgbClr val="0066ff"/>
                </a:solidFill>
                <a:latin typeface="BZDBT"/>
                <a:ea typeface="BZDBT"/>
              </a:rPr>
              <a:t>rai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2050920" y="1916280"/>
            <a:ext cx="20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BZDBT"/>
                <a:ea typeface="BZDBT"/>
              </a:rPr>
              <a:t> </a:t>
            </a:r>
            <a:r>
              <a:rPr b="1" i="1" lang="en-US" sz="4000" spc="-1" strike="noStrike">
                <a:solidFill>
                  <a:srgbClr val="0066ff"/>
                </a:solidFill>
                <a:latin typeface="BZDBT"/>
                <a:ea typeface="BZDBT"/>
              </a:rPr>
              <a:t>flow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2987640" y="306864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BZDBT"/>
                <a:ea typeface="BZDBT"/>
              </a:rPr>
              <a:t> </a:t>
            </a:r>
            <a:r>
              <a:rPr b="0" i="1" lang="en-US" sz="4000" spc="-1" strike="noStrike">
                <a:solidFill>
                  <a:srgbClr val="0066ff"/>
                </a:solidFill>
                <a:latin typeface="BZDBT"/>
                <a:ea typeface="BZDBT"/>
              </a:rPr>
              <a:t>h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5334120" y="312408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BZDBT"/>
                <a:ea typeface="BZDBT"/>
              </a:rPr>
              <a:t> </a:t>
            </a:r>
            <a:r>
              <a:rPr b="0" i="1" lang="en-US" sz="4000" spc="-1" strike="noStrike">
                <a:solidFill>
                  <a:srgbClr val="0066ff"/>
                </a:solidFill>
                <a:latin typeface="BZDBT"/>
                <a:ea typeface="BZDBT"/>
              </a:rPr>
              <a:t>sun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2411280" y="429264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BZDBT"/>
                <a:ea typeface="BZDBT"/>
              </a:rPr>
              <a:t> </a:t>
            </a:r>
            <a:r>
              <a:rPr b="0" i="1" lang="en-US" sz="4000" spc="-1" strike="noStrike">
                <a:solidFill>
                  <a:srgbClr val="0066ff"/>
                </a:solidFill>
                <a:latin typeface="BZDBT"/>
                <a:ea typeface="BZDBT"/>
              </a:rPr>
              <a:t>c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2895480" y="495288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BZDBT"/>
                <a:ea typeface="BZDBT"/>
              </a:rPr>
              <a:t> </a:t>
            </a:r>
            <a:r>
              <a:rPr b="1" i="1" lang="en-US" sz="4000" spc="-1" strike="noStrike">
                <a:solidFill>
                  <a:srgbClr val="0066ff"/>
                </a:solidFill>
                <a:latin typeface="BZDBT"/>
                <a:ea typeface="BZDBT"/>
              </a:rPr>
              <a:t>blo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324000" y="472428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BZDBT"/>
                <a:ea typeface="BZDBT"/>
              </a:rPr>
              <a:t> </a:t>
            </a:r>
            <a:r>
              <a:rPr b="0" i="1" lang="en-US" sz="4000" spc="-1" strike="noStrike">
                <a:solidFill>
                  <a:srgbClr val="0066ff"/>
                </a:solidFill>
                <a:latin typeface="BZDBT"/>
                <a:ea typeface="BZDBT"/>
              </a:rPr>
              <a:t>lea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5050"/>
                </a:solidFill>
                <a:latin typeface="Arial"/>
              </a:rPr>
              <a:t>活学活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There __seven days in a we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is            B. am         C. be       D.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It is cold outside .You need to __your scar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put      B. put on   C. take   D. take 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It’s warm outside ! Please __your coa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put  on    B. take off   C. take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2286000"/>
            <a:ext cx="762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43200" y="32767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71800" y="57150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Key   sente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inter, spring, summer and autumn are seas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inter is cold . There is ice and snow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winter ,I put  on my hat ,scarf and winter coa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spring ,I take off my winter cloth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690560" y="1219320"/>
            <a:ext cx="576288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Thank you !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324000" y="2133720"/>
            <a:ext cx="842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sson 13  Seaso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fall"/>
          <p:cNvPicPr/>
          <p:nvPr/>
        </p:nvPicPr>
        <p:blipFill>
          <a:blip r:embed="rId2"/>
          <a:stretch/>
        </p:blipFill>
        <p:spPr>
          <a:xfrm>
            <a:off x="4535640" y="3619440"/>
            <a:ext cx="4608360" cy="3238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spring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502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summer"/>
          <p:cNvPicPr/>
          <p:nvPr/>
        </p:nvPicPr>
        <p:blipFill>
          <a:blip r:embed="rId4"/>
          <a:stretch/>
        </p:blipFill>
        <p:spPr>
          <a:xfrm>
            <a:off x="0" y="3502080"/>
            <a:ext cx="4429080" cy="3355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winter"/>
          <p:cNvPicPr/>
          <p:nvPr/>
        </p:nvPicPr>
        <p:blipFill>
          <a:blip r:embed="rId5"/>
          <a:stretch/>
        </p:blipFill>
        <p:spPr>
          <a:xfrm>
            <a:off x="0" y="-380880"/>
            <a:ext cx="4500720" cy="3381120"/>
          </a:xfrm>
          <a:prstGeom prst="rect">
            <a:avLst/>
          </a:prstGeom>
          <a:ln w="0">
            <a:noFill/>
          </a:ln>
        </p:spPr>
      </p:pic>
      <p:sp>
        <p:nvSpPr>
          <p:cNvPr id="55" name="WordArt 9"/>
          <p:cNvSpPr txBox="1"/>
          <p:nvPr/>
        </p:nvSpPr>
        <p:spPr>
          <a:xfrm>
            <a:off x="7093080" y="3789360"/>
            <a:ext cx="187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ffff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 </a:t>
            </a:r>
            <a:endParaRPr b="1" i="1" lang="en-US" sz="1800" spc="1" strike="noStrike">
              <a:ln w="12600">
                <a:solidFill>
                  <a:srgbClr val="ffff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4572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81680" y="83808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411480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umm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396252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utum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winter"/>
          <p:cNvPicPr/>
          <p:nvPr/>
        </p:nvPicPr>
        <p:blipFill>
          <a:blip r:embed="rId2"/>
          <a:stretch/>
        </p:blipFill>
        <p:spPr>
          <a:xfrm>
            <a:off x="0" y="0"/>
            <a:ext cx="4608360" cy="34243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901440" y="3573360"/>
            <a:ext cx="436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What a cold day</a:t>
            </a:r>
            <a:r>
              <a:rPr b="0" lang="en-US" sz="4800" spc="-1" strike="noStrike">
                <a:solidFill>
                  <a:srgbClr val="ff5050"/>
                </a:solidFill>
                <a:latin typeface="Arial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643280" y="907920"/>
            <a:ext cx="18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win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"/>
          <p:cNvSpPr/>
          <p:nvPr/>
        </p:nvSpPr>
        <p:spPr>
          <a:xfrm>
            <a:off x="6516720" y="260280"/>
            <a:ext cx="288720" cy="2232000"/>
          </a:xfrm>
          <a:custGeom>
            <a:avLst/>
            <a:gdLst>
              <a:gd name="textAreaLeft" fmla="*/ 184680 w 288720"/>
              <a:gd name="textAreaRight" fmla="*/ 289080 w 28872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6858000" y="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6732720" y="620640"/>
            <a:ext cx="172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ZDBT"/>
                <a:ea typeface="BZDBT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BZDBT"/>
                <a:ea typeface="BZDBT"/>
              </a:rPr>
              <a:t>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6588000" y="1268280"/>
            <a:ext cx="21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ZDBT"/>
                <a:ea typeface="BZDBT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BZDBT"/>
                <a:ea typeface="BZDBT"/>
              </a:rPr>
              <a:t>sn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6443640" y="1989000"/>
            <a:ext cx="24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ZDBT"/>
                <a:ea typeface="BZDBT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BZDBT"/>
                <a:ea typeface="BZDBT"/>
              </a:rPr>
              <a:t>whi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-826920" y="5661000"/>
            <a:ext cx="827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250920" y="4365720"/>
            <a:ext cx="5957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s is </a:t>
            </a: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winter</a:t>
            </a:r>
            <a:r>
              <a:rPr b="0" i="1" lang="en-US" sz="3200" spc="-1" strike="noStrike">
                <a:solidFill>
                  <a:srgbClr val="ff0066"/>
                </a:solidFill>
                <a:latin typeface="Arial"/>
              </a:rPr>
              <a:t>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nter is </a:t>
            </a: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cold</a:t>
            </a:r>
            <a:r>
              <a:rPr b="0" i="1" lang="en-US" sz="32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re is </a:t>
            </a: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ice and snow</a:t>
            </a:r>
            <a:r>
              <a:rPr b="0" i="1" lang="en-US" sz="3200" spc="-1" strike="noStrike">
                <a:solidFill>
                  <a:srgbClr val="ff0066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now is </a:t>
            </a: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419640" y="1628640"/>
            <a:ext cx="25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spr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"/>
          <p:cNvSpPr/>
          <p:nvPr/>
        </p:nvSpPr>
        <p:spPr>
          <a:xfrm>
            <a:off x="5148360" y="765000"/>
            <a:ext cx="288720" cy="2592720"/>
          </a:xfrm>
          <a:custGeom>
            <a:avLst/>
            <a:gdLst>
              <a:gd name="textAreaLeft" fmla="*/ 184680 w 288720"/>
              <a:gd name="textAreaRight" fmla="*/ 289080 w 288720"/>
              <a:gd name="textAreaTop" fmla="*/ 67320 h 2592720"/>
              <a:gd name="textAreaBottom" fmla="*/ 2525400 h 259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5219640" y="2708280"/>
            <a:ext cx="30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ZDBT"/>
                <a:ea typeface="BZDBT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ZDBT"/>
                <a:ea typeface="BZDBT"/>
              </a:rPr>
              <a:t>flo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6948360" y="155736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ZDBT"/>
                <a:ea typeface="BZDBT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spring"/>
          <p:cNvPicPr/>
          <p:nvPr/>
        </p:nvPicPr>
        <p:blipFill>
          <a:blip r:embed="rId2"/>
          <a:stretch/>
        </p:blipFill>
        <p:spPr>
          <a:xfrm>
            <a:off x="0" y="0"/>
            <a:ext cx="3492360" cy="33847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9"/>
          <p:cNvSpPr/>
          <p:nvPr/>
        </p:nvSpPr>
        <p:spPr>
          <a:xfrm>
            <a:off x="324000" y="3573360"/>
            <a:ext cx="7920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e5e8f"/>
                </a:solidFill>
                <a:latin typeface="Times New Roman"/>
                <a:ea typeface="Dotum"/>
              </a:rPr>
              <a:t> </a:t>
            </a:r>
            <a:r>
              <a:rPr b="0" i="1" lang="en-US" sz="4000" spc="-1" strike="noStrike">
                <a:solidFill>
                  <a:srgbClr val="2e5e8f"/>
                </a:solidFill>
                <a:latin typeface="Times New Roman"/>
                <a:ea typeface="Dotum"/>
              </a:rPr>
              <a:t>This is              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2e5e8f"/>
                </a:solidFill>
                <a:latin typeface="Times New Roman"/>
                <a:ea typeface="Dotum"/>
              </a:rPr>
              <a:t> </a:t>
            </a:r>
            <a:r>
              <a:rPr b="0" i="1" lang="en-US" sz="4000" spc="-1" strike="noStrike">
                <a:solidFill>
                  <a:srgbClr val="2e5e8f"/>
                </a:solidFill>
                <a:latin typeface="Times New Roman"/>
                <a:ea typeface="Dotum"/>
              </a:rPr>
              <a:t>Spring is </a:t>
            </a:r>
            <a:r>
              <a:rPr b="1" i="1" lang="en-US" sz="4000" spc="-1" strike="noStrike">
                <a:solidFill>
                  <a:srgbClr val="2e5e8f"/>
                </a:solidFill>
                <a:latin typeface="Times New Roman"/>
                <a:ea typeface="Dotum"/>
              </a:rPr>
              <a:t>           </a:t>
            </a:r>
            <a:r>
              <a:rPr b="0" i="1" lang="en-US" sz="4000" spc="-1" strike="noStrike">
                <a:solidFill>
                  <a:srgbClr val="2e5e8f"/>
                </a:solidFill>
                <a:latin typeface="Times New Roman"/>
                <a:ea typeface="Dotum"/>
              </a:rPr>
              <a:t>and </a:t>
            </a:r>
            <a:r>
              <a:rPr b="1" i="1" lang="en-US" sz="4000" spc="-1" strike="noStrike">
                <a:solidFill>
                  <a:srgbClr val="2e5e8f"/>
                </a:solidFill>
                <a:latin typeface="Times New Roman"/>
                <a:ea typeface="Dotum"/>
              </a:rPr>
              <a:t>              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2e5e8f"/>
                </a:solidFill>
                <a:latin typeface="Times New Roman"/>
                <a:ea typeface="Dotum"/>
              </a:rPr>
              <a:t> </a:t>
            </a:r>
            <a:r>
              <a:rPr b="0" i="1" lang="en-US" sz="4000" spc="-1" strike="noStrike">
                <a:solidFill>
                  <a:srgbClr val="2e5e8f"/>
                </a:solidFill>
                <a:latin typeface="Times New Roman"/>
                <a:ea typeface="Dotum"/>
              </a:rPr>
              <a:t>There are new             and </a:t>
            </a:r>
            <a:r>
              <a:rPr b="1" i="1" lang="en-US" sz="4000" spc="-1" strike="noStrike">
                <a:solidFill>
                  <a:srgbClr val="2e5e8f"/>
                </a:solidFill>
                <a:latin typeface="Times New Roman"/>
                <a:ea typeface="Dotum"/>
              </a:rPr>
              <a:t>            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2"/>
          <p:cNvSpPr/>
          <p:nvPr/>
        </p:nvSpPr>
        <p:spPr>
          <a:xfrm>
            <a:off x="5509080" y="1989000"/>
            <a:ext cx="179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6"/>
          <p:cNvSpPr/>
          <p:nvPr/>
        </p:nvSpPr>
        <p:spPr>
          <a:xfrm>
            <a:off x="2059920" y="3500280"/>
            <a:ext cx="170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p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7"/>
          <p:cNvSpPr/>
          <p:nvPr/>
        </p:nvSpPr>
        <p:spPr>
          <a:xfrm>
            <a:off x="2347920" y="4437000"/>
            <a:ext cx="15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a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9"/>
          <p:cNvSpPr/>
          <p:nvPr/>
        </p:nvSpPr>
        <p:spPr>
          <a:xfrm>
            <a:off x="4939200" y="4437000"/>
            <a:ext cx="139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a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0"/>
          <p:cNvSpPr/>
          <p:nvPr/>
        </p:nvSpPr>
        <p:spPr>
          <a:xfrm>
            <a:off x="3356280" y="5373720"/>
            <a:ext cx="179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e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1"/>
          <p:cNvSpPr/>
          <p:nvPr/>
        </p:nvSpPr>
        <p:spPr>
          <a:xfrm>
            <a:off x="5877360" y="5445000"/>
            <a:ext cx="195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lo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2"/>
          <p:cNvSpPr/>
          <p:nvPr/>
        </p:nvSpPr>
        <p:spPr>
          <a:xfrm>
            <a:off x="5587920" y="620640"/>
            <a:ext cx="15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3"/>
          <p:cNvSpPr/>
          <p:nvPr/>
        </p:nvSpPr>
        <p:spPr>
          <a:xfrm>
            <a:off x="5731560" y="1268280"/>
            <a:ext cx="139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summer"/>
          <p:cNvPicPr/>
          <p:nvPr/>
        </p:nvPicPr>
        <p:blipFill>
          <a:blip r:embed="rId2"/>
          <a:stretch/>
        </p:blipFill>
        <p:spPr>
          <a:xfrm>
            <a:off x="0" y="0"/>
            <a:ext cx="3772080" cy="33559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3708360" y="1628640"/>
            <a:ext cx="252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summ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6012000" y="47628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ZDBT"/>
                <a:ea typeface="BZDBT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BZDBT"/>
                <a:ea typeface="BZDBT"/>
              </a:rPr>
              <a:t>ho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5867280" y="836640"/>
            <a:ext cx="289080" cy="2592360"/>
          </a:xfrm>
          <a:custGeom>
            <a:avLst/>
            <a:gdLst>
              <a:gd name="textAreaLeft" fmla="*/ 184680 w 289080"/>
              <a:gd name="textAreaRight" fmla="*/ 289080 w 28908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6012000" y="2133720"/>
            <a:ext cx="2160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ZDBT"/>
                <a:ea typeface="BZDBT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BZDBT"/>
                <a:ea typeface="BZDBT"/>
              </a:rPr>
              <a:t>sunn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6084720" y="134136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ZDBT"/>
                <a:ea typeface="BZDBT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BZDBT"/>
                <a:ea typeface="BZDBT"/>
              </a:rPr>
              <a:t>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611280" y="3645000"/>
            <a:ext cx="78483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Dotum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Dotum"/>
              </a:rPr>
              <a:t>This is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Dotum"/>
              </a:rPr>
              <a:t>                 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Dotum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Dotum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Dotum"/>
              </a:rPr>
              <a:t>The summer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Dotum"/>
              </a:rPr>
              <a:t>       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Dotum"/>
              </a:rPr>
              <a:t> is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Dotum"/>
              </a:rPr>
              <a:t>          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Dotum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Dotum"/>
              </a:rPr>
              <a:t>What a                ,                 da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2126520" y="357336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1"/>
          <p:cNvSpPr/>
          <p:nvPr/>
        </p:nvSpPr>
        <p:spPr>
          <a:xfrm>
            <a:off x="2278080" y="3645000"/>
            <a:ext cx="220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um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3"/>
          <p:cNvSpPr/>
          <p:nvPr/>
        </p:nvSpPr>
        <p:spPr>
          <a:xfrm>
            <a:off x="3425760" y="4508640"/>
            <a:ext cx="108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4"/>
          <p:cNvSpPr/>
          <p:nvPr/>
        </p:nvSpPr>
        <p:spPr>
          <a:xfrm>
            <a:off x="5370120" y="458136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5"/>
          <p:cNvSpPr/>
          <p:nvPr/>
        </p:nvSpPr>
        <p:spPr>
          <a:xfrm>
            <a:off x="2777760" y="544500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6"/>
          <p:cNvSpPr/>
          <p:nvPr/>
        </p:nvSpPr>
        <p:spPr>
          <a:xfrm>
            <a:off x="4581000" y="5445000"/>
            <a:ext cx="167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un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fall"/>
          <p:cNvPicPr/>
          <p:nvPr/>
        </p:nvPicPr>
        <p:blipFill>
          <a:blip r:embed="rId2"/>
          <a:stretch/>
        </p:blipFill>
        <p:spPr>
          <a:xfrm>
            <a:off x="0" y="0"/>
            <a:ext cx="3635280" cy="3456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3635280" y="1700280"/>
            <a:ext cx="27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6012000" y="47628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ZDBT"/>
                <a:ea typeface="BZDBT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BZDBT"/>
                <a:ea typeface="BZDBT"/>
              </a:rPr>
              <a:t>coo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5940360" y="141300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ZDBT"/>
                <a:ea typeface="BZDBT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BZDBT"/>
                <a:ea typeface="BZDBT"/>
              </a:rPr>
              <a:t>wi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3564000" y="249228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ZDBT"/>
                <a:ea typeface="BZD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5867280" y="692280"/>
            <a:ext cx="289080" cy="2592360"/>
          </a:xfrm>
          <a:custGeom>
            <a:avLst/>
            <a:gdLst>
              <a:gd name="textAreaLeft" fmla="*/ 184680 w 289080"/>
              <a:gd name="textAreaRight" fmla="*/ 289080 w 28908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796000" y="234936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ZDBT"/>
                <a:ea typeface="BZDBT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BZDBT"/>
                <a:ea typeface="BZDBT"/>
              </a:rPr>
              <a:t>leav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95280" y="3645000"/>
            <a:ext cx="7993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otum"/>
                <a:ea typeface="Dotum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MingLiU"/>
              </a:rPr>
              <a:t>This is            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MingLiU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MingLiU"/>
              </a:rPr>
              <a:t>Autumn is               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  <a:ea typeface="MingLiU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MingLiU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MingLiU"/>
              </a:rPr>
              <a:t>The                                             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2"/>
          <p:cNvSpPr/>
          <p:nvPr/>
        </p:nvSpPr>
        <p:spPr>
          <a:xfrm>
            <a:off x="3419640" y="4076640"/>
            <a:ext cx="185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2132640" y="3645000"/>
            <a:ext cx="165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  <a:ea typeface="MingLiU"/>
              </a:rPr>
              <a:t>autum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4"/>
          <p:cNvSpPr/>
          <p:nvPr/>
        </p:nvSpPr>
        <p:spPr>
          <a:xfrm>
            <a:off x="2706480" y="450864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  <a:ea typeface="MingLiU"/>
              </a:rPr>
              <a:t>c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5"/>
          <p:cNvSpPr/>
          <p:nvPr/>
        </p:nvSpPr>
        <p:spPr>
          <a:xfrm>
            <a:off x="1405800" y="5300640"/>
            <a:ext cx="510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2d050"/>
                </a:solidFill>
                <a:latin typeface="Times New Roman"/>
                <a:ea typeface="MingLiU"/>
              </a:rPr>
              <a:t>leaves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  <a:ea typeface="MingLiU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MingLiU"/>
              </a:rPr>
              <a:t>turn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  <a:ea typeface="MingLiU"/>
              </a:rPr>
              <a:t> red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MingLiU"/>
              </a:rPr>
              <a:t>and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  <a:ea typeface="MingLiU"/>
              </a:rPr>
              <a:t> </a:t>
            </a:r>
            <a:r>
              <a:rPr b="1" i="1" lang="en-US" sz="3600" spc="-1" strike="noStrike">
                <a:solidFill>
                  <a:srgbClr val="ffc000"/>
                </a:solidFill>
                <a:latin typeface="Times New Roman"/>
                <a:ea typeface="MingLiU"/>
              </a:rPr>
              <a:t>yel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6"/>
          <p:cNvSpPr/>
          <p:nvPr/>
        </p:nvSpPr>
        <p:spPr>
          <a:xfrm>
            <a:off x="3564000" y="1628640"/>
            <a:ext cx="2020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ZDBT"/>
                <a:ea typeface="BZDBT"/>
              </a:rPr>
              <a:t>autum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7"/>
          <p:cNvSpPr/>
          <p:nvPr/>
        </p:nvSpPr>
        <p:spPr>
          <a:xfrm>
            <a:off x="4073040" y="2492280"/>
            <a:ext cx="82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2"/>
          <p:cNvSpPr/>
          <p:nvPr/>
        </p:nvSpPr>
        <p:spPr>
          <a:xfrm>
            <a:off x="147600" y="907920"/>
            <a:ext cx="923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楷体"/>
                <a:ea typeface="楷体"/>
              </a:rPr>
              <a:t>Different cloth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楷体"/>
                <a:ea typeface="楷体"/>
              </a:rPr>
              <a:t>for different seas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冬衣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WordArt 3"/>
          <p:cNvSpPr txBox="1"/>
          <p:nvPr/>
        </p:nvSpPr>
        <p:spPr>
          <a:xfrm>
            <a:off x="395280" y="549360"/>
            <a:ext cx="228600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in winter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360" y="4076640"/>
            <a:ext cx="957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 put on my hat, scarf and winter coa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  </dc:description>
  <dc:language>en-US</dc:language>
  <cp:lastModifiedBy>微软用户</cp:lastModifiedBy>
  <dcterms:modified xsi:type="dcterms:W3CDTF">2016-10-19T00:41:58Z</dcterms:modified>
  <cp:revision>7</cp:revision>
  <dc:subject>  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