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3.jpeg" ContentType="image/jpeg"/>
  <Override PartName="/ppt/media/image16.png" ContentType="image/png"/>
  <Override PartName="/ppt/media/image4.wmf" ContentType="image/x-wmf"/>
  <Override PartName="/ppt/media/image2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82C9-A756-452D-82B7-2BBB8908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F5BC-CFEB-44B2-8A72-5AD9A2DF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1CD2-E4E2-45B3-BF9A-6FB8E5AB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0786-7055-4932-8660-6A9C11D0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24BD-9DC5-4D41-B907-252AE0C2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0DE4-8EB3-478B-8F74-B1921B43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867D-EAB9-4714-BDF8-014A5F36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A93A-BF71-4830-8BEE-1B1CEAA1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934B-B688-4709-BCE6-D19FBE14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8BF1-EA34-4610-AEFB-4412EE2B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C072-2DB1-404D-9994-3BD04505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9451-2B15-4390-AD7D-3D042FC0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1C9D-524B-4135-AABC-0A089044F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image" Target="../media/image20.jpeg"/><Relationship Id="rId10" Type="http://schemas.openxmlformats.org/officeDocument/2006/relationships/image" Target="../media/image20.jpeg"/><Relationship Id="rId11" Type="http://schemas.openxmlformats.org/officeDocument/2006/relationships/image" Target="../media/image20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228600" y="45720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冀教版 六年级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9"/>
          <p:cNvSpPr txBox="1"/>
          <p:nvPr/>
        </p:nvSpPr>
        <p:spPr>
          <a:xfrm>
            <a:off x="1523880" y="251460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微软雅黑"/>
              </a:rPr>
              <a:t>Lesson 18 The Snowman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rcRect l="543" t="0" r="0" b="5588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2040840" y="2362320"/>
            <a:ext cx="252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感情的朗读故事或复述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续写故事：妈妈打开冰箱之后发生的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57200" y="990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422320~1"/>
          <p:cNvPicPr/>
          <p:nvPr/>
        </p:nvPicPr>
        <p:blipFill>
          <a:blip r:embed="rId1"/>
          <a:srcRect l="0" t="0" r="0" b="48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8765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152280" y="2133720"/>
            <a:ext cx="556272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609480"/>
            <a:ext cx="9064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533520" y="1447560"/>
            <a:ext cx="8229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ook off his hat and put it on the snow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ather is cold and snow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nowman can’t talk 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ook his hat off the snowman, because h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2362320" y="457200"/>
            <a:ext cx="3733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Times New Roman"/>
              </a:rPr>
              <a:t>Read and judge.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Picture 7" descr="640x640wdiccjs5"/>
          <p:cNvPicPr/>
          <p:nvPr/>
        </p:nvPicPr>
        <p:blipFill>
          <a:blip r:embed="rId3"/>
          <a:srcRect l="49022" t="23370" r="7637" b="22856"/>
          <a:stretch/>
        </p:blipFill>
        <p:spPr>
          <a:xfrm>
            <a:off x="1371600" y="1600200"/>
            <a:ext cx="503280" cy="45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640x640wdiccjs5"/>
          <p:cNvPicPr/>
          <p:nvPr/>
        </p:nvPicPr>
        <p:blipFill>
          <a:blip r:embed="rId4"/>
          <a:srcRect l="49022" t="23370" r="7637" b="22856"/>
          <a:stretch/>
        </p:blipFill>
        <p:spPr>
          <a:xfrm>
            <a:off x="1371600" y="2971800"/>
            <a:ext cx="503280" cy="45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640x640wdiccjs5"/>
          <p:cNvPicPr/>
          <p:nvPr/>
        </p:nvPicPr>
        <p:blipFill>
          <a:blip r:embed="rId5"/>
          <a:srcRect l="5753" t="23379" r="50912" b="22867"/>
          <a:stretch/>
        </p:blipFill>
        <p:spPr>
          <a:xfrm>
            <a:off x="1371600" y="3962520"/>
            <a:ext cx="504720" cy="453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640x640wdiccjs5"/>
          <p:cNvPicPr/>
          <p:nvPr/>
        </p:nvPicPr>
        <p:blipFill>
          <a:blip r:embed="rId6"/>
          <a:srcRect l="5753" t="23379" r="50912" b="22867"/>
          <a:stretch/>
        </p:blipFill>
        <p:spPr>
          <a:xfrm>
            <a:off x="1371600" y="4876920"/>
            <a:ext cx="50472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143000" y="0"/>
            <a:ext cx="5788080" cy="2362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1066680" y="2359080"/>
            <a:ext cx="58676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0" y="990720"/>
            <a:ext cx="8610480" cy="3470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3"/>
          <a:stretch/>
        </p:blipFill>
        <p:spPr>
          <a:xfrm>
            <a:off x="0" y="990720"/>
            <a:ext cx="876312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2743200" y="3657600"/>
            <a:ext cx="3276720" cy="2433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6095880" y="3657600"/>
            <a:ext cx="2895840" cy="2308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3200400" y="0"/>
            <a:ext cx="2800440" cy="2819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4"/>
          <a:stretch/>
        </p:blipFill>
        <p:spPr>
          <a:xfrm>
            <a:off x="0" y="152280"/>
            <a:ext cx="3276720" cy="2278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5"/>
          <a:stretch/>
        </p:blipFill>
        <p:spPr>
          <a:xfrm>
            <a:off x="152280" y="3657600"/>
            <a:ext cx="2430720" cy="2365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6"/>
          <a:stretch/>
        </p:blipFill>
        <p:spPr>
          <a:xfrm>
            <a:off x="6172200" y="152280"/>
            <a:ext cx="2971800" cy="2225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0421"/>
          <p:cNvPicPr/>
          <p:nvPr/>
        </p:nvPicPr>
        <p:blipFill>
          <a:blip r:embed="rId7"/>
          <a:srcRect l="9334" t="0" r="69347" b="54295"/>
          <a:stretch/>
        </p:blipFill>
        <p:spPr>
          <a:xfrm>
            <a:off x="4191120" y="5943600"/>
            <a:ext cx="45720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0421"/>
          <p:cNvPicPr/>
          <p:nvPr/>
        </p:nvPicPr>
        <p:blipFill>
          <a:blip r:embed="rId8"/>
          <a:srcRect l="34229" t="0" r="33775" b="54295"/>
          <a:stretch/>
        </p:blipFill>
        <p:spPr>
          <a:xfrm>
            <a:off x="7010280" y="594360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0421"/>
          <p:cNvPicPr/>
          <p:nvPr/>
        </p:nvPicPr>
        <p:blipFill>
          <a:blip r:embed="rId9"/>
          <a:srcRect l="62683" t="0" r="5338" b="54295"/>
          <a:stretch/>
        </p:blipFill>
        <p:spPr>
          <a:xfrm>
            <a:off x="4114800" y="274320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0421"/>
          <p:cNvPicPr/>
          <p:nvPr/>
        </p:nvPicPr>
        <p:blipFill>
          <a:blip r:embed="rId10"/>
          <a:srcRect l="2216" t="53341" r="65788" b="4754"/>
          <a:stretch/>
        </p:blipFill>
        <p:spPr>
          <a:xfrm>
            <a:off x="762120" y="2514600"/>
            <a:ext cx="68580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0421"/>
          <p:cNvPicPr/>
          <p:nvPr/>
        </p:nvPicPr>
        <p:blipFill>
          <a:blip r:embed="rId11"/>
          <a:srcRect l="37787" t="53341" r="30233" b="4754"/>
          <a:stretch/>
        </p:blipFill>
        <p:spPr>
          <a:xfrm>
            <a:off x="1143000" y="6019920"/>
            <a:ext cx="685800" cy="83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0421"/>
          <p:cNvPicPr/>
          <p:nvPr/>
        </p:nvPicPr>
        <p:blipFill>
          <a:blip r:embed="rId12"/>
          <a:srcRect l="69783" t="53341" r="5338" b="4754"/>
          <a:stretch/>
        </p:blipFill>
        <p:spPr>
          <a:xfrm>
            <a:off x="7620120" y="2438280"/>
            <a:ext cx="533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1T02:19:46Z</dcterms:created>
  <dc:creator/>
  <dc:description/>
  <cp:keywords/>
  <dc:language>en-US</dc:language>
  <cp:lastModifiedBy>admin</cp:lastModifiedBy>
  <dcterms:modified xsi:type="dcterms:W3CDTF">2015-12-21T08:46:34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  <property fmtid="{D5CDD505-2E9C-101B-9397-08002B2CF9AE}" pid="3" name="Version">
    <vt:r8>1</vt:r8>
  </property>
</Properties>
</file>