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EA1-0EEA-4F79-BC41-32F69A92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715-1ADE-40B3-993A-585C7C5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7F4-8224-4FA6-9E10-9583D0B9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C9E-AE0D-44F6-B5FC-B6D475F8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5BF-85B0-4515-A11B-334DE147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E18-4765-4ED4-AD2C-13BBF483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547-8574-4E4F-AF5A-FD17C72E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A30-D040-4E62-AB23-370D608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CA2-F35D-462B-8D40-0823EAD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494-05D4-4D6D-BEBE-26BF07E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B60-393C-412C-9535-FF33CCE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80A-0DCE-4E65-9FEE-4C36827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B31-5762-411F-BEF7-EEB2CE3F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295,6,&#24187;&#28783;&#29255; 6" TargetMode="External"/><Relationship Id="rId3" Type="http://schemas.openxmlformats.org/officeDocument/2006/relationships/hyperlink" Target="295,6,&#24187;&#28783;&#29255; 6" TargetMode="External"/><Relationship Id="rId4" Type="http://schemas.openxmlformats.org/officeDocument/2006/relationships/hyperlink" Target="295,6,&#24187;&#28783;&#29255; 6" TargetMode="External"/><Relationship Id="rId5" Type="http://schemas.openxmlformats.org/officeDocument/2006/relationships/hyperlink" Target="295,6,&#24187;&#28783;&#29255; 6" TargetMode="External"/><Relationship Id="rId6" Type="http://schemas.openxmlformats.org/officeDocument/2006/relationships/hyperlink" Target="295,6,&#24187;&#28783;&#29255; 6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-76320" y="1844640"/>
            <a:ext cx="920916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377800" y="2463840"/>
            <a:ext cx="52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esson 5  In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68580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c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57200" y="19051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m swimming in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aiting for the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riting letter ‘Q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lking with little 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leaning the tiger’s f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shouting ‘No Problem!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38bOOOPIC7d.jpg"/>
          <p:cNvPicPr/>
          <p:nvPr/>
        </p:nvPicPr>
        <p:blipFill>
          <a:blip r:embed="rId1"/>
          <a:srcRect l="0" t="14447" r="0" b="0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6" descr="u=443069068,3938718090&amp;fm=23&amp;gp=0.jpg"/>
          <p:cNvPicPr/>
          <p:nvPr/>
        </p:nvPicPr>
        <p:blipFill>
          <a:blip r:embed="rId2"/>
          <a:srcRect l="0" t="0" r="0" b="7332"/>
          <a:stretch/>
        </p:blipFill>
        <p:spPr>
          <a:xfrm>
            <a:off x="304920" y="4210200"/>
            <a:ext cx="2666880" cy="26478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u=1901096802,383949369&amp;fm=23&amp;gp=0.jpg"/>
          <p:cNvPicPr/>
          <p:nvPr/>
        </p:nvPicPr>
        <p:blipFill>
          <a:blip r:embed="rId3"/>
          <a:stretch/>
        </p:blipFill>
        <p:spPr>
          <a:xfrm>
            <a:off x="1143000" y="2133720"/>
            <a:ext cx="287820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1" descr="u=3156042071,1408899246&amp;fm=21&amp;gp=0(1).jpg"/>
          <p:cNvPicPr/>
          <p:nvPr/>
        </p:nvPicPr>
        <p:blipFill>
          <a:blip r:embed="rId4"/>
          <a:srcRect l="0" t="6064" r="0" b="0"/>
          <a:stretch/>
        </p:blipFill>
        <p:spPr>
          <a:xfrm>
            <a:off x="5372280" y="4495680"/>
            <a:ext cx="3771720" cy="2362320"/>
          </a:xfrm>
          <a:prstGeom prst="rect">
            <a:avLst/>
          </a:prstGeom>
          <a:ln w="0">
            <a:noFill/>
          </a:ln>
        </p:spPr>
      </p:pic>
      <p:sp>
        <p:nvSpPr>
          <p:cNvPr id="117" name="矩形 12"/>
          <p:cNvSpPr/>
          <p:nvPr/>
        </p:nvSpPr>
        <p:spPr>
          <a:xfrm>
            <a:off x="8153280" y="56386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4" descr="u=2948821091,3470879032&amp;fm=23&amp;gp=0.jpg"/>
          <p:cNvPicPr/>
          <p:nvPr/>
        </p:nvPicPr>
        <p:blipFill>
          <a:blip r:embed="rId5"/>
          <a:stretch/>
        </p:blipFill>
        <p:spPr>
          <a:xfrm>
            <a:off x="2971800" y="2743200"/>
            <a:ext cx="1495440" cy="2857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286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r. and Mrs.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2286000" y="2209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53341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rand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4674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3049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304920" y="48276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and fill in the bl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3200400" y="990720"/>
            <a:ext cx="548640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33526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42670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5105520" y="1066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5943600" y="106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731520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838080" y="8780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heck your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457200" y="1676520"/>
            <a:ext cx="83818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! My name is Mary. This is my friend Lily’s family. We are in the park. Look at ____. We are very happy. Do you see Lily? She is in yellow. Look at _____. She is playing on the computer. Mr. and Mrs. Li are reading a book. Do you see ______? Leo is playing chess with grandpa.  Grandpa is sitting across from ______. Where is _______? I am looking at Lily. We are having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33520" y="5029200"/>
            <a:ext cx="8076960" cy="7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38080" y="5181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90512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20040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4572000" y="5181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6324480" y="5181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C -0.04774 -0.04306 -0.09548 -0.08565 -0.11163 -0.11227 C -0.12777 -0.13889 -0.09427 -0.12894 -0.0967 -0.16019 C -0.0993 -0.19144 -0.11111 -0.26574 -0.12673 -0.3 C -0.14236 -0.33426 -0.18003 -0.33773 -0.1901 -0.3662 C -0.2 -0.39468 -0.1934 -0.4331 -0.18663 -0.47153 E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4815 C 0.10816 -0.08079 0.19983 -0.11343 0.24896 -0.14282 C 0.29809 -0.17222 0.29358 -0.19514 0.31181 -0.22454 C 0.33004 -0.25394 0.3375 -0.28727 0.35851 -0.31921 C 0.37952 -0.35116 0.42483 -0.39954 0.43768 -0.41597 E">
                                      <p:cBhvr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 C -0.07257 -0.05116 -0.16146 -0.10231 -0.19115 -0.13333 C -0.22083 -0.16435 -0.16337 -0.15787 -0.16128 -0.18634 C -0.15937 -0.21505 -0.16962 -0.26019 -0.17951 -0.30486 E">
                                      <p:cBhvr>
                                        <p:cTn id="332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 C 0.13194 -0.0162 0.26441 -0.03218 0.31962 -0.07361 C 0.375 -0.11528 0.35295 -0.18241 0.33108 -0.24931 E">
                                      <p:cBhvr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3889 C 0.0415 -0.07176 0.08889 -0.1044 0.0974 -0.1206 C 0.10591 -0.13681 0.05452 -0.1206 0.04566 -0.13565 C 0.03681 -0.15069 0.04045 -0.18079 0.0441 -0.21088 E">
                                      <p:cBhvr>
                                        <p:cTn id="340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0666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Choose a picture and wr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" descr="6464-11100Q3412360.jpg"/>
          <p:cNvPicPr/>
          <p:nvPr/>
        </p:nvPicPr>
        <p:blipFill>
          <a:blip r:embed="rId1"/>
          <a:stretch/>
        </p:blipFill>
        <p:spPr>
          <a:xfrm>
            <a:off x="533520" y="914400"/>
            <a:ext cx="2781360" cy="18558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1066680" y="914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981080" y="914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429000" y="83808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Look! This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Ti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He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working on the computer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To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sitting beside hi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They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busy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8" descr="u=798162394,794392395&amp;fm=23&amp;gp=0.jpg"/>
          <p:cNvPicPr/>
          <p:nvPr/>
        </p:nvPicPr>
        <p:blipFill>
          <a:blip r:embed="rId2"/>
          <a:stretch/>
        </p:blipFill>
        <p:spPr>
          <a:xfrm>
            <a:off x="7010280" y="4952880"/>
            <a:ext cx="1594080" cy="17020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" descr="u=3774340792,148251589&amp;fm=23&amp;gp=0.jpg"/>
          <p:cNvPicPr/>
          <p:nvPr/>
        </p:nvPicPr>
        <p:blipFill>
          <a:blip r:embed="rId3"/>
          <a:srcRect l="14369" t="0" r="0" b="0"/>
          <a:stretch/>
        </p:blipFill>
        <p:spPr>
          <a:xfrm>
            <a:off x="6553080" y="3276720"/>
            <a:ext cx="2276640" cy="17762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2" descr="u=1862235814,3244226229&amp;fm=23&amp;gp=0.jpg"/>
          <p:cNvPicPr/>
          <p:nvPr/>
        </p:nvPicPr>
        <p:blipFill>
          <a:blip r:embed="rId4"/>
          <a:srcRect l="7998" t="0" r="0" b="20005"/>
          <a:stretch/>
        </p:blipFill>
        <p:spPr>
          <a:xfrm>
            <a:off x="6235560" y="1752480"/>
            <a:ext cx="2908440" cy="16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2000"/>
              </a:srgbClr>
            </a:outerShdw>
          </a:effectLst>
        </p:spPr>
      </p:pic>
      <p:sp>
        <p:nvSpPr>
          <p:cNvPr id="147" name="TextBox 13"/>
          <p:cNvSpPr/>
          <p:nvPr/>
        </p:nvSpPr>
        <p:spPr>
          <a:xfrm>
            <a:off x="2819520" y="297180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ing football … , watching TV, washing the dish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ing a bicyc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3" descr="u=442739326,3214838747&amp;fm=23&amp;gp=0.jpg"/>
          <p:cNvPicPr/>
          <p:nvPr/>
        </p:nvPicPr>
        <p:blipFill>
          <a:blip r:embed="rId5"/>
          <a:srcRect l="0" t="21340" r="0" b="0"/>
          <a:stretch/>
        </p:blipFill>
        <p:spPr>
          <a:xfrm>
            <a:off x="457200" y="4648320"/>
            <a:ext cx="1719360" cy="1904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4" descr="20140614_155331.jpg"/>
          <p:cNvPicPr/>
          <p:nvPr/>
        </p:nvPicPr>
        <p:blipFill>
          <a:blip r:embed="rId6"/>
          <a:stretch/>
        </p:blipFill>
        <p:spPr>
          <a:xfrm>
            <a:off x="228600" y="2819520"/>
            <a:ext cx="23986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68580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c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457200" y="19051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m swimming in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aiting for the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riting letter ‘Q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lking with little 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leaning the tiger’s f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shouting ‘No Problem!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1295280" y="1295280"/>
            <a:ext cx="7162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read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Part 2 on page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describe a picture of your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QQ截图20140624141014.png"/>
          <p:cNvPicPr/>
          <p:nvPr/>
        </p:nvPicPr>
        <p:blipFill>
          <a:blip r:embed="rId1"/>
          <a:stretch/>
        </p:blipFill>
        <p:spPr>
          <a:xfrm>
            <a:off x="1905120" y="1219320"/>
            <a:ext cx="5257800" cy="3703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0b6200c5e84f399a9a32a7360790a1da.jpg"/>
          <p:cNvPicPr/>
          <p:nvPr/>
        </p:nvPicPr>
        <p:blipFill>
          <a:blip r:embed="rId2"/>
          <a:stretch/>
        </p:blipFill>
        <p:spPr>
          <a:xfrm>
            <a:off x="3200400" y="18288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914400" y="533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k about the picture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609480" y="53341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a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g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685800" y="914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and write T or 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esson5第一部分.mp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762120" y="1752480"/>
            <a:ext cx="761976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(  )1. Jenny is sitting in a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(  )2. Mr. and Mrs. Smith are reading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(  )3. Lynn is sitting at a small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(  )4.They are in the bed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(  )5.Lynn and Bob are in front of Mr. and Mrs. Smi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14400" y="38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9144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914400" y="3048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9144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14400" y="1752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205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/>
          <p:cNvSpPr/>
          <p:nvPr/>
        </p:nvSpPr>
        <p:spPr>
          <a:xfrm>
            <a:off x="762120" y="20574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Jenny is  sitting in a   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687960" y="2057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221184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8"/>
          <p:cNvSpPr/>
          <p:nvPr/>
        </p:nvSpPr>
        <p:spPr>
          <a:xfrm rot="8213400">
            <a:off x="3744360" y="2225160"/>
            <a:ext cx="438120" cy="427320"/>
          </a:xfrm>
          <a:custGeom>
            <a:avLst/>
            <a:gdLst/>
            <a:ahLst/>
            <a:rect l="l" t="t" r="r" b="b"/>
            <a:pathLst>
              <a:path stroke="0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  <a:lnTo>
                  <a:pt x="219075" y="213519"/>
                </a:lnTo>
                <a:lnTo>
                  <a:pt x="219075" y="0"/>
                </a:lnTo>
                <a:close/>
              </a:path>
              <a:path fill="none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 rot="2028000">
            <a:off x="4206600" y="2233440"/>
            <a:ext cx="414360" cy="181080"/>
          </a:xfrm>
          <a:custGeom>
            <a:avLst/>
            <a:gdLst>
              <a:gd name="textAreaLeft" fmla="*/ 91440 w 414360"/>
              <a:gd name="textAreaRight" fmla="*/ 27900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58" hR="21600" stAng="10800000" swAng="5400000"/>
                <a:lnTo>
                  <a:pt x="9757" y="0"/>
                </a:lnTo>
                <a:arcTo wR="9558" hR="21600" stAng="-5400000" swAng="3082790"/>
                <a:lnTo>
                  <a:pt x="21054" y="14401"/>
                </a:lnTo>
                <a:lnTo>
                  <a:pt x="19216" y="21600"/>
                </a:lnTo>
                <a:lnTo>
                  <a:pt x="16285" y="14401"/>
                </a:lnTo>
                <a:lnTo>
                  <a:pt x="18570" y="14401"/>
                </a:lnTo>
                <a:arcTo wR="9558" hR="21600" stAng="-2317210" swAng="-3066953"/>
                <a:lnTo>
                  <a:pt x="9658" y="1"/>
                </a:lnTo>
                <a:arcTo wR="9558" hR="21600" stAng="-5415837" swAng="-5384163"/>
                <a:close/>
              </a:path>
              <a:path fill="darkenLess" w="21600" h="21600">
                <a:moveTo>
                  <a:pt x="0" y="21600"/>
                </a:moveTo>
                <a:arcTo wR="9558" hR="21600" stAng="10800000" swAng="5400000"/>
                <a:lnTo>
                  <a:pt x="9558" y="0"/>
                </a:lnTo>
                <a:arcTo wR="9558" hR="21600" stAng="-5400000" swAng="15837"/>
                <a:lnTo>
                  <a:pt x="9658" y="1"/>
                </a:lnTo>
                <a:arcTo wR="9558" hR="21600" stAng="-5415837" swAng="-538416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838080" y="29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 are playing   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8"/>
          <p:cNvSpPr/>
          <p:nvPr/>
        </p:nvSpPr>
        <p:spPr>
          <a:xfrm>
            <a:off x="68796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3"/>
          <p:cNvSpPr/>
          <p:nvPr/>
        </p:nvSpPr>
        <p:spPr>
          <a:xfrm rot="8213400">
            <a:off x="1534680" y="3063600"/>
            <a:ext cx="438120" cy="426960"/>
          </a:xfrm>
          <a:custGeom>
            <a:avLst/>
            <a:gdLst/>
            <a:ahLst/>
            <a:rect l="l" t="t" r="r" b="b"/>
            <a:pathLst>
              <a:path stroke="0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  <a:lnTo>
                  <a:pt x="219075" y="213519"/>
                </a:lnTo>
                <a:lnTo>
                  <a:pt x="219075" y="0"/>
                </a:lnTo>
                <a:close/>
              </a:path>
              <a:path fill="none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1"/>
          <p:cNvSpPr/>
          <p:nvPr/>
        </p:nvSpPr>
        <p:spPr>
          <a:xfrm rot="2028000">
            <a:off x="3673080" y="3147840"/>
            <a:ext cx="414360" cy="181080"/>
          </a:xfrm>
          <a:custGeom>
            <a:avLst/>
            <a:gdLst>
              <a:gd name="textAreaLeft" fmla="*/ 91440 w 414360"/>
              <a:gd name="textAreaRight" fmla="*/ 27900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58" hR="21600" stAng="10800000" swAng="5400000"/>
                <a:lnTo>
                  <a:pt x="9757" y="0"/>
                </a:lnTo>
                <a:arcTo wR="9558" hR="21600" stAng="-5400000" swAng="3082790"/>
                <a:lnTo>
                  <a:pt x="21054" y="14401"/>
                </a:lnTo>
                <a:lnTo>
                  <a:pt x="19216" y="21600"/>
                </a:lnTo>
                <a:lnTo>
                  <a:pt x="16285" y="14401"/>
                </a:lnTo>
                <a:lnTo>
                  <a:pt x="18570" y="14401"/>
                </a:lnTo>
                <a:arcTo wR="9558" hR="21600" stAng="-2317210" swAng="-3066953"/>
                <a:lnTo>
                  <a:pt x="9658" y="1"/>
                </a:lnTo>
                <a:arcTo wR="9558" hR="21600" stAng="-5415837" swAng="-5384163"/>
                <a:close/>
              </a:path>
              <a:path fill="darkenLess" w="21600" h="21600">
                <a:moveTo>
                  <a:pt x="0" y="21600"/>
                </a:moveTo>
                <a:arcTo wR="9558" hR="21600" stAng="10800000" swAng="5400000"/>
                <a:lnTo>
                  <a:pt x="9558" y="0"/>
                </a:lnTo>
                <a:arcTo wR="9558" hR="21600" stAng="-5400000" swAng="15837"/>
                <a:lnTo>
                  <a:pt x="9658" y="1"/>
                </a:lnTo>
                <a:arcTo wR="9558" hR="21600" stAng="-5415837" swAng="-538416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838080" y="4038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ynn and Bob are in     front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228816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弧形 17"/>
          <p:cNvSpPr/>
          <p:nvPr/>
        </p:nvSpPr>
        <p:spPr>
          <a:xfrm rot="8213400">
            <a:off x="5420880" y="4130280"/>
            <a:ext cx="438120" cy="426960"/>
          </a:xfrm>
          <a:custGeom>
            <a:avLst/>
            <a:gdLst/>
            <a:ahLst/>
            <a:rect l="l" t="t" r="r" b="b"/>
            <a:pathLst>
              <a:path stroke="0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  <a:lnTo>
                  <a:pt x="219075" y="213519"/>
                </a:lnTo>
                <a:lnTo>
                  <a:pt x="219075" y="0"/>
                </a:lnTo>
                <a:close/>
              </a:path>
              <a:path fill="none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 rot="2028000">
            <a:off x="4282560" y="4214880"/>
            <a:ext cx="414360" cy="181080"/>
          </a:xfrm>
          <a:custGeom>
            <a:avLst/>
            <a:gdLst>
              <a:gd name="textAreaLeft" fmla="*/ 91440 w 414360"/>
              <a:gd name="textAreaRight" fmla="*/ 27900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58" hR="21600" stAng="10800000" swAng="5400000"/>
                <a:lnTo>
                  <a:pt x="9757" y="0"/>
                </a:lnTo>
                <a:arcTo wR="9558" hR="21600" stAng="-5400000" swAng="3082790"/>
                <a:lnTo>
                  <a:pt x="21054" y="14401"/>
                </a:lnTo>
                <a:lnTo>
                  <a:pt x="19216" y="21600"/>
                </a:lnTo>
                <a:lnTo>
                  <a:pt x="16285" y="14401"/>
                </a:lnTo>
                <a:lnTo>
                  <a:pt x="18570" y="14401"/>
                </a:lnTo>
                <a:arcTo wR="9558" hR="21600" stAng="-2317210" swAng="-3066953"/>
                <a:lnTo>
                  <a:pt x="9658" y="1"/>
                </a:lnTo>
                <a:arcTo wR="9558" hR="21600" stAng="-5415837" swAng="-5384163"/>
                <a:close/>
              </a:path>
              <a:path fill="darkenLess" w="21600" h="21600">
                <a:moveTo>
                  <a:pt x="0" y="21600"/>
                </a:moveTo>
                <a:arcTo wR="9558" hR="21600" stAng="10800000" swAng="5400000"/>
                <a:lnTo>
                  <a:pt x="9558" y="0"/>
                </a:lnTo>
                <a:arcTo wR="9558" hR="21600" stAng="-5400000" swAng="15837"/>
                <a:lnTo>
                  <a:pt x="9658" y="1"/>
                </a:lnTo>
                <a:arcTo wR="9558" hR="21600" stAng="-5415837" swAng="-538416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8"/>
          <p:cNvSpPr/>
          <p:nvPr/>
        </p:nvSpPr>
        <p:spPr>
          <a:xfrm>
            <a:off x="68796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762120" y="5029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’m sitting at a small      tabl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弧形 22"/>
          <p:cNvSpPr/>
          <p:nvPr/>
        </p:nvSpPr>
        <p:spPr>
          <a:xfrm rot="8213400">
            <a:off x="2829960" y="5196960"/>
            <a:ext cx="438120" cy="427320"/>
          </a:xfrm>
          <a:custGeom>
            <a:avLst/>
            <a:gdLst/>
            <a:ahLst/>
            <a:rect l="l" t="t" r="r" b="b"/>
            <a:pathLst>
              <a:path stroke="0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  <a:lnTo>
                  <a:pt x="219075" y="213519"/>
                </a:lnTo>
                <a:lnTo>
                  <a:pt x="219075" y="0"/>
                </a:lnTo>
                <a:close/>
              </a:path>
              <a:path fill="none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8"/>
          <p:cNvSpPr/>
          <p:nvPr/>
        </p:nvSpPr>
        <p:spPr>
          <a:xfrm>
            <a:off x="611640" y="5105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1"/>
          <p:cNvSpPr/>
          <p:nvPr/>
        </p:nvSpPr>
        <p:spPr>
          <a:xfrm rot="2028000">
            <a:off x="4587480" y="5205240"/>
            <a:ext cx="414360" cy="181080"/>
          </a:xfrm>
          <a:custGeom>
            <a:avLst/>
            <a:gdLst>
              <a:gd name="textAreaLeft" fmla="*/ 91440 w 414360"/>
              <a:gd name="textAreaRight" fmla="*/ 27900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58" hR="21600" stAng="10800000" swAng="5400000"/>
                <a:lnTo>
                  <a:pt x="9757" y="0"/>
                </a:lnTo>
                <a:arcTo wR="9558" hR="21600" stAng="-5400000" swAng="3082790"/>
                <a:lnTo>
                  <a:pt x="21054" y="14401"/>
                </a:lnTo>
                <a:lnTo>
                  <a:pt x="19216" y="21600"/>
                </a:lnTo>
                <a:lnTo>
                  <a:pt x="16285" y="14401"/>
                </a:lnTo>
                <a:lnTo>
                  <a:pt x="18570" y="14401"/>
                </a:lnTo>
                <a:arcTo wR="9558" hR="21600" stAng="-2317210" swAng="-3066953"/>
                <a:lnTo>
                  <a:pt x="9658" y="1"/>
                </a:lnTo>
                <a:arcTo wR="9558" hR="21600" stAng="-5415837" swAng="-5384163"/>
                <a:close/>
              </a:path>
              <a:path fill="darkenLess" w="21600" h="21600">
                <a:moveTo>
                  <a:pt x="0" y="21600"/>
                </a:moveTo>
                <a:arcTo wR="9558" hR="21600" stAng="10800000" swAng="5400000"/>
                <a:lnTo>
                  <a:pt x="9558" y="0"/>
                </a:lnTo>
                <a:arcTo wR="9558" hR="21600" stAng="-5400000" swAng="15837"/>
                <a:lnTo>
                  <a:pt x="9658" y="1"/>
                </a:lnTo>
                <a:arcTo wR="9558" hR="21600" stAng="-5415837" swAng="-538416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'm sitting.mp3" descr=""/>
          <p:cNvPicPr/>
          <p:nvPr/>
        </p:nvPicPr>
        <p:blipFill>
          <a:blip r:embed="rId1"/>
          <a:stretch/>
        </p:blipFill>
        <p:spPr>
          <a:xfrm>
            <a:off x="8534520" y="8380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8"/>
          <p:cNvGrpSpPr/>
          <p:nvPr/>
        </p:nvGrpSpPr>
        <p:grpSpPr>
          <a:xfrm>
            <a:off x="2590920" y="533520"/>
            <a:ext cx="4287240" cy="825120"/>
            <a:chOff x="2590920" y="533520"/>
            <a:chExt cx="4287240" cy="825120"/>
          </a:xfrm>
        </p:grpSpPr>
        <p:sp>
          <p:nvSpPr>
            <p:cNvPr id="77" name="Rectangle 30"/>
            <p:cNvSpPr/>
            <p:nvPr/>
          </p:nvSpPr>
          <p:spPr>
            <a:xfrm>
              <a:off x="3581280" y="533520"/>
              <a:ext cx="14220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Ti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590920" y="685080"/>
              <a:ext cx="12416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重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4190400" y="990360"/>
              <a:ext cx="12416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降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4"/>
            <p:cNvSpPr/>
            <p:nvPr/>
          </p:nvSpPr>
          <p:spPr>
            <a:xfrm>
              <a:off x="5638320" y="608760"/>
              <a:ext cx="12398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连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1"/>
            <p:cNvSpPr/>
            <p:nvPr/>
          </p:nvSpPr>
          <p:spPr>
            <a:xfrm rot="2028000">
              <a:off x="3899520" y="1055160"/>
              <a:ext cx="276480" cy="135720"/>
            </a:xfrm>
            <a:custGeom>
              <a:avLst/>
              <a:gdLst>
                <a:gd name="textAreaLeft" fmla="*/ 54720 w 276480"/>
                <a:gd name="textAreaRight" fmla="*/ 168120 w 276480"/>
                <a:gd name="textAreaTop" fmla="*/ 18000 h 135720"/>
                <a:gd name="textAreaBottom" fmla="*/ 117720 h 13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76" hR="21600" stAng="10800000" swAng="5400000"/>
                  <a:lnTo>
                    <a:pt x="8832" y="0"/>
                  </a:lnTo>
                  <a:arcTo wR="8576" hR="21600" stAng="-5400000" swAng="2899202"/>
                  <a:lnTo>
                    <a:pt x="21110" y="14401"/>
                  </a:lnTo>
                  <a:lnTo>
                    <a:pt x="17280" y="21600"/>
                  </a:lnTo>
                  <a:lnTo>
                    <a:pt x="12470" y="14401"/>
                  </a:lnTo>
                  <a:lnTo>
                    <a:pt x="16662" y="14401"/>
                  </a:lnTo>
                  <a:arcTo wR="8576" hR="21600" stAng="-2500798" swAng="-2878828"/>
                  <a:lnTo>
                    <a:pt x="8704" y="2"/>
                  </a:lnTo>
                  <a:arcTo wR="8576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576" hR="21600" stAng="10800000" swAng="5400000"/>
                  <a:lnTo>
                    <a:pt x="8576" y="0"/>
                  </a:lnTo>
                  <a:arcTo wR="8576" hR="21600" stAng="-5400000" swAng="20374"/>
                  <a:lnTo>
                    <a:pt x="8704" y="2"/>
                  </a:lnTo>
                  <a:arcTo wR="8576" hR="21600" stAng="-5420374" swAng="-5379626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8"/>
          <p:cNvSpPr/>
          <p:nvPr/>
        </p:nvSpPr>
        <p:spPr>
          <a:xfrm>
            <a:off x="2211840" y="685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弧形 38"/>
          <p:cNvSpPr/>
          <p:nvPr/>
        </p:nvSpPr>
        <p:spPr>
          <a:xfrm rot="8213400">
            <a:off x="5115960" y="396360"/>
            <a:ext cx="438120" cy="427320"/>
          </a:xfrm>
          <a:custGeom>
            <a:avLst/>
            <a:gdLst/>
            <a:ahLst/>
            <a:rect l="l" t="t" r="r" b="b"/>
            <a:pathLst>
              <a:path stroke="0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  <a:lnTo>
                  <a:pt x="219075" y="213519"/>
                </a:lnTo>
                <a:lnTo>
                  <a:pt x="219075" y="0"/>
                </a:lnTo>
                <a:close/>
              </a:path>
              <a:path fill="none" w="438150" h="427038">
                <a:moveTo>
                  <a:pt x="219075" y="0"/>
                </a:moveTo>
                <a:lnTo>
                  <a:pt x="219074" y="0"/>
                </a:lnTo>
                <a:cubicBezTo>
                  <a:pt x="340066" y="0"/>
                  <a:pt x="438150" y="95595"/>
                  <a:pt x="438150" y="213519"/>
                </a:cubicBezTo>
                <a:cubicBezTo>
                  <a:pt x="438150" y="213519"/>
                  <a:pt x="438149" y="213519"/>
                  <a:pt x="438149" y="213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22"/>
          <p:cNvSpPr/>
          <p:nvPr/>
        </p:nvSpPr>
        <p:spPr>
          <a:xfrm>
            <a:off x="1905120" y="380880"/>
            <a:ext cx="51051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16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685800" y="6494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ad and find the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60948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Q1: Who is sitting beside Jenn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12193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nny is sitting beside   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685800" y="3581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Q2: Who is sitting beside Bob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129528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ynn is sitting besi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4472640" y="45720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4406400" y="45720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4728960" y="25146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4532040" y="251460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Je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" descr="QQ截图20140624141014.png"/>
          <p:cNvPicPr/>
          <p:nvPr/>
        </p:nvPicPr>
        <p:blipFill>
          <a:blip r:embed="rId1"/>
          <a:stretch/>
        </p:blipFill>
        <p:spPr>
          <a:xfrm>
            <a:off x="5657760" y="1341360"/>
            <a:ext cx="2327400" cy="28656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" descr="QQ截图20140624141014.png"/>
          <p:cNvPicPr/>
          <p:nvPr/>
        </p:nvPicPr>
        <p:blipFill>
          <a:blip r:embed="rId2"/>
          <a:stretch/>
        </p:blipFill>
        <p:spPr>
          <a:xfrm>
            <a:off x="5589720" y="3475080"/>
            <a:ext cx="2384280" cy="2944800"/>
          </a:xfrm>
          <a:prstGeom prst="rect">
            <a:avLst/>
          </a:prstGeom>
          <a:ln w="0">
            <a:noFill/>
          </a:ln>
        </p:spPr>
      </p:pic>
      <p:cxnSp>
        <p:nvCxnSpPr>
          <p:cNvPr id="96" name="直接箭头连接符 13"/>
          <p:cNvCxnSpPr/>
          <p:nvPr/>
        </p:nvCxnSpPr>
        <p:spPr>
          <a:xfrm>
            <a:off x="6019920" y="1143000"/>
            <a:ext cx="381600" cy="45792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97" name="直接箭头连接符 15"/>
          <p:cNvCxnSpPr/>
          <p:nvPr/>
        </p:nvCxnSpPr>
        <p:spPr>
          <a:xfrm flipH="1">
            <a:off x="7238520" y="3276720"/>
            <a:ext cx="457920" cy="45792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2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80880" y="1600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 and underline the words like ‘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’ and ‘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590920" y="1219320"/>
          <a:ext cx="3962160" cy="320040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矩形 4"/>
          <p:cNvSpPr/>
          <p:nvPr/>
        </p:nvSpPr>
        <p:spPr>
          <a:xfrm>
            <a:off x="3629160" y="1295280"/>
            <a:ext cx="17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宾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295280" y="1066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raw lots(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抽签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990720" y="2590920"/>
            <a:ext cx="72388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B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Comic Sans MS"/>
              </a:rPr>
              <a:t>drawing a       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914400" y="3886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im /her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e / Sh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s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u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295280" y="1066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raw lots(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抽签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990720" y="2971800"/>
            <a:ext cx="72388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B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Comic Sans MS"/>
              </a:rPr>
              <a:t>drawing a       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14400" y="42670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them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re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8:08:22Z</dcterms:created>
  <dc:creator/>
  <dc:description/>
  <dc:language>en-US</dc:language>
  <cp:lastModifiedBy>Administrator</cp:lastModifiedBy>
  <dcterms:modified xsi:type="dcterms:W3CDTF">2017-12-09T02:15:3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