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2.gif" ContentType="image/gif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BD00-460A-4C16-B914-6C8D185C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BAA0-13F6-4F0D-8C38-5D81F600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54D-B4A4-4EF8-88A0-D85BE005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477-C263-45A7-9627-7F5EEF89A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AA54-2346-4FC6-85A7-D13B8BAF2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2797-E8A9-4DE8-A12F-C2D68F9A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1568-3B03-42DF-9083-B233966F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A2A-D90D-447A-9B90-9AB7431B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AF5D-02E1-455C-8B79-A7EEB9D6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CFA-57EB-4958-9E13-5678C85A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E42-3B8F-41EB-B7C2-06316588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437-F153-48E3-B3A5-44A866A4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D9A1-E73B-4188-A5BE-F9921D4C6F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3.png"/><Relationship Id="rId4" Type="http://schemas.openxmlformats.org/officeDocument/2006/relationships/hyperlink" Target="dirty%20dishes.ppt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"/>
          <p:cNvSpPr/>
          <p:nvPr/>
        </p:nvSpPr>
        <p:spPr>
          <a:xfrm>
            <a:off x="457200" y="380880"/>
            <a:ext cx="34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冀教版 六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449963~1"/>
          <p:cNvPicPr/>
          <p:nvPr/>
        </p:nvPicPr>
        <p:blipFill>
          <a:blip r:embed="rId2"/>
          <a:srcRect l="5697" t="10009" r="51484" b="8607"/>
          <a:stretch/>
        </p:blipFill>
        <p:spPr>
          <a:xfrm>
            <a:off x="380880" y="4343400"/>
            <a:ext cx="1908360" cy="2147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M20120~1"/>
          <p:cNvPicPr/>
          <p:nvPr/>
        </p:nvPicPr>
        <p:blipFill>
          <a:blip r:embed="rId3"/>
          <a:srcRect l="0" t="0" r="0" b="5941"/>
          <a:stretch/>
        </p:blipFill>
        <p:spPr>
          <a:xfrm>
            <a:off x="6629400" y="380880"/>
            <a:ext cx="2089080" cy="15573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990720" y="26668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sson 4  Making Din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5"/>
          <p:cNvSpPr/>
          <p:nvPr/>
        </p:nvSpPr>
        <p:spPr>
          <a:xfrm>
            <a:off x="685800" y="54864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at does Li Ming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228600" y="22860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Listen, read and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5"/>
          <p:cNvSpPr/>
          <p:nvPr/>
        </p:nvSpPr>
        <p:spPr>
          <a:xfrm>
            <a:off x="685800" y="4267080"/>
            <a:ext cx="7696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ho washes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u=409443136,503883496&amp;fm=23&amp;gp=0[1]"/>
          <p:cNvPicPr/>
          <p:nvPr/>
        </p:nvPicPr>
        <p:blipFill>
          <a:blip r:embed="rId2"/>
          <a:srcRect l="0" t="0" r="0" b="6551"/>
          <a:stretch/>
        </p:blipFill>
        <p:spPr>
          <a:xfrm>
            <a:off x="1981080" y="1523880"/>
            <a:ext cx="472464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04920" y="914400"/>
            <a:ext cx="44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rdia New"/>
              </a:rPr>
              <a:t>听录音，读文本，回答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lesson4 - LI.mp3" descr=""/>
          <p:cNvPicPr/>
          <p:nvPr/>
        </p:nvPicPr>
        <p:blipFill>
          <a:blip r:embed="rId3"/>
          <a:stretch/>
        </p:blipFill>
        <p:spPr>
          <a:xfrm>
            <a:off x="6705720" y="914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>
            <a:hlinkClick r:id="rId4"/>
          </p:cNvPr>
          <p:cNvSpPr/>
          <p:nvPr/>
        </p:nvSpPr>
        <p:spPr>
          <a:xfrm>
            <a:off x="4041720" y="4495680"/>
            <a:ext cx="351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dirt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dis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925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228600" y="152280"/>
            <a:ext cx="40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Make a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408560" y="4572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rdia New"/>
              </a:rPr>
              <a:t>做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5238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Wha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ime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d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Wha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’s for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d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2895480"/>
          <a:ext cx="8153280" cy="3429000"/>
        </p:xfrm>
        <a:graphic>
          <a:graphicData uri="http://schemas.openxmlformats.org/drawingml/2006/table">
            <a:tbl>
              <a:tblPr/>
              <a:tblGrid>
                <a:gridCol w="1631880"/>
                <a:gridCol w="1325520"/>
                <a:gridCol w="519588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n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24"/>
          <p:cNvSpPr/>
          <p:nvPr/>
        </p:nvSpPr>
        <p:spPr>
          <a:xfrm>
            <a:off x="685800" y="3657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en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228600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886200" y="350532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t, tomatoes, potatoes and carr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380880" y="4648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hao Qia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2286000" y="4572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3733920" y="4495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ce, tomatoes and potato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457200" y="52578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5"/>
          <p:cNvSpPr/>
          <p:nvPr/>
        </p:nvSpPr>
        <p:spPr>
          <a:xfrm>
            <a:off x="0" y="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tch and write</a:t>
            </a:r>
            <a:r>
              <a:rPr b="0" lang="zh-CN" sz="3600" spc="-1" strike="noStrike">
                <a:solidFill>
                  <a:srgbClr val="009999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229600" cy="2210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8610480" cy="4038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6400800" y="2666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0040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33720" y="3581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09680" y="403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048120" y="48769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di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2895480" y="5334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w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3048120" y="6172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609480" y="37339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609480" y="3276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609480" y="4191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609480" y="4572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609480" y="5029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09480" y="5486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09480" y="5943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09480" y="6400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1"/>
          <p:cNvSpPr/>
          <p:nvPr/>
        </p:nvSpPr>
        <p:spPr>
          <a:xfrm>
            <a:off x="179280" y="189000"/>
            <a:ext cx="713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rite and say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写，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0" y="59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228600" y="11415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Topic: Time for dinner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What do you do for dinner?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  <a:ea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4800600" y="3124080"/>
            <a:ext cx="32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for dinn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429000" y="37339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help my mother make di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276720" y="4267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ash the veget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27672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’s 6: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429000" y="480060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wash the dirty dish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3583440" y="533412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clean the 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990720" y="3124080"/>
            <a:ext cx="2133360" cy="28195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2819520"/>
              <a:gd name="textAreaBottom" fmla="*/ 2715480 h 2819520"/>
            </a:gdLst>
            <a:ahLst/>
            <a:rect l="textAreaLeft" t="textAreaTop" r="textAreaRight" b="textAreaBottom"/>
            <a:pathLst>
              <a:path w="21600" h="28546">
                <a:moveTo>
                  <a:pt x="3600" y="0"/>
                </a:moveTo>
                <a:arcTo wR="3600" hR="3600" stAng="16200000" swAng="-5400000"/>
                <a:lnTo>
                  <a:pt x="0" y="24946"/>
                </a:lnTo>
                <a:arcTo wR="3600" hR="3600" stAng="10800000" swAng="-5400000"/>
                <a:lnTo>
                  <a:pt x="18000" y="285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1905120" y="1600200"/>
            <a:ext cx="6324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0"/>
          <p:cNvSpPr/>
          <p:nvPr/>
        </p:nvSpPr>
        <p:spPr>
          <a:xfrm>
            <a:off x="990720" y="37339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1"/>
          <p:cNvSpPr/>
          <p:nvPr/>
        </p:nvSpPr>
        <p:spPr>
          <a:xfrm>
            <a:off x="990720" y="4343400"/>
            <a:ext cx="65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990720" y="4876920"/>
            <a:ext cx="670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1066680" y="5410080"/>
            <a:ext cx="655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990720" y="60199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380880" y="19051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提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help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dinner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9" descr="577727~1"/>
          <p:cNvPicPr/>
          <p:nvPr/>
        </p:nvPicPr>
        <p:blipFill>
          <a:blip r:embed="rId2"/>
          <a:srcRect l="8418" t="1622" r="9055" b="0"/>
          <a:stretch/>
        </p:blipFill>
        <p:spPr>
          <a:xfrm>
            <a:off x="1143000" y="3200400"/>
            <a:ext cx="182880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3276720" y="1828800"/>
            <a:ext cx="533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501675~1"/>
          <p:cNvPicPr/>
          <p:nvPr/>
        </p:nvPicPr>
        <p:blipFill>
          <a:blip r:embed="rId2"/>
          <a:stretch/>
        </p:blipFill>
        <p:spPr>
          <a:xfrm>
            <a:off x="762120" y="1828800"/>
            <a:ext cx="236196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ack"/>
          <p:cNvPicPr/>
          <p:nvPr/>
        </p:nvPicPr>
        <p:blipFill>
          <a:blip r:embed="rId2"/>
          <a:stretch/>
        </p:blipFill>
        <p:spPr>
          <a:xfrm>
            <a:off x="609480" y="1295280"/>
            <a:ext cx="7543800" cy="43592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5"/>
          <p:cNvSpPr/>
          <p:nvPr/>
        </p:nvSpPr>
        <p:spPr>
          <a:xfrm>
            <a:off x="762120" y="1752480"/>
            <a:ext cx="670536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Listen and read Lesson 4.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读第四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Finish your writing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成写作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076440" y="61102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0492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mework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家庭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3505320" y="2133720"/>
            <a:ext cx="403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ank you! Goodby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4a"/>
          <p:cNvPicPr/>
          <p:nvPr/>
        </p:nvPicPr>
        <p:blipFill>
          <a:blip r:embed="rId2"/>
          <a:srcRect l="20736" t="0" r="0" b="0"/>
          <a:stretch/>
        </p:blipFill>
        <p:spPr>
          <a:xfrm>
            <a:off x="1219320" y="2362320"/>
            <a:ext cx="21621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Warming up 30秒快速出图 食物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REDOCN~4"/>
          <p:cNvPicPr/>
          <p:nvPr/>
        </p:nvPicPr>
        <p:blipFill>
          <a:blip r:embed="rId2"/>
          <a:srcRect l="0" t="5782" r="0" b="4098"/>
          <a:stretch/>
        </p:blipFill>
        <p:spPr>
          <a:xfrm>
            <a:off x="457200" y="457200"/>
            <a:ext cx="7924680" cy="4724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35816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ree Tal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533520" y="152388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id you have for breakf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Oval 3"/>
          <p:cNvSpPr/>
          <p:nvPr/>
        </p:nvSpPr>
        <p:spPr>
          <a:xfrm>
            <a:off x="7924680" y="2590920"/>
            <a:ext cx="685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IC_27~1"/>
          <p:cNvPicPr/>
          <p:nvPr/>
        </p:nvPicPr>
        <p:blipFill>
          <a:blip r:embed="rId2"/>
          <a:stretch/>
        </p:blipFill>
        <p:spPr>
          <a:xfrm>
            <a:off x="5486400" y="152388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Oval 5"/>
          <p:cNvSpPr/>
          <p:nvPr/>
        </p:nvSpPr>
        <p:spPr>
          <a:xfrm>
            <a:off x="4114800" y="274320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095880" y="1905120"/>
            <a:ext cx="7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457200" y="1447920"/>
            <a:ext cx="6705360" cy="4724280"/>
            <a:chOff x="457200" y="1447920"/>
            <a:chExt cx="6705360" cy="4724280"/>
          </a:xfrm>
        </p:grpSpPr>
        <p:grpSp>
          <p:nvGrpSpPr>
            <p:cNvPr id="54" name="Group 8"/>
            <p:cNvGrpSpPr/>
            <p:nvPr/>
          </p:nvGrpSpPr>
          <p:grpSpPr>
            <a:xfrm>
              <a:off x="457200" y="1447920"/>
              <a:ext cx="6705360" cy="4724280"/>
              <a:chOff x="457200" y="1447920"/>
              <a:chExt cx="6705360" cy="4724280"/>
            </a:xfrm>
          </p:grpSpPr>
          <p:pic>
            <p:nvPicPr>
              <p:cNvPr id="55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1447920"/>
                <a:ext cx="3061080" cy="472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Picture 10" descr=""/>
              <p:cNvPicPr/>
              <p:nvPr/>
            </p:nvPicPr>
            <p:blipFill>
              <a:blip r:embed="rId4"/>
              <a:srcRect l="0" t="39976" r="85773" b="0"/>
              <a:stretch/>
            </p:blipFill>
            <p:spPr>
              <a:xfrm>
                <a:off x="3493440" y="3403800"/>
                <a:ext cx="587880" cy="257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Picture 11" descr=""/>
              <p:cNvPicPr/>
              <p:nvPr/>
            </p:nvPicPr>
            <p:blipFill>
              <a:blip r:embed="rId5"/>
              <a:srcRect l="0" t="68940" r="11121" b="0"/>
              <a:stretch/>
            </p:blipFill>
            <p:spPr>
              <a:xfrm>
                <a:off x="3492360" y="4644720"/>
                <a:ext cx="3670200" cy="1330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" name="Oval 12"/>
            <p:cNvSpPr/>
            <p:nvPr/>
          </p:nvSpPr>
          <p:spPr>
            <a:xfrm>
              <a:off x="4257720" y="4811760"/>
              <a:ext cx="2235600" cy="1073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3" descr="10197997_083303790000_2[1]"/>
            <p:cNvPicPr/>
            <p:nvPr/>
          </p:nvPicPr>
          <p:blipFill>
            <a:blip r:embed="rId6"/>
            <a:srcRect l="5736" t="9038" r="5315" b="11263"/>
            <a:stretch/>
          </p:blipFill>
          <p:spPr>
            <a:xfrm flipH="1" rot="21420000">
              <a:off x="4556880" y="4950720"/>
              <a:ext cx="1636200" cy="78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Text Box 14"/>
          <p:cNvSpPr/>
          <p:nvPr/>
        </p:nvSpPr>
        <p:spPr>
          <a:xfrm>
            <a:off x="228600" y="53352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id Jenny have for breakf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04920" y="303480"/>
            <a:ext cx="7467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ordia New"/>
              </a:rPr>
              <a:t>Read an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ordia New"/>
              </a:rPr>
              <a:t>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457960" y="533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rdia New"/>
              </a:rPr>
              <a:t>读课文回答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57200" y="1905120"/>
            <a:ext cx="7951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did Jenny eat for lun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6"/>
          <p:cNvGrpSpPr/>
          <p:nvPr/>
        </p:nvGrpSpPr>
        <p:grpSpPr>
          <a:xfrm>
            <a:off x="2450880" y="2604960"/>
            <a:ext cx="4700160" cy="3922920"/>
            <a:chOff x="2450880" y="2604960"/>
            <a:chExt cx="4700160" cy="3922920"/>
          </a:xfrm>
        </p:grpSpPr>
        <p:pic>
          <p:nvPicPr>
            <p:cNvPr id="65" name="Picture 7" descr="765829~1"/>
            <p:cNvPicPr/>
            <p:nvPr/>
          </p:nvPicPr>
          <p:blipFill>
            <a:blip r:embed="rId2">
              <a:lum bright="18000"/>
            </a:blip>
            <a:srcRect l="0" t="22224" r="0" b="16667"/>
            <a:stretch/>
          </p:blipFill>
          <p:spPr>
            <a:xfrm rot="21420000">
              <a:off x="2514600" y="3689280"/>
              <a:ext cx="28195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8" descr=""/>
            <p:cNvPicPr/>
            <p:nvPr/>
          </p:nvPicPr>
          <p:blipFill>
            <a:blip r:embed="rId3"/>
            <a:srcRect l="24355" t="0" r="0" b="56070"/>
            <a:stretch/>
          </p:blipFill>
          <p:spPr>
            <a:xfrm flipH="1" rot="1453800">
              <a:off x="4425480" y="2895480"/>
              <a:ext cx="2133720" cy="3341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304920" y="303480"/>
            <a:ext cx="86104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Cordia New"/>
              </a:rPr>
              <a:t>Read and answ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534280" y="533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rdia New"/>
              </a:rPr>
              <a:t>读课文回答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066680" y="1828800"/>
            <a:ext cx="655344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What time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 Who’s cook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What’s for din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79280" y="595008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50920" y="6093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2"/>
          <p:cNvPicPr/>
          <p:nvPr/>
        </p:nvPicPr>
        <p:blipFill>
          <a:blip r:embed="rId2"/>
          <a:srcRect l="5912" t="5915" r="6679" b="0"/>
          <a:stretch/>
        </p:blipFill>
        <p:spPr>
          <a:xfrm>
            <a:off x="609480" y="4343400"/>
            <a:ext cx="2232000" cy="18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533520" y="2209680"/>
            <a:ext cx="2303280" cy="15843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219320" y="9907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ordia New"/>
              </a:rPr>
              <a:t>Where are the veget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895480" y="236232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tomato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are in the frid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2971800" y="4343400"/>
            <a:ext cx="56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potato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carrot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are on the tab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1523880" y="4648320"/>
            <a:ext cx="1295640" cy="38088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1219320" y="4876920"/>
            <a:ext cx="761760" cy="45720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1600200" y="2971800"/>
            <a:ext cx="762120" cy="457200"/>
          </a:xfrm>
          <a:prstGeom prst="ellipse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lesson4 - 铃声t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lesson4 - 铃声c.mp3" descr=""/>
          <p:cNvPicPr/>
          <p:nvPr/>
        </p:nvPicPr>
        <p:blipFill>
          <a:blip r:embed="rId5"/>
          <a:stretch/>
        </p:blipFill>
        <p:spPr>
          <a:xfrm>
            <a:off x="67057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7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397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3"/>
          <p:cNvSpPr/>
          <p:nvPr/>
        </p:nvSpPr>
        <p:spPr>
          <a:xfrm>
            <a:off x="1219320" y="3200400"/>
            <a:ext cx="266688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572000" y="3200400"/>
            <a:ext cx="2514600" cy="1828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4800600" y="3429000"/>
            <a:ext cx="2519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adio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hoto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342600" y="190404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尾的名词，有生命的一般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无生命的一般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304920"/>
            <a:ext cx="8610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Cordia New"/>
              </a:rPr>
              <a:t>Find the rul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Cordia New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Cordia New"/>
              </a:rPr>
              <a:t>发现名词复数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219320" y="3429000"/>
            <a:ext cx="2819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ato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ato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6858000" y="44197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lesson4 - GOOD.mp3" descr=""/>
          <p:cNvPicPr/>
          <p:nvPr/>
        </p:nvPicPr>
        <p:blipFill>
          <a:blip r:embed="rId2"/>
          <a:stretch/>
        </p:blipFill>
        <p:spPr>
          <a:xfrm>
            <a:off x="449568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7925040" cy="4900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4"/>
          <a:stretch/>
        </p:blipFill>
        <p:spPr>
          <a:xfrm>
            <a:off x="304920" y="1295280"/>
            <a:ext cx="32004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964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6T03:41:01Z</dcterms:created>
  <dc:creator/>
  <dc:description/>
  <dc:language>en-US</dc:language>
  <cp:lastModifiedBy>840243721@qq.com</cp:lastModifiedBy>
  <dcterms:modified xsi:type="dcterms:W3CDTF">2015-07-06T09:18:08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