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B64-9633-4980-A4E5-4122CD71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997-D0A9-4BED-91F4-E5E589EE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0E4-ACCC-4CC5-B05C-0CB49253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16F-83A9-4563-990D-2DE592B9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3FD-6644-41C9-BD83-06C63753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000-E197-460C-92D5-659C0896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41E-E531-4A79-B0D7-0654EAD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9A0-607F-44A4-A27C-D13AE5BA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F1B-06AE-4606-B7E0-B56EA74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FFA-2109-45E1-BB49-6A306F4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C46-95E9-402B-A1F6-05B98FC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BFF-CA0B-4425-AB4A-F52E27F3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A4E68-994E-4224-BA6D-E04CC143B0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221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7628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 Winter in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118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54360" y="4324320"/>
            <a:ext cx="556560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7"/>
          <p:cNvSpPr/>
          <p:nvPr/>
        </p:nvSpPr>
        <p:spPr>
          <a:xfrm>
            <a:off x="2997000" y="1357200"/>
            <a:ext cx="31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gain /ə'gen/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再；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8"/>
          <p:cNvSpPr/>
          <p:nvPr/>
        </p:nvSpPr>
        <p:spPr>
          <a:xfrm>
            <a:off x="973080" y="147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9"/>
          <p:cNvSpPr/>
          <p:nvPr/>
        </p:nvSpPr>
        <p:spPr>
          <a:xfrm>
            <a:off x="1297080" y="1467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295360" y="2163600"/>
            <a:ext cx="599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play in the stree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要再在街道上玩耍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9" descr="book.gif"/>
          <p:cNvPicPr/>
          <p:nvPr/>
        </p:nvPicPr>
        <p:blipFill>
          <a:blip r:embed="rId2"/>
          <a:stretch/>
        </p:blipFill>
        <p:spPr>
          <a:xfrm>
            <a:off x="231840" y="13492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29" name="矩形 2"/>
          <p:cNvSpPr/>
          <p:nvPr/>
        </p:nvSpPr>
        <p:spPr>
          <a:xfrm>
            <a:off x="1515600" y="2417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1585800" y="3892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2976480" y="3760920"/>
            <a:ext cx="622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+ ga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获得；赢得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gain and aga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复地；再三地    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ce aga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再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2"/>
          <a:stretch/>
        </p:blipFill>
        <p:spPr>
          <a:xfrm>
            <a:off x="1254240" y="1166760"/>
            <a:ext cx="7162560" cy="48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Administrator\Desktop\QQ截图20170730160437.jpg"/>
          <p:cNvPicPr/>
          <p:nvPr/>
        </p:nvPicPr>
        <p:blipFill>
          <a:blip r:embed="rId2"/>
          <a:stretch/>
        </p:blipFill>
        <p:spPr>
          <a:xfrm>
            <a:off x="1479600" y="1504800"/>
            <a:ext cx="661968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2828880" y="36226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y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205680" y="3414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t bread and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2968560" y="449748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 doing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6232680" y="449748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 going to fly a k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57360" y="1119240"/>
            <a:ext cx="8153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Here are your clothes. Please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ut it 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put them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wea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5219640" y="1979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44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4"/>
          <p:cNvSpPr/>
          <p:nvPr/>
        </p:nvSpPr>
        <p:spPr>
          <a:xfrm>
            <a:off x="939960" y="3727440"/>
            <a:ext cx="7300800" cy="22885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711440" y="3700440"/>
            <a:ext cx="79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put on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穿上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强调穿的动作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ear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穿着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强调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状态。根据句意可知要让对方穿上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她的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服，所以要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put o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故排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又因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复数名词，要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m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代替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654120" y="1547640"/>
            <a:ext cx="82850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My mum and I________ going to the z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am                       C.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t’ s ________today. Let’ s make a snow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unn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nowy                    C.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It’ s very hot in the room. You can________ your coat, J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ut 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take off                   C. 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038320" y="307512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371760" y="176364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8"/>
          <p:cNvSpPr/>
          <p:nvPr/>
        </p:nvSpPr>
        <p:spPr>
          <a:xfrm>
            <a:off x="3527280" y="5211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54" name="矩形 23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1"/>
          <p:cNvSpPr/>
          <p:nvPr/>
        </p:nvSpPr>
        <p:spPr>
          <a:xfrm>
            <a:off x="5889960" y="4408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716040" y="2044800"/>
            <a:ext cx="825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根据汉语提示及句意填单词，补全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 t cr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再；又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 . It’s not usefu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有用 的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019400" y="3333600"/>
            <a:ext cx="17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61" name="矩形 25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1009800" y="1271520"/>
            <a:ext cx="7130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1033560" y="2884320"/>
            <a:ext cx="763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gain, snowy, gl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on, take of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 and Li Ming are going out to play with Da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0" y="0"/>
            <a:ext cx="925344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6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71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849240" y="1397160"/>
            <a:ext cx="3175200" cy="408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78160" y="2036880"/>
            <a:ext cx="4121280" cy="25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8" descr=""/>
          <p:cNvPicPr/>
          <p:nvPr/>
        </p:nvPicPr>
        <p:blipFill>
          <a:blip r:embed="rId1"/>
          <a:stretch/>
        </p:blipFill>
        <p:spPr>
          <a:xfrm>
            <a:off x="1636560" y="181080"/>
            <a:ext cx="748980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2"/>
          <a:stretch/>
        </p:blipFill>
        <p:spPr>
          <a:xfrm>
            <a:off x="905040" y="1123920"/>
            <a:ext cx="733392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7"/>
          <p:cNvSpPr/>
          <p:nvPr/>
        </p:nvSpPr>
        <p:spPr>
          <a:xfrm>
            <a:off x="2452680" y="1390680"/>
            <a:ext cx="564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Jenny and Li Ming are going out to play with Danny.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詹妮和李明打算去外面和丹尼一起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8"/>
          <p:cNvSpPr/>
          <p:nvPr/>
        </p:nvSpPr>
        <p:spPr>
          <a:xfrm>
            <a:off x="631800" y="1465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9"/>
          <p:cNvSpPr/>
          <p:nvPr/>
        </p:nvSpPr>
        <p:spPr>
          <a:xfrm>
            <a:off x="1117440" y="1467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952560" y="2540160"/>
            <a:ext cx="733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一般将来时的肯定句，其句型结构为“主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be (am/is/are) +going to do sth. 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来表达某人将要做某事。其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e going to...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用来表示打算、准备做的事或即将发生的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am going to go to bed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将要上床睡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9" descr="book.gif"/>
          <p:cNvPicPr/>
          <p:nvPr/>
        </p:nvPicPr>
        <p:blipFill>
          <a:blip r:embed="rId2"/>
          <a:stretch/>
        </p:blipFill>
        <p:spPr>
          <a:xfrm>
            <a:off x="58680" y="1357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952640" y="5418000"/>
            <a:ext cx="6067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be going to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后面接动词原形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要根据主语的变化而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"/>
          <p:cNvGrpSpPr/>
          <p:nvPr/>
        </p:nvGrpSpPr>
        <p:grpSpPr>
          <a:xfrm>
            <a:off x="446040" y="4718160"/>
            <a:ext cx="1649520" cy="1382760"/>
            <a:chOff x="446040" y="4718160"/>
            <a:chExt cx="1649520" cy="1382760"/>
          </a:xfrm>
        </p:grpSpPr>
        <p:pic>
          <p:nvPicPr>
            <p:cNvPr id="76" name="图片 3" descr="泡泡1.png"/>
            <p:cNvPicPr/>
            <p:nvPr/>
          </p:nvPicPr>
          <p:blipFill>
            <a:blip r:embed="rId3"/>
            <a:stretch/>
          </p:blipFill>
          <p:spPr>
            <a:xfrm>
              <a:off x="446040" y="4718160"/>
              <a:ext cx="16495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文本框 2"/>
            <p:cNvSpPr/>
            <p:nvPr/>
          </p:nvSpPr>
          <p:spPr>
            <a:xfrm>
              <a:off x="902520" y="497160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9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6"/>
          <p:cNvGrpSpPr/>
          <p:nvPr/>
        </p:nvGrpSpPr>
        <p:grpSpPr>
          <a:xfrm>
            <a:off x="690480" y="1812960"/>
            <a:ext cx="1244520" cy="459720"/>
            <a:chOff x="690480" y="1812960"/>
            <a:chExt cx="1244520" cy="459720"/>
          </a:xfrm>
        </p:grpSpPr>
        <p:sp>
          <p:nvSpPr>
            <p:cNvPr id="82" name="TextBox 3"/>
            <p:cNvSpPr/>
            <p:nvPr/>
          </p:nvSpPr>
          <p:spPr>
            <a:xfrm>
              <a:off x="943200" y="18129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90480" y="185148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矩形 2"/>
          <p:cNvSpPr/>
          <p:nvPr/>
        </p:nvSpPr>
        <p:spPr>
          <a:xfrm>
            <a:off x="1758960" y="1765440"/>
            <a:ext cx="7145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you going to _________ a b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we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reads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read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4906800" y="1836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6" descr=""/>
          <p:cNvPicPr/>
          <p:nvPr/>
        </p:nvPicPr>
        <p:blipFill>
          <a:blip r:embed="rId3"/>
          <a:stretch/>
        </p:blipFill>
        <p:spPr>
          <a:xfrm>
            <a:off x="1587600" y="4465800"/>
            <a:ext cx="7248600" cy="1116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250800" y="4457880"/>
            <a:ext cx="48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e going to do sth.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将要做某事”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不定式符号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跟动词原形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7"/>
          <p:cNvSpPr/>
          <p:nvPr/>
        </p:nvSpPr>
        <p:spPr>
          <a:xfrm>
            <a:off x="3314880" y="1360440"/>
            <a:ext cx="28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ut o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穿上；戴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8"/>
          <p:cNvSpPr/>
          <p:nvPr/>
        </p:nvSpPr>
        <p:spPr>
          <a:xfrm>
            <a:off x="973080" y="147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9"/>
          <p:cNvSpPr/>
          <p:nvPr/>
        </p:nvSpPr>
        <p:spPr>
          <a:xfrm>
            <a:off x="1297080" y="1467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1946160" y="207972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 put on your swe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穿上你的毛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of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脱下（衣服）；摘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9" descr="book.gif"/>
          <p:cNvPicPr/>
          <p:nvPr/>
        </p:nvPicPr>
        <p:blipFill>
          <a:blip r:embed="rId2"/>
          <a:stretch/>
        </p:blipFill>
        <p:spPr>
          <a:xfrm>
            <a:off x="231840" y="13492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96" name="矩形 2"/>
          <p:cNvSpPr/>
          <p:nvPr/>
        </p:nvSpPr>
        <p:spPr>
          <a:xfrm>
            <a:off x="1110600" y="2184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847080" y="325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88960" y="379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1114920" y="4375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839680" y="4276800"/>
            <a:ext cx="5410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“动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副词”构成的短语，如果名词作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语，名词既可以放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间，也可以放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后面；但是如果代词作宾语，代词就必须放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29" descr="花盆.png"/>
          <p:cNvPicPr/>
          <p:nvPr/>
        </p:nvPicPr>
        <p:blipFill>
          <a:blip r:embed="rId2"/>
          <a:stretch/>
        </p:blipFill>
        <p:spPr>
          <a:xfrm>
            <a:off x="966960" y="3182760"/>
            <a:ext cx="323640" cy="368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674440" y="1376280"/>
            <a:ext cx="48380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 put on your shi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= Please put your shirt on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请穿上你的衬衫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T-shirt is for you. Please put it 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给你的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T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恤衫。请穿上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351080" y="3182760"/>
            <a:ext cx="264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ut on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与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98600" y="3684600"/>
          <a:ext cx="7051680" cy="2697120"/>
        </p:xfrm>
        <a:graphic>
          <a:graphicData uri="http://schemas.openxmlformats.org/drawingml/2006/table">
            <a:tbl>
              <a:tblPr/>
              <a:tblGrid>
                <a:gridCol w="974880"/>
                <a:gridCol w="1071360"/>
                <a:gridCol w="1308240"/>
                <a:gridCol w="3697200"/>
              </a:tblGrid>
              <a:tr h="160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ut 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穿 上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;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戴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侧重穿戴的动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 s cold today. Please put on your coat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今天很冷。请穿上你的大衣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穿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;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侧重穿戴的状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m wearing a coat toda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今天我穿着一件大衣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矩形 1"/>
          <p:cNvSpPr/>
          <p:nvPr/>
        </p:nvSpPr>
        <p:spPr>
          <a:xfrm>
            <a:off x="1443240" y="140976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文本框 8" descr=""/>
          <p:cNvPicPr/>
          <p:nvPr/>
        </p:nvPicPr>
        <p:blipFill>
          <a:blip r:embed="rId1"/>
          <a:stretch/>
        </p:blipFill>
        <p:spPr>
          <a:xfrm>
            <a:off x="2530440" y="138240"/>
            <a:ext cx="5191200" cy="71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838080" y="1168560"/>
            <a:ext cx="7234200" cy="43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7"/>
          <p:cNvSpPr/>
          <p:nvPr/>
        </p:nvSpPr>
        <p:spPr>
          <a:xfrm>
            <a:off x="3363120" y="178128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ake off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脱下（衣服）；摘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8"/>
          <p:cNvSpPr/>
          <p:nvPr/>
        </p:nvSpPr>
        <p:spPr>
          <a:xfrm>
            <a:off x="973080" y="19000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9"/>
          <p:cNvSpPr/>
          <p:nvPr/>
        </p:nvSpPr>
        <p:spPr>
          <a:xfrm>
            <a:off x="1297080" y="18907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2338560" y="2727360"/>
            <a:ext cx="599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hot today. Please take off your sweate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今天很热。请脱掉你的毛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穿上；戴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9" descr="book.gif"/>
          <p:cNvPicPr/>
          <p:nvPr/>
        </p:nvPicPr>
        <p:blipFill>
          <a:blip r:embed="rId2"/>
          <a:stretch/>
        </p:blipFill>
        <p:spPr>
          <a:xfrm>
            <a:off x="231840" y="177336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矩形 2"/>
          <p:cNvSpPr/>
          <p:nvPr/>
        </p:nvSpPr>
        <p:spPr>
          <a:xfrm>
            <a:off x="1578960" y="296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1523160" y="4444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1:58:01Z</dcterms:modified>
  <cp:revision>60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