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294-C98F-4DDA-B372-AFF8B094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773-4739-4D23-9104-47D1CB1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185-EF5C-4AF3-A6FB-0D9503FD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B88-B9E2-4E85-86B5-563545BA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0FBE-7F5F-441C-9861-A463699C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6392-B519-4582-96BB-1A9F4D77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030F-7700-4F86-AA79-5BBAB0AB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DF10-1137-4AA5-ACA6-19BE8E83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1C91-95C5-4702-8876-4553B04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4702-F1B5-4BD0-8542-88B28BEC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EB0C-39DE-4CD3-AD68-5D89B7C0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2BF-6A0F-4185-9E8C-00984A0F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1C85-83B7-4316-847A-B65F98EB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5C3F-FBCC-4027-AAB3-ADDE245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6E0D-82DB-4B7F-8049-31723B45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5B54-078E-43FC-8273-5C8B681A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0DCD-FF2F-42C6-B3FA-B19FD438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A7F-FE52-4DFB-9A5C-A3A5FC8A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49B-4F67-4386-94BE-CE2C1D12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79D-2EE9-4540-B4FF-0429D03F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359-C41F-48B8-8319-6129BDDE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177-EAAF-440D-8BED-197D325E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C75-D35B-408A-B4D8-EEBF5F7D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8C8-EA0D-4441-9309-710C065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B5320-9AD8-4ABF-801A-152821AD71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91B13-038C-4136-A87F-1D344DA32E3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85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8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-46080" y="145728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1960" y="355500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92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94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文本框 22" descr=""/>
          <p:cNvPicPr/>
          <p:nvPr/>
        </p:nvPicPr>
        <p:blipFill>
          <a:blip r:embed="rId9"/>
          <a:stretch/>
        </p:blipFill>
        <p:spPr>
          <a:xfrm>
            <a:off x="2840040" y="4265640"/>
            <a:ext cx="608184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文本框 8" descr=""/>
          <p:cNvPicPr/>
          <p:nvPr/>
        </p:nvPicPr>
        <p:blipFill>
          <a:blip r:embed="rId1"/>
          <a:stretch/>
        </p:blipFill>
        <p:spPr>
          <a:xfrm>
            <a:off x="2987640" y="228600"/>
            <a:ext cx="3664080" cy="7812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1197000" y="1684440"/>
            <a:ext cx="810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Part 1. Then tick or 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People open gifts on Christmas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Jenny thinks her mum and dad brought the gi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Lynn thinks the gifts are from S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Li Ming gets a camera for Christ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Li Ming’ s gift is for Mr. and Mrs. Sm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Santa wrote the names on the gi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1189080" y="2338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8"/>
          <p:cNvSpPr/>
          <p:nvPr/>
        </p:nvSpPr>
        <p:spPr>
          <a:xfrm>
            <a:off x="120888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9"/>
          <p:cNvSpPr/>
          <p:nvPr/>
        </p:nvSpPr>
        <p:spPr>
          <a:xfrm>
            <a:off x="1208880" y="3456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0"/>
          <p:cNvSpPr/>
          <p:nvPr/>
        </p:nvSpPr>
        <p:spPr>
          <a:xfrm>
            <a:off x="1235880" y="400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1"/>
          <p:cNvSpPr/>
          <p:nvPr/>
        </p:nvSpPr>
        <p:spPr>
          <a:xfrm>
            <a:off x="1242000" y="4546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1272960" y="509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"/>
          <p:cNvSpPr/>
          <p:nvPr/>
        </p:nvSpPr>
        <p:spPr>
          <a:xfrm>
            <a:off x="1252440" y="245592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8"/>
          <p:cNvSpPr/>
          <p:nvPr/>
        </p:nvSpPr>
        <p:spPr>
          <a:xfrm>
            <a:off x="1268280" y="301788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9"/>
          <p:cNvSpPr/>
          <p:nvPr/>
        </p:nvSpPr>
        <p:spPr>
          <a:xfrm>
            <a:off x="1268280" y="357660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0"/>
          <p:cNvSpPr/>
          <p:nvPr/>
        </p:nvSpPr>
        <p:spPr>
          <a:xfrm>
            <a:off x="1290600" y="4114800"/>
            <a:ext cx="24912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1"/>
          <p:cNvSpPr/>
          <p:nvPr/>
        </p:nvSpPr>
        <p:spPr>
          <a:xfrm>
            <a:off x="1308240" y="4668840"/>
            <a:ext cx="25056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2"/>
          <p:cNvSpPr/>
          <p:nvPr/>
        </p:nvSpPr>
        <p:spPr>
          <a:xfrm>
            <a:off x="1306440" y="5213520"/>
            <a:ext cx="249480" cy="2491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文本框 8" descr=""/>
          <p:cNvPicPr/>
          <p:nvPr/>
        </p:nvPicPr>
        <p:blipFill>
          <a:blip r:embed="rId1"/>
          <a:stretch/>
        </p:blipFill>
        <p:spPr>
          <a:xfrm>
            <a:off x="1978200" y="131760"/>
            <a:ext cx="5806800" cy="78264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"/>
          <p:cNvSpPr/>
          <p:nvPr/>
        </p:nvSpPr>
        <p:spPr>
          <a:xfrm>
            <a:off x="1374840" y="915840"/>
            <a:ext cx="6681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at  time is i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'half 'past  s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ere are you 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am from  China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How did I 'do,  Dann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'learn 'fast,  Li  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en is the 'Spring  Festiv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in  January or  Febr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Who is  sing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'woman is  sin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2"/>
          <a:stretch/>
        </p:blipFill>
        <p:spPr>
          <a:xfrm>
            <a:off x="2165400" y="103968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"/>
          <p:cNvPicPr/>
          <p:nvPr/>
        </p:nvPicPr>
        <p:blipFill>
          <a:blip r:embed="rId3"/>
          <a:stretch/>
        </p:blipFill>
        <p:spPr>
          <a:xfrm>
            <a:off x="3087720" y="137304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"/>
          <p:cNvPicPr/>
          <p:nvPr/>
        </p:nvPicPr>
        <p:blipFill>
          <a:blip r:embed="rId4"/>
          <a:stretch/>
        </p:blipFill>
        <p:spPr>
          <a:xfrm>
            <a:off x="3151080" y="16016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5"/>
          <a:stretch/>
        </p:blipFill>
        <p:spPr>
          <a:xfrm>
            <a:off x="3338640" y="21542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"/>
          <p:cNvPicPr/>
          <p:nvPr/>
        </p:nvPicPr>
        <p:blipFill>
          <a:blip r:embed="rId6"/>
          <a:stretch/>
        </p:blipFill>
        <p:spPr>
          <a:xfrm>
            <a:off x="1432080" y="305748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7"/>
          <a:stretch/>
        </p:blipFill>
        <p:spPr>
          <a:xfrm>
            <a:off x="2662200" y="270360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"/>
          <p:cNvPicPr/>
          <p:nvPr/>
        </p:nvPicPr>
        <p:blipFill>
          <a:blip r:embed="rId8"/>
          <a:stretch/>
        </p:blipFill>
        <p:spPr>
          <a:xfrm>
            <a:off x="2444760" y="362268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9"/>
          <a:stretch/>
        </p:blipFill>
        <p:spPr>
          <a:xfrm>
            <a:off x="3300480" y="322416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10"/>
          <a:stretch/>
        </p:blipFill>
        <p:spPr>
          <a:xfrm>
            <a:off x="3409920" y="380520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11"/>
          <a:stretch/>
        </p:blipFill>
        <p:spPr>
          <a:xfrm>
            <a:off x="2063880" y="472932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"/>
          <p:cNvPicPr/>
          <p:nvPr/>
        </p:nvPicPr>
        <p:blipFill>
          <a:blip r:embed="rId12"/>
          <a:stretch/>
        </p:blipFill>
        <p:spPr>
          <a:xfrm>
            <a:off x="4002120" y="43070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"/>
          <p:cNvPicPr/>
          <p:nvPr/>
        </p:nvPicPr>
        <p:blipFill>
          <a:blip r:embed="rId13"/>
          <a:stretch/>
        </p:blipFill>
        <p:spPr>
          <a:xfrm>
            <a:off x="1503360" y="5207040"/>
            <a:ext cx="380880" cy="12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"/>
          <p:cNvPicPr/>
          <p:nvPr/>
        </p:nvPicPr>
        <p:blipFill>
          <a:blip r:embed="rId14"/>
          <a:stretch/>
        </p:blipFill>
        <p:spPr>
          <a:xfrm>
            <a:off x="2232000" y="5045040"/>
            <a:ext cx="33336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"/>
          <p:cNvPicPr/>
          <p:nvPr/>
        </p:nvPicPr>
        <p:blipFill>
          <a:blip r:embed="rId15"/>
          <a:stretch/>
        </p:blipFill>
        <p:spPr>
          <a:xfrm>
            <a:off x="3774960" y="49118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16"/>
          <a:stretch/>
        </p:blipFill>
        <p:spPr>
          <a:xfrm>
            <a:off x="2341440" y="545292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17"/>
          <a:stretch/>
        </p:blipFill>
        <p:spPr>
          <a:xfrm>
            <a:off x="3241800" y="5997600"/>
            <a:ext cx="35244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6" descr=""/>
          <p:cNvPicPr/>
          <p:nvPr/>
        </p:nvPicPr>
        <p:blipFill>
          <a:blip r:embed="rId1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1"/>
          <p:cNvSpPr/>
          <p:nvPr/>
        </p:nvSpPr>
        <p:spPr>
          <a:xfrm>
            <a:off x="1136520" y="1370160"/>
            <a:ext cx="7809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选单词或短语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   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open/turn on)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indow, Li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   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( open/turn on)th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ght,  To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16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Box 6"/>
          <p:cNvSpPr/>
          <p:nvPr/>
        </p:nvSpPr>
        <p:spPr>
          <a:xfrm>
            <a:off x="3042720" y="218772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869200" y="3701880"/>
            <a:ext cx="11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urn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327320" y="5248440"/>
            <a:ext cx="7153200" cy="1008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7"/>
          <p:cNvSpPr/>
          <p:nvPr/>
        </p:nvSpPr>
        <p:spPr>
          <a:xfrm>
            <a:off x="2151000" y="513072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ope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指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用手或某工具打开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；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turn on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指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打开某种电器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如电灯或者电视机等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1" descr=""/>
          <p:cNvPicPr/>
          <p:nvPr/>
        </p:nvPicPr>
        <p:blipFill>
          <a:blip r:embed="rId2"/>
          <a:stretch/>
        </p:blipFill>
        <p:spPr>
          <a:xfrm>
            <a:off x="6540480" y="2033640"/>
            <a:ext cx="1662120" cy="1369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"/>
          <p:cNvPicPr/>
          <p:nvPr/>
        </p:nvPicPr>
        <p:blipFill>
          <a:blip r:embed="rId3"/>
          <a:stretch/>
        </p:blipFill>
        <p:spPr>
          <a:xfrm>
            <a:off x="6613560" y="3747960"/>
            <a:ext cx="1589040" cy="12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25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20"/>
          <p:cNvSpPr/>
          <p:nvPr/>
        </p:nvSpPr>
        <p:spPr>
          <a:xfrm>
            <a:off x="914400" y="136368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情景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的好朋友丽丽问你明天会不会下雨，你想说不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你应该这样回答（     ）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No, it isn’t.                 B. No, it didn’t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 No, I don’t think 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922320" y="4299120"/>
            <a:ext cx="78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ynn is h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a         B. few        C.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"/>
          <p:cNvSpPr/>
          <p:nvPr/>
        </p:nvSpPr>
        <p:spPr>
          <a:xfrm>
            <a:off x="2865600" y="4964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3"/>
          <p:cNvSpPr/>
          <p:nvPr/>
        </p:nvSpPr>
        <p:spPr>
          <a:xfrm>
            <a:off x="3409920" y="2573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8" descr=""/>
          <p:cNvPicPr/>
          <p:nvPr/>
        </p:nvPicPr>
        <p:blipFill>
          <a:blip r:embed="rId1"/>
          <a:stretch/>
        </p:blipFill>
        <p:spPr>
          <a:xfrm>
            <a:off x="6464160" y="4476600"/>
            <a:ext cx="1143000" cy="17812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6" descr=""/>
          <p:cNvPicPr/>
          <p:nvPr/>
        </p:nvPicPr>
        <p:blipFill>
          <a:blip r:embed="rId2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34" name="矩形 23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17"/>
          <p:cNvSpPr/>
          <p:nvPr/>
        </p:nvSpPr>
        <p:spPr>
          <a:xfrm>
            <a:off x="1019160" y="1490760"/>
            <a:ext cx="67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根据图片，选出合适的单词填空，补全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is 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few/ little)juice in the g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044720" y="4427640"/>
            <a:ext cx="7358040" cy="173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1"/>
          <p:cNvSpPr/>
          <p:nvPr/>
        </p:nvSpPr>
        <p:spPr>
          <a:xfrm>
            <a:off x="1870200" y="4419720"/>
            <a:ext cx="631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littl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few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都表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一点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little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修饰不可数名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,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a few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修饰可数名词，由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juic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可数名词可知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2678760" y="204624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8" descr=""/>
          <p:cNvPicPr/>
          <p:nvPr/>
        </p:nvPicPr>
        <p:blipFill>
          <a:blip r:embed="rId1"/>
          <a:stretch/>
        </p:blipFill>
        <p:spPr>
          <a:xfrm>
            <a:off x="4033800" y="2673360"/>
            <a:ext cx="1076400" cy="162864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6" descr=""/>
          <p:cNvPicPr/>
          <p:nvPr/>
        </p:nvPicPr>
        <p:blipFill>
          <a:blip r:embed="rId2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3284640" y="2811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633240" y="1486080"/>
            <a:ext cx="801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728640" y="2946240"/>
            <a:ext cx="753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 litt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ake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d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think 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4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50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048040" y="4700520"/>
            <a:ext cx="567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presents do you w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235080"/>
            <a:ext cx="27244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:\Documents and Settings\Administrator\桌面\五英JJ课件刘永霞勿删\图片\20131214114140126.png"/>
          <p:cNvPicPr/>
          <p:nvPr/>
        </p:nvPicPr>
        <p:blipFill>
          <a:blip r:embed="rId2"/>
          <a:stretch/>
        </p:blipFill>
        <p:spPr>
          <a:xfrm>
            <a:off x="846000" y="1647720"/>
            <a:ext cx="3063960" cy="267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3"/>
          <a:stretch/>
        </p:blipFill>
        <p:spPr>
          <a:xfrm>
            <a:off x="4619520" y="1438200"/>
            <a:ext cx="34768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文本框 25" descr=""/>
          <p:cNvPicPr/>
          <p:nvPr/>
        </p:nvPicPr>
        <p:blipFill>
          <a:blip r:embed="rId1"/>
          <a:stretch/>
        </p:blipFill>
        <p:spPr>
          <a:xfrm>
            <a:off x="2193840" y="230040"/>
            <a:ext cx="5027760" cy="71604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512640" y="1206360"/>
            <a:ext cx="8485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Christmas morning! This morning we op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ur gif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yn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id Santa bring gif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ome on, Lynn! Let’s go and se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yn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e did! He did bring gif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o brought these gifts, Jenny?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 asks.  “D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 bring them?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 t think so. I think Mum and Dad brought them, but Lynn is littl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inks Santa brought them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Jenny says to Li M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ynn sees a  gift. It has her name on it! She opens it. “Look! Santa brought 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oys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he s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654960" y="1650960"/>
            <a:ext cx="2016000" cy="144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6729480" y="1784520"/>
            <a:ext cx="1861920" cy="118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4"/>
          <p:cNvSpPr/>
          <p:nvPr/>
        </p:nvSpPr>
        <p:spPr>
          <a:xfrm>
            <a:off x="698400" y="1257480"/>
            <a:ext cx="8028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, Li Ming! You have a gift, too. It’ s from Santa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ynn gives Li Ming the gift.  “Open it, Li Ming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a camera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ys Li M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anted a camera! Now I can take  pictures and send them to my mother and father!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Li Ming gives his gift to Mr. and Mrs. Smi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for everyone. It’s from 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. and Mrs. Smith 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h! Thank you, Li Ming! Is it from Ch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 Ming 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! It’s a Chinese lantern. I asked my mother to sen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’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’s wonderfu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文本框 25" descr=""/>
          <p:cNvPicPr/>
          <p:nvPr/>
        </p:nvPicPr>
        <p:blipFill>
          <a:blip r:embed="rId1"/>
          <a:stretch/>
        </p:blipFill>
        <p:spPr>
          <a:xfrm>
            <a:off x="2193840" y="230040"/>
            <a:ext cx="5027760" cy="7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6" descr=""/>
          <p:cNvPicPr/>
          <p:nvPr/>
        </p:nvPicPr>
        <p:blipFill>
          <a:blip r:embed="rId1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17"/>
          <p:cNvSpPr/>
          <p:nvPr/>
        </p:nvSpPr>
        <p:spPr>
          <a:xfrm>
            <a:off x="3626640" y="1646280"/>
            <a:ext cx="28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en / əʊpə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打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18"/>
          <p:cNvSpPr/>
          <p:nvPr/>
        </p:nvSpPr>
        <p:spPr>
          <a:xfrm>
            <a:off x="1598760" y="170028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9"/>
          <p:cNvSpPr/>
          <p:nvPr/>
        </p:nvSpPr>
        <p:spPr>
          <a:xfrm>
            <a:off x="2052720" y="173988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2560680" y="2376360"/>
            <a:ext cx="63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 open the door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打开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9" descr="book.gif"/>
          <p:cNvPicPr/>
          <p:nvPr/>
        </p:nvPicPr>
        <p:blipFill>
          <a:blip r:embed="rId2"/>
          <a:stretch/>
        </p:blipFill>
        <p:spPr>
          <a:xfrm>
            <a:off x="826920" y="16225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18" name="矩形 1"/>
          <p:cNvSpPr/>
          <p:nvPr/>
        </p:nvSpPr>
        <p:spPr>
          <a:xfrm>
            <a:off x="1895040" y="248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709720" y="3774960"/>
            <a:ext cx="42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the book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书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the box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箱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6"/>
          <p:cNvSpPr/>
          <p:nvPr/>
        </p:nvSpPr>
        <p:spPr>
          <a:xfrm>
            <a:off x="2087280" y="321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3460680" y="3075120"/>
            <a:ext cx="35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 +  pen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钢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  =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2014200" y="3917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"/>
          <p:cNvSpPr/>
          <p:nvPr/>
        </p:nvSpPr>
        <p:spPr>
          <a:xfrm>
            <a:off x="2088360" y="4983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词形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3669840" y="4881600"/>
            <a:ext cx="415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形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过去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2074320" y="559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4"/>
          <p:cNvSpPr/>
          <p:nvPr/>
        </p:nvSpPr>
        <p:spPr>
          <a:xfrm>
            <a:off x="3125160" y="5499000"/>
            <a:ext cx="197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关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6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6" descr=""/>
          <p:cNvPicPr/>
          <p:nvPr/>
        </p:nvPicPr>
        <p:blipFill>
          <a:blip r:embed="rId1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矩形 1"/>
          <p:cNvSpPr/>
          <p:nvPr/>
        </p:nvSpPr>
        <p:spPr>
          <a:xfrm>
            <a:off x="1081080" y="13539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1876320" y="3470400"/>
            <a:ext cx="68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urn 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区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“用手或某工具打开”，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urn 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指“打开某种电器”，如电灯或者电视机等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171440" y="361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2285280" y="2917800"/>
            <a:ext cx="21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en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打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"/>
          <p:cNvSpPr/>
          <p:nvPr/>
        </p:nvSpPr>
        <p:spPr>
          <a:xfrm>
            <a:off x="4953240" y="2938320"/>
            <a:ext cx="216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lose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关闭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723960" y="3641760"/>
            <a:ext cx="323640" cy="371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0" descr=""/>
          <p:cNvPicPr/>
          <p:nvPr/>
        </p:nvPicPr>
        <p:blipFill>
          <a:blip r:embed="rId3"/>
          <a:stretch/>
        </p:blipFill>
        <p:spPr>
          <a:xfrm>
            <a:off x="2593800" y="1816200"/>
            <a:ext cx="3967200" cy="1234800"/>
          </a:xfrm>
          <a:prstGeom prst="rect">
            <a:avLst/>
          </a:prstGeom>
          <a:ln w="0">
            <a:noFill/>
          </a:ln>
        </p:spPr>
      </p:pic>
      <p:sp>
        <p:nvSpPr>
          <p:cNvPr id="137" name="矩形 20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8"/>
          <p:cNvSpPr/>
          <p:nvPr/>
        </p:nvSpPr>
        <p:spPr>
          <a:xfrm>
            <a:off x="1627200" y="5099040"/>
            <a:ext cx="70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hot in the classroom.  Please _____the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op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 clo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860400" y="523224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典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29" descr="花盆.png"/>
          <p:cNvPicPr/>
          <p:nvPr/>
        </p:nvPicPr>
        <p:blipFill>
          <a:blip r:embed="rId4"/>
          <a:stretch/>
        </p:blipFill>
        <p:spPr>
          <a:xfrm>
            <a:off x="608040" y="52340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6"/>
          <p:cNvSpPr/>
          <p:nvPr/>
        </p:nvSpPr>
        <p:spPr>
          <a:xfrm>
            <a:off x="6145200" y="5278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6" descr=""/>
          <p:cNvPicPr/>
          <p:nvPr/>
        </p:nvPicPr>
        <p:blipFill>
          <a:blip r:embed="rId1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4" name="矩形 41"/>
          <p:cNvSpPr/>
          <p:nvPr/>
        </p:nvSpPr>
        <p:spPr>
          <a:xfrm>
            <a:off x="3648960" y="1617840"/>
            <a:ext cx="2174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I don’t think so.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我不这样认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42"/>
          <p:cNvSpPr/>
          <p:nvPr/>
        </p:nvSpPr>
        <p:spPr>
          <a:xfrm>
            <a:off x="1627200" y="2444760"/>
            <a:ext cx="709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这句话实际上相当于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think Santa brought these gifts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在英语中通常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think so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赞同对方的观点，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 think so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不赞同对方的观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"/>
          <p:cNvSpPr/>
          <p:nvPr/>
        </p:nvSpPr>
        <p:spPr>
          <a:xfrm>
            <a:off x="925560" y="4048200"/>
            <a:ext cx="63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4"/>
          <p:cNvSpPr/>
          <p:nvPr/>
        </p:nvSpPr>
        <p:spPr>
          <a:xfrm>
            <a:off x="1547640" y="4041720"/>
            <a:ext cx="695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o you think it’s going to snow tomorr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明天会下雪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 think so.  / No, I don’t think 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，我认为明天会下雪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/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不，我认为明天不会下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7"/>
          <p:cNvSpPr/>
          <p:nvPr/>
        </p:nvSpPr>
        <p:spPr>
          <a:xfrm>
            <a:off x="901800" y="2436840"/>
            <a:ext cx="63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835200" y="1638360"/>
            <a:ext cx="1871640" cy="549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285840" y="1490760"/>
            <a:ext cx="1085760" cy="66492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19"/>
          <p:cNvSpPr/>
          <p:nvPr/>
        </p:nvSpPr>
        <p:spPr>
          <a:xfrm>
            <a:off x="1378080" y="1596960"/>
            <a:ext cx="1365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3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7"/>
          <p:cNvSpPr/>
          <p:nvPr/>
        </p:nvSpPr>
        <p:spPr>
          <a:xfrm>
            <a:off x="2625840" y="1635120"/>
            <a:ext cx="52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ttle / lɪtl/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j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幼小的；少许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18"/>
          <p:cNvSpPr/>
          <p:nvPr/>
        </p:nvSpPr>
        <p:spPr>
          <a:xfrm>
            <a:off x="847800" y="17128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9"/>
          <p:cNvSpPr/>
          <p:nvPr/>
        </p:nvSpPr>
        <p:spPr>
          <a:xfrm>
            <a:off x="1182600" y="173052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1679400" y="2625840"/>
            <a:ext cx="56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have a little siste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有一个小妹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9" descr="book.gif"/>
          <p:cNvPicPr/>
          <p:nvPr/>
        </p:nvPicPr>
        <p:blipFill>
          <a:blip r:embed="rId1"/>
          <a:stretch/>
        </p:blipFill>
        <p:spPr>
          <a:xfrm>
            <a:off x="58680" y="1600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2975040" y="3397320"/>
            <a:ext cx="44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垃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774720" y="34894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943920" y="2733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261800" y="4145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2011320" y="4019400"/>
            <a:ext cx="67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幼小的”时，常带有感情色彩，含有“喜欢、爱怜”的意味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少许的”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litt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少量的，一点儿”，与不可数名词连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"/>
          <p:cNvPicPr/>
          <p:nvPr/>
        </p:nvPicPr>
        <p:blipFill>
          <a:blip r:embed="rId2"/>
          <a:stretch/>
        </p:blipFill>
        <p:spPr>
          <a:xfrm>
            <a:off x="784080" y="4176720"/>
            <a:ext cx="324000" cy="371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6" descr=""/>
          <p:cNvPicPr/>
          <p:nvPr/>
        </p:nvPicPr>
        <p:blipFill>
          <a:blip r:embed="rId3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302480" y="1541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图示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6"/>
          <p:cNvSpPr/>
          <p:nvPr/>
        </p:nvSpPr>
        <p:spPr>
          <a:xfrm>
            <a:off x="2157480" y="3110040"/>
            <a:ext cx="252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ttle mi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几乎没有牛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7"/>
          <p:cNvSpPr/>
          <p:nvPr/>
        </p:nvSpPr>
        <p:spPr>
          <a:xfrm>
            <a:off x="5351040" y="3133800"/>
            <a:ext cx="19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little milk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点儿牛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1014480" y="4491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典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29" descr="花盆.png"/>
          <p:cNvPicPr/>
          <p:nvPr/>
        </p:nvPicPr>
        <p:blipFill>
          <a:blip r:embed="rId1"/>
          <a:stretch/>
        </p:blipFill>
        <p:spPr>
          <a:xfrm>
            <a:off x="749160" y="44816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30"/>
          <p:cNvSpPr/>
          <p:nvPr/>
        </p:nvSpPr>
        <p:spPr>
          <a:xfrm>
            <a:off x="1895400" y="4352760"/>
            <a:ext cx="64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ry is 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  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rl. She looks very lo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fe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on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1"/>
          <p:cNvSpPr/>
          <p:nvPr/>
        </p:nvSpPr>
        <p:spPr>
          <a:xfrm>
            <a:off x="3501000" y="4483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911160" y="5632560"/>
            <a:ext cx="7128000" cy="459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3"/>
          <p:cNvSpPr/>
          <p:nvPr/>
        </p:nvSpPr>
        <p:spPr>
          <a:xfrm>
            <a:off x="1711440" y="5549760"/>
            <a:ext cx="63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句意是：玛丽是一个小女孩。她看起来很可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3" descr=""/>
          <p:cNvPicPr/>
          <p:nvPr/>
        </p:nvPicPr>
        <p:blipFill>
          <a:blip r:embed="rId2"/>
          <a:stretch/>
        </p:blipFill>
        <p:spPr>
          <a:xfrm>
            <a:off x="3079800" y="1967040"/>
            <a:ext cx="3355920" cy="13302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6" descr=""/>
          <p:cNvPicPr/>
          <p:nvPr/>
        </p:nvPicPr>
        <p:blipFill>
          <a:blip r:embed="rId3"/>
          <a:stretch/>
        </p:blipFill>
        <p:spPr>
          <a:xfrm>
            <a:off x="3284640" y="22536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4:02:00Z</dcterms:modified>
  <cp:revision>69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