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DB9-5394-465C-8E1A-9596D3FD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E8A7-560A-4FDD-9638-C2532996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28AC-B907-4D17-BFB4-007678E7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3A7-62A1-4258-BDD2-9018BAA0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60B-AB4C-461D-BAB0-B84A0AD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851-2B38-4A64-9552-2B5982DB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E64-07D2-41C0-B2FC-0598EC91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F26F-E252-44F0-9B62-D10EDDB3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686-1EBC-4191-822F-44AC511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4B6-3FC5-47A0-A082-98C2FAD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818-4486-4000-950C-8BBE3DE9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6799-2A4A-4EFE-89DD-213BAE8C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100-DBB4-4778-9044-7F3473D5F0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322596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歌手大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728800" y="1600200"/>
            <a:ext cx="60984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101520" y="1676520"/>
            <a:ext cx="935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的意义和加减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957400" y="1962000"/>
            <a:ext cx="38124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4" descr="6.png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2697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"/>
          <p:cNvPicPr/>
          <p:nvPr/>
        </p:nvPicPr>
        <p:blipFill>
          <a:blip r:embed="rId2"/>
          <a:stretch/>
        </p:blipFill>
        <p:spPr>
          <a:xfrm>
            <a:off x="387360" y="3311640"/>
            <a:ext cx="3267000" cy="42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"/>
          <p:cNvPicPr/>
          <p:nvPr/>
        </p:nvPicPr>
        <p:blipFill>
          <a:blip r:embed="rId3"/>
          <a:stretch/>
        </p:blipFill>
        <p:spPr>
          <a:xfrm>
            <a:off x="387360" y="3311640"/>
            <a:ext cx="3314520" cy="39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27"/>
          <p:cNvSpPr/>
          <p:nvPr/>
        </p:nvSpPr>
        <p:spPr>
          <a:xfrm>
            <a:off x="611280" y="3830760"/>
            <a:ext cx="18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950760" y="4379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9"/>
          <p:cNvSpPr/>
          <p:nvPr/>
        </p:nvSpPr>
        <p:spPr>
          <a:xfrm>
            <a:off x="387360" y="479268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31"/>
          <p:cNvSpPr/>
          <p:nvPr/>
        </p:nvSpPr>
        <p:spPr>
          <a:xfrm>
            <a:off x="324000" y="5254560"/>
            <a:ext cx="1849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2"/>
          <p:cNvSpPr/>
          <p:nvPr/>
        </p:nvSpPr>
        <p:spPr>
          <a:xfrm>
            <a:off x="950760" y="484200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958680" y="527688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4"/>
          <p:cNvSpPr/>
          <p:nvPr/>
        </p:nvSpPr>
        <p:spPr>
          <a:xfrm>
            <a:off x="2205000" y="38210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4437000" y="3841920"/>
            <a:ext cx="18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6"/>
          <p:cNvSpPr/>
          <p:nvPr/>
        </p:nvSpPr>
        <p:spPr>
          <a:xfrm>
            <a:off x="4775040" y="438948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7"/>
          <p:cNvSpPr/>
          <p:nvPr/>
        </p:nvSpPr>
        <p:spPr>
          <a:xfrm>
            <a:off x="4213080" y="4802040"/>
            <a:ext cx="6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38"/>
          <p:cNvSpPr/>
          <p:nvPr/>
        </p:nvSpPr>
        <p:spPr>
          <a:xfrm>
            <a:off x="4148280" y="5264280"/>
            <a:ext cx="1849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9"/>
          <p:cNvSpPr/>
          <p:nvPr/>
        </p:nvSpPr>
        <p:spPr>
          <a:xfrm>
            <a:off x="4775040" y="48513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4782960" y="52862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1"/>
          <p:cNvSpPr/>
          <p:nvPr/>
        </p:nvSpPr>
        <p:spPr>
          <a:xfrm>
            <a:off x="6029280" y="383076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42"/>
          <p:cNvSpPr/>
          <p:nvPr/>
        </p:nvSpPr>
        <p:spPr>
          <a:xfrm>
            <a:off x="5316480" y="4405320"/>
            <a:ext cx="34920" cy="3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24" descr="6.png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2697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"/>
          <p:cNvPicPr/>
          <p:nvPr/>
        </p:nvPicPr>
        <p:blipFill>
          <a:blip r:embed="rId2"/>
          <a:stretch/>
        </p:blipFill>
        <p:spPr>
          <a:xfrm>
            <a:off x="547560" y="3311640"/>
            <a:ext cx="3314880" cy="399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5"/>
          <p:cNvSpPr/>
          <p:nvPr/>
        </p:nvSpPr>
        <p:spPr>
          <a:xfrm>
            <a:off x="1254240" y="4071960"/>
            <a:ext cx="37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41"/>
          <p:cNvSpPr/>
          <p:nvPr/>
        </p:nvSpPr>
        <p:spPr>
          <a:xfrm>
            <a:off x="950760" y="469584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0"/>
          <p:cNvSpPr/>
          <p:nvPr/>
        </p:nvSpPr>
        <p:spPr>
          <a:xfrm>
            <a:off x="955800" y="5272200"/>
            <a:ext cx="26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51" descr="7.png"/>
          <p:cNvPicPr/>
          <p:nvPr/>
        </p:nvPicPr>
        <p:blipFill>
          <a:blip r:embed="rId3"/>
          <a:stretch/>
        </p:blipFill>
        <p:spPr>
          <a:xfrm>
            <a:off x="6006960" y="3711600"/>
            <a:ext cx="2213280" cy="2549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2"/>
          <p:cNvSpPr/>
          <p:nvPr/>
        </p:nvSpPr>
        <p:spPr>
          <a:xfrm>
            <a:off x="1219320" y="5884920"/>
            <a:ext cx="26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高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4" descr="6.png"/>
          <p:cNvPicPr/>
          <p:nvPr/>
        </p:nvPicPr>
        <p:blipFill>
          <a:blip r:embed="rId1"/>
          <a:stretch/>
        </p:blipFill>
        <p:spPr>
          <a:xfrm>
            <a:off x="324000" y="549360"/>
            <a:ext cx="8424720" cy="2697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41"/>
          <p:cNvSpPr/>
          <p:nvPr/>
        </p:nvSpPr>
        <p:spPr>
          <a:xfrm>
            <a:off x="1190520" y="423396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6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0"/>
          <p:cNvSpPr/>
          <p:nvPr/>
        </p:nvSpPr>
        <p:spPr>
          <a:xfrm>
            <a:off x="1190520" y="480996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8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492120" y="3360600"/>
            <a:ext cx="6305400" cy="428760"/>
          </a:xfrm>
          <a:prstGeom prst="rect">
            <a:avLst/>
          </a:prstGeom>
          <a:ln w="0">
            <a:noFill/>
          </a:ln>
        </p:spPr>
      </p:pic>
      <p:sp>
        <p:nvSpPr>
          <p:cNvPr id="78" name="TextBox 22"/>
          <p:cNvSpPr/>
          <p:nvPr/>
        </p:nvSpPr>
        <p:spPr>
          <a:xfrm>
            <a:off x="1187280" y="53434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9"/>
          <p:cNvSpPr/>
          <p:nvPr/>
        </p:nvSpPr>
        <p:spPr>
          <a:xfrm>
            <a:off x="496800" y="1517760"/>
            <a:ext cx="83962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根绳子长分别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2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爸爸把两根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子接在一起，接头处用去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估一估，接好后的绳子够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长吗？与同伴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接好的绳子实际有多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496800" y="1517760"/>
            <a:ext cx="864720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7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08   7.4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(2.9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04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96800" y="151776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496800" y="2449440"/>
            <a:ext cx="3859200" cy="269244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356000" y="2336760"/>
            <a:ext cx="4464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这些小动物能同时过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又来了一只小鹿，它的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量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7.8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克。如果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些小动物分两批过河，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以怎样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9"/>
          <p:cNvSpPr/>
          <p:nvPr/>
        </p:nvSpPr>
        <p:spPr>
          <a:xfrm>
            <a:off x="496800" y="1517760"/>
            <a:ext cx="906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84360" y="4786200"/>
            <a:ext cx="78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年前淘气有多高？现在有多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请你再提出一个数学问题，并尝试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99880" y="2395440"/>
            <a:ext cx="854424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60440" y="1641600"/>
            <a:ext cx="395280" cy="5634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17.png"/>
          <p:cNvPicPr/>
          <p:nvPr/>
        </p:nvPicPr>
        <p:blipFill>
          <a:blip r:embed="rId2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496800" y="1517760"/>
            <a:ext cx="50832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彩色笔在右图中画出三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线，使各条线上所有数的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别满足下列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855720" y="3789360"/>
            <a:ext cx="24922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正好等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接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⑶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最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5219640" y="2637000"/>
            <a:ext cx="3384720" cy="3422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2:0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