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jpeg" ContentType="image/jpeg"/>
  <Override PartName="/ppt/media/image15.gif" ContentType="image/gif"/>
  <Override PartName="/ppt/media/image6.gif" ContentType="image/gif"/>
  <Override PartName="/ppt/media/image5.jpeg" ContentType="image/jpeg"/>
  <Override PartName="/ppt/media/chimes.wav" ContentType="audio/x-wav"/>
  <Override PartName="/ppt/media/TYPE.WAV" ContentType="audio/x-wav"/>
  <Override PartName="/ppt/media/image8.gif" ContentType="image/gif"/>
  <Override PartName="/ppt/media/cashreg.wav" ContentType="audio/x-wav"/>
  <Override PartName="/ppt/media/image14.jpeg" ContentType="image/jpeg"/>
  <Override PartName="/ppt/media/image13.jpeg" ContentType="image/jpeg"/>
  <Override PartName="/ppt/media/image12.png" ContentType="image/png"/>
  <Override PartName="/ppt/media/image3.gif" ContentType="image/gif"/>
  <Override PartName="/ppt/media/zr1278.wav" ContentType="audio/x-wav"/>
  <Override PartName="/ppt/media/image11.gif" ContentType="image/gif"/>
  <Override PartName="/ppt/media/image10.jpeg" ContentType="image/jpeg"/>
  <Override PartName="/ppt/media/applause.wav" ContentType="audio/x-wav"/>
  <Override PartName="/ppt/media/%E7%AC%9B%E5%AD%90.wav" ContentType="audio/x-wav"/>
  <Override PartName="/ppt/media/image1.jpeg" ContentType="image/jpeg"/>
  <Override PartName="/ppt/media/CAMERA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F84-C484-4002-B0C0-69DB0CF8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F32-7F05-4C84-9C1F-D57D728D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A41-417D-42CF-BEF7-A889E23B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F0B-904D-4AF0-A918-52FAB25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6C0-9326-46BA-A5CE-C7A5E62C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7F5-AEA9-4A9F-8750-59657B66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34E-9FCF-4724-BF3A-EBEEE97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D12-9344-4F04-80DA-BE92C14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C71-4A3B-4BA0-BD01-DCA466CC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976-D0F2-4F36-8402-E09E5501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59C-C17C-4A86-B3E1-B4F0A34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637-7B69-4691-8AEA-1C92660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FA7-89D7-4310-823C-1EC8003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033-620A-45B8-B7F2-7F7CBD6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91BC-2371-49E8-826A-F8C4AE745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&#31515;&#23376;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.xml"/><Relationship Id="rId3" Type="http://schemas.openxmlformats.org/officeDocument/2006/relationships/image" Target="../media/image11.gif"/><Relationship Id="rId4" Type="http://schemas.openxmlformats.org/officeDocument/2006/relationships/audio" Target="../media/zr1278.wav"/><Relationship Id="rId5" Type="http://schemas.openxmlformats.org/officeDocument/2006/relationships/audio" Target="../media/zr1278.wav"/><Relationship Id="rId6" Type="http://schemas.openxmlformats.org/officeDocument/2006/relationships/audio" Target="../media/zr1278.wav"/><Relationship Id="rId7" Type="http://schemas.openxmlformats.org/officeDocument/2006/relationships/audio" Target="../media/zr1278.wav"/><Relationship Id="rId8" Type="http://schemas.openxmlformats.org/officeDocument/2006/relationships/audio" Target="../media/zr1278.wav"/><Relationship Id="rId9" Type="http://schemas.openxmlformats.org/officeDocument/2006/relationships/audio" Target="../media/zr1278.wav"/><Relationship Id="rId10" Type="http://schemas.openxmlformats.org/officeDocument/2006/relationships/audio" Target="../media/zr1278.wav"/><Relationship Id="rId11" Type="http://schemas.openxmlformats.org/officeDocument/2006/relationships/audio" Target="../media/zr1278.wav"/><Relationship Id="rId12" Type="http://schemas.openxmlformats.org/officeDocument/2006/relationships/audio" Target="../media/zr1278.wav"/><Relationship Id="rId13" Type="http://schemas.openxmlformats.org/officeDocument/2006/relationships/audio" Target="../media/zr1278.wav"/><Relationship Id="rId14" Type="http://schemas.openxmlformats.org/officeDocument/2006/relationships/audio" Target="../media/zr1278.wav"/><Relationship Id="rId15" Type="http://schemas.openxmlformats.org/officeDocument/2006/relationships/audio" Target="../media/zr1278.wav"/><Relationship Id="rId16" Type="http://schemas.openxmlformats.org/officeDocument/2006/relationships/audio" Target="../media/zr1278.wav"/><Relationship Id="rId17" Type="http://schemas.openxmlformats.org/officeDocument/2006/relationships/audio" Target="../media/zr1278.wav"/><Relationship Id="rId18" Type="http://schemas.openxmlformats.org/officeDocument/2006/relationships/audio" Target="../media/zr1278.wav"/><Relationship Id="rId19" Type="http://schemas.openxmlformats.org/officeDocument/2006/relationships/audio" Target="../media/zr1278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7"/>
          <p:cNvSpPr/>
          <p:nvPr/>
        </p:nvSpPr>
        <p:spPr>
          <a:xfrm>
            <a:off x="304920" y="1981080"/>
            <a:ext cx="152388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28"/>
          <p:cNvSpPr/>
          <p:nvPr/>
        </p:nvSpPr>
        <p:spPr>
          <a:xfrm>
            <a:off x="2438280" y="1828800"/>
            <a:ext cx="1524240" cy="1219320"/>
          </a:xfrm>
          <a:prstGeom prst="parallelogram">
            <a:avLst>
              <a:gd name="adj" fmla="val 31252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29"/>
          <p:cNvSpPr/>
          <p:nvPr/>
        </p:nvSpPr>
        <p:spPr>
          <a:xfrm>
            <a:off x="4419720" y="1981080"/>
            <a:ext cx="1828800" cy="10670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30"/>
          <p:cNvSpPr/>
          <p:nvPr/>
        </p:nvSpPr>
        <p:spPr>
          <a:xfrm>
            <a:off x="7010280" y="1905120"/>
            <a:ext cx="1828800" cy="1218960"/>
          </a:xfrm>
          <a:prstGeom prst="diamond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31"/>
          <p:cNvSpPr/>
          <p:nvPr/>
        </p:nvSpPr>
        <p:spPr>
          <a:xfrm>
            <a:off x="304920" y="4038480"/>
            <a:ext cx="2361960" cy="1524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32"/>
          <p:cNvSpPr/>
          <p:nvPr/>
        </p:nvSpPr>
        <p:spPr>
          <a:xfrm>
            <a:off x="3809880" y="3886200"/>
            <a:ext cx="1219320" cy="1600200"/>
          </a:xfrm>
          <a:prstGeom prst="rtTriangle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47"/>
          <p:cNvSpPr txBox="1"/>
          <p:nvPr/>
        </p:nvSpPr>
        <p:spPr>
          <a:xfrm>
            <a:off x="1905120" y="15228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三角形与四边形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5" name="Picture 1048" descr="D:\My Documents\动画\卡通4.gif"/>
          <p:cNvPicPr/>
          <p:nvPr/>
        </p:nvPicPr>
        <p:blipFill>
          <a:blip r:embed="rId3"/>
          <a:stretch/>
        </p:blipFill>
        <p:spPr>
          <a:xfrm>
            <a:off x="0" y="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1049"/>
          <p:cNvSpPr/>
          <p:nvPr/>
        </p:nvSpPr>
        <p:spPr>
          <a:xfrm>
            <a:off x="6095880" y="4114800"/>
            <a:ext cx="2286000" cy="1371600"/>
          </a:xfrm>
          <a:prstGeom prst="pie">
            <a:avLst/>
          </a:prstGeom>
          <a:gradFill rotWithShape="0">
            <a:gsLst>
              <a:gs pos="0">
                <a:srgbClr val="66ffff"/>
              </a:gs>
              <a:gs pos="100000">
                <a:srgbClr val="2f7676"/>
              </a:gs>
            </a:gsLst>
            <a:lin ang="0"/>
          </a:gradFill>
          <a:ln w="12600">
            <a:solidFill>
              <a:srgbClr val="b2b2b2"/>
            </a:solidFill>
            <a:round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50">
            <a:hlinkClick r:id="rId4" action="ppaction://hlinksldjump"/>
          </p:cNvPr>
          <p:cNvSpPr/>
          <p:nvPr/>
        </p:nvSpPr>
        <p:spPr>
          <a:xfrm>
            <a:off x="8305920" y="58672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10800" y="1677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532">
                <a:moveTo>
                  <a:pt x="11905" y="16248"/>
                </a:moveTo>
                <a:lnTo>
                  <a:pt x="11905" y="14289"/>
                </a:lnTo>
                <a:cubicBezTo>
                  <a:pt x="11905" y="13462"/>
                  <a:pt x="12236" y="12766"/>
                  <a:pt x="12837" y="12766"/>
                </a:cubicBezTo>
                <a:cubicBezTo>
                  <a:pt x="13968" y="12766"/>
                  <a:pt x="14865" y="11400"/>
                  <a:pt x="14865" y="9816"/>
                </a:cubicBezTo>
                <a:cubicBezTo>
                  <a:pt x="14865" y="7500"/>
                  <a:pt x="13011" y="5760"/>
                  <a:pt x="10800" y="5760"/>
                </a:cubicBezTo>
                <a:cubicBezTo>
                  <a:pt x="8589" y="5760"/>
                  <a:pt x="6918" y="7500"/>
                  <a:pt x="6918" y="9816"/>
                </a:cubicBezTo>
                <a:lnTo>
                  <a:pt x="8772" y="9816"/>
                </a:lnTo>
                <a:cubicBezTo>
                  <a:pt x="8772" y="8675"/>
                  <a:pt x="9695" y="7788"/>
                  <a:pt x="10800" y="7788"/>
                </a:cubicBezTo>
                <a:cubicBezTo>
                  <a:pt x="11905" y="7788"/>
                  <a:pt x="12837" y="8675"/>
                  <a:pt x="12837" y="9816"/>
                </a:cubicBezTo>
                <a:cubicBezTo>
                  <a:pt x="12837" y="10555"/>
                  <a:pt x="12367" y="11287"/>
                  <a:pt x="11905" y="11287"/>
                </a:cubicBezTo>
                <a:cubicBezTo>
                  <a:pt x="10800" y="11287"/>
                  <a:pt x="9695" y="12766"/>
                  <a:pt x="9695" y="14289"/>
                </a:cubicBezTo>
                <a:lnTo>
                  <a:pt x="9695" y="16248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2"/>
          <p:cNvSpPr txBox="1"/>
          <p:nvPr/>
        </p:nvSpPr>
        <p:spPr>
          <a:xfrm>
            <a:off x="838080" y="53352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大家学得非常好！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89" name="Picture 4" descr="D:\My Documents\动画\奖杯.gif"/>
          <p:cNvPicPr/>
          <p:nvPr/>
        </p:nvPicPr>
        <p:blipFill>
          <a:blip r:embed="rId2"/>
          <a:stretch/>
        </p:blipFill>
        <p:spPr>
          <a:xfrm>
            <a:off x="327672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581280" y="281952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657600" y="4038480"/>
            <a:ext cx="2743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 flipV="1">
            <a:off x="3581280" y="2819520"/>
            <a:ext cx="274320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"/>
          <p:cNvSpPr/>
          <p:nvPr/>
        </p:nvSpPr>
        <p:spPr>
          <a:xfrm flipV="1">
            <a:off x="3657600" y="2819160"/>
            <a:ext cx="266688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 flipV="1">
            <a:off x="3733920" y="2819520"/>
            <a:ext cx="259056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3657600" y="2819520"/>
            <a:ext cx="2666880" cy="121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657600" y="4038480"/>
            <a:ext cx="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3657600" y="2057040"/>
            <a:ext cx="198108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657600" y="1676160"/>
            <a:ext cx="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9"/>
          <p:cNvSpPr/>
          <p:nvPr/>
        </p:nvSpPr>
        <p:spPr>
          <a:xfrm flipH="1" flipV="1">
            <a:off x="1905120" y="2057040"/>
            <a:ext cx="175248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3"/>
          <p:cNvSpPr/>
          <p:nvPr/>
        </p:nvSpPr>
        <p:spPr>
          <a:xfrm>
            <a:off x="2362320" y="1066680"/>
            <a:ext cx="4190760" cy="2971800"/>
          </a:xfrm>
          <a:prstGeom prst="pi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048120" y="1981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隶书"/>
              </a:rPr>
              <a:t>边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ff0000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  <p:sp>
        <p:nvSpPr>
          <p:cNvPr id="72" name="WordArt 9"/>
          <p:cNvSpPr txBox="1"/>
          <p:nvPr/>
        </p:nvSpPr>
        <p:spPr>
          <a:xfrm>
            <a:off x="3886200" y="28954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1260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角</a:t>
            </a:r>
            <a:endParaRPr b="0" i="1" lang="en-US" sz="4800" spc="1" strike="noStrike">
              <a:ln w="1260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990720" y="37339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隶书"/>
              </a:rPr>
              <a:t>顶点</a:t>
            </a:r>
            <a:endParaRPr b="0" i="1" lang="en-US" sz="4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80880" y="5486400"/>
            <a:ext cx="82296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角有两条边</a:t>
            </a: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一个顶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3886200" y="4267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0000"/>
                    </a:gs>
                  </a:gsLst>
                  <a:lin ang="2700000"/>
                </a:gradFill>
                <a:latin typeface="隶书"/>
              </a:rPr>
              <a:t>边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ff0000"/>
                  </a:gs>
                </a:gsLst>
                <a:lin ang="2700000"/>
              </a:gradFill>
              <a:latin typeface="隶书"/>
              <a:ea typeface="隶书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304920" y="1981080"/>
            <a:ext cx="152388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819520" y="1905120"/>
            <a:ext cx="1295280" cy="228600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"/>
          <p:cNvSpPr/>
          <p:nvPr/>
        </p:nvSpPr>
        <p:spPr>
          <a:xfrm>
            <a:off x="4876920" y="2133720"/>
            <a:ext cx="2057400" cy="2057400"/>
          </a:xfrm>
          <a:prstGeom prst="pie">
            <a:avLst/>
          </a:prstGeom>
          <a:gradFill rotWithShape="0">
            <a:gsLst>
              <a:gs pos="0">
                <a:srgbClr val="765e5e"/>
              </a:gs>
              <a:gs pos="100000">
                <a:srgbClr val="ffcccc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6"/>
          <p:cNvSpPr/>
          <p:nvPr/>
        </p:nvSpPr>
        <p:spPr>
          <a:xfrm>
            <a:off x="7315200" y="2133720"/>
            <a:ext cx="1600200" cy="182880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3048120" y="4572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黑体"/>
              </a:rPr>
              <a:t>三角形</a:t>
            </a:r>
            <a:endParaRPr b="0" i="1" lang="en-US" sz="54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57200" y="4648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三角形是三条线段围成的图形</a:t>
            </a:r>
            <a:r>
              <a:rPr b="0" lang="en-US" sz="5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有三条边</a:t>
            </a:r>
            <a:r>
              <a:rPr b="0" lang="en-US" sz="54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5400" spc="-1" strike="noStrike">
                <a:solidFill>
                  <a:srgbClr val="ff0066"/>
                </a:solidFill>
                <a:latin typeface="隶书"/>
                <a:ea typeface="隶书"/>
              </a:rPr>
              <a:t>三个角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1" descr="D:\My Documents\动画\船.gif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598400"/>
          </a:xfrm>
          <a:prstGeom prst="rect">
            <a:avLst/>
          </a:prstGeom>
          <a:ln w="0">
            <a:noFill/>
          </a:ln>
        </p:spPr>
      </p:pic>
      <p:sp>
        <p:nvSpPr>
          <p:cNvPr id="85" name="Freeform 15"/>
          <p:cNvSpPr/>
          <p:nvPr/>
        </p:nvSpPr>
        <p:spPr>
          <a:xfrm>
            <a:off x="914400" y="1981080"/>
            <a:ext cx="30492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914400" y="2057400"/>
            <a:ext cx="30492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914400" y="1981080"/>
            <a:ext cx="30492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9"/>
          <p:cNvSpPr/>
          <p:nvPr/>
        </p:nvSpPr>
        <p:spPr>
          <a:xfrm>
            <a:off x="304920" y="3733920"/>
            <a:ext cx="380880" cy="3808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304920" y="3733920"/>
            <a:ext cx="380880" cy="3808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21"/>
          <p:cNvSpPr/>
          <p:nvPr/>
        </p:nvSpPr>
        <p:spPr>
          <a:xfrm>
            <a:off x="304920" y="3733920"/>
            <a:ext cx="380880" cy="38088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23"/>
          <p:cNvSpPr/>
          <p:nvPr/>
        </p:nvSpPr>
        <p:spPr>
          <a:xfrm>
            <a:off x="1447920" y="3657600"/>
            <a:ext cx="38088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24"/>
          <p:cNvSpPr/>
          <p:nvPr/>
        </p:nvSpPr>
        <p:spPr>
          <a:xfrm>
            <a:off x="1447920" y="3657600"/>
            <a:ext cx="38088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25"/>
          <p:cNvSpPr/>
          <p:nvPr/>
        </p:nvSpPr>
        <p:spPr>
          <a:xfrm>
            <a:off x="1447920" y="3657600"/>
            <a:ext cx="38088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6"/>
          <p:cNvSpPr/>
          <p:nvPr/>
        </p:nvSpPr>
        <p:spPr>
          <a:xfrm>
            <a:off x="1447920" y="3657600"/>
            <a:ext cx="380880" cy="4572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2819520" y="1905120"/>
            <a:ext cx="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2819520" y="1905120"/>
            <a:ext cx="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819520" y="1905120"/>
            <a:ext cx="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2819520" y="1905120"/>
            <a:ext cx="12952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2819520" y="1905120"/>
            <a:ext cx="12952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2819520" y="1905120"/>
            <a:ext cx="12952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2819520" y="419112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2819520" y="419112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2819520" y="419112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My Documents\新建文件夹\天使.gif"/>
          <p:cNvPicPr/>
          <p:nvPr/>
        </p:nvPicPr>
        <p:blipFill>
          <a:blip r:embed="rId2"/>
          <a:stretch/>
        </p:blipFill>
        <p:spPr>
          <a:xfrm>
            <a:off x="6446880" y="3581280"/>
            <a:ext cx="2697120" cy="224820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4"/>
          <p:cNvSpPr/>
          <p:nvPr/>
        </p:nvSpPr>
        <p:spPr>
          <a:xfrm>
            <a:off x="5105520" y="5638680"/>
            <a:ext cx="2819160" cy="914400"/>
          </a:xfrm>
          <a:prstGeom prst="pi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18900000"/>
          </a:gradFill>
          <a:ln w="38160">
            <a:solidFill>
              <a:srgbClr val="ff0000"/>
            </a:solidFill>
            <a:round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D:\My Documents\新建文件夹\天使1.gif"/>
          <p:cNvPicPr/>
          <p:nvPr/>
        </p:nvPicPr>
        <p:blipFill>
          <a:blip r:embed="rId3"/>
          <a:stretch/>
        </p:blipFill>
        <p:spPr>
          <a:xfrm>
            <a:off x="0" y="0"/>
            <a:ext cx="2666880" cy="222264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7"/>
          <p:cNvSpPr/>
          <p:nvPr/>
        </p:nvSpPr>
        <p:spPr>
          <a:xfrm>
            <a:off x="1523880" y="1752480"/>
            <a:ext cx="2133720" cy="129564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50000">
                <a:srgbClr val="66ffff"/>
              </a:gs>
              <a:gs pos="100000">
                <a:srgbClr val="0066cc"/>
              </a:gs>
            </a:gsLst>
            <a:lin ang="5400000"/>
          </a:gradFill>
          <a:ln w="12600">
            <a:solidFill>
              <a:srgbClr val="0066cc"/>
            </a:solidFill>
            <a:round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33520" y="3581280"/>
            <a:ext cx="6019560" cy="1600200"/>
          </a:xfrm>
          <a:prstGeom prst="flowChartMagneticTap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990720" y="38862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新魏"/>
              </a:rPr>
              <a:t>说对了！这个是三角形。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3124080" y="7621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谁的是三角形？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AC%9B%E5%AD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62120" y="1905120"/>
            <a:ext cx="1676160" cy="10666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3581280" y="1905120"/>
            <a:ext cx="1905120" cy="1066680"/>
          </a:xfrm>
          <a:prstGeom prst="pie">
            <a:avLst/>
          </a:prstGeom>
          <a:gradFill rotWithShape="0">
            <a:gsLst>
              <a:gs pos="0">
                <a:srgbClr val="1d5690"/>
              </a:gs>
              <a:gs pos="50000">
                <a:srgbClr val="3399ff"/>
              </a:gs>
              <a:gs pos="100000">
                <a:srgbClr val="1d569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705720" y="1828800"/>
            <a:ext cx="1981080" cy="1143000"/>
          </a:xfrm>
          <a:prstGeom prst="parallelogram">
            <a:avLst>
              <a:gd name="adj" fmla="val 43331"/>
            </a:avLst>
          </a:prstGeo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905120" y="3200400"/>
            <a:ext cx="1981080" cy="1371600"/>
          </a:xfrm>
          <a:prstGeom prst="diamond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5334120" y="3505320"/>
            <a:ext cx="2057400" cy="761760"/>
          </a:xfrm>
          <a:prstGeom prst="pie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3200400" y="38088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四边形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33520" y="4800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隶书"/>
                <a:ea typeface="隶书"/>
              </a:rPr>
              <a:t>四边形是四条线段围成的图形</a:t>
            </a:r>
            <a:r>
              <a:rPr b="1" lang="en-US" sz="5400" spc="-1" strike="noStrike">
                <a:solidFill>
                  <a:srgbClr val="0066cc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66cc"/>
                </a:solidFill>
                <a:latin typeface="隶书"/>
                <a:ea typeface="隶书"/>
              </a:rPr>
              <a:t>有四条边</a:t>
            </a:r>
            <a:r>
              <a:rPr b="1" lang="en-US" sz="5400" spc="-1" strike="noStrike">
                <a:solidFill>
                  <a:srgbClr val="0066cc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66cc"/>
                </a:solidFill>
                <a:latin typeface="隶书"/>
                <a:ea typeface="隶书"/>
              </a:rPr>
              <a:t>四个角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1">
            <a:hlinkClick r:id="rId2" action="ppaction://hlinksldjump"/>
          </p:cNvPr>
          <p:cNvSpPr/>
          <p:nvPr/>
        </p:nvSpPr>
        <p:spPr>
          <a:xfrm>
            <a:off x="8458200" y="594360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10800" y="7435"/>
                </a:moveTo>
                <a:lnTo>
                  <a:pt x="13376" y="10046"/>
                </a:ln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lnTo>
                  <a:pt x="17763" y="14398"/>
                </a:lnTo>
                <a:lnTo>
                  <a:pt x="16109" y="14398"/>
                </a:lnTo>
                <a:lnTo>
                  <a:pt x="16109" y="21587"/>
                </a:lnTo>
                <a:lnTo>
                  <a:pt x="5491" y="21587"/>
                </a:lnTo>
                <a:lnTo>
                  <a:pt x="5491" y="14398"/>
                </a:lnTo>
                <a:lnTo>
                  <a:pt x="3837" y="14398"/>
                </a:lnTo>
                <a:close/>
              </a:path>
              <a:path fill="darkenLess" w="21600" h="28796">
                <a:moveTo>
                  <a:pt x="13376" y="10046"/>
                </a:moveTo>
                <a:lnTo>
                  <a:pt x="13376" y="8306"/>
                </a:lnTo>
                <a:lnTo>
                  <a:pt x="15152" y="8306"/>
                </a:lnTo>
                <a:lnTo>
                  <a:pt x="15152" y="11822"/>
                </a:lnTo>
                <a:close/>
              </a:path>
              <a:path fill="darkenLess" w="21600" h="28796">
                <a:moveTo>
                  <a:pt x="9877" y="17897"/>
                </a:moveTo>
                <a:lnTo>
                  <a:pt x="11723" y="17897"/>
                </a:lnTo>
                <a:lnTo>
                  <a:pt x="11723" y="21587"/>
                </a:lnTo>
                <a:lnTo>
                  <a:pt x="16109" y="21587"/>
                </a:lnTo>
                <a:lnTo>
                  <a:pt x="16109" y="14398"/>
                </a:lnTo>
                <a:lnTo>
                  <a:pt x="5491" y="14398"/>
                </a:lnTo>
                <a:lnTo>
                  <a:pt x="5491" y="21587"/>
                </a:lnTo>
                <a:lnTo>
                  <a:pt x="9877" y="21587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2" descr="D:\My Documents\动画\笔.gif"/>
          <p:cNvPicPr/>
          <p:nvPr/>
        </p:nvPicPr>
        <p:blipFill>
          <a:blip r:embed="rId3"/>
          <a:stretch/>
        </p:blipFill>
        <p:spPr>
          <a:xfrm>
            <a:off x="7391520" y="30492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15"/>
          <p:cNvSpPr/>
          <p:nvPr/>
        </p:nvSpPr>
        <p:spPr>
          <a:xfrm>
            <a:off x="762120" y="1905120"/>
            <a:ext cx="30456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6"/>
          <p:cNvSpPr/>
          <p:nvPr/>
        </p:nvSpPr>
        <p:spPr>
          <a:xfrm>
            <a:off x="762120" y="1905120"/>
            <a:ext cx="30456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1"/>
          <p:cNvSpPr/>
          <p:nvPr/>
        </p:nvSpPr>
        <p:spPr>
          <a:xfrm>
            <a:off x="2209680" y="1905120"/>
            <a:ext cx="22860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22"/>
          <p:cNvSpPr/>
          <p:nvPr/>
        </p:nvSpPr>
        <p:spPr>
          <a:xfrm>
            <a:off x="2209680" y="1905120"/>
            <a:ext cx="22860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4"/>
          <p:cNvSpPr/>
          <p:nvPr/>
        </p:nvSpPr>
        <p:spPr>
          <a:xfrm>
            <a:off x="762120" y="2819520"/>
            <a:ext cx="22860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762120" y="2819520"/>
            <a:ext cx="228600" cy="1522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7"/>
          <p:cNvSpPr/>
          <p:nvPr/>
        </p:nvSpPr>
        <p:spPr>
          <a:xfrm>
            <a:off x="2209680" y="2743200"/>
            <a:ext cx="22860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8"/>
          <p:cNvSpPr/>
          <p:nvPr/>
        </p:nvSpPr>
        <p:spPr>
          <a:xfrm>
            <a:off x="2209680" y="2743200"/>
            <a:ext cx="228600" cy="228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76212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6212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>
            <a:off x="243828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243828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762120" y="190512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8"/>
          <p:cNvSpPr/>
          <p:nvPr/>
        </p:nvSpPr>
        <p:spPr>
          <a:xfrm>
            <a:off x="762120" y="190512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120" y="29718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762120" y="29718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r12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380880" y="152280"/>
            <a:ext cx="8382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66cc"/>
                  </a:solidFill>
                  <a:miter/>
                </a:ln>
                <a:solidFill>
                  <a:srgbClr val="0066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找一找哪些图形是三角形？</a:t>
            </a:r>
            <a:endParaRPr b="1" lang="en-US" sz="4000" spc="1" strike="noStrike">
              <a:ln w="12600">
                <a:solidFill>
                  <a:srgbClr val="0066cc"/>
                </a:solidFill>
                <a:miter/>
              </a:ln>
              <a:solidFill>
                <a:srgbClr val="0066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457200" y="76212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哪些是四边形？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Freeform 4"/>
          <p:cNvSpPr/>
          <p:nvPr/>
        </p:nvSpPr>
        <p:spPr>
          <a:xfrm>
            <a:off x="609480" y="1219320"/>
            <a:ext cx="1905120" cy="1066680"/>
          </a:xfrm>
          <a:prstGeom prst="pie">
            <a:avLst/>
          </a:prstGeom>
          <a:solidFill>
            <a:srgbClr val="66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5"/>
          <p:cNvSpPr/>
          <p:nvPr/>
        </p:nvSpPr>
        <p:spPr>
          <a:xfrm>
            <a:off x="3200400" y="1219320"/>
            <a:ext cx="1676520" cy="91440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5334120" y="1371600"/>
            <a:ext cx="1295280" cy="83808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7315200" y="1219320"/>
            <a:ext cx="1066680" cy="83808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8077320" y="1143000"/>
            <a:ext cx="380880" cy="91440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685800" y="2971800"/>
            <a:ext cx="1981080" cy="91440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3200400" y="2895480"/>
            <a:ext cx="1600200" cy="121932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5334120" y="2895480"/>
            <a:ext cx="1676160" cy="114300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4"/>
          <p:cNvSpPr/>
          <p:nvPr/>
        </p:nvSpPr>
        <p:spPr>
          <a:xfrm>
            <a:off x="7315200" y="2819520"/>
            <a:ext cx="1295280" cy="1218960"/>
          </a:xfrm>
          <a:prstGeom prst="pie">
            <a:avLst/>
          </a:prstGeom>
          <a:solidFill>
            <a:srgbClr val="66ffff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143000" y="2286000"/>
            <a:ext cx="11430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431160" y="220968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488560" y="220968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7317360" y="198108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1145160" y="403848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3278520" y="426708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5488560" y="411480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7393320" y="4114800"/>
            <a:ext cx="11768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0" y="4952880"/>
            <a:ext cx="9067680" cy="178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三角形＿＿＿＿＿＿＿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四边形＿＿＿＿＿＿＿＿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1371600" y="4876920"/>
            <a:ext cx="18288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2666880" y="4876920"/>
            <a:ext cx="16765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886200" y="4876920"/>
            <a:ext cx="16002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600200" y="5867280"/>
            <a:ext cx="152388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2743200" y="5867280"/>
            <a:ext cx="16002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62520" y="5867280"/>
            <a:ext cx="1371600" cy="143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0066cc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9144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144792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1981080" y="1905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25146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304812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3581280" y="1905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41148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57150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24852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6781680" y="1905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7238880" y="19051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7772400" y="1905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91440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144792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1981080" y="1447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251460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812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3581280" y="1447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411480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5"/>
          <p:cNvSpPr/>
          <p:nvPr/>
        </p:nvSpPr>
        <p:spPr>
          <a:xfrm>
            <a:off x="464832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6"/>
          <p:cNvSpPr/>
          <p:nvPr/>
        </p:nvSpPr>
        <p:spPr>
          <a:xfrm>
            <a:off x="5181480" y="1447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571500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624852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781680" y="1447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7238880" y="14479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31"/>
          <p:cNvSpPr/>
          <p:nvPr/>
        </p:nvSpPr>
        <p:spPr>
          <a:xfrm>
            <a:off x="7772400" y="14479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38"/>
          <p:cNvSpPr/>
          <p:nvPr/>
        </p:nvSpPr>
        <p:spPr>
          <a:xfrm>
            <a:off x="9144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39"/>
          <p:cNvSpPr/>
          <p:nvPr/>
        </p:nvSpPr>
        <p:spPr>
          <a:xfrm>
            <a:off x="144792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19810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1"/>
          <p:cNvSpPr/>
          <p:nvPr/>
        </p:nvSpPr>
        <p:spPr>
          <a:xfrm>
            <a:off x="25146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2"/>
          <p:cNvSpPr/>
          <p:nvPr/>
        </p:nvSpPr>
        <p:spPr>
          <a:xfrm>
            <a:off x="304812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43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4"/>
          <p:cNvSpPr/>
          <p:nvPr/>
        </p:nvSpPr>
        <p:spPr>
          <a:xfrm>
            <a:off x="41148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45"/>
          <p:cNvSpPr/>
          <p:nvPr/>
        </p:nvSpPr>
        <p:spPr>
          <a:xfrm>
            <a:off x="464832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46"/>
          <p:cNvSpPr/>
          <p:nvPr/>
        </p:nvSpPr>
        <p:spPr>
          <a:xfrm>
            <a:off x="51814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47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48"/>
          <p:cNvSpPr/>
          <p:nvPr/>
        </p:nvSpPr>
        <p:spPr>
          <a:xfrm>
            <a:off x="624852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49"/>
          <p:cNvSpPr/>
          <p:nvPr/>
        </p:nvSpPr>
        <p:spPr>
          <a:xfrm>
            <a:off x="67816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0"/>
          <p:cNvSpPr/>
          <p:nvPr/>
        </p:nvSpPr>
        <p:spPr>
          <a:xfrm>
            <a:off x="7238880" y="2819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1"/>
          <p:cNvSpPr/>
          <p:nvPr/>
        </p:nvSpPr>
        <p:spPr>
          <a:xfrm>
            <a:off x="7772400" y="2819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52"/>
          <p:cNvSpPr/>
          <p:nvPr/>
        </p:nvSpPr>
        <p:spPr>
          <a:xfrm>
            <a:off x="9144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3"/>
          <p:cNvSpPr/>
          <p:nvPr/>
        </p:nvSpPr>
        <p:spPr>
          <a:xfrm>
            <a:off x="144792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54"/>
          <p:cNvSpPr/>
          <p:nvPr/>
        </p:nvSpPr>
        <p:spPr>
          <a:xfrm>
            <a:off x="1981080" y="2362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55"/>
          <p:cNvSpPr/>
          <p:nvPr/>
        </p:nvSpPr>
        <p:spPr>
          <a:xfrm>
            <a:off x="25146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56"/>
          <p:cNvSpPr/>
          <p:nvPr/>
        </p:nvSpPr>
        <p:spPr>
          <a:xfrm>
            <a:off x="304812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3581280" y="2362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58"/>
          <p:cNvSpPr/>
          <p:nvPr/>
        </p:nvSpPr>
        <p:spPr>
          <a:xfrm>
            <a:off x="41148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59"/>
          <p:cNvSpPr/>
          <p:nvPr/>
        </p:nvSpPr>
        <p:spPr>
          <a:xfrm>
            <a:off x="464832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0"/>
          <p:cNvSpPr/>
          <p:nvPr/>
        </p:nvSpPr>
        <p:spPr>
          <a:xfrm>
            <a:off x="5181480" y="2362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61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62"/>
          <p:cNvSpPr/>
          <p:nvPr/>
        </p:nvSpPr>
        <p:spPr>
          <a:xfrm>
            <a:off x="624852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63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4"/>
          <p:cNvSpPr/>
          <p:nvPr/>
        </p:nvSpPr>
        <p:spPr>
          <a:xfrm>
            <a:off x="7238880" y="23623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65"/>
          <p:cNvSpPr/>
          <p:nvPr/>
        </p:nvSpPr>
        <p:spPr>
          <a:xfrm>
            <a:off x="77724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66"/>
          <p:cNvSpPr/>
          <p:nvPr/>
        </p:nvSpPr>
        <p:spPr>
          <a:xfrm>
            <a:off x="9144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7"/>
          <p:cNvSpPr/>
          <p:nvPr/>
        </p:nvSpPr>
        <p:spPr>
          <a:xfrm>
            <a:off x="144792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68"/>
          <p:cNvSpPr/>
          <p:nvPr/>
        </p:nvSpPr>
        <p:spPr>
          <a:xfrm>
            <a:off x="1981080" y="3657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9"/>
          <p:cNvSpPr/>
          <p:nvPr/>
        </p:nvSpPr>
        <p:spPr>
          <a:xfrm>
            <a:off x="25146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70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71"/>
          <p:cNvSpPr/>
          <p:nvPr/>
        </p:nvSpPr>
        <p:spPr>
          <a:xfrm>
            <a:off x="3581280" y="3657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2"/>
          <p:cNvSpPr/>
          <p:nvPr/>
        </p:nvSpPr>
        <p:spPr>
          <a:xfrm>
            <a:off x="41148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3"/>
          <p:cNvSpPr/>
          <p:nvPr/>
        </p:nvSpPr>
        <p:spPr>
          <a:xfrm>
            <a:off x="464832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74"/>
          <p:cNvSpPr/>
          <p:nvPr/>
        </p:nvSpPr>
        <p:spPr>
          <a:xfrm>
            <a:off x="5181480" y="3657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75"/>
          <p:cNvSpPr/>
          <p:nvPr/>
        </p:nvSpPr>
        <p:spPr>
          <a:xfrm>
            <a:off x="57150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76"/>
          <p:cNvSpPr/>
          <p:nvPr/>
        </p:nvSpPr>
        <p:spPr>
          <a:xfrm>
            <a:off x="624852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77"/>
          <p:cNvSpPr/>
          <p:nvPr/>
        </p:nvSpPr>
        <p:spPr>
          <a:xfrm>
            <a:off x="6781680" y="3657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78"/>
          <p:cNvSpPr/>
          <p:nvPr/>
        </p:nvSpPr>
        <p:spPr>
          <a:xfrm>
            <a:off x="7238880" y="36576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79"/>
          <p:cNvSpPr/>
          <p:nvPr/>
        </p:nvSpPr>
        <p:spPr>
          <a:xfrm>
            <a:off x="7772400" y="3657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80"/>
          <p:cNvSpPr/>
          <p:nvPr/>
        </p:nvSpPr>
        <p:spPr>
          <a:xfrm>
            <a:off x="91440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81"/>
          <p:cNvSpPr/>
          <p:nvPr/>
        </p:nvSpPr>
        <p:spPr>
          <a:xfrm>
            <a:off x="14479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82"/>
          <p:cNvSpPr/>
          <p:nvPr/>
        </p:nvSpPr>
        <p:spPr>
          <a:xfrm>
            <a:off x="19810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83"/>
          <p:cNvSpPr/>
          <p:nvPr/>
        </p:nvSpPr>
        <p:spPr>
          <a:xfrm>
            <a:off x="251460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84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85"/>
          <p:cNvSpPr/>
          <p:nvPr/>
        </p:nvSpPr>
        <p:spPr>
          <a:xfrm>
            <a:off x="35812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87"/>
          <p:cNvSpPr/>
          <p:nvPr/>
        </p:nvSpPr>
        <p:spPr>
          <a:xfrm>
            <a:off x="46483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88"/>
          <p:cNvSpPr/>
          <p:nvPr/>
        </p:nvSpPr>
        <p:spPr>
          <a:xfrm>
            <a:off x="51814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89"/>
          <p:cNvSpPr/>
          <p:nvPr/>
        </p:nvSpPr>
        <p:spPr>
          <a:xfrm>
            <a:off x="571500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90"/>
          <p:cNvSpPr/>
          <p:nvPr/>
        </p:nvSpPr>
        <p:spPr>
          <a:xfrm>
            <a:off x="624852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91"/>
          <p:cNvSpPr/>
          <p:nvPr/>
        </p:nvSpPr>
        <p:spPr>
          <a:xfrm>
            <a:off x="67816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92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93"/>
          <p:cNvSpPr/>
          <p:nvPr/>
        </p:nvSpPr>
        <p:spPr>
          <a:xfrm>
            <a:off x="7772400" y="32004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94"/>
          <p:cNvSpPr/>
          <p:nvPr/>
        </p:nvSpPr>
        <p:spPr>
          <a:xfrm>
            <a:off x="9144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95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96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97"/>
          <p:cNvSpPr/>
          <p:nvPr/>
        </p:nvSpPr>
        <p:spPr>
          <a:xfrm>
            <a:off x="25146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98"/>
          <p:cNvSpPr/>
          <p:nvPr/>
        </p:nvSpPr>
        <p:spPr>
          <a:xfrm>
            <a:off x="304812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99"/>
          <p:cNvSpPr/>
          <p:nvPr/>
        </p:nvSpPr>
        <p:spPr>
          <a:xfrm>
            <a:off x="3581280" y="4572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100"/>
          <p:cNvSpPr/>
          <p:nvPr/>
        </p:nvSpPr>
        <p:spPr>
          <a:xfrm>
            <a:off x="41148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101"/>
          <p:cNvSpPr/>
          <p:nvPr/>
        </p:nvSpPr>
        <p:spPr>
          <a:xfrm>
            <a:off x="464832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02"/>
          <p:cNvSpPr/>
          <p:nvPr/>
        </p:nvSpPr>
        <p:spPr>
          <a:xfrm>
            <a:off x="5181480" y="4572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103"/>
          <p:cNvSpPr/>
          <p:nvPr/>
        </p:nvSpPr>
        <p:spPr>
          <a:xfrm>
            <a:off x="57150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04"/>
          <p:cNvSpPr/>
          <p:nvPr/>
        </p:nvSpPr>
        <p:spPr>
          <a:xfrm>
            <a:off x="624852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105"/>
          <p:cNvSpPr/>
          <p:nvPr/>
        </p:nvSpPr>
        <p:spPr>
          <a:xfrm>
            <a:off x="6781680" y="4572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238880" y="45720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7772400" y="45720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9144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144792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19810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04812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35812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41148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115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16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17"/>
          <p:cNvSpPr/>
          <p:nvPr/>
        </p:nvSpPr>
        <p:spPr>
          <a:xfrm>
            <a:off x="57150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18"/>
          <p:cNvSpPr/>
          <p:nvPr/>
        </p:nvSpPr>
        <p:spPr>
          <a:xfrm>
            <a:off x="624852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19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120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21"/>
          <p:cNvSpPr/>
          <p:nvPr/>
        </p:nvSpPr>
        <p:spPr>
          <a:xfrm>
            <a:off x="7772400" y="411480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122"/>
          <p:cNvSpPr/>
          <p:nvPr/>
        </p:nvSpPr>
        <p:spPr>
          <a:xfrm>
            <a:off x="91440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23"/>
          <p:cNvSpPr/>
          <p:nvPr/>
        </p:nvSpPr>
        <p:spPr>
          <a:xfrm>
            <a:off x="144792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24"/>
          <p:cNvSpPr/>
          <p:nvPr/>
        </p:nvSpPr>
        <p:spPr>
          <a:xfrm>
            <a:off x="1981080" y="5562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125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26"/>
          <p:cNvSpPr/>
          <p:nvPr/>
        </p:nvSpPr>
        <p:spPr>
          <a:xfrm>
            <a:off x="304812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7"/>
          <p:cNvSpPr/>
          <p:nvPr/>
        </p:nvSpPr>
        <p:spPr>
          <a:xfrm>
            <a:off x="3581280" y="5562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28"/>
          <p:cNvSpPr/>
          <p:nvPr/>
        </p:nvSpPr>
        <p:spPr>
          <a:xfrm>
            <a:off x="411480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9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30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31"/>
          <p:cNvSpPr/>
          <p:nvPr/>
        </p:nvSpPr>
        <p:spPr>
          <a:xfrm>
            <a:off x="571500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32"/>
          <p:cNvSpPr/>
          <p:nvPr/>
        </p:nvSpPr>
        <p:spPr>
          <a:xfrm>
            <a:off x="624852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33"/>
          <p:cNvSpPr/>
          <p:nvPr/>
        </p:nvSpPr>
        <p:spPr>
          <a:xfrm>
            <a:off x="6781680" y="5562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34"/>
          <p:cNvSpPr/>
          <p:nvPr/>
        </p:nvSpPr>
        <p:spPr>
          <a:xfrm>
            <a:off x="7238880" y="5562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5"/>
          <p:cNvSpPr/>
          <p:nvPr/>
        </p:nvSpPr>
        <p:spPr>
          <a:xfrm>
            <a:off x="7772400" y="5562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36"/>
          <p:cNvSpPr/>
          <p:nvPr/>
        </p:nvSpPr>
        <p:spPr>
          <a:xfrm>
            <a:off x="91440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37"/>
          <p:cNvSpPr/>
          <p:nvPr/>
        </p:nvSpPr>
        <p:spPr>
          <a:xfrm>
            <a:off x="14479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38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39"/>
          <p:cNvSpPr/>
          <p:nvPr/>
        </p:nvSpPr>
        <p:spPr>
          <a:xfrm>
            <a:off x="251460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40"/>
          <p:cNvSpPr/>
          <p:nvPr/>
        </p:nvSpPr>
        <p:spPr>
          <a:xfrm>
            <a:off x="30481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41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142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143"/>
          <p:cNvSpPr/>
          <p:nvPr/>
        </p:nvSpPr>
        <p:spPr>
          <a:xfrm>
            <a:off x="46483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44"/>
          <p:cNvSpPr/>
          <p:nvPr/>
        </p:nvSpPr>
        <p:spPr>
          <a:xfrm>
            <a:off x="51814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145"/>
          <p:cNvSpPr/>
          <p:nvPr/>
        </p:nvSpPr>
        <p:spPr>
          <a:xfrm>
            <a:off x="571500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146"/>
          <p:cNvSpPr/>
          <p:nvPr/>
        </p:nvSpPr>
        <p:spPr>
          <a:xfrm>
            <a:off x="624852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147"/>
          <p:cNvSpPr/>
          <p:nvPr/>
        </p:nvSpPr>
        <p:spPr>
          <a:xfrm>
            <a:off x="67816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48"/>
          <p:cNvSpPr/>
          <p:nvPr/>
        </p:nvSpPr>
        <p:spPr>
          <a:xfrm>
            <a:off x="7238880" y="510552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149"/>
          <p:cNvSpPr/>
          <p:nvPr/>
        </p:nvSpPr>
        <p:spPr>
          <a:xfrm>
            <a:off x="7772400" y="510552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50"/>
          <p:cNvSpPr/>
          <p:nvPr/>
        </p:nvSpPr>
        <p:spPr>
          <a:xfrm>
            <a:off x="533520" y="380880"/>
            <a:ext cx="830556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在点子图上画上三角形和四边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151"/>
          <p:cNvSpPr/>
          <p:nvPr/>
        </p:nvSpPr>
        <p:spPr>
          <a:xfrm>
            <a:off x="19810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52"/>
          <p:cNvSpPr/>
          <p:nvPr/>
        </p:nvSpPr>
        <p:spPr>
          <a:xfrm>
            <a:off x="19810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53"/>
          <p:cNvSpPr/>
          <p:nvPr/>
        </p:nvSpPr>
        <p:spPr>
          <a:xfrm>
            <a:off x="19810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59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60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61"/>
          <p:cNvSpPr/>
          <p:nvPr/>
        </p:nvSpPr>
        <p:spPr>
          <a:xfrm>
            <a:off x="1447920" y="457200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63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64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165"/>
          <p:cNvSpPr/>
          <p:nvPr/>
        </p:nvSpPr>
        <p:spPr>
          <a:xfrm>
            <a:off x="3581280" y="51055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73"/>
          <p:cNvSpPr/>
          <p:nvPr/>
        </p:nvSpPr>
        <p:spPr>
          <a:xfrm flipH="1">
            <a:off x="1523880" y="2438280"/>
            <a:ext cx="533520" cy="228600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74"/>
          <p:cNvSpPr/>
          <p:nvPr/>
        </p:nvSpPr>
        <p:spPr>
          <a:xfrm>
            <a:off x="1523880" y="4648320"/>
            <a:ext cx="2133720" cy="53316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75"/>
          <p:cNvSpPr/>
          <p:nvPr/>
        </p:nvSpPr>
        <p:spPr>
          <a:xfrm>
            <a:off x="2057400" y="2438280"/>
            <a:ext cx="1676520" cy="281952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178"/>
          <p:cNvSpPr/>
          <p:nvPr/>
        </p:nvSpPr>
        <p:spPr>
          <a:xfrm>
            <a:off x="1523880" y="2438280"/>
            <a:ext cx="2057400" cy="2667240"/>
          </a:xfrm>
          <a:prstGeom prst="pie">
            <a:avLst/>
          </a:prstGeom>
          <a:solidFill>
            <a:srgbClr val="ff0066"/>
          </a:solidFill>
          <a:ln w="1396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179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80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81"/>
          <p:cNvSpPr/>
          <p:nvPr/>
        </p:nvSpPr>
        <p:spPr>
          <a:xfrm>
            <a:off x="4648320" y="1905120"/>
            <a:ext cx="15228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82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83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84"/>
          <p:cNvSpPr/>
          <p:nvPr/>
        </p:nvSpPr>
        <p:spPr>
          <a:xfrm>
            <a:off x="5181480" y="41148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185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86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87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88"/>
          <p:cNvSpPr/>
          <p:nvPr/>
        </p:nvSpPr>
        <p:spPr>
          <a:xfrm>
            <a:off x="7238880" y="45720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189"/>
          <p:cNvSpPr/>
          <p:nvPr/>
        </p:nvSpPr>
        <p:spPr>
          <a:xfrm>
            <a:off x="7238880" y="45720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90"/>
          <p:cNvSpPr/>
          <p:nvPr/>
        </p:nvSpPr>
        <p:spPr>
          <a:xfrm>
            <a:off x="7238880" y="4572000"/>
            <a:ext cx="152640" cy="152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91"/>
          <p:cNvSpPr/>
          <p:nvPr/>
        </p:nvSpPr>
        <p:spPr>
          <a:xfrm>
            <a:off x="4724280" y="1981080"/>
            <a:ext cx="533520" cy="221004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4724280" y="1981080"/>
            <a:ext cx="2133720" cy="45720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94"/>
          <p:cNvSpPr/>
          <p:nvPr/>
        </p:nvSpPr>
        <p:spPr>
          <a:xfrm>
            <a:off x="6858000" y="2362320"/>
            <a:ext cx="457200" cy="236196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95"/>
          <p:cNvSpPr/>
          <p:nvPr/>
        </p:nvSpPr>
        <p:spPr>
          <a:xfrm>
            <a:off x="5181480" y="4191120"/>
            <a:ext cx="2133720" cy="457200"/>
          </a:xfrm>
          <a:prstGeom prst="line">
            <a:avLst/>
          </a:prstGeom>
          <a:ln w="1396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96"/>
          <p:cNvSpPr/>
          <p:nvPr/>
        </p:nvSpPr>
        <p:spPr>
          <a:xfrm>
            <a:off x="4648320" y="1981080"/>
            <a:ext cx="2743200" cy="2743200"/>
          </a:xfrm>
          <a:prstGeom prst="pie">
            <a:avLst/>
          </a:prstGeom>
          <a:solidFill>
            <a:srgbClr val="ff0066"/>
          </a:solidFill>
          <a:ln w="126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505320" y="1523880"/>
            <a:ext cx="16002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3505320" y="3429000"/>
            <a:ext cx="1676160" cy="1066680"/>
          </a:xfrm>
          <a:prstGeom prst="pi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3809880" y="1981080"/>
            <a:ext cx="304920" cy="22860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4495680" y="1981080"/>
            <a:ext cx="304920" cy="22860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4114800" y="2438280"/>
            <a:ext cx="380880" cy="2286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2971800" y="3276720"/>
            <a:ext cx="457200" cy="53316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257800" y="3276720"/>
            <a:ext cx="609480" cy="53316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048120" y="3886200"/>
            <a:ext cx="228600" cy="990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5486400" y="3886200"/>
            <a:ext cx="228600" cy="990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2819520" y="5029200"/>
            <a:ext cx="609480" cy="38088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334120" y="5029200"/>
            <a:ext cx="457200" cy="380880"/>
          </a:xfrm>
          <a:prstGeom prst="pi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13"/>
          <p:cNvSpPr/>
          <p:nvPr/>
        </p:nvSpPr>
        <p:spPr>
          <a:xfrm>
            <a:off x="3048120" y="22860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5181480" y="228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3276720" y="533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 flipV="1">
            <a:off x="4648320" y="533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3809880" y="13716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4572000" y="13716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4495680" y="4648320"/>
            <a:ext cx="2286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3962520" y="4648320"/>
            <a:ext cx="2286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388620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441972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23"/>
          <p:cNvSpPr txBox="1"/>
          <p:nvPr/>
        </p:nvSpPr>
        <p:spPr>
          <a:xfrm rot="5400000">
            <a:off x="5752800" y="23241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机器人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3505320" y="3048120"/>
            <a:ext cx="1600200" cy="228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2971800" y="3276720"/>
            <a:ext cx="457200" cy="53316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2971800" y="3276720"/>
            <a:ext cx="457200" cy="53316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28"/>
          <p:cNvSpPr/>
          <p:nvPr/>
        </p:nvSpPr>
        <p:spPr>
          <a:xfrm>
            <a:off x="5257800" y="3276720"/>
            <a:ext cx="609480" cy="53316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29"/>
          <p:cNvSpPr/>
          <p:nvPr/>
        </p:nvSpPr>
        <p:spPr>
          <a:xfrm>
            <a:off x="5257800" y="3276720"/>
            <a:ext cx="609480" cy="53316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0"/>
          <p:cNvSpPr/>
          <p:nvPr/>
        </p:nvSpPr>
        <p:spPr>
          <a:xfrm>
            <a:off x="4114800" y="2438280"/>
            <a:ext cx="380880" cy="228600"/>
          </a:xfrm>
          <a:prstGeom prst="pie">
            <a:avLst/>
          </a:pr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1"/>
          <p:cNvSpPr/>
          <p:nvPr/>
        </p:nvSpPr>
        <p:spPr>
          <a:xfrm>
            <a:off x="4114800" y="2438280"/>
            <a:ext cx="380880" cy="228600"/>
          </a:xfrm>
          <a:prstGeom prst="pie">
            <a:avLst/>
          </a:pr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32"/>
          <p:cNvSpPr/>
          <p:nvPr/>
        </p:nvSpPr>
        <p:spPr>
          <a:xfrm>
            <a:off x="2819520" y="5029200"/>
            <a:ext cx="609480" cy="38088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33"/>
          <p:cNvSpPr/>
          <p:nvPr/>
        </p:nvSpPr>
        <p:spPr>
          <a:xfrm>
            <a:off x="2819520" y="5029200"/>
            <a:ext cx="609480" cy="38088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35"/>
          <p:cNvSpPr/>
          <p:nvPr/>
        </p:nvSpPr>
        <p:spPr>
          <a:xfrm>
            <a:off x="5334120" y="5029200"/>
            <a:ext cx="457200" cy="38088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6"/>
          <p:cNvSpPr/>
          <p:nvPr/>
        </p:nvSpPr>
        <p:spPr>
          <a:xfrm>
            <a:off x="5334120" y="5029200"/>
            <a:ext cx="457200" cy="380880"/>
          </a:xfrm>
          <a:prstGeom prst="pie">
            <a:avLst/>
          </a:prstGeom>
          <a:solidFill>
            <a:srgbClr val="ff0066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37"/>
          <p:cNvSpPr/>
          <p:nvPr/>
        </p:nvSpPr>
        <p:spPr>
          <a:xfrm>
            <a:off x="388620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38"/>
          <p:cNvSpPr/>
          <p:nvPr/>
        </p:nvSpPr>
        <p:spPr>
          <a:xfrm>
            <a:off x="388620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441972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40"/>
          <p:cNvSpPr/>
          <p:nvPr/>
        </p:nvSpPr>
        <p:spPr>
          <a:xfrm>
            <a:off x="4419720" y="57150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3809880" y="1371600"/>
            <a:ext cx="1526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2"/>
          <p:cNvSpPr/>
          <p:nvPr/>
        </p:nvSpPr>
        <p:spPr>
          <a:xfrm>
            <a:off x="3809880" y="1371600"/>
            <a:ext cx="15264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4572000" y="1371600"/>
            <a:ext cx="1522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4572000" y="1371600"/>
            <a:ext cx="15228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3505320" y="1523880"/>
            <a:ext cx="16002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7"/>
          <p:cNvSpPr/>
          <p:nvPr/>
        </p:nvSpPr>
        <p:spPr>
          <a:xfrm>
            <a:off x="3505320" y="1523880"/>
            <a:ext cx="16002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8"/>
          <p:cNvSpPr/>
          <p:nvPr/>
        </p:nvSpPr>
        <p:spPr>
          <a:xfrm>
            <a:off x="3505320" y="3048120"/>
            <a:ext cx="16002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9"/>
          <p:cNvSpPr/>
          <p:nvPr/>
        </p:nvSpPr>
        <p:spPr>
          <a:xfrm>
            <a:off x="3505320" y="3048120"/>
            <a:ext cx="16002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0"/>
          <p:cNvSpPr/>
          <p:nvPr/>
        </p:nvSpPr>
        <p:spPr>
          <a:xfrm>
            <a:off x="3505320" y="3429000"/>
            <a:ext cx="1676160" cy="1066680"/>
          </a:xfrm>
          <a:prstGeom prst="pi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3505320" y="3429000"/>
            <a:ext cx="1676160" cy="1066680"/>
          </a:xfrm>
          <a:prstGeom prst="pi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3"/>
          <p:cNvSpPr/>
          <p:nvPr/>
        </p:nvSpPr>
        <p:spPr>
          <a:xfrm>
            <a:off x="3048120" y="3886200"/>
            <a:ext cx="228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4"/>
          <p:cNvSpPr/>
          <p:nvPr/>
        </p:nvSpPr>
        <p:spPr>
          <a:xfrm>
            <a:off x="3048120" y="3886200"/>
            <a:ext cx="228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5"/>
          <p:cNvSpPr/>
          <p:nvPr/>
        </p:nvSpPr>
        <p:spPr>
          <a:xfrm>
            <a:off x="5486400" y="3886200"/>
            <a:ext cx="228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6"/>
          <p:cNvSpPr/>
          <p:nvPr/>
        </p:nvSpPr>
        <p:spPr>
          <a:xfrm>
            <a:off x="5486400" y="3886200"/>
            <a:ext cx="228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7"/>
          <p:cNvSpPr/>
          <p:nvPr/>
        </p:nvSpPr>
        <p:spPr>
          <a:xfrm>
            <a:off x="3962520" y="4648320"/>
            <a:ext cx="228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8"/>
          <p:cNvSpPr/>
          <p:nvPr/>
        </p:nvSpPr>
        <p:spPr>
          <a:xfrm>
            <a:off x="3962520" y="4648320"/>
            <a:ext cx="228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9"/>
          <p:cNvSpPr/>
          <p:nvPr/>
        </p:nvSpPr>
        <p:spPr>
          <a:xfrm>
            <a:off x="4495680" y="4648320"/>
            <a:ext cx="228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0"/>
          <p:cNvSpPr/>
          <p:nvPr/>
        </p:nvSpPr>
        <p:spPr>
          <a:xfrm>
            <a:off x="4495680" y="4648320"/>
            <a:ext cx="228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0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500"/>
                            </p:stCondLst>
                            <p:childTnLst>
                              <p:par>
                                <p:cTn id="75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7000"/>
                            </p:stCondLst>
                            <p:childTnLst>
                              <p:par>
                                <p:cTn id="7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17:59:48Z</dcterms:created>
  <dc:creator/>
  <dc:description/>
  <dc:language>en-US</dc:language>
  <cp:lastModifiedBy>dreamsummit</cp:lastModifiedBy>
  <dcterms:modified xsi:type="dcterms:W3CDTF">2015-06-18T09:23:05Z</dcterms:modified>
  <cp:revision>19</cp:revision>
  <dc:subject/>
  <dc:title>幻灯片 1</dc:title>
</cp:coreProperties>
</file>