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8CF4-3B64-4CF2-898F-C720B7B6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6A9-4EBE-4AB8-AFEA-741FED0D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2FA-5A05-4B59-92C8-45D4FBE2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4E1-377B-465C-8D86-D7081E71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EDB-9CEF-4832-9017-930108A4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4C5-B01F-49E9-8434-C344D2A1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F21-F816-43C0-B243-62F52ADE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3780-927B-413A-BFFE-25E3B014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AD8-C02C-4BFB-8586-5F49D960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23A-A439-4F31-98EB-2D88D111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6EA0-83BD-4E9B-8BA7-D3D1F548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F33-9FBA-4879-A43C-057119A3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CA23-2033-4A0F-9930-6D6B2ED178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六单元 数据的表示和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60" descr="1.png"/>
          <p:cNvPicPr/>
          <p:nvPr/>
        </p:nvPicPr>
        <p:blipFill>
          <a:blip r:embed="rId2"/>
          <a:stretch/>
        </p:blipFill>
        <p:spPr>
          <a:xfrm>
            <a:off x="2556000" y="2394000"/>
            <a:ext cx="4392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Box 2"/>
          <p:cNvSpPr/>
          <p:nvPr/>
        </p:nvSpPr>
        <p:spPr>
          <a:xfrm>
            <a:off x="1860480" y="588960"/>
            <a:ext cx="58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笑笑栽的蒜苗生长情况统计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"/>
          <p:cNvGraphicFramePr/>
          <p:nvPr/>
        </p:nvGraphicFramePr>
        <p:xfrm>
          <a:off x="611280" y="1268280"/>
          <a:ext cx="8136000" cy="914400"/>
        </p:xfrm>
        <a:graphic>
          <a:graphicData uri="http://schemas.openxmlformats.org/drawingml/2006/table">
            <a:tbl>
              <a:tblPr/>
              <a:tblGrid>
                <a:gridCol w="1871640"/>
                <a:gridCol w="1044360"/>
                <a:gridCol w="1044720"/>
                <a:gridCol w="1042920"/>
                <a:gridCol w="1044720"/>
                <a:gridCol w="1044360"/>
                <a:gridCol w="10432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几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13680">
                      <a:solidFill>
                        <a:srgbClr val="e72dc4"/>
                      </a:solidFill>
                    </a:lnT>
                    <a:lnB w="576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13680">
                      <a:solidFill>
                        <a:srgbClr val="e72dc4"/>
                      </a:solidFill>
                    </a:lnT>
                    <a:lnB w="576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13680">
                      <a:solidFill>
                        <a:srgbClr val="e72dc4"/>
                      </a:solidFill>
                    </a:lnT>
                    <a:lnB w="576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13680">
                      <a:solidFill>
                        <a:srgbClr val="e72dc4"/>
                      </a:solidFill>
                    </a:lnT>
                    <a:lnB w="576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13680">
                      <a:solidFill>
                        <a:srgbClr val="e72dc4"/>
                      </a:solidFill>
                    </a:lnT>
                    <a:lnB w="576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13680">
                      <a:solidFill>
                        <a:srgbClr val="e72dc4"/>
                      </a:solidFill>
                    </a:lnT>
                    <a:lnB w="576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13680">
                      <a:solidFill>
                        <a:srgbClr val="e72dc4"/>
                      </a:solidFill>
                    </a:lnR>
                    <a:lnT w="13680">
                      <a:solidFill>
                        <a:srgbClr val="e72dc4"/>
                      </a:solidFill>
                    </a:lnT>
                    <a:lnB w="5760">
                      <a:solidFill>
                        <a:srgbClr val="e72dc4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蒜苗高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厘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5760">
                      <a:solidFill>
                        <a:srgbClr val="e72dc4"/>
                      </a:solidFill>
                    </a:lnT>
                    <a:lnB w="1368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5760">
                      <a:solidFill>
                        <a:srgbClr val="e72dc4"/>
                      </a:solidFill>
                    </a:lnT>
                    <a:lnB w="1368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5760">
                      <a:solidFill>
                        <a:srgbClr val="e72dc4"/>
                      </a:solidFill>
                    </a:lnT>
                    <a:lnB w="1368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5760">
                      <a:solidFill>
                        <a:srgbClr val="e72dc4"/>
                      </a:solidFill>
                    </a:lnT>
                    <a:lnB w="1368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5760">
                      <a:solidFill>
                        <a:srgbClr val="e72dc4"/>
                      </a:solidFill>
                    </a:lnT>
                    <a:lnB w="1368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5760">
                      <a:solidFill>
                        <a:srgbClr val="e72dc4"/>
                      </a:solidFill>
                    </a:lnR>
                    <a:lnT w="5760">
                      <a:solidFill>
                        <a:srgbClr val="e72dc4"/>
                      </a:solidFill>
                    </a:lnT>
                    <a:lnB w="13680">
                      <a:solidFill>
                        <a:srgbClr val="e72dc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72dc4"/>
                      </a:solidFill>
                    </a:lnL>
                    <a:lnR w="13680">
                      <a:solidFill>
                        <a:srgbClr val="e72dc4"/>
                      </a:solidFill>
                    </a:lnR>
                    <a:lnT w="5760">
                      <a:solidFill>
                        <a:srgbClr val="e72dc4"/>
                      </a:solidFill>
                    </a:lnT>
                    <a:lnB w="13680">
                      <a:solidFill>
                        <a:srgbClr val="e72dc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3" name="TextBox 2"/>
          <p:cNvSpPr/>
          <p:nvPr/>
        </p:nvSpPr>
        <p:spPr>
          <a:xfrm>
            <a:off x="781200" y="2257560"/>
            <a:ext cx="75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一认，说一说，下面这幅图是怎么得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" descr=""/>
          <p:cNvPicPr/>
          <p:nvPr/>
        </p:nvPicPr>
        <p:blipFill>
          <a:blip r:embed="rId1"/>
          <a:stretch/>
        </p:blipFill>
        <p:spPr>
          <a:xfrm>
            <a:off x="527040" y="2313000"/>
            <a:ext cx="372960" cy="39672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"/>
          <p:cNvPicPr/>
          <p:nvPr/>
        </p:nvPicPr>
        <p:blipFill>
          <a:blip r:embed="rId2"/>
          <a:stretch/>
        </p:blipFill>
        <p:spPr>
          <a:xfrm>
            <a:off x="1332000" y="2757600"/>
            <a:ext cx="633564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Box 2"/>
          <p:cNvSpPr/>
          <p:nvPr/>
        </p:nvSpPr>
        <p:spPr>
          <a:xfrm>
            <a:off x="4284720" y="1719360"/>
            <a:ext cx="47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笑笑栽的蒜苗生长情况统计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2"/>
          <p:cNvSpPr/>
          <p:nvPr/>
        </p:nvSpPr>
        <p:spPr>
          <a:xfrm>
            <a:off x="781200" y="1197000"/>
            <a:ext cx="3503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观察折线统计图，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这几天蒜苗的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长情况是怎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527040" y="1252440"/>
            <a:ext cx="372960" cy="39708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3" descr=""/>
          <p:cNvPicPr/>
          <p:nvPr/>
        </p:nvPicPr>
        <p:blipFill>
          <a:blip r:embed="rId2"/>
          <a:stretch/>
        </p:blipFill>
        <p:spPr>
          <a:xfrm>
            <a:off x="4427640" y="2181240"/>
            <a:ext cx="4535280" cy="2903400"/>
          </a:xfrm>
          <a:prstGeom prst="rect">
            <a:avLst/>
          </a:prstGeom>
          <a:ln w="0">
            <a:noFill/>
          </a:ln>
        </p:spPr>
      </p:pic>
      <p:sp>
        <p:nvSpPr>
          <p:cNvPr id="730" name="TextBox 2"/>
          <p:cNvSpPr/>
          <p:nvPr/>
        </p:nvSpPr>
        <p:spPr>
          <a:xfrm>
            <a:off x="793800" y="2773440"/>
            <a:ext cx="3503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，哪段时间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苗长得最快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" descr=""/>
          <p:cNvPicPr/>
          <p:nvPr/>
        </p:nvPicPr>
        <p:blipFill>
          <a:blip r:embed="rId3"/>
          <a:stretch/>
        </p:blipFill>
        <p:spPr>
          <a:xfrm>
            <a:off x="539640" y="2828880"/>
            <a:ext cx="373320" cy="395280"/>
          </a:xfrm>
          <a:prstGeom prst="rect">
            <a:avLst/>
          </a:prstGeom>
          <a:ln w="0">
            <a:noFill/>
          </a:ln>
        </p:spPr>
      </p:pic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Box 2"/>
          <p:cNvSpPr/>
          <p:nvPr/>
        </p:nvSpPr>
        <p:spPr>
          <a:xfrm>
            <a:off x="781200" y="1197000"/>
            <a:ext cx="7751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你栽的蒜苗生长情况，在附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格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纸上绘出折线统计图，并与同伴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" descr=""/>
          <p:cNvPicPr/>
          <p:nvPr/>
        </p:nvPicPr>
        <p:blipFill>
          <a:blip r:embed="rId1"/>
          <a:stretch/>
        </p:blipFill>
        <p:spPr>
          <a:xfrm>
            <a:off x="527040" y="1305000"/>
            <a:ext cx="372960" cy="3952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2" descr=""/>
          <p:cNvPicPr/>
          <p:nvPr/>
        </p:nvPicPr>
        <p:blipFill>
          <a:blip r:embed="rId2"/>
          <a:stretch/>
        </p:blipFill>
        <p:spPr>
          <a:xfrm>
            <a:off x="1403280" y="2322360"/>
            <a:ext cx="6448320" cy="4164120"/>
          </a:xfrm>
          <a:prstGeom prst="rect">
            <a:avLst/>
          </a:prstGeom>
          <a:ln w="0">
            <a:noFill/>
          </a:ln>
        </p:spPr>
      </p:pic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42" name="TextBox 9"/>
          <p:cNvSpPr/>
          <p:nvPr/>
        </p:nvSpPr>
        <p:spPr>
          <a:xfrm>
            <a:off x="496800" y="1413000"/>
            <a:ext cx="78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把室内气温的变化画成下面的统计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23800" y="4494240"/>
            <a:ext cx="836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每隔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测量一次气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一天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: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: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气温从总体上说是如何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再提出一个数学问题，并尝试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25" descr=""/>
          <p:cNvPicPr/>
          <p:nvPr/>
        </p:nvPicPr>
        <p:blipFill>
          <a:blip r:embed="rId2"/>
          <a:stretch/>
        </p:blipFill>
        <p:spPr>
          <a:xfrm>
            <a:off x="1547640" y="1989000"/>
            <a:ext cx="56962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46" name="TextBox 9"/>
          <p:cNvSpPr/>
          <p:nvPr/>
        </p:nvSpPr>
        <p:spPr>
          <a:xfrm>
            <a:off x="496800" y="1413000"/>
            <a:ext cx="78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境小调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9"/>
          <p:cNvSpPr/>
          <p:nvPr/>
        </p:nvSpPr>
        <p:spPr>
          <a:xfrm>
            <a:off x="523800" y="5499000"/>
            <a:ext cx="83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对目前的环境状况满意吗？谈谈自己的理由，并尝试提出一些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1531800" y="1968480"/>
            <a:ext cx="51404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5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7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17T12:50:26Z</dcterms:modified>
  <cp:revision>3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0216000000000001024140</vt:lpwstr>
  </property>
</Properties>
</file>