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A33F-4D78-4112-855F-7A30D8DCD0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EDB-767E-4996-B0E1-BC5334AD55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978-41DA-4E13-93F8-67CECB71AF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686E-0C01-434E-91B1-E096FAEABD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5B0-CF91-4136-AB74-7B57535B2E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2344-B2F2-4705-8293-E274510DFD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58B-D5B1-4C0E-9090-CADA4BD6C0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70D-4407-4BDB-9E8F-97D81FB9F0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849F-DC3C-49F0-8A6B-932F88F6D4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CBE-2393-41F4-AC2A-47003C304D9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1E66-8ABD-4F03-9CF8-D7BB5A7796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36E-D6CA-4D53-8F43-2DFBFC6ECA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DC06-32CC-415F-A10E-BA89CC0C47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3FD-FB9E-4D6B-881B-A108BE6B82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78B5-96F8-4016-8EF9-EEFEA192B1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4842-7F41-460D-8692-E05D918DA2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D613-0765-48CC-9D81-814BEE259E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909-6A76-4413-8494-6A666BE703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E78-9BE1-4223-B0A1-F09C83BE51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39C3-6D80-482F-B6C0-ACB5173873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B8A3-05A0-4867-8BC0-D490571755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81A-1CB8-4057-96C7-C77F8BB0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3E4-E7C2-49A9-87BD-62BEED70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ABB-94E9-44FC-AEB8-CF513B3F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535-B11F-4F20-949D-314BDE00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980B-55E4-41DD-B785-67CCC3A3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4AC-EC35-4C19-A666-AF7274D4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9375-C8D2-43AF-A89E-517A5979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EBD-2DC9-4BD3-9907-DEFAADB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640D-97D7-40B8-8727-A4EAAB3E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A729-2EF9-4D74-9B5F-38DB1BC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58DA-CAAB-441E-A278-A6F097C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9EE-ACF9-4EB1-9190-3BF2784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304-3E28-44EC-A0E0-D4150A7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5EB-CFB4-4D48-A423-FA12864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51BF-2051-4016-A510-77AF00F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51FA-78CD-4F1A-AB35-43CCA2B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BA1-5B5F-449F-AF85-9B53351E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40BA-813D-494A-B047-3E3637A4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4589-BA4B-44AD-AD09-5B5B013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BC7C-ECFC-423F-B540-BB2ECB06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D70F-AC7C-42B6-B702-191349DF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4E24-899F-48C9-9557-5ED552C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6F3-DD08-493D-96D6-451B096D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3E4D-AEE5-412B-9310-A2809DFE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7C73-59E4-4FD9-81C6-FB6F8A0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1322-6D2A-42C5-857F-2355788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A19F-2C7F-41D3-8F8C-1CF93F5E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63FD-D4ED-4979-8829-937221D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0511-6A98-4802-97C2-EB953B13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6700-7B09-439B-8A40-B5346CA1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237D-88A9-401F-A8D0-11E776CD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128C-2EB8-403E-9D22-43CBCE5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43CE-1FD4-44D3-B9CA-C925FF16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E5D-1AF7-40EC-80FC-57937F6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E772-594D-4075-8193-E3897C8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372F9-E23C-4256-AAFE-75586BB1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A255-5320-49A4-8E35-7EA69B56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A78A-4A04-4A1C-94B6-3D61275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03F8-752C-48F6-8F3B-1A3F539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CD95-0F82-41E6-BF2F-C33FA7C7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B2E2-EA38-4FB8-8E16-4C39BC00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F9829-E0E7-4705-823B-DE709766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DEF3-1398-494D-A94A-0280E463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F12DA-AB32-4724-94BF-72831B30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5C8-AF55-4EDD-8675-51A4D151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54E5-AE0E-42D8-B6A9-8793BCBA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127C2-EA86-4D62-8110-DFDD3318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39A7-E0AE-4504-A5B8-F708EA0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DBEB-1F9E-4102-AB6F-C4986E0B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788E-B3F2-492C-BBEF-452D76AA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CC3A-F982-47A1-A16C-7A1ED56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2B25-B369-4DF8-845D-EBA0149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EB08-2737-4E86-863F-B84A4269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8851-69A2-4720-B4F8-B1727AE3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C68D-7293-4F94-89D5-2EEEA00A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0AA-B5E7-48B3-BB08-D39D1F0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03DA-D849-46B6-82B7-FC9029DA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62DAA-CEF6-4C34-98B0-2AE4FB0D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0FAF-4743-444A-BEDC-EC0B2C9E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2D2F1-34B4-48BD-96CE-FE646E53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1EF6-9856-43C4-AF32-BD23F5D2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CE44-D7ED-417F-9FEE-3469E5C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CBCD-F086-4B07-A912-906FF7D2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F086-C775-42E9-A659-9CB127F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C1D3-70FD-4D88-B501-058C7966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7B0D-4590-4E09-ACA1-9FD94351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05C-378E-4ED3-8A92-BE909A2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8EAB-F026-4487-B221-556998FE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7CDD-0524-4E1D-BEA3-DDF59FCF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4A1C-20ED-4108-AEBE-E965F731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67A-7B29-490C-AC38-347ABD84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084-498B-4FA0-ACFD-6B4020B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6177-7B56-4249-908F-A431134402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BE8-8473-4066-A4D5-DDA2663310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2B69-5750-4128-804F-5848D40D8A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36F-E8E5-4940-8EEF-6307AD10EE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2A3-1D36-4629-AE7F-5398667739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1E8-E020-4507-9CA0-DBA74F1799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124000" y="112392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3.4</a:t>
            </a:r>
            <a:r>
              <a:rPr b="1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乘数末尾有</a:t>
            </a:r>
            <a:r>
              <a:rPr b="1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0</a:t>
            </a:r>
            <a:r>
              <a:rPr b="1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的乘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线连接符 21"/>
          <p:cNvSpPr/>
          <p:nvPr/>
        </p:nvSpPr>
        <p:spPr>
          <a:xfrm>
            <a:off x="2700360" y="2205000"/>
            <a:ext cx="5832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349360"/>
            <a:ext cx="5167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79280" y="981000"/>
            <a:ext cx="943452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数末尾有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三位数乘两位数的笔算：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乘数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时，把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部分末尾对齐先乘，再看两个乘数的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一共有几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最后在乘得的数末尾添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681200" y="3860640"/>
            <a:ext cx="5474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数末尾有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计算口诀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简便方法提速度，先乘前面的数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数末尾几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得数后面要补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937440" y="909720"/>
            <a:ext cx="58701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多位数末尾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时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样可以运用此种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计算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1000×220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358280" y="2852640"/>
            <a:ext cx="5495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竖式时将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末尾对齐先乘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在乘得的数的末尾添上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71"/>
          <p:cNvSpPr/>
          <p:nvPr/>
        </p:nvSpPr>
        <p:spPr>
          <a:xfrm>
            <a:off x="2275560" y="10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引入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3" descr="pic_95619[1]"/>
          <p:cNvPicPr/>
          <p:nvPr/>
        </p:nvPicPr>
        <p:blipFill>
          <a:blip r:embed="rId1"/>
          <a:srcRect l="22957" t="10790" r="50008" b="80182"/>
          <a:stretch/>
        </p:blipFill>
        <p:spPr>
          <a:xfrm>
            <a:off x="755640" y="1413000"/>
            <a:ext cx="3095640" cy="1182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4" descr="pic_95619[1]"/>
          <p:cNvPicPr/>
          <p:nvPr/>
        </p:nvPicPr>
        <p:blipFill>
          <a:blip r:embed="rId2"/>
          <a:srcRect l="22957" t="22629" r="50008" b="68389"/>
          <a:stretch/>
        </p:blipFill>
        <p:spPr>
          <a:xfrm>
            <a:off x="4716360" y="1052640"/>
            <a:ext cx="3097440" cy="14619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75"/>
          <p:cNvSpPr/>
          <p:nvPr/>
        </p:nvSpPr>
        <p:spPr>
          <a:xfrm>
            <a:off x="1433520" y="270720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快列车１小时可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6"/>
          <p:cNvSpPr/>
          <p:nvPr/>
        </p:nvSpPr>
        <p:spPr>
          <a:xfrm>
            <a:off x="4572000" y="278028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列车１小时可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78" descr="pic_95619[1]"/>
          <p:cNvPicPr/>
          <p:nvPr/>
        </p:nvPicPr>
        <p:blipFill>
          <a:blip r:embed="rId3"/>
          <a:srcRect l="19758" t="33209" r="26140" b="58964"/>
          <a:stretch/>
        </p:blipFill>
        <p:spPr>
          <a:xfrm>
            <a:off x="539640" y="3068640"/>
            <a:ext cx="5112000" cy="1050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79"/>
          <p:cNvSpPr/>
          <p:nvPr/>
        </p:nvSpPr>
        <p:spPr>
          <a:xfrm>
            <a:off x="5110200" y="5660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80"/>
          <p:cNvSpPr/>
          <p:nvPr/>
        </p:nvSpPr>
        <p:spPr>
          <a:xfrm>
            <a:off x="395280" y="407664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）特快列车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小时可行多少千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81"/>
          <p:cNvSpPr/>
          <p:nvPr/>
        </p:nvSpPr>
        <p:spPr>
          <a:xfrm>
            <a:off x="4932360" y="3933720"/>
            <a:ext cx="42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）普通列车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小时可行多少千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82"/>
          <p:cNvSpPr/>
          <p:nvPr/>
        </p:nvSpPr>
        <p:spPr>
          <a:xfrm>
            <a:off x="965160" y="57348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0×3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83"/>
          <p:cNvSpPr/>
          <p:nvPr/>
        </p:nvSpPr>
        <p:spPr>
          <a:xfrm>
            <a:off x="5573520" y="56631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6×3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84"/>
          <p:cNvSpPr/>
          <p:nvPr/>
        </p:nvSpPr>
        <p:spPr>
          <a:xfrm>
            <a:off x="1097280" y="51591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个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6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85"/>
          <p:cNvSpPr/>
          <p:nvPr/>
        </p:nvSpPr>
        <p:spPr>
          <a:xfrm>
            <a:off x="5777280" y="501480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个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同侧圆角矩形 16"/>
          <p:cNvSpPr/>
          <p:nvPr/>
        </p:nvSpPr>
        <p:spPr>
          <a:xfrm>
            <a:off x="395280" y="6922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线连接符 21"/>
          <p:cNvSpPr/>
          <p:nvPr/>
        </p:nvSpPr>
        <p:spPr>
          <a:xfrm flipV="1">
            <a:off x="395280" y="1268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0"/>
          <p:cNvSpPr/>
          <p:nvPr/>
        </p:nvSpPr>
        <p:spPr>
          <a:xfrm>
            <a:off x="999720" y="9828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60×3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5"/>
          <p:cNvSpPr/>
          <p:nvPr/>
        </p:nvSpPr>
        <p:spPr>
          <a:xfrm>
            <a:off x="4500720" y="1125360"/>
            <a:ext cx="27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6×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62"/>
          <p:cNvSpPr/>
          <p:nvPr/>
        </p:nvSpPr>
        <p:spPr>
          <a:xfrm>
            <a:off x="1908000" y="22888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生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60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生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：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×30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×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00                            4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4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800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4"/>
          <p:cNvSpPr/>
          <p:nvPr/>
        </p:nvSpPr>
        <p:spPr>
          <a:xfrm>
            <a:off x="3203640" y="3573360"/>
            <a:ext cx="86364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65"/>
          <p:cNvSpPr/>
          <p:nvPr/>
        </p:nvSpPr>
        <p:spPr>
          <a:xfrm>
            <a:off x="3137040" y="342900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7308720" y="2349360"/>
            <a:ext cx="0" cy="1729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67"/>
          <p:cNvSpPr/>
          <p:nvPr/>
        </p:nvSpPr>
        <p:spPr>
          <a:xfrm>
            <a:off x="7454880" y="3357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8"/>
          <p:cNvSpPr/>
          <p:nvPr/>
        </p:nvSpPr>
        <p:spPr>
          <a:xfrm>
            <a:off x="7239240" y="3429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692352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简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 L 0.0026 0.10324 E">
                                      <p:cBhvr>
                                        <p:cTn id="24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1.11111E-006 L 0.00642 -1.11111E-006 C 0.01007 -1.11111E-006 0.01493 0.01296 0.01493 0.02408 L 0.01493 0.04838 E">
                                      <p:cBhvr>
                                        <p:cTn id="24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60"/>
          <p:cNvSpPr/>
          <p:nvPr/>
        </p:nvSpPr>
        <p:spPr>
          <a:xfrm>
            <a:off x="220248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探究新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61"/>
          <p:cNvSpPr/>
          <p:nvPr/>
        </p:nvSpPr>
        <p:spPr>
          <a:xfrm>
            <a:off x="2484720" y="981000"/>
            <a:ext cx="27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6×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3"/>
          <p:cNvSpPr/>
          <p:nvPr/>
        </p:nvSpPr>
        <p:spPr>
          <a:xfrm>
            <a:off x="0" y="183600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①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口算：先用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106×3=318   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再在积的末尾添上一个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381960" y="3211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②</a:t>
            </a:r>
            <a:r>
              <a:rPr b="0" lang="zh-CN" sz="2400" spc="-1" strike="noStrike">
                <a:solidFill>
                  <a:srgbClr val="0000ff"/>
                </a:solidFill>
                <a:latin typeface="Calibri"/>
              </a:rPr>
              <a:t>笔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496880" y="2464560"/>
            <a:ext cx="553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6                        1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× 30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×       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00                      31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318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1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2916360" y="3789360"/>
            <a:ext cx="79200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67"/>
          <p:cNvSpPr/>
          <p:nvPr/>
        </p:nvSpPr>
        <p:spPr>
          <a:xfrm>
            <a:off x="5219640" y="2637000"/>
            <a:ext cx="0" cy="1871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71"/>
          <p:cNvSpPr/>
          <p:nvPr/>
        </p:nvSpPr>
        <p:spPr>
          <a:xfrm>
            <a:off x="2521800" y="544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正确不简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72"/>
          <p:cNvSpPr/>
          <p:nvPr/>
        </p:nvSpPr>
        <p:spPr>
          <a:xfrm>
            <a:off x="612216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alibri"/>
              </a:rPr>
              <a:t>简便又正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60"/>
          <p:cNvSpPr/>
          <p:nvPr/>
        </p:nvSpPr>
        <p:spPr>
          <a:xfrm>
            <a:off x="220248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探究新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5"/>
          <p:cNvSpPr/>
          <p:nvPr/>
        </p:nvSpPr>
        <p:spPr>
          <a:xfrm>
            <a:off x="563040" y="1493280"/>
            <a:ext cx="6282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6                                     1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× 30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×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080                                  3180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7"/>
          <p:cNvSpPr/>
          <p:nvPr/>
        </p:nvSpPr>
        <p:spPr>
          <a:xfrm>
            <a:off x="1403280" y="1700280"/>
            <a:ext cx="0" cy="1871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68"/>
          <p:cNvSpPr/>
          <p:nvPr/>
        </p:nvSpPr>
        <p:spPr>
          <a:xfrm>
            <a:off x="5867280" y="1628640"/>
            <a:ext cx="0" cy="1871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9"/>
          <p:cNvSpPr/>
          <p:nvPr/>
        </p:nvSpPr>
        <p:spPr>
          <a:xfrm>
            <a:off x="5295240" y="2637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70"/>
          <p:cNvSpPr/>
          <p:nvPr/>
        </p:nvSpPr>
        <p:spPr>
          <a:xfrm>
            <a:off x="902520" y="25653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同侧圆角矩形 16"/>
          <p:cNvSpPr/>
          <p:nvPr/>
        </p:nvSpPr>
        <p:spPr>
          <a:xfrm>
            <a:off x="39528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题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直线连接符 21"/>
          <p:cNvSpPr/>
          <p:nvPr/>
        </p:nvSpPr>
        <p:spPr>
          <a:xfrm flipV="1">
            <a:off x="39528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156360" y="4076640"/>
            <a:ext cx="2779560" cy="1944720"/>
          </a:xfrm>
          <a:prstGeom prst="rect">
            <a:avLst/>
          </a:prstGeom>
          <a:ln w="0">
            <a:noFill/>
          </a:ln>
        </p:spPr>
      </p:pic>
      <p:sp>
        <p:nvSpPr>
          <p:cNvPr id="344" name="矩形 19"/>
          <p:cNvSpPr/>
          <p:nvPr/>
        </p:nvSpPr>
        <p:spPr>
          <a:xfrm>
            <a:off x="1814400" y="3789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不能忘记加每次计算时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进位数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20"/>
          <p:cNvSpPr/>
          <p:nvPr/>
        </p:nvSpPr>
        <p:spPr>
          <a:xfrm rot="18297600">
            <a:off x="768240" y="2251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21"/>
          <p:cNvSpPr/>
          <p:nvPr/>
        </p:nvSpPr>
        <p:spPr>
          <a:xfrm rot="18297600">
            <a:off x="4800240" y="2107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33"/>
          <p:cNvSpPr/>
          <p:nvPr/>
        </p:nvSpPr>
        <p:spPr>
          <a:xfrm>
            <a:off x="3276720" y="981000"/>
            <a:ext cx="3168360" cy="100800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4"/>
          <p:cNvSpPr/>
          <p:nvPr/>
        </p:nvSpPr>
        <p:spPr>
          <a:xfrm>
            <a:off x="3878280" y="1125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数学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门诊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35"/>
          <p:cNvSpPr/>
          <p:nvPr/>
        </p:nvSpPr>
        <p:spPr>
          <a:xfrm>
            <a:off x="0" y="2424960"/>
            <a:ext cx="8964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计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5×10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时，十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和十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相乘这一步，积反正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可以省略不写。（    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计算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25×1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时，积的末尾没有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。（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3)650×4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600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）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36"/>
          <p:cNvSpPr/>
          <p:nvPr/>
        </p:nvSpPr>
        <p:spPr>
          <a:xfrm>
            <a:off x="7858080" y="263700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7"/>
          <p:cNvSpPr/>
          <p:nvPr/>
        </p:nvSpPr>
        <p:spPr>
          <a:xfrm>
            <a:off x="8361360" y="37893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8"/>
          <p:cNvSpPr/>
          <p:nvPr/>
        </p:nvSpPr>
        <p:spPr>
          <a:xfrm>
            <a:off x="7497720" y="486900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同侧圆角矩形 8"/>
          <p:cNvSpPr/>
          <p:nvPr/>
        </p:nvSpPr>
        <p:spPr>
          <a:xfrm>
            <a:off x="39528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 flipV="1">
            <a:off x="395280" y="1341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3"/>
          <p:cNvSpPr/>
          <p:nvPr/>
        </p:nvSpPr>
        <p:spPr>
          <a:xfrm>
            <a:off x="1258920" y="692280"/>
            <a:ext cx="3168720" cy="100800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403280" y="836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选择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”超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1177200" y="1624680"/>
            <a:ext cx="36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)400×5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最简便的写法是（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1" descr="wps_clip_image-0"/>
          <p:cNvPicPr/>
          <p:nvPr/>
        </p:nvPicPr>
        <p:blipFill>
          <a:blip r:embed="rId1"/>
          <a:stretch/>
        </p:blipFill>
        <p:spPr>
          <a:xfrm>
            <a:off x="755640" y="2130480"/>
            <a:ext cx="3960720" cy="1033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2"/>
          <p:cNvSpPr/>
          <p:nvPr/>
        </p:nvSpPr>
        <p:spPr>
          <a:xfrm>
            <a:off x="910080" y="3138120"/>
            <a:ext cx="641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两位数与三位数最小的积是（            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000             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00             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56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积的末尾有（         ）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             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4)508×4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它们的积是（             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20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320                  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3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4613040" y="155412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189400" y="313848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4317120" y="52293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4461840" y="42228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9"/>
          <p:cNvSpPr/>
          <p:nvPr/>
        </p:nvSpPr>
        <p:spPr>
          <a:xfrm>
            <a:off x="1116000" y="765000"/>
            <a:ext cx="3168720" cy="100836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1814760" y="9367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设计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”广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1"/>
          <p:cNvSpPr/>
          <p:nvPr/>
        </p:nvSpPr>
        <p:spPr>
          <a:xfrm>
            <a:off x="1550160" y="2564280"/>
            <a:ext cx="432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（ ）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（ ）＝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2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621000" y="41482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×2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2710080" y="41482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2×1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2637000" y="486900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20×1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2710080" y="573264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200×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37"/>
          <p:cNvSpPr/>
          <p:nvPr/>
        </p:nvSpPr>
        <p:spPr>
          <a:xfrm>
            <a:off x="4861080" y="4148280"/>
            <a:ext cx="14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×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38"/>
          <p:cNvSpPr/>
          <p:nvPr/>
        </p:nvSpPr>
        <p:spPr>
          <a:xfrm>
            <a:off x="5004000" y="48690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0×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39"/>
          <p:cNvSpPr/>
          <p:nvPr/>
        </p:nvSpPr>
        <p:spPr>
          <a:xfrm>
            <a:off x="5004000" y="56610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00×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40"/>
          <p:cNvSpPr/>
          <p:nvPr/>
        </p:nvSpPr>
        <p:spPr>
          <a:xfrm>
            <a:off x="7380360" y="414828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4×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7380360" y="48690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40×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7308720" y="56610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400×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43"/>
          <p:cNvSpPr/>
          <p:nvPr/>
        </p:nvSpPr>
        <p:spPr>
          <a:xfrm>
            <a:off x="621000" y="486900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0×2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44"/>
          <p:cNvSpPr/>
          <p:nvPr/>
        </p:nvSpPr>
        <p:spPr>
          <a:xfrm>
            <a:off x="621000" y="566100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00×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6" descr="女孩1"/>
          <p:cNvPicPr/>
          <p:nvPr/>
        </p:nvPicPr>
        <p:blipFill>
          <a:blip r:embed="rId1"/>
          <a:stretch/>
        </p:blipFill>
        <p:spPr>
          <a:xfrm>
            <a:off x="7302600" y="1773360"/>
            <a:ext cx="1841400" cy="218736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47"/>
          <p:cNvSpPr/>
          <p:nvPr/>
        </p:nvSpPr>
        <p:spPr>
          <a:xfrm>
            <a:off x="6084720" y="907920"/>
            <a:ext cx="1727280" cy="935280"/>
          </a:xfrm>
          <a:prstGeom prst="wedgeRoundRectCallout">
            <a:avLst>
              <a:gd name="adj1" fmla="val 27023"/>
              <a:gd name="adj2" fmla="val 88708"/>
              <a:gd name="adj3" fmla="val 16667"/>
            </a:avLst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可以填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些数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8"/>
          <p:cNvSpPr/>
          <p:nvPr/>
        </p:nvSpPr>
        <p:spPr>
          <a:xfrm>
            <a:off x="539640" y="3141720"/>
            <a:ext cx="7705800" cy="30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227556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楷体_GB2312"/>
              </a:rPr>
              <a:t>总结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5"/>
          <p:cNvSpPr/>
          <p:nvPr/>
        </p:nvSpPr>
        <p:spPr>
          <a:xfrm>
            <a:off x="468360" y="1694160"/>
            <a:ext cx="78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说说乘数中间、末尾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的乘法笔算方法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怎样确定积末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的个数？写竖式时注意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46"/>
          <p:cNvSpPr/>
          <p:nvPr/>
        </p:nvSpPr>
        <p:spPr>
          <a:xfrm>
            <a:off x="826920" y="39848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先把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前面的数相乘，再看两个乘数末尾一共有几个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则在积的末尾添写几个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7"/>
          <p:cNvSpPr/>
          <p:nvPr/>
        </p:nvSpPr>
        <p:spPr>
          <a:xfrm>
            <a:off x="2788200" y="5230800"/>
            <a:ext cx="31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写竖式时末尾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前边的数对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同侧圆角矩形 8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0"/>
          <p:cNvGrpSpPr/>
          <p:nvPr/>
        </p:nvGrpSpPr>
        <p:grpSpPr>
          <a:xfrm>
            <a:off x="395280" y="1125360"/>
            <a:ext cx="2257560" cy="569880"/>
            <a:chOff x="395280" y="1125360"/>
            <a:chExt cx="2257560" cy="569880"/>
          </a:xfrm>
        </p:grpSpPr>
        <p:sp>
          <p:nvSpPr>
            <p:cNvPr id="262" name="直线连接符 21"/>
            <p:cNvSpPr/>
            <p:nvPr/>
          </p:nvSpPr>
          <p:spPr>
            <a:xfrm flipV="1">
              <a:off x="395280" y="1689120"/>
              <a:ext cx="22575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同侧圆角矩形 23"/>
            <p:cNvSpPr/>
            <p:nvPr/>
          </p:nvSpPr>
          <p:spPr>
            <a:xfrm>
              <a:off x="579240" y="1125360"/>
              <a:ext cx="20019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"/>
          <p:cNvSpPr/>
          <p:nvPr/>
        </p:nvSpPr>
        <p:spPr>
          <a:xfrm>
            <a:off x="250920" y="275508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掌握乘数末尾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的三位数乘两位数的竖式计算方法，能熟练地进行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华文新魏"/>
              </a:rPr>
              <a:t>培养学生知识迁移及计算的能力，养成认真计算的良好学习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grpSp>
        <p:nvGrpSpPr>
          <p:cNvPr id="267" name="组合 9"/>
          <p:cNvGrpSpPr/>
          <p:nvPr/>
        </p:nvGrpSpPr>
        <p:grpSpPr>
          <a:xfrm>
            <a:off x="468360" y="981000"/>
            <a:ext cx="2071800" cy="661680"/>
            <a:chOff x="468360" y="981000"/>
            <a:chExt cx="2071800" cy="661680"/>
          </a:xfrm>
        </p:grpSpPr>
        <p:sp>
          <p:nvSpPr>
            <p:cNvPr id="268" name="同侧圆角矩形 5"/>
            <p:cNvSpPr/>
            <p:nvPr/>
          </p:nvSpPr>
          <p:spPr>
            <a:xfrm>
              <a:off x="468360" y="98100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直线连接符 21"/>
            <p:cNvSpPr/>
            <p:nvPr/>
          </p:nvSpPr>
          <p:spPr>
            <a:xfrm flipV="1">
              <a:off x="468360" y="163656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2"/>
          <p:cNvSpPr/>
          <p:nvPr/>
        </p:nvSpPr>
        <p:spPr>
          <a:xfrm>
            <a:off x="2987640" y="2276640"/>
            <a:ext cx="2041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口     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68360" y="3068640"/>
            <a:ext cx="814716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23×3=369       150×4 =600   5×600=3000   24×20 =48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324000" y="620640"/>
            <a:ext cx="8713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位数乘两位数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，用两位数的个位和十位上的数依次分别去乘三位数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用两位数哪一位上的数去乘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乘得的数的末位就和那一位对齐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把两次乘得的积相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79280" y="3284640"/>
            <a:ext cx="8713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笔算技巧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：一要注意每次乘积的末位与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数的哪一位对齐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；二要注意三位数中间有</a:t>
            </a:r>
            <a:r>
              <a:rPr b="0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时，不要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漏乘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；三要注要不能忘记加每次计算时的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进位数</a:t>
            </a:r>
            <a:r>
              <a:rPr b="0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27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同侧圆角矩形 7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>
                <a:gd name="textAreaLeft" fmla="*/ 24840 w 2000520"/>
                <a:gd name="textAreaRight" fmla="*/ 1975680 w 2000520"/>
                <a:gd name="textAreaTop" fmla="*/ 2520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lnTo>
                    <a:pt x="1914296" y="0"/>
                  </a:lnTo>
                  <a:arcTo wR="85968" hR="85968" stAng="-5400000" swAng="5400000"/>
                  <a:lnTo>
                    <a:pt x="2000264" y="515796"/>
                  </a:lnTo>
                  <a:lnTo>
                    <a:pt x="0" y="515796"/>
                  </a:lnTo>
                  <a:lnTo>
                    <a:pt x="0" y="85968"/>
                  </a:lnTo>
                  <a:lnTo>
                    <a:pt x="0" y="85968"/>
                  </a:lnTo>
                  <a:arcTo wR="85968" hR="85968" stAng="10800000" swAng="5400000"/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7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7635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600120" y="2114640"/>
            <a:ext cx="7943760" cy="2106360"/>
          </a:xfrm>
          <a:prstGeom prst="rect">
            <a:avLst/>
          </a:prstGeom>
          <a:ln w="0">
            <a:noFill/>
          </a:ln>
        </p:spPr>
      </p:pic>
      <p:sp>
        <p:nvSpPr>
          <p:cNvPr id="280" name="矩形 8"/>
          <p:cNvSpPr/>
          <p:nvPr/>
        </p:nvSpPr>
        <p:spPr>
          <a:xfrm>
            <a:off x="250920" y="4365720"/>
            <a:ext cx="86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月星小区有</a:t>
            </a: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850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平方米草坪。这种草坪每平方米每天大约能释放氧气</a:t>
            </a: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克，吸收二氧化碳</a:t>
            </a: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55640" y="5516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你了解了哪些信息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1627920" y="836640"/>
            <a:ext cx="63529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月星小区有</a:t>
            </a:r>
            <a:r>
              <a:rPr b="0" lang="en-US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850</a:t>
            </a: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平方米草坪。这种草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每平方米每天大约能释放氧气</a:t>
            </a:r>
            <a:r>
              <a:rPr b="0" lang="en-US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克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吸收二氧化碳</a:t>
            </a:r>
            <a:r>
              <a:rPr b="0" lang="en-US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20</a:t>
            </a: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月星小区的草坪每天大约能释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黑体"/>
                <a:ea typeface="华文新魏"/>
              </a:rPr>
              <a:t>氧气多少克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850×1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黑体"/>
                <a:ea typeface="黑体"/>
              </a:rPr>
              <a:t>想一想：列竖式怎样计算？先试一试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-274320" y="692640"/>
            <a:ext cx="424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8 5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                 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×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Arial"/>
              </a:rPr>
              <a:t>  1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 5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Arial"/>
              </a:rPr>
              <a:t>    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              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4 2 5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                 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 5 0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Arial"/>
              </a:rPr>
              <a:t>      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             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7 5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4005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较两个竖式，哪种简单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2662560" y="765720"/>
            <a:ext cx="398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          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8 5 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0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   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×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1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5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 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4 2 5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   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5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 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1 2 7 5 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0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39640" y="501336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第二种方法列竖式，要注意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491480" y="765000"/>
            <a:ext cx="4764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月星小区有</a:t>
            </a:r>
            <a:r>
              <a:rPr b="0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850</a:t>
            </a: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平方米草坪。这种草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每平方米每天大约能释放氧气</a:t>
            </a:r>
            <a:r>
              <a:rPr b="0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克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吸收二氧化碳</a:t>
            </a:r>
            <a:r>
              <a:rPr b="0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月星小区的草坪每天大约能吸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黑体"/>
                <a:ea typeface="华文新魏"/>
              </a:rPr>
              <a:t>二氧化碳多少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908000" y="35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850 ×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24000" y="436572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尝试用竖式计算，看怎样更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95280" y="4941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积</a:t>
            </a:r>
            <a:r>
              <a:rPr b="1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17000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后面的</a:t>
            </a:r>
            <a:r>
              <a:rPr b="1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个</a:t>
            </a:r>
            <a:r>
              <a:rPr b="1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分别是怎么来的？为什么</a:t>
            </a:r>
            <a:r>
              <a:rPr b="1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170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后面要添两个</a:t>
            </a:r>
            <a:r>
              <a:rPr b="1" lang="en-US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1f497d"/>
                </a:solidFill>
                <a:latin typeface="华文新魏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28080" y="3141360"/>
            <a:ext cx="214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3 8 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  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×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2 2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2250720" y="3128760"/>
            <a:ext cx="195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1 7 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×  6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Calibri"/>
              </a:rPr>
              <a:t>0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24000" y="486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小结：乘数末尾有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时，计算时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怎么处理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395280" y="1197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380×22            170×60                 18 ×400           500×4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4211640" y="312876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1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  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×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  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4 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Calibri"/>
              </a:rPr>
              <a:t>0 0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6985080" y="3128760"/>
            <a:ext cx="204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    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5 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0 0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×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 4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Calibri"/>
              </a:rPr>
              <a:t>0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    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            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539640" y="76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想一想，下面的算式怎样列竖式简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07:47:26Z</dcterms:created>
  <dc:creator/>
  <dc:description/>
  <dc:language>en-US</dc:language>
  <cp:lastModifiedBy/>
  <dcterms:modified xsi:type="dcterms:W3CDTF">2017-01-11T07:47:44Z</dcterms:modified>
  <cp:revision>1</cp:revision>
  <dc:subject/>
  <dc:title/>
</cp:coreProperties>
</file>