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F309-0426-4392-8CD5-D93C21410F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CCD2-6B12-41E0-8D79-C748587BFA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0CC-9F84-47F7-8897-C9613B8387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5B25-4A49-414C-9003-18F7BEDC34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66E0-2E6D-4F02-A474-4137BF8CD7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6B0A-5753-4048-9642-B8C2C5370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AC23-666F-4CBC-A79E-5A221352F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2260-DD82-4513-81EF-6A5F766A6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145-CC37-4EAC-9CAD-D5F26BC6C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052-E50F-4C51-ACA6-6E9623E0A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5040-3A2F-4B12-B71B-9FE0DC2653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3DA7-24EC-4D8B-A6DF-B7AC1FDD62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CE51-1ED2-4C3E-B8FD-B600522C1A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E5F9-5916-49D7-9231-CC9851D1C7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C46C-9BAD-407A-8106-2E2018E70C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8E16-155D-4454-AE76-84641E26F8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00C1-56C1-40D8-AB1D-49035AEDB5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0CAD-464E-4515-B4D7-B7DFE2A5D1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7BCB-6304-4E85-A4A1-796AF34CF2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992-7879-4FB4-A7AB-0A51FC6A3B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B689-EEAC-43A7-BD61-5EC65979BC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110D-6B0E-411F-89DA-CC1BB20D30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ECC2-6A90-4C92-8F10-73A2D6C8CD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78D9-982E-4EB5-A437-981819D151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011D-5041-4363-8406-1C2C924202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E96B-BDBD-4797-8FE7-FABF2A899E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7956-A492-4E00-8E2B-3A6E1A6CB9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952-9958-4812-A64B-48C42F1CE0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D076-35F2-4F3C-968C-F3870A87D7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A2AB-C71F-41BD-BE77-CAACCB67D2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589-F9C6-4EF3-8728-4F34C492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921-3BED-438B-AC8C-AFCD9A8B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F17-5FF2-4578-8136-5F49C7CF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C98-F232-414E-BB33-EE417EF3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C78B-F946-4D24-BC9C-29F3EFC3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715A-E224-43B1-A786-332E59F2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759A-2857-4270-8C5B-CAAE0C6A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90B-1599-4BDA-B0F1-937330E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BCC3-140C-49AB-9982-EB9DC25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8800-DE43-4F3F-98A2-40FE836B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FC8E-CF14-4AFB-8A6B-2270079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873-D3E5-42E0-B2BB-DDB8A6C2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8CC4-31FB-4101-95CF-A830055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9ED9-41A6-40DC-A406-850B1DD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6EEF-2C12-4B6E-9CE0-0FF6865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088D-AC92-40F9-B114-4103338F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1ADF-6EB0-41FF-96F1-936347FE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07F9-AC05-4106-8BFF-B7B7CB8A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3DD3-370E-4ECA-88C0-95E9BF94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8702-24FB-4C2C-AD54-E6F9464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2809-C149-4BEF-AC76-89D78814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8AF5-9948-4153-BB0E-C62AC60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98D-8C55-4C1B-B3D9-43C62220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101A-3E71-45EE-B0F9-7AE50358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F167-3717-4E7A-A497-4C33E82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1EE3-4EC3-44AB-A956-11CEF932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E0F3-BF68-46A5-85F6-5A9A022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A13A-543A-4913-866C-C1C8DA94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D21A-876A-4E37-BB3D-36532C0C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5E6A-AD93-4919-9675-36878424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1C6E-8D03-4B28-9A5F-B4C04CFE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80361-1254-49B4-B707-4E82186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DEA8-17EA-4239-A8C0-388CF1B0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673-D7A4-40E6-87FB-8DD20621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DB04-AE04-4EA3-9E9D-CCAC1970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7F55-10E4-4124-AD71-E7669693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5A48-15FA-4E32-AD6D-1768AD0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917D1-87A1-4F13-97F6-E9DBC74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CD6B-3D57-477A-A844-FEDB220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59DF-CB8E-44B9-A5C7-BBEE1102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B654-9514-4AFA-A35D-81A9D360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A6CB-C0BA-42ED-9DD5-0C395B6D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274F-0F9A-4831-895D-F0B28467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8D8AA-C077-493E-8B43-905A6249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BE0-FB33-45E2-BCC1-E44763FA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4E52-5460-414E-B9D8-8E352334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2B5F-295F-4B98-AA10-1BFB1C22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E3C31-EA88-4B5C-8CE2-1A4832F3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13178-3C77-4806-A06C-C06C657B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50ED-A87D-44E1-ABCC-BD02D0F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40FB-CDB9-4A99-A580-DF57D039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AADB-6FD1-428A-BD40-C9D50869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10A8-B5B3-45ED-803D-CC80026B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E41A-CC14-4698-8D75-A0F47028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43E33-87CC-4BE0-8BF2-A786CA82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991-0405-4F01-96BA-54FD8E7E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0E3A-4DEA-4DC4-939D-3857E4E3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91786-BEC4-4B79-8B93-ECF8B20E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13230-4DD0-4FF9-B215-2AF8B948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AB03B-8A65-4690-AD47-036205D4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62670-81B0-499C-83EF-08B2BAC3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2C445-6FF4-4B6D-8A9A-BE86F7C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C5797-DCF9-48D9-90E6-FAAB217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48657-E744-439C-9848-1C11CAB7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82F85-4E63-429C-9CB2-E7C3F26A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72B2-C406-4902-9078-BB5841C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F05-4FEC-4C09-92DE-916C84A9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BC70-348D-49D2-B2E3-7B39185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1F5B1-0E86-482E-BCC6-6C5D4063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34EC-ECB1-46B8-8B9D-A25FF81B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495-2C2E-4C88-A76C-5E53F0C6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01C-701D-4C70-99C9-8136E39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D73C-6C1B-4C34-95AF-5AF3DD7773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D303-84D4-4E7B-9A63-D3645E19CF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EA90-0BC9-440B-B52D-2611E9DA39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F502-EAF0-4FB5-B3FE-61C0BA48D9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CCAA-5985-4F29-B939-59B28F9EAF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22B2-1F54-410B-B40A-20DBE54F28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916360" y="907920"/>
            <a:ext cx="53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六单元   运算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线连接符 21"/>
          <p:cNvSpPr/>
          <p:nvPr/>
        </p:nvSpPr>
        <p:spPr>
          <a:xfrm>
            <a:off x="3960720" y="2565360"/>
            <a:ext cx="3419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261" name="矩形 4"/>
          <p:cNvSpPr/>
          <p:nvPr/>
        </p:nvSpPr>
        <p:spPr>
          <a:xfrm>
            <a:off x="3851280" y="1989000"/>
            <a:ext cx="38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黑体"/>
                <a:ea typeface="黑体"/>
              </a:rPr>
              <a:t>6.1  </a:t>
            </a:r>
            <a:r>
              <a:rPr b="1" sz="2400" spc="-1" strike="noStrike">
                <a:solidFill>
                  <a:srgbClr val="000000"/>
                </a:solidFill>
                <a:latin typeface="黑体"/>
                <a:ea typeface="黑体"/>
              </a:rPr>
              <a:t>加法交换律和结合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539640" y="6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解法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68360" y="2997360"/>
            <a:ext cx="367344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8+17)+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5+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8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4932360" y="692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1b2e"/>
                </a:solidFill>
                <a:latin typeface="华文新魏"/>
                <a:ea typeface="华文新魏"/>
              </a:rPr>
              <a:t>解法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643280" y="2781360"/>
            <a:ext cx="410400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+(17+2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8+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8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0" y="134136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跳绳的有多少人，再求一共有多少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356000" y="1413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女生有多少人，再求一共有多少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95280" y="501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两道算式可以写成下面的等式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68360" y="544500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8+17)+2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+(17+2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14400" y="857160"/>
            <a:ext cx="8229600" cy="576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算一算，下面的○里能填上等号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+2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13 ○ 45+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+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+1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2 ○ 36+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+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+2.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7.9○3.5+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1+7.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观察比较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组算式左右两边各有什么相同和不同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三组等式中都是（ ）个数相加，等式左边先把（  ）相加，再和第（  ）数相加，等式右边先把（  ）相加，再和第（  ）数相加，两个数相加的顺序（  ），但是它们的和（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举例验证，确认规律：举一些这样的例子验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像加法交换律一样用字母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这个规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4"/>
          <p:cNvSpPr/>
          <p:nvPr/>
        </p:nvSpPr>
        <p:spPr>
          <a:xfrm>
            <a:off x="3318120" y="6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自主学习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8"/>
          <p:cNvSpPr/>
          <p:nvPr/>
        </p:nvSpPr>
        <p:spPr>
          <a:xfrm>
            <a:off x="324000" y="1125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上面这种式子中的规律就是加法结合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39640" y="1916280"/>
            <a:ext cx="7993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74f8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如果用</a:t>
            </a:r>
            <a:r>
              <a:rPr b="1" lang="en-US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表示三个数，如何用这三个字母来表示这个规律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900000" y="3645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+ b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c =  a +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 + c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611280" y="465300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7474f8"/>
                </a:solidFill>
                <a:latin typeface="华文新魏"/>
                <a:ea typeface="华文新魏"/>
              </a:rPr>
              <a:t>请同学们看着字母式用自己的语言说一说什么是加法结合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15"/>
          <p:cNvSpPr/>
          <p:nvPr/>
        </p:nvSpPr>
        <p:spPr>
          <a:xfrm>
            <a:off x="3924360" y="3284640"/>
            <a:ext cx="4895640" cy="1668240"/>
          </a:xfrm>
          <a:prstGeom prst="wedgeEllipseCallout">
            <a:avLst>
              <a:gd name="adj1" fmla="val 25842"/>
              <a:gd name="adj2" fmla="val 726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种方法简便。因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+5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凑成整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239120" y="162864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9+46+5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1059120" y="22050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5+5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1004040" y="29242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9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5493600" y="73332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9+ 46+5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5163120" y="275904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9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6660720" y="13716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5163480" y="208908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9+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12"/>
          <p:cNvSpPr/>
          <p:nvPr/>
        </p:nvSpPr>
        <p:spPr>
          <a:xfrm>
            <a:off x="0" y="3573360"/>
            <a:ext cx="3774960" cy="1074960"/>
          </a:xfrm>
          <a:prstGeom prst="wedgeEllipseCallout">
            <a:avLst>
              <a:gd name="adj1" fmla="val -21657"/>
              <a:gd name="adj2" fmla="val 967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种方法简便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13" descr="child019s"/>
          <p:cNvPicPr/>
          <p:nvPr/>
        </p:nvPicPr>
        <p:blipFill>
          <a:blip r:embed="rId1"/>
          <a:stretch/>
        </p:blipFill>
        <p:spPr>
          <a:xfrm>
            <a:off x="395280" y="4653000"/>
            <a:ext cx="1057320" cy="1504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4" descr="child024s"/>
          <p:cNvPicPr/>
          <p:nvPr/>
        </p:nvPicPr>
        <p:blipFill>
          <a:blip r:embed="rId2"/>
          <a:stretch/>
        </p:blipFill>
        <p:spPr>
          <a:xfrm>
            <a:off x="7524720" y="4653000"/>
            <a:ext cx="1219320" cy="15048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6"/>
          <p:cNvSpPr/>
          <p:nvPr/>
        </p:nvSpPr>
        <p:spPr>
          <a:xfrm>
            <a:off x="36684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4399200" y="90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5280120" y="139068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9+ 46+5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同侧圆角矩形 15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线连接符 21"/>
          <p:cNvSpPr/>
          <p:nvPr/>
        </p:nvSpPr>
        <p:spPr>
          <a:xfrm flipV="1">
            <a:off x="468360" y="1492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对象 17"/>
              <p:cNvSpPr txBox="1"/>
              <p:nvPr/>
            </p:nvSpPr>
            <p:spPr>
              <a:xfrm>
                <a:off x="4514760" y="319104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1422720" y="7984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用简便方法计算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1659960" y="188136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+ 75+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667880" y="184464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69+ 75+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1387E-006 L -0.00955 0.14682 E">
                                      <p:cBhvr>
                                        <p:cTn id="34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1422720" y="7984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能用简便方法计算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595520" y="191628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+ 75+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233360" y="291780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595520" y="191628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69+ 75+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44920" y="288756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69+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en-US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75+25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1262160" y="3697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722960" y="36925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604240" y="36781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76200" y="449424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1681920" y="4505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16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Group 12"/>
          <p:cNvGrpSpPr/>
          <p:nvPr/>
        </p:nvGrpSpPr>
        <p:grpSpPr>
          <a:xfrm>
            <a:off x="4489560" y="2786040"/>
            <a:ext cx="3150000" cy="642600"/>
            <a:chOff x="4489560" y="2786040"/>
            <a:chExt cx="3150000" cy="642600"/>
          </a:xfrm>
        </p:grpSpPr>
        <p:cxnSp>
          <p:nvCxnSpPr>
            <p:cNvPr id="362" name="AutoShape 13"/>
            <p:cNvCxnSpPr>
              <a:stCxn id="355" idx="3"/>
            </p:cNvCxnSpPr>
            <p:nvPr/>
          </p:nvCxnSpPr>
          <p:spPr>
            <a:xfrm flipV="1">
              <a:off x="4489560" y="3120480"/>
              <a:ext cx="1070640" cy="91080"/>
            </a:xfrm>
            <a:prstGeom prst="straightConnector1">
              <a:avLst/>
            </a:prstGeom>
            <a:ln w="28440">
              <a:solidFill>
                <a:srgbClr val="0000cc"/>
              </a:solidFill>
              <a:prstDash val="dash"/>
              <a:miter/>
              <a:tailEnd len="med" type="triangle" w="med"/>
            </a:ln>
          </p:spPr>
        </p:cxnSp>
        <p:sp>
          <p:nvSpPr>
            <p:cNvPr id="363" name="Rectangle 14"/>
            <p:cNvSpPr/>
            <p:nvPr/>
          </p:nvSpPr>
          <p:spPr>
            <a:xfrm>
              <a:off x="6087240" y="27860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6600"/>
                  </a:solidFill>
                  <a:latin typeface="华文新魏"/>
                  <a:ea typeface="华文新魏"/>
                </a:rPr>
                <a:t>加法结合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1387E-006 L -0.00955 0.14682 E">
                                      <p:cBhvr>
                                        <p:cTn id="355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2330280" y="870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简便就怎样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746640" y="177948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华文新魏"/>
                <a:ea typeface="华文新魏"/>
              </a:rPr>
              <a:t>175+2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941360" y="163512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华文新魏"/>
                <a:ea typeface="华文新魏"/>
              </a:rPr>
              <a:t>238+4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5216400" y="5199120"/>
            <a:ext cx="1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2330280" y="870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简便就怎样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746640" y="177948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华文新魏"/>
                <a:ea typeface="华文新魏"/>
              </a:rPr>
              <a:t>175+2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4890240" y="162864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华文新魏"/>
                <a:ea typeface="华文新魏"/>
              </a:rPr>
              <a:t>238+4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15600" y="2610000"/>
            <a:ext cx="36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=175+</a:t>
            </a:r>
            <a:r>
              <a:rPr b="0" lang="zh-CN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200+1</a:t>
            </a:r>
            <a:r>
              <a:rPr b="0" lang="zh-CN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01560" y="348300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=175+1+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639720" y="445464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=176+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698040" y="54561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=37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4781880" y="2419200"/>
            <a:ext cx="36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=238+</a:t>
            </a:r>
            <a:r>
              <a:rPr b="0" lang="zh-CN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400+2</a:t>
            </a:r>
            <a:r>
              <a:rPr b="0" lang="zh-CN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12"/>
          <p:cNvSpPr/>
          <p:nvPr/>
        </p:nvSpPr>
        <p:spPr>
          <a:xfrm>
            <a:off x="4693320" y="328464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=238+2+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4710240" y="421956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=240+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4748400" y="52354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=6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2" descr="20060819123846515_729_o"/>
          <p:cNvPicPr/>
          <p:nvPr/>
        </p:nvPicPr>
        <p:blipFill>
          <a:blip r:embed="rId1"/>
          <a:stretch/>
        </p:blipFill>
        <p:spPr>
          <a:xfrm>
            <a:off x="0" y="614520"/>
            <a:ext cx="8969400" cy="59324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298440" y="1886040"/>
            <a:ext cx="91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+ 36 + 6 4  =                 +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4"/>
          <p:cNvSpPr/>
          <p:nvPr/>
        </p:nvSpPr>
        <p:spPr>
          <a:xfrm>
            <a:off x="4192560" y="230184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5"/>
          <p:cNvSpPr/>
          <p:nvPr/>
        </p:nvSpPr>
        <p:spPr>
          <a:xfrm>
            <a:off x="7521480" y="2346480"/>
            <a:ext cx="81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6176880" y="2360520"/>
            <a:ext cx="77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41"/>
          <p:cNvGrpSpPr/>
          <p:nvPr/>
        </p:nvGrpSpPr>
        <p:grpSpPr>
          <a:xfrm>
            <a:off x="185760" y="3249720"/>
            <a:ext cx="9331200" cy="581400"/>
            <a:chOff x="185760" y="3249720"/>
            <a:chExt cx="9331200" cy="581400"/>
          </a:xfrm>
        </p:grpSpPr>
        <p:sp>
          <p:nvSpPr>
            <p:cNvPr id="385" name="Text Box 8"/>
            <p:cNvSpPr/>
            <p:nvPr/>
          </p:nvSpPr>
          <p:spPr>
            <a:xfrm>
              <a:off x="185760" y="3249720"/>
              <a:ext cx="933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Calibri"/>
                </a:rPr>
                <a:t>）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48 + 27 + 62 =                   + </a:t>
              </a:r>
              <a:r>
                <a:rPr b="0" lang="zh-CN" sz="3200" spc="-1" strike="noStrike">
                  <a:solidFill>
                    <a:srgbClr val="000000"/>
                  </a:solidFill>
                  <a:latin typeface="Calibri"/>
                </a:rPr>
                <a:t>（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Calibri"/>
                </a:rPr>
                <a:t>）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Line 9"/>
            <p:cNvSpPr/>
            <p:nvPr/>
          </p:nvSpPr>
          <p:spPr>
            <a:xfrm>
              <a:off x="7589880" y="3809880"/>
              <a:ext cx="87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Line 10"/>
            <p:cNvSpPr/>
            <p:nvPr/>
          </p:nvSpPr>
          <p:spPr>
            <a:xfrm>
              <a:off x="6121440" y="3780000"/>
              <a:ext cx="9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>
              <a:off x="4251240" y="3767040"/>
              <a:ext cx="8366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Text Box 13"/>
          <p:cNvSpPr/>
          <p:nvPr/>
        </p:nvSpPr>
        <p:spPr>
          <a:xfrm>
            <a:off x="0" y="4896000"/>
            <a:ext cx="85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 + 125 + 11 =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7859880" y="5367240"/>
            <a:ext cx="71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15"/>
          <p:cNvSpPr/>
          <p:nvPr/>
        </p:nvSpPr>
        <p:spPr>
          <a:xfrm>
            <a:off x="6005520" y="5375160"/>
            <a:ext cx="92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16"/>
          <p:cNvSpPr/>
          <p:nvPr/>
        </p:nvSpPr>
        <p:spPr>
          <a:xfrm>
            <a:off x="4626000" y="5324400"/>
            <a:ext cx="760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4211640" y="1773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6183360" y="178740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7684920" y="18018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211640" y="32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27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6188040" y="3195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7645320" y="32209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4214880" y="48369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176880" y="483228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7677000" y="4840200"/>
            <a:ext cx="12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5"/>
          <p:cNvSpPr/>
          <p:nvPr/>
        </p:nvSpPr>
        <p:spPr>
          <a:xfrm>
            <a:off x="392040" y="892080"/>
            <a:ext cx="69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Calibri"/>
              </a:rPr>
              <a:t>先填空，再想想运用了什么运算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36" descr="0003"/>
          <p:cNvPicPr/>
          <p:nvPr/>
        </p:nvPicPr>
        <p:blipFill>
          <a:blip r:embed="rId2"/>
          <a:stretch/>
        </p:blipFill>
        <p:spPr>
          <a:xfrm>
            <a:off x="6985080" y="695160"/>
            <a:ext cx="1284120" cy="11797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7"/>
          <p:cNvSpPr/>
          <p:nvPr/>
        </p:nvSpPr>
        <p:spPr>
          <a:xfrm>
            <a:off x="3705120" y="2452680"/>
            <a:ext cx="46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结 合 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38"/>
          <p:cNvSpPr/>
          <p:nvPr/>
        </p:nvSpPr>
        <p:spPr>
          <a:xfrm>
            <a:off x="3328920" y="4030560"/>
            <a:ext cx="56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交换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结合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39"/>
          <p:cNvSpPr/>
          <p:nvPr/>
        </p:nvSpPr>
        <p:spPr>
          <a:xfrm>
            <a:off x="3720960" y="579132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交换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结合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1"/>
          <p:cNvSpPr/>
          <p:nvPr/>
        </p:nvSpPr>
        <p:spPr>
          <a:xfrm rot="18297600">
            <a:off x="2641320" y="3475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12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508720" y="4149720"/>
            <a:ext cx="3084480" cy="21589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3"/>
          <p:cNvSpPr/>
          <p:nvPr/>
        </p:nvSpPr>
        <p:spPr>
          <a:xfrm>
            <a:off x="324000" y="2421000"/>
            <a:ext cx="85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 + 125 + 11 =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35"/>
          <p:cNvSpPr/>
          <p:nvPr/>
        </p:nvSpPr>
        <p:spPr>
          <a:xfrm>
            <a:off x="468360" y="1700280"/>
            <a:ext cx="69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Calibri"/>
              </a:rPr>
              <a:t>先填空，再想想运用了什么运算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28"/>
          <p:cNvSpPr/>
          <p:nvPr/>
        </p:nvSpPr>
        <p:spPr>
          <a:xfrm>
            <a:off x="3419640" y="2421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29"/>
          <p:cNvSpPr/>
          <p:nvPr/>
        </p:nvSpPr>
        <p:spPr>
          <a:xfrm>
            <a:off x="4643280" y="2421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30"/>
          <p:cNvSpPr/>
          <p:nvPr/>
        </p:nvSpPr>
        <p:spPr>
          <a:xfrm>
            <a:off x="6300720" y="2421000"/>
            <a:ext cx="12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39"/>
          <p:cNvSpPr/>
          <p:nvPr/>
        </p:nvSpPr>
        <p:spPr>
          <a:xfrm>
            <a:off x="1979640" y="386064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交换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769080" y="4767120"/>
            <a:ext cx="1763640" cy="1297080"/>
          </a:xfrm>
          <a:prstGeom prst="rect">
            <a:avLst/>
          </a:prstGeom>
          <a:ln w="0">
            <a:noFill/>
          </a:ln>
        </p:spPr>
      </p:pic>
      <p:sp>
        <p:nvSpPr>
          <p:cNvPr id="26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395280" y="28141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实际问题的过程中，发现加法交换律和结合律，学会用字母表示加法交换律和结合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探索运算律的过程中，发展学生的分析比较、归纳概括的能力，渗透建模的数学思想，培养学生的符号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 10"/>
          <p:cNvSpPr/>
          <p:nvPr/>
        </p:nvSpPr>
        <p:spPr>
          <a:xfrm>
            <a:off x="684360" y="1844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424" name="矩形 6"/>
          <p:cNvSpPr/>
          <p:nvPr/>
        </p:nvSpPr>
        <p:spPr>
          <a:xfrm>
            <a:off x="468360" y="2565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既交换了位置，又改变了运算顺序，所以该小题运用了加法交换律和加法结合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39"/>
          <p:cNvSpPr/>
          <p:nvPr/>
        </p:nvSpPr>
        <p:spPr>
          <a:xfrm>
            <a:off x="3276720" y="5373720"/>
            <a:ext cx="54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交换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结合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324000" y="4437000"/>
            <a:ext cx="85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 + 125 + 11 =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28"/>
          <p:cNvSpPr/>
          <p:nvPr/>
        </p:nvSpPr>
        <p:spPr>
          <a:xfrm>
            <a:off x="3419640" y="4365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 Box 29"/>
          <p:cNvSpPr/>
          <p:nvPr/>
        </p:nvSpPr>
        <p:spPr>
          <a:xfrm>
            <a:off x="4716360" y="4365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 Box 30"/>
          <p:cNvSpPr/>
          <p:nvPr/>
        </p:nvSpPr>
        <p:spPr>
          <a:xfrm>
            <a:off x="6300720" y="4365720"/>
            <a:ext cx="12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矩形 13"/>
          <p:cNvSpPr/>
          <p:nvPr/>
        </p:nvSpPr>
        <p:spPr>
          <a:xfrm rot="18297600">
            <a:off x="5376600" y="419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826920" y="1557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根据运算定律，在下面的横线填上适当的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468360" y="2924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5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250920" y="4076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（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250920" y="508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5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5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6012000" y="2852640"/>
            <a:ext cx="8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5651640" y="292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25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5580000" y="400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7236000" y="40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5651640" y="5013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9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7596360" y="4941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同侧圆角矩形 13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-360" y="1628640"/>
            <a:ext cx="734364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下面的计算用了什么运算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笔算加法时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77+845=9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7 7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验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8 4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+8 4 5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算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+   7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9 2 2             9 2 2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运用了（                   ）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Line 4"/>
          <p:cNvSpPr/>
          <p:nvPr/>
        </p:nvSpPr>
        <p:spPr>
          <a:xfrm>
            <a:off x="1476360" y="4292640"/>
            <a:ext cx="158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3924360" y="4292640"/>
            <a:ext cx="18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4643280" y="4797360"/>
            <a:ext cx="22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加法交换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836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法口算时：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+3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：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+3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6+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+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+3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6+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4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了（                 ）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4427640" y="530064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加法结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-360" y="1982520"/>
            <a:ext cx="8599320" cy="389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+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进位加时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：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   +   8   =  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1549440" y="275760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4"/>
          <p:cNvSpPr/>
          <p:nvPr/>
        </p:nvSpPr>
        <p:spPr>
          <a:xfrm>
            <a:off x="2411280" y="2924280"/>
            <a:ext cx="18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3279600" y="2657520"/>
            <a:ext cx="107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Line 6"/>
          <p:cNvSpPr/>
          <p:nvPr/>
        </p:nvSpPr>
        <p:spPr>
          <a:xfrm flipH="1">
            <a:off x="3131640" y="29242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Line 7"/>
          <p:cNvSpPr/>
          <p:nvPr/>
        </p:nvSpPr>
        <p:spPr>
          <a:xfrm>
            <a:off x="3635280" y="2924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965320" y="314316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3564000" y="314172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Line 10"/>
          <p:cNvSpPr/>
          <p:nvPr/>
        </p:nvSpPr>
        <p:spPr>
          <a:xfrm>
            <a:off x="241128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11"/>
          <p:cNvSpPr/>
          <p:nvPr/>
        </p:nvSpPr>
        <p:spPr>
          <a:xfrm flipH="1">
            <a:off x="3131640" y="3500280"/>
            <a:ext cx="1800" cy="4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411280" y="400536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13"/>
          <p:cNvSpPr/>
          <p:nvPr/>
        </p:nvSpPr>
        <p:spPr>
          <a:xfrm>
            <a:off x="2771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2771640" y="4870440"/>
            <a:ext cx="11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Line 15"/>
          <p:cNvSpPr/>
          <p:nvPr/>
        </p:nvSpPr>
        <p:spPr>
          <a:xfrm flipH="1">
            <a:off x="3922200" y="3500280"/>
            <a:ext cx="1800" cy="13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3108240" y="437184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622600" y="3443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18"/>
          <p:cNvSpPr/>
          <p:nvPr/>
        </p:nvSpPr>
        <p:spPr>
          <a:xfrm>
            <a:off x="3092400" y="502920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4500720" y="4149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运用了加法结合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722160"/>
            <a:ext cx="1979640" cy="10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Calibri"/>
                <a:ea typeface="仿宋_GB2312"/>
              </a:rPr>
              <a:t>比计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739520" y="2133360"/>
            <a:ext cx="74041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38+76+24                      38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76+2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332000" y="2708280"/>
            <a:ext cx="193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114+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1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5003640" y="2708280"/>
            <a:ext cx="21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38+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1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3"/>
          <p:cNvSpPr/>
          <p:nvPr/>
        </p:nvSpPr>
        <p:spPr>
          <a:xfrm>
            <a:off x="298440" y="1886040"/>
            <a:ext cx="91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+ 36 + 6 4  =          +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4192560" y="230184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6588000" y="2276640"/>
            <a:ext cx="81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Line 6"/>
          <p:cNvSpPr/>
          <p:nvPr/>
        </p:nvSpPr>
        <p:spPr>
          <a:xfrm>
            <a:off x="5364000" y="2349360"/>
            <a:ext cx="77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41"/>
          <p:cNvGrpSpPr/>
          <p:nvPr/>
        </p:nvGrpSpPr>
        <p:grpSpPr>
          <a:xfrm>
            <a:off x="185760" y="3249720"/>
            <a:ext cx="9331200" cy="581400"/>
            <a:chOff x="185760" y="3249720"/>
            <a:chExt cx="9331200" cy="581400"/>
          </a:xfrm>
        </p:grpSpPr>
        <p:sp>
          <p:nvSpPr>
            <p:cNvPr id="476" name="Text Box 8"/>
            <p:cNvSpPr/>
            <p:nvPr/>
          </p:nvSpPr>
          <p:spPr>
            <a:xfrm>
              <a:off x="185760" y="3249720"/>
              <a:ext cx="933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Calibri"/>
                </a:rPr>
                <a:t>）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48 + 27 + 62 =          + </a:t>
              </a:r>
              <a:r>
                <a:rPr b="0" lang="zh-CN" sz="3200" spc="-1" strike="noStrike">
                  <a:solidFill>
                    <a:srgbClr val="000000"/>
                  </a:solidFill>
                  <a:latin typeface="Calibri"/>
                </a:rPr>
                <a:t>（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Calibri"/>
                </a:rPr>
                <a:t>）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Line 9"/>
            <p:cNvSpPr/>
            <p:nvPr/>
          </p:nvSpPr>
          <p:spPr>
            <a:xfrm>
              <a:off x="6516720" y="3789360"/>
              <a:ext cx="87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Line 10"/>
            <p:cNvSpPr/>
            <p:nvPr/>
          </p:nvSpPr>
          <p:spPr>
            <a:xfrm>
              <a:off x="5340240" y="3735360"/>
              <a:ext cx="9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Line 11"/>
            <p:cNvSpPr/>
            <p:nvPr/>
          </p:nvSpPr>
          <p:spPr>
            <a:xfrm>
              <a:off x="3708360" y="3716280"/>
              <a:ext cx="8366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Text Box 13"/>
          <p:cNvSpPr/>
          <p:nvPr/>
        </p:nvSpPr>
        <p:spPr>
          <a:xfrm>
            <a:off x="0" y="4896000"/>
            <a:ext cx="85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 + 125 + 11 =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6948360" y="5373720"/>
            <a:ext cx="71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5292720" y="5373720"/>
            <a:ext cx="92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4067280" y="5300640"/>
            <a:ext cx="760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4067280" y="1773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5435640" y="177336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6588000" y="1700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708360" y="32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54356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6659640" y="3213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4067280" y="479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5364000" y="4869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6875640" y="486900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612"/>
                </a:solidFill>
                <a:latin typeface="Calibri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35"/>
          <p:cNvSpPr/>
          <p:nvPr/>
        </p:nvSpPr>
        <p:spPr>
          <a:xfrm>
            <a:off x="392040" y="892080"/>
            <a:ext cx="69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Calibri"/>
              </a:rPr>
              <a:t>先填空，再想想运用了什么运算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36" descr="0003"/>
          <p:cNvPicPr/>
          <p:nvPr/>
        </p:nvPicPr>
        <p:blipFill>
          <a:blip r:embed="rId1"/>
          <a:stretch/>
        </p:blipFill>
        <p:spPr>
          <a:xfrm>
            <a:off x="6985080" y="695160"/>
            <a:ext cx="1284120" cy="11797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7"/>
          <p:cNvSpPr/>
          <p:nvPr/>
        </p:nvSpPr>
        <p:spPr>
          <a:xfrm>
            <a:off x="3705120" y="2452680"/>
            <a:ext cx="46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结 合 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3328920" y="4030560"/>
            <a:ext cx="56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交换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结合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39"/>
          <p:cNvSpPr/>
          <p:nvPr/>
        </p:nvSpPr>
        <p:spPr>
          <a:xfrm>
            <a:off x="3720960" y="579132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交换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加法结合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1803-A7BB-4A6C-BEF7-D63AD658461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1684440" y="212256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95280" y="1644480"/>
            <a:ext cx="786456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数相加，交换加数的位置，它们的和不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用字母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表示这两个加数，上面的规律可以用怎样的等式表示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a+b=b+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059280" y="2492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就是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加法交换律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同侧圆角矩形 5"/>
          <p:cNvSpPr/>
          <p:nvPr/>
        </p:nvSpPr>
        <p:spPr>
          <a:xfrm>
            <a:off x="468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线连接符 21"/>
          <p:cNvSpPr/>
          <p:nvPr/>
        </p:nvSpPr>
        <p:spPr>
          <a:xfrm flipV="1">
            <a:off x="484200" y="14191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8"/>
          <p:cNvSpPr/>
          <p:nvPr/>
        </p:nvSpPr>
        <p:spPr>
          <a:xfrm>
            <a:off x="324000" y="1125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下面这种式子中的规律就是加法结合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539640" y="1916280"/>
            <a:ext cx="7993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74f8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如果用</a:t>
            </a:r>
            <a:r>
              <a:rPr b="1" lang="en-US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7474f8"/>
                </a:solidFill>
                <a:latin typeface="华文新魏"/>
                <a:ea typeface="华文新魏"/>
              </a:rPr>
              <a:t>表示三个数，如何用这三个字母来表示这个规律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00000" y="364500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+ b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c =  a +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 + c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611280" y="465300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7474f8"/>
                </a:solidFill>
                <a:latin typeface="华文新魏"/>
                <a:ea typeface="华文新魏"/>
              </a:rPr>
              <a:t>请同学们看着字母式用自己的语言说一说什么是加法结合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3510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0" y="50846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男生在跳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276720" y="508464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女生在跳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6443640" y="5084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女生在踢毽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195640" y="5661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9ff7"/>
                </a:solidFill>
                <a:latin typeface="华文新魏"/>
                <a:ea typeface="华文新魏"/>
              </a:rPr>
              <a:t>你能提出什么问题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同侧圆角矩形 6"/>
          <p:cNvSpPr/>
          <p:nvPr/>
        </p:nvSpPr>
        <p:spPr>
          <a:xfrm>
            <a:off x="468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线连接符 21"/>
          <p:cNvSpPr/>
          <p:nvPr/>
        </p:nvSpPr>
        <p:spPr>
          <a:xfrm flipV="1">
            <a:off x="498600" y="140652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2340000" y="1628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跳绳的有多少人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11280" y="2565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256f8"/>
                </a:solidFill>
                <a:latin typeface="华文新魏"/>
                <a:ea typeface="华文新魏"/>
              </a:rPr>
              <a:t>28+17=45(</a:t>
            </a:r>
            <a:r>
              <a:rPr b="0" lang="zh-CN" sz="3600" spc="-1" strike="noStrike">
                <a:solidFill>
                  <a:srgbClr val="6256f8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6256f8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356000" y="2565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华文新魏"/>
                <a:ea typeface="华文新魏"/>
              </a:rPr>
              <a:t>17+28=45(</a:t>
            </a:r>
            <a:r>
              <a:rPr b="0" lang="zh-CN" sz="3600" spc="-1" strike="noStrike">
                <a:solidFill>
                  <a:srgbClr val="ff66ff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ff66ff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50920" y="3500280"/>
            <a:ext cx="838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两个算式算出都是  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“跳绳的有多少人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， 结果相同，因此可以用等号连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116000" y="537372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256f8"/>
                </a:solidFill>
                <a:latin typeface="华文新魏"/>
                <a:ea typeface="华文新魏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600" spc="-1" strike="noStrike">
                <a:solidFill>
                  <a:srgbClr val="ff66ff"/>
                </a:solidFill>
                <a:latin typeface="华文新魏"/>
                <a:ea typeface="华文新魏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66ff"/>
                </a:solidFill>
                <a:latin typeface="华文新魏"/>
                <a:ea typeface="华文新魏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600" spc="-1" strike="noStrike">
                <a:solidFill>
                  <a:srgbClr val="6256f8"/>
                </a:solidFill>
                <a:latin typeface="华文新魏"/>
                <a:ea typeface="华文新魏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同侧圆角矩形 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622920" y="105264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28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0" y="836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下面○里填上合适的符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01640"/>
            <a:ext cx="295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 ○ 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059280" y="174456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1b2e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df1b2e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df1b2e"/>
                </a:solidFill>
                <a:latin typeface="华文新魏"/>
                <a:ea typeface="华文新魏"/>
              </a:rPr>
              <a:t>35 ○35</a:t>
            </a:r>
            <a:r>
              <a:rPr b="0" lang="zh-CN" sz="2800" spc="-1" strike="noStrike">
                <a:solidFill>
                  <a:srgbClr val="df1b2e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df1b2e"/>
                </a:solidFill>
                <a:latin typeface="华文新魏"/>
                <a:ea typeface="华文新魏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32360" y="17445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 ○ 3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187280" y="1817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4c2a"/>
                </a:solidFill>
                <a:latin typeface="Times New Roman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284720" y="1817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7236000" y="181764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50920" y="2249640"/>
            <a:ext cx="84294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观察发现：比较每组两个算式中的各数、运算符号和结果，我发现：等式两边相同的是（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的是： （      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初构规律：把你的发现用你喜欢的方法表示出来。（                                                                      ）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举例验证：请再写出几个这样的算式，看看与上面的猜想相符吗？（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为自己发现的规律取一个合适的名字： （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2915-C0DC-4825-8E2C-8E9C7CE03E9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684440" y="212256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468360" y="907920"/>
            <a:ext cx="78645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数相加，交换加数的位置，它们的和不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用字母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表示这两个加数，上面的规律可以用怎样的等式表示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a+b=b+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700360" y="184464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就是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加法交换律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220400" y="476280"/>
            <a:ext cx="79232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根据加法交换律填一填（抢答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37+36=36+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）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305+49=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）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+3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b+100=100+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）  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47+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）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=126+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13+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）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=24+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） 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m+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）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=n+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2987640" y="22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529272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276720" y="328464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932360" y="3284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6804000" y="3213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908000" y="4365720"/>
            <a:ext cx="7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3635280" y="429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5292720" y="429264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6804000" y="4292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99760" y="2506320"/>
            <a:ext cx="85438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2360" y="1484280"/>
            <a:ext cx="227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观察发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箭头 109"/>
          <p:cNvSpPr/>
          <p:nvPr/>
        </p:nvSpPr>
        <p:spPr>
          <a:xfrm>
            <a:off x="4500720" y="2276640"/>
            <a:ext cx="0" cy="50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290760" y="1494000"/>
            <a:ext cx="92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箭头 109"/>
          <p:cNvSpPr/>
          <p:nvPr/>
        </p:nvSpPr>
        <p:spPr>
          <a:xfrm>
            <a:off x="4500720" y="3789360"/>
            <a:ext cx="0" cy="649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3492360" y="2997360"/>
            <a:ext cx="24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举例验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3492360" y="47260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字母表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3510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0" y="50846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男生在跳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76720" y="508464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女生在跳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6443640" y="5084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女生在踢毽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同侧圆角矩形 6"/>
          <p:cNvSpPr/>
          <p:nvPr/>
        </p:nvSpPr>
        <p:spPr>
          <a:xfrm>
            <a:off x="468360" y="765000"/>
            <a:ext cx="244800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线连接符 21"/>
          <p:cNvSpPr/>
          <p:nvPr/>
        </p:nvSpPr>
        <p:spPr>
          <a:xfrm flipV="1">
            <a:off x="498600" y="140652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116000" y="573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参加活动的一共有多少人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07:50:34Z</dcterms:created>
  <dc:creator/>
  <dc:description/>
  <dc:language>en-US</dc:language>
  <cp:lastModifiedBy/>
  <dcterms:modified xsi:type="dcterms:W3CDTF">2017-01-11T07:50:36Z</dcterms:modified>
  <cp:revision>1</cp:revision>
  <dc:subject/>
  <dc:title/>
</cp:coreProperties>
</file>