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1.jpeg" ContentType="image/jpeg"/>
  <Override PartName="/ppt/media/chimes.wav" ContentType="audio/x-wav"/>
  <Override PartName="/ppt/media/cashreg.wav" ContentType="audio/x-wav"/>
  <Override PartName="/ppt/media/image12.jpeg" ContentType="image/jpeg"/>
  <Override PartName="/ppt/media/image13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4.png" ContentType="image/png"/>
  <Override PartName="/ppt/media/laser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125-1E35-4DB5-B394-A537A20E9E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EEF1-4543-4A29-BE91-C577615D54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9A1-FD13-471F-8D04-A0CB0CEFAB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F211-6CC0-4A23-82FC-8955A5CDD2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C569-0646-4691-9577-8A52080ADB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0DC8-B400-40DB-890C-2908DED371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C548-60B2-4B16-913B-5A49F4B726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D2C-002A-4CE9-A26E-1F95EBE43B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D877-485A-4693-AA26-0F6D74BF0E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39F-F9A9-42CA-9113-0606EA21B2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B3F1-4DDF-408F-8ECE-5403828BB1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F05D-0565-41AF-89DD-91E98FBDD3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1DD-7082-4FAC-9AC5-AB8266700D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83B7-1DAC-4165-A0AA-10D92DA7D8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F526-B42E-4C8B-9B48-9D4ACF4077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528B-7B82-41A4-8858-6F1FC34F3E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3567-2818-4B6A-AE1B-4B213BDF02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2312-90FD-4166-81F8-7C4CBBBC15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B2BA-133F-4557-AEBB-30B2D95206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DE43-DA2A-4708-92E7-ADAD30049B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7927-1162-4280-912D-EBBD6629A9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DDCC-D53F-4177-924E-1BC6D2CA75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43D-12CE-4602-8E9D-10289B0F47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ACD6-91FA-4FCC-8C54-B94B7D5315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849-5614-4674-B4C5-FBFE7C845D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8DA-1F39-4A66-BE56-0ECBB9BAB1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126C-274F-4ED5-BD1C-8AC2722515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A97F-0BEC-43D4-A1EB-2394826E80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7C19-4DE7-4D55-A87E-8FB76CB783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B19-338E-42EF-A131-2CC23B9715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47D3-E4EC-49FA-AF69-4297BFFC79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AC2-B9EB-4782-8827-AB5717D5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0FD-9988-4AEB-9677-96CB14D9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531-49D1-45F4-A360-3F297B95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7F3-472A-47EF-8365-9B769DCB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6782-E5DB-4E33-96AA-EE14D649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E3EB-254B-4CA4-8E61-AA52EBA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DEA6-637C-4E94-B471-4A81248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E3BE-700F-4682-8F19-F77CC8F3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7B98-AD25-4DC3-9BB9-3ECB229E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B511-8FBA-4416-BB5A-8310A1B9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48C2-24D8-4D60-9F11-88595D0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8FF-A9D1-4D77-A3FF-3017D20C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69E5-0AC5-4A24-8E20-39E4671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228B-87E4-4B12-8592-F2239451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BD0D-E936-40E5-B554-709FDF2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47BB-5E17-4960-A989-02ECC32E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F015-0148-4376-876A-5C79FA18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AE2E-0806-4DB9-ABC4-B33713B0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A3BB-E721-4CAC-8E53-723C990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4F60-E577-4685-8694-85DD1CB9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A9A0-C399-4CED-97CC-CD4CDE32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86BB-ADF3-4D94-9C97-7BF78C05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064-2EF9-4609-8E37-438EFD53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BB9F-76E2-4A0E-8E89-08C462D9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1999-7F0D-478F-B49C-81E2053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9C3D-E7D1-4548-A237-2DE93DB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2E33-112C-4C0E-A11E-60FE15B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9980-D80D-4899-9DD0-6E92A71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BB32-9164-4457-B044-6B10B18B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01FF-5502-4218-94FB-CAF698AC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9DA1-1CDB-447A-AB5D-E2053CEC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81B8-18AB-4011-9BDF-14EFBF2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8D2B-50DA-458D-8D52-C8652A0B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AE6-F4C1-4704-87CA-DCB30C66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1A9B-4744-42C8-A5E7-6CDC0F3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EB0B-AD9E-4130-8C85-22145327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F44F-F145-45C9-91F6-7DCC9EC3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0F84-251A-410F-B04F-0B0699C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19CB-11B6-4DB0-9021-3C95088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51DC-5024-4525-BEAD-59344C8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9C54-0E4D-48DA-8996-6CF7600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D904-D97C-4B51-9E33-75BA12DF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0A8C-A8C3-4ABF-B421-1090A1BF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ABD1-D14E-4250-88B7-854D3F98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9DB-0724-4A23-AB69-C41C203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BA6C6-5D76-4A89-A759-8A94D002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EE21-01C6-412C-8EA3-CBACDD71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DCF6-5D34-4443-9176-9AF83162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AD8F0-B2A8-40B4-821D-075BD401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D2D0-41AD-46A8-9437-A716032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0E73B-7634-457C-B04B-69EE3209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9C84-C496-47E4-AB17-8A056DA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92D6D-C7D9-40B1-89DD-90300EE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CA7B6-C604-4CF3-BE23-9653CF2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04F3-F36A-4230-B823-107B5958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ACB-8717-4D6F-A93B-8C6C85EC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4A43-C184-426A-820A-54EAAE59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CB181-9814-4C7C-AF92-1536C430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D5CD0-EE51-43AB-9D7A-60A2EE2B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1823-2ACD-4E5D-AA5C-CF9F399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F72EB-48B6-4823-B6E3-EBDBF6B9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95B3-CCDD-43A4-8F27-6845ADF3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9D90-1F6E-458C-B919-8B7FF4F1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DE483-9008-4194-8E7A-0A42462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EA05-1850-46EA-9E17-CE97E4C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62BF-08D4-440E-B1CB-784905D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7C3-5593-4EBD-9900-357526B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E300-6A32-4702-9EEA-E58B8A90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435E-E17A-46BE-B6BB-06F94513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9CEA1-4DD8-462D-97C6-2C90395B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721-AD26-4E72-BDBA-C83202F1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369-06C9-473F-812C-0C632E4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9F69-FDA4-44BC-B02F-D5F1F51577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8AA1-6853-4885-8EF2-840E441D58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68DB-97A8-4FCE-B796-F43D56508E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41F0-990A-47A5-90C4-CCBCA8CCD7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8D7-F292-4AE7-8528-4E5E21C1E6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E87C-8B8E-4233-80CE-EDEF5D29F3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52360" y="909720"/>
            <a:ext cx="79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三角形，平行四边形和梯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线连接符 21"/>
          <p:cNvSpPr/>
          <p:nvPr/>
        </p:nvSpPr>
        <p:spPr>
          <a:xfrm>
            <a:off x="3960720" y="2565360"/>
            <a:ext cx="2772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261" name="矩形 4"/>
          <p:cNvSpPr/>
          <p:nvPr/>
        </p:nvSpPr>
        <p:spPr>
          <a:xfrm>
            <a:off x="3419640" y="19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黑体"/>
                <a:ea typeface="黑体"/>
              </a:rPr>
              <a:t>7.5  </a:t>
            </a:r>
            <a:r>
              <a:rPr b="1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和等边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324000" y="2205000"/>
            <a:ext cx="1512720" cy="17067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3"/>
          <p:cNvSpPr/>
          <p:nvPr/>
        </p:nvSpPr>
        <p:spPr>
          <a:xfrm>
            <a:off x="1908000" y="2997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4141800" y="291312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6516720" y="292428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276720" y="2205000"/>
            <a:ext cx="793800" cy="1728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7"/>
          <p:cNvSpPr/>
          <p:nvPr/>
        </p:nvSpPr>
        <p:spPr>
          <a:xfrm flipH="1">
            <a:off x="2484000" y="39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Line 8"/>
          <p:cNvSpPr/>
          <p:nvPr/>
        </p:nvSpPr>
        <p:spPr>
          <a:xfrm>
            <a:off x="2484360" y="2205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9"/>
          <p:cNvSpPr/>
          <p:nvPr/>
        </p:nvSpPr>
        <p:spPr>
          <a:xfrm flipH="1">
            <a:off x="2484000" y="220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4862520" y="2049480"/>
            <a:ext cx="1512720" cy="1706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11"/>
          <p:cNvSpPr/>
          <p:nvPr/>
        </p:nvSpPr>
        <p:spPr>
          <a:xfrm>
            <a:off x="5654520" y="20494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AutoShape 12"/>
          <p:cNvSpPr/>
          <p:nvPr/>
        </p:nvSpPr>
        <p:spPr>
          <a:xfrm flipH="1" flipV="1" rot="20037000">
            <a:off x="5147280" y="2420640"/>
            <a:ext cx="923760" cy="160344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AutoShape 13"/>
          <p:cNvSpPr/>
          <p:nvPr/>
        </p:nvSpPr>
        <p:spPr>
          <a:xfrm>
            <a:off x="4862520" y="2768760"/>
            <a:ext cx="1512720" cy="1008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5555880" y="1887480"/>
            <a:ext cx="394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7164360" y="2060640"/>
            <a:ext cx="1513080" cy="1706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16"/>
          <p:cNvSpPr/>
          <p:nvPr/>
        </p:nvSpPr>
        <p:spPr>
          <a:xfrm>
            <a:off x="7885080" y="2060640"/>
            <a:ext cx="71640" cy="173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7740720" y="2031840"/>
            <a:ext cx="43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18"/>
          <p:cNvSpPr/>
          <p:nvPr/>
        </p:nvSpPr>
        <p:spPr>
          <a:xfrm>
            <a:off x="7164360" y="2421000"/>
            <a:ext cx="1511280" cy="1368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4000" y="907920"/>
            <a:ext cx="84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你会像下面这样剪出一个等边三角形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24000" y="4149720"/>
            <a:ext cx="194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方形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2556000" y="4149720"/>
            <a:ext cx="136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  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4643280" y="4149720"/>
            <a:ext cx="252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斜折并画上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7450200" y="4149720"/>
            <a:ext cx="1247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线并剪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"/>
          <p:cNvSpPr/>
          <p:nvPr/>
        </p:nvSpPr>
        <p:spPr>
          <a:xfrm>
            <a:off x="324000" y="3789360"/>
            <a:ext cx="4248000" cy="1511280"/>
          </a:xfrm>
          <a:prstGeom prst="cloudCallout">
            <a:avLst>
              <a:gd name="adj1" fmla="val -33407"/>
              <a:gd name="adj2" fmla="val 98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0" y="620640"/>
            <a:ext cx="88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剪下的等边三角形照下图折一折，你发现这个三角形的三个角什么关系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600200" y="4599000"/>
            <a:ext cx="184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5" descr="0024"/>
          <p:cNvPicPr/>
          <p:nvPr/>
        </p:nvPicPr>
        <p:blipFill>
          <a:blip r:embed="rId1"/>
          <a:stretch/>
        </p:blipFill>
        <p:spPr>
          <a:xfrm flipH="1">
            <a:off x="250560" y="4941720"/>
            <a:ext cx="1366920" cy="11257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1042920" y="3967200"/>
            <a:ext cx="3041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你发现等边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有什么特征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1332000" y="3213000"/>
            <a:ext cx="201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5651640" y="3141720"/>
            <a:ext cx="201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4643280" y="3716280"/>
            <a:ext cx="4248360" cy="605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边三角形三条边相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64328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边三角形三个角相等，都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4643280" y="5516640"/>
            <a:ext cx="48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边三角形是轴对称图形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条对称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4643280" y="4437000"/>
            <a:ext cx="4249800" cy="9352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4572000" y="5587920"/>
            <a:ext cx="4502160" cy="1054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0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427640" cy="1511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1" descr=""/>
          <p:cNvPicPr/>
          <p:nvPr/>
        </p:nvPicPr>
        <p:blipFill>
          <a:blip r:embed="rId3"/>
          <a:stretch/>
        </p:blipFill>
        <p:spPr>
          <a:xfrm>
            <a:off x="4897440" y="1700280"/>
            <a:ext cx="424656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/>
          <p:cNvSpPr/>
          <p:nvPr/>
        </p:nvSpPr>
        <p:spPr>
          <a:xfrm flipV="1" rot="16200000">
            <a:off x="682920" y="692640"/>
            <a:ext cx="1225440" cy="151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41128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AutoShape 4"/>
          <p:cNvSpPr/>
          <p:nvPr/>
        </p:nvSpPr>
        <p:spPr>
          <a:xfrm flipV="1" rot="17950200">
            <a:off x="1974960" y="1416600"/>
            <a:ext cx="1376280" cy="1223640"/>
          </a:xfrm>
          <a:prstGeom prst="triangle">
            <a:avLst>
              <a:gd name="adj" fmla="val 4980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340000" y="17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548280" y="3021840"/>
            <a:ext cx="2058120" cy="1749240"/>
            <a:chOff x="548280" y="3021840"/>
            <a:chExt cx="2058120" cy="1749240"/>
          </a:xfrm>
        </p:grpSpPr>
        <p:sp>
          <p:nvSpPr>
            <p:cNvPr id="429" name="AutoShape 7"/>
            <p:cNvSpPr/>
            <p:nvPr/>
          </p:nvSpPr>
          <p:spPr>
            <a:xfrm rot="4582800">
              <a:off x="893520" y="3002760"/>
              <a:ext cx="1366920" cy="1786680"/>
            </a:xfrm>
            <a:prstGeom prst="triangle">
              <a:avLst>
                <a:gd name="adj" fmla="val 28847"/>
              </a:avLst>
            </a:prstGeom>
            <a:solidFill>
              <a:srgbClr val="99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Text Box 8"/>
            <p:cNvSpPr/>
            <p:nvPr/>
          </p:nvSpPr>
          <p:spPr>
            <a:xfrm rot="15382800">
              <a:off x="1058400" y="3666600"/>
              <a:ext cx="6674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1" name="AutoShape 9"/>
          <p:cNvSpPr/>
          <p:nvPr/>
        </p:nvSpPr>
        <p:spPr>
          <a:xfrm rot="16200000">
            <a:off x="3024000" y="3391920"/>
            <a:ext cx="1366920" cy="14400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AutoShape 10"/>
          <p:cNvSpPr/>
          <p:nvPr/>
        </p:nvSpPr>
        <p:spPr>
          <a:xfrm flipH="1" rot="10683600">
            <a:off x="5724360" y="3716280"/>
            <a:ext cx="2160720" cy="1224000"/>
          </a:xfrm>
          <a:prstGeom prst="rtTriangle">
            <a:avLst/>
          </a:prstGeom>
          <a:solidFill>
            <a:srgbClr val="34e0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AutoShape 11"/>
          <p:cNvSpPr/>
          <p:nvPr/>
        </p:nvSpPr>
        <p:spPr>
          <a:xfrm rot="21352200">
            <a:off x="5903640" y="907920"/>
            <a:ext cx="3240000" cy="1322640"/>
          </a:xfrm>
          <a:prstGeom prst="triangle">
            <a:avLst>
              <a:gd name="adj" fmla="val 48866"/>
            </a:avLst>
          </a:prstGeom>
          <a:solidFill>
            <a:srgbClr val="fba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2771280" y="1197000"/>
            <a:ext cx="3671640" cy="1080360"/>
            <a:chOff x="2771280" y="1197000"/>
            <a:chExt cx="3671640" cy="1080360"/>
          </a:xfrm>
        </p:grpSpPr>
        <p:sp>
          <p:nvSpPr>
            <p:cNvPr id="435" name="AutoShape 13"/>
            <p:cNvSpPr/>
            <p:nvPr/>
          </p:nvSpPr>
          <p:spPr>
            <a:xfrm rot="10800000">
              <a:off x="2771280" y="1235160"/>
              <a:ext cx="3671640" cy="1041840"/>
            </a:xfrm>
            <a:prstGeom prst="triangle">
              <a:avLst>
                <a:gd name="adj" fmla="val 28847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4738320" y="1197000"/>
              <a:ext cx="9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Text Box 15"/>
          <p:cNvSpPr/>
          <p:nvPr/>
        </p:nvSpPr>
        <p:spPr>
          <a:xfrm>
            <a:off x="7524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084720" y="4005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 Box 17"/>
          <p:cNvSpPr/>
          <p:nvPr/>
        </p:nvSpPr>
        <p:spPr>
          <a:xfrm>
            <a:off x="3780000" y="40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971640" y="364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"/>
          <p:cNvSpPr/>
          <p:nvPr/>
        </p:nvSpPr>
        <p:spPr>
          <a:xfrm>
            <a:off x="395280" y="620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按边分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50920" y="11253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条边都不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3635280" y="1125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两条边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"/>
          <p:cNvSpPr/>
          <p:nvPr/>
        </p:nvSpPr>
        <p:spPr>
          <a:xfrm flipV="1" rot="16200000">
            <a:off x="4354920" y="1268280"/>
            <a:ext cx="1225800" cy="194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10"/>
          <p:cNvSpPr/>
          <p:nvPr/>
        </p:nvSpPr>
        <p:spPr>
          <a:xfrm flipV="1" rot="17950200">
            <a:off x="7308000" y="2134080"/>
            <a:ext cx="1368360" cy="1224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7667640" y="2422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AutoShape 12"/>
          <p:cNvSpPr/>
          <p:nvPr/>
        </p:nvSpPr>
        <p:spPr>
          <a:xfrm>
            <a:off x="3419640" y="2638440"/>
            <a:ext cx="3240000" cy="1081080"/>
          </a:xfrm>
          <a:prstGeom prst="triangle">
            <a:avLst>
              <a:gd name="adj" fmla="val 50000"/>
            </a:avLst>
          </a:prstGeom>
          <a:solidFill>
            <a:srgbClr val="fba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85928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Group 10"/>
          <p:cNvGrpSpPr/>
          <p:nvPr/>
        </p:nvGrpSpPr>
        <p:grpSpPr>
          <a:xfrm>
            <a:off x="395280" y="1630440"/>
            <a:ext cx="2592000" cy="1151280"/>
            <a:chOff x="395280" y="1630440"/>
            <a:chExt cx="2592000" cy="1151280"/>
          </a:xfrm>
        </p:grpSpPr>
        <p:sp>
          <p:nvSpPr>
            <p:cNvPr id="450" name="AutoShape 15"/>
            <p:cNvSpPr/>
            <p:nvPr/>
          </p:nvSpPr>
          <p:spPr>
            <a:xfrm rot="10800000">
              <a:off x="395280" y="1671120"/>
              <a:ext cx="2592000" cy="1110600"/>
            </a:xfrm>
            <a:prstGeom prst="triangle">
              <a:avLst>
                <a:gd name="adj" fmla="val 28847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16"/>
            <p:cNvSpPr/>
            <p:nvPr/>
          </p:nvSpPr>
          <p:spPr>
            <a:xfrm>
              <a:off x="1783800" y="1630440"/>
              <a:ext cx="6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AutoShape 17"/>
          <p:cNvSpPr/>
          <p:nvPr/>
        </p:nvSpPr>
        <p:spPr>
          <a:xfrm flipH="1" rot="10683600">
            <a:off x="467640" y="2981160"/>
            <a:ext cx="2738520" cy="1224000"/>
          </a:xfrm>
          <a:prstGeom prst="rtTriangle">
            <a:avLst/>
          </a:prstGeom>
          <a:solidFill>
            <a:srgbClr val="34e0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900000" y="31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0" y="5807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不等边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3276720" y="580716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等腰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6300720" y="11984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条边都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6407280" y="58071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等边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8" name="Group 19"/>
          <p:cNvGrpSpPr/>
          <p:nvPr/>
        </p:nvGrpSpPr>
        <p:grpSpPr>
          <a:xfrm>
            <a:off x="1067040" y="3860280"/>
            <a:ext cx="1859040" cy="1619280"/>
            <a:chOff x="1067040" y="3860280"/>
            <a:chExt cx="1859040" cy="1619280"/>
          </a:xfrm>
        </p:grpSpPr>
        <p:sp>
          <p:nvSpPr>
            <p:cNvPr id="459" name="AutoShape 22"/>
            <p:cNvSpPr/>
            <p:nvPr/>
          </p:nvSpPr>
          <p:spPr>
            <a:xfrm rot="4824000">
              <a:off x="1315440" y="3842280"/>
              <a:ext cx="1362240" cy="1654920"/>
            </a:xfrm>
            <a:prstGeom prst="triangle">
              <a:avLst>
                <a:gd name="adj" fmla="val 29088"/>
              </a:avLst>
            </a:prstGeom>
            <a:solidFill>
              <a:srgbClr val="99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 Box 23"/>
            <p:cNvSpPr/>
            <p:nvPr/>
          </p:nvSpPr>
          <p:spPr>
            <a:xfrm rot="16004400">
              <a:off x="1257120" y="4258800"/>
              <a:ext cx="6678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AutoShape 18"/>
          <p:cNvSpPr/>
          <p:nvPr/>
        </p:nvSpPr>
        <p:spPr>
          <a:xfrm rot="16200000">
            <a:off x="4499640" y="3932640"/>
            <a:ext cx="1368360" cy="15127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5"/>
          <p:cNvSpPr/>
          <p:nvPr/>
        </p:nvSpPr>
        <p:spPr>
          <a:xfrm>
            <a:off x="5292720" y="4726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Oval 5"/>
          <p:cNvSpPr/>
          <p:nvPr/>
        </p:nvSpPr>
        <p:spPr>
          <a:xfrm>
            <a:off x="1547640" y="1413000"/>
            <a:ext cx="5616720" cy="4608360"/>
          </a:xfrm>
          <a:prstGeom prst="ellipse">
            <a:avLst/>
          </a:prstGeom>
          <a:solidFill>
            <a:srgbClr val="fba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4284720" y="1413000"/>
            <a:ext cx="0" cy="46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Oval 7"/>
          <p:cNvSpPr/>
          <p:nvPr/>
        </p:nvSpPr>
        <p:spPr>
          <a:xfrm>
            <a:off x="4356000" y="3933720"/>
            <a:ext cx="24494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468360" y="69228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按边分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340000" y="321300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不等边三角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4284720" y="2492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腰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356000" y="4221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边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5"/>
          <p:cNvSpPr/>
          <p:nvPr/>
        </p:nvSpPr>
        <p:spPr>
          <a:xfrm>
            <a:off x="-55800" y="1268280"/>
            <a:ext cx="1521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三角形的分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1619280" y="1413000"/>
            <a:ext cx="863640" cy="3743280"/>
          </a:xfrm>
          <a:custGeom>
            <a:avLst/>
            <a:gdLst>
              <a:gd name="textAreaLeft" fmla="*/ 551880 w 863640"/>
              <a:gd name="textAreaRight" fmla="*/ 864000 w 863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2700360" y="1125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按角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627280" y="4724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按边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4427640" y="4005360"/>
            <a:ext cx="576000" cy="2016000"/>
          </a:xfrm>
          <a:custGeom>
            <a:avLst/>
            <a:gdLst>
              <a:gd name="textAreaLeft" fmla="*/ 367920 w 576000"/>
              <a:gd name="textAreaRight" fmla="*/ 576000 w 576000"/>
              <a:gd name="textAreaTop" fmla="*/ 34920 h 2016000"/>
              <a:gd name="textAreaBottom" fmla="*/ 198108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1"/>
                  <a:pt x="10800" y="1201"/>
                </a:cubicBezTo>
                <a:lnTo>
                  <a:pt x="10800" y="9599"/>
                </a:lnTo>
                <a:cubicBezTo>
                  <a:pt x="10800" y="10200"/>
                  <a:pt x="5400" y="10800"/>
                  <a:pt x="0" y="10800"/>
                </a:cubicBezTo>
                <a:cubicBezTo>
                  <a:pt x="5400" y="10800"/>
                  <a:pt x="10800" y="11401"/>
                  <a:pt x="10800" y="12001"/>
                </a:cubicBezTo>
                <a:lnTo>
                  <a:pt x="10800" y="20399"/>
                </a:lnTo>
                <a:cubicBezTo>
                  <a:pt x="10800" y="210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4500720" y="692280"/>
            <a:ext cx="863280" cy="2592360"/>
          </a:xfrm>
          <a:custGeom>
            <a:avLst/>
            <a:gdLst>
              <a:gd name="textAreaLeft" fmla="*/ 551520 w 863280"/>
              <a:gd name="textAreaRight" fmla="*/ 863640 w 863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5076720" y="476280"/>
            <a:ext cx="370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4932360" y="3933720"/>
            <a:ext cx="421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等腰三角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等边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不等边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4859280" y="1197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都是锐角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4932360" y="234936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有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是直角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003640" y="328464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有一个角是钝角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5076720" y="4221000"/>
            <a:ext cx="35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有两边或三条边都相等的三角形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067280" y="57326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边都不相等的三角形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2987640" y="1052640"/>
            <a:ext cx="4176720" cy="4537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rc 5"/>
          <p:cNvSpPr/>
          <p:nvPr/>
        </p:nvSpPr>
        <p:spPr>
          <a:xfrm>
            <a:off x="3203640" y="5084640"/>
            <a:ext cx="360360" cy="503280"/>
          </a:xfrm>
          <a:custGeom>
            <a:avLst/>
            <a:gdLst>
              <a:gd name="textAreaLeft" fmla="*/ 0 w 360360"/>
              <a:gd name="textAreaRight" fmla="*/ 360720 w 360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rc 6"/>
          <p:cNvSpPr/>
          <p:nvPr/>
        </p:nvSpPr>
        <p:spPr>
          <a:xfrm flipH="1">
            <a:off x="6443640" y="5013360"/>
            <a:ext cx="449280" cy="623880"/>
          </a:xfrm>
          <a:custGeom>
            <a:avLst/>
            <a:gdLst>
              <a:gd name="textAreaLeft" fmla="*/ 360 w 449280"/>
              <a:gd name="textAreaRight" fmla="*/ 450000 w 44928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fill="none" w="26897" h="23406">
                <a:moveTo>
                  <a:pt x="-1" y="659"/>
                </a:moveTo>
                <a:cubicBezTo>
                  <a:pt x="1731" y="221"/>
                  <a:pt x="3510" y="-1"/>
                  <a:pt x="5297" y="0"/>
                </a:cubicBezTo>
                <a:cubicBezTo>
                  <a:pt x="17226" y="0"/>
                  <a:pt x="26897" y="9670"/>
                  <a:pt x="26897" y="21600"/>
                </a:cubicBezTo>
                <a:cubicBezTo>
                  <a:pt x="26897" y="22202"/>
                  <a:pt x="26871" y="22805"/>
                  <a:pt x="26821" y="23406"/>
                </a:cubicBezTo>
              </a:path>
              <a:path stroke="0" w="26897" h="23406">
                <a:moveTo>
                  <a:pt x="-1" y="659"/>
                </a:moveTo>
                <a:cubicBezTo>
                  <a:pt x="1731" y="221"/>
                  <a:pt x="3510" y="-1"/>
                  <a:pt x="5297" y="0"/>
                </a:cubicBezTo>
                <a:cubicBezTo>
                  <a:pt x="17226" y="0"/>
                  <a:pt x="26897" y="9670"/>
                  <a:pt x="26897" y="21600"/>
                </a:cubicBezTo>
                <a:cubicBezTo>
                  <a:pt x="26897" y="22202"/>
                  <a:pt x="26871" y="22805"/>
                  <a:pt x="26821" y="23406"/>
                </a:cubicBezTo>
                <a:lnTo>
                  <a:pt x="529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rc 7"/>
          <p:cNvSpPr/>
          <p:nvPr/>
        </p:nvSpPr>
        <p:spPr>
          <a:xfrm flipV="1" rot="2010600">
            <a:off x="4787640" y="1268280"/>
            <a:ext cx="482400" cy="411120"/>
          </a:xfrm>
          <a:custGeom>
            <a:avLst/>
            <a:gdLst>
              <a:gd name="textAreaLeft" fmla="*/ 0 w 482400"/>
              <a:gd name="textAreaRight" fmla="*/ 482760 w 482400"/>
              <a:gd name="textAreaTop" fmla="*/ 360 h 411120"/>
              <a:gd name="textAreaBottom" fmla="*/ 411840 h 411120"/>
            </a:gdLst>
            <a:ahLst/>
            <a:rect l="textAreaLeft" t="textAreaTop" r="textAreaRight" b="textAreaBottom"/>
            <a:pathLst>
              <a:path fill="none" w="20670" h="20560">
                <a:moveTo>
                  <a:pt x="6621" y="-1"/>
                </a:moveTo>
                <a:cubicBezTo>
                  <a:pt x="13364" y="2171"/>
                  <a:pt x="18614" y="7511"/>
                  <a:pt x="20670" y="14290"/>
                </a:cubicBezTo>
              </a:path>
              <a:path stroke="0" w="20670" h="20560">
                <a:moveTo>
                  <a:pt x="6621" y="-1"/>
                </a:moveTo>
                <a:cubicBezTo>
                  <a:pt x="13364" y="2171"/>
                  <a:pt x="18614" y="7511"/>
                  <a:pt x="20670" y="14290"/>
                </a:cubicBezTo>
                <a:lnTo>
                  <a:pt x="0" y="205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475812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顶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677040" y="47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底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5621760" y="47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底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081600" y="3141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6393240" y="29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4498920" y="56610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2987280" y="1052640"/>
            <a:ext cx="2087640" cy="45352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5075280" y="1052640"/>
            <a:ext cx="2089080" cy="45352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对象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4"/>
          <p:cNvSpPr/>
          <p:nvPr/>
        </p:nvSpPr>
        <p:spPr>
          <a:xfrm rot="17298600">
            <a:off x="3882240" y="2212200"/>
            <a:ext cx="5400720" cy="15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609480" y="836640"/>
            <a:ext cx="3961080" cy="3960720"/>
          </a:xfrm>
          <a:prstGeom prst="rtTriangle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914400" y="3960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顶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929320" y="4037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底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533520" y="15224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底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2151360" y="4875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93960" y="2665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2837160" y="2284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rc 12"/>
          <p:cNvSpPr/>
          <p:nvPr/>
        </p:nvSpPr>
        <p:spPr>
          <a:xfrm flipV="1">
            <a:off x="609480" y="12175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rc 13"/>
          <p:cNvSpPr/>
          <p:nvPr/>
        </p:nvSpPr>
        <p:spPr>
          <a:xfrm flipH="1">
            <a:off x="3886200" y="4341960"/>
            <a:ext cx="216000" cy="431640"/>
          </a:xfrm>
          <a:custGeom>
            <a:avLst/>
            <a:gdLst>
              <a:gd name="textAreaLeft" fmla="*/ 360 w 216000"/>
              <a:gd name="textAreaRight" fmla="*/ 216720 w 21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rc 14"/>
          <p:cNvSpPr/>
          <p:nvPr/>
        </p:nvSpPr>
        <p:spPr>
          <a:xfrm>
            <a:off x="609480" y="4265640"/>
            <a:ext cx="505080" cy="5032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rc 15"/>
          <p:cNvSpPr/>
          <p:nvPr/>
        </p:nvSpPr>
        <p:spPr>
          <a:xfrm flipH="1" rot="9705600">
            <a:off x="5791320" y="2359800"/>
            <a:ext cx="506160" cy="716040"/>
          </a:xfrm>
          <a:custGeom>
            <a:avLst/>
            <a:gdLst>
              <a:gd name="textAreaLeft" fmla="*/ 360 w 506160"/>
              <a:gd name="textAreaRight" fmla="*/ 506880 w 5061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fill="none" w="24735" h="21600">
                <a:moveTo>
                  <a:pt x="0" y="306"/>
                </a:moveTo>
                <a:cubicBezTo>
                  <a:pt x="1196" y="102"/>
                  <a:pt x="2408" y="-1"/>
                  <a:pt x="3623" y="0"/>
                </a:cubicBezTo>
                <a:cubicBezTo>
                  <a:pt x="13793" y="0"/>
                  <a:pt x="22586" y="7095"/>
                  <a:pt x="24735" y="17035"/>
                </a:cubicBezTo>
              </a:path>
              <a:path stroke="0" w="24735" h="21600">
                <a:moveTo>
                  <a:pt x="0" y="306"/>
                </a:moveTo>
                <a:cubicBezTo>
                  <a:pt x="1196" y="102"/>
                  <a:pt x="2408" y="-1"/>
                  <a:pt x="3623" y="0"/>
                </a:cubicBezTo>
                <a:cubicBezTo>
                  <a:pt x="13793" y="0"/>
                  <a:pt x="22586" y="7095"/>
                  <a:pt x="24735" y="17035"/>
                </a:cubicBezTo>
                <a:lnTo>
                  <a:pt x="362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rc 16"/>
          <p:cNvSpPr/>
          <p:nvPr/>
        </p:nvSpPr>
        <p:spPr>
          <a:xfrm flipH="1" flipV="1" rot="9339000">
            <a:off x="6399720" y="5256000"/>
            <a:ext cx="198360" cy="149040"/>
          </a:xfrm>
          <a:custGeom>
            <a:avLst/>
            <a:gdLst>
              <a:gd name="textAreaLeft" fmla="*/ -360 w 198360"/>
              <a:gd name="textAreaRight" fmla="*/ 198360 w 198360"/>
              <a:gd name="textAreaTop" fmla="*/ 0 h 149040"/>
              <a:gd name="textAreaBottom" fmla="*/ 149040 h 149040"/>
            </a:gdLst>
            <a:ahLst/>
            <a:rect l="textAreaLeft" t="textAreaTop" r="textAreaRight" b="textAreaBottom"/>
            <a:pathLst>
              <a:path fill="none" w="21600" h="240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17"/>
                  <a:pt x="21553" y="23234"/>
                  <a:pt x="21460" y="24046"/>
                </a:cubicBezTo>
              </a:path>
              <a:path stroke="0" w="21600" h="240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17"/>
                  <a:pt x="21553" y="23234"/>
                  <a:pt x="21460" y="2404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rc 17"/>
          <p:cNvSpPr/>
          <p:nvPr/>
        </p:nvSpPr>
        <p:spPr>
          <a:xfrm rot="8346600">
            <a:off x="7695720" y="1065240"/>
            <a:ext cx="216000" cy="288720"/>
          </a:xfrm>
          <a:custGeom>
            <a:avLst/>
            <a:gdLst>
              <a:gd name="textAreaLeft" fmla="*/ 0 w 216000"/>
              <a:gd name="textAreaRight" fmla="*/ 216360 w 216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392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649"/>
                  <a:pt x="18159" y="35255"/>
                  <a:pt x="12384" y="39297"/>
                </a:cubicBezTo>
              </a:path>
              <a:path stroke="0" w="21600" h="392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649"/>
                  <a:pt x="18159" y="35255"/>
                  <a:pt x="12384" y="39297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6248520" y="27417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顶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9"/>
          <p:cNvSpPr/>
          <p:nvPr/>
        </p:nvSpPr>
        <p:spPr>
          <a:xfrm>
            <a:off x="5580360" y="3732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20"/>
          <p:cNvSpPr/>
          <p:nvPr/>
        </p:nvSpPr>
        <p:spPr>
          <a:xfrm>
            <a:off x="6266160" y="1370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7086600" y="13701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底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6095880" y="4494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底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7561440" y="2970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黑体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25"/>
          <p:cNvSpPr/>
          <p:nvPr/>
        </p:nvSpPr>
        <p:spPr>
          <a:xfrm>
            <a:off x="609480" y="836640"/>
            <a:ext cx="0" cy="395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26"/>
          <p:cNvSpPr/>
          <p:nvPr/>
        </p:nvSpPr>
        <p:spPr>
          <a:xfrm flipH="1">
            <a:off x="609120" y="4799160"/>
            <a:ext cx="396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27"/>
          <p:cNvSpPr/>
          <p:nvPr/>
        </p:nvSpPr>
        <p:spPr>
          <a:xfrm flipH="1">
            <a:off x="5790960" y="684360"/>
            <a:ext cx="2376360" cy="20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28"/>
          <p:cNvSpPr/>
          <p:nvPr/>
        </p:nvSpPr>
        <p:spPr>
          <a:xfrm flipH="1" flipV="1">
            <a:off x="5790960" y="2741760"/>
            <a:ext cx="685800" cy="312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250920" y="5300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黑体"/>
              </a:rPr>
              <a:t>等腰三角形的两条边相等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黑体"/>
              </a:rPr>
              <a:t>两个底角也相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228600" y="12952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一个等腰三角形的顶角是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度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它的一个底角是多少度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1042920" y="3429000"/>
            <a:ext cx="2303640" cy="2592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Arc 6"/>
          <p:cNvSpPr/>
          <p:nvPr/>
        </p:nvSpPr>
        <p:spPr>
          <a:xfrm rot="5638800">
            <a:off x="2049480" y="3574800"/>
            <a:ext cx="285480" cy="425520"/>
          </a:xfrm>
          <a:custGeom>
            <a:avLst/>
            <a:gdLst>
              <a:gd name="textAreaLeft" fmla="*/ 0 w 285480"/>
              <a:gd name="textAreaRight" fmla="*/ 285840 w 2854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fill="none" w="21600" h="33718">
                <a:moveTo>
                  <a:pt x="10252" y="-1"/>
                </a:moveTo>
                <a:cubicBezTo>
                  <a:pt x="17242" y="3769"/>
                  <a:pt x="21600" y="11070"/>
                  <a:pt x="21600" y="19012"/>
                </a:cubicBezTo>
                <a:cubicBezTo>
                  <a:pt x="21600" y="24467"/>
                  <a:pt x="19535" y="29721"/>
                  <a:pt x="15820" y="33717"/>
                </a:cubicBezTo>
              </a:path>
              <a:path stroke="0" w="21600" h="33718">
                <a:moveTo>
                  <a:pt x="10252" y="-1"/>
                </a:moveTo>
                <a:cubicBezTo>
                  <a:pt x="17242" y="3769"/>
                  <a:pt x="21600" y="11070"/>
                  <a:pt x="21600" y="19012"/>
                </a:cubicBezTo>
                <a:cubicBezTo>
                  <a:pt x="21600" y="24467"/>
                  <a:pt x="19535" y="29721"/>
                  <a:pt x="15820" y="33717"/>
                </a:cubicBezTo>
                <a:lnTo>
                  <a:pt x="0" y="1901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810800" y="4076640"/>
            <a:ext cx="84528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en-US" sz="4000" spc="-1" strike="noStrike" baseline="50000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3492360" y="3276720"/>
            <a:ext cx="4889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80°- 70°=110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10°÷ 2 =55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1187280" y="5300640"/>
            <a:ext cx="1219320" cy="703440"/>
            <a:chOff x="1187280" y="5300640"/>
            <a:chExt cx="1219320" cy="703440"/>
          </a:xfrm>
        </p:grpSpPr>
        <p:sp>
          <p:nvSpPr>
            <p:cNvPr id="529" name="Arc 9"/>
            <p:cNvSpPr/>
            <p:nvPr/>
          </p:nvSpPr>
          <p:spPr>
            <a:xfrm>
              <a:off x="1187280" y="5757840"/>
              <a:ext cx="152280" cy="228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1263600" y="53006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1" name="Group 15"/>
          <p:cNvGrpSpPr/>
          <p:nvPr/>
        </p:nvGrpSpPr>
        <p:grpSpPr>
          <a:xfrm>
            <a:off x="2340000" y="5300640"/>
            <a:ext cx="1295280" cy="703440"/>
            <a:chOff x="2340000" y="5300640"/>
            <a:chExt cx="1295280" cy="703440"/>
          </a:xfrm>
        </p:grpSpPr>
        <p:sp>
          <p:nvSpPr>
            <p:cNvPr id="532" name="Arc 11"/>
            <p:cNvSpPr/>
            <p:nvPr/>
          </p:nvSpPr>
          <p:spPr>
            <a:xfrm flipH="1">
              <a:off x="3024720" y="5757840"/>
              <a:ext cx="152280" cy="22860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 Box 13"/>
            <p:cNvSpPr/>
            <p:nvPr/>
          </p:nvSpPr>
          <p:spPr>
            <a:xfrm>
              <a:off x="2340000" y="530064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395280" y="112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等腰三角形的一个底角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度，求顶角的度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228600" y="3352680"/>
            <a:ext cx="4319640" cy="1440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Arc 6"/>
          <p:cNvSpPr/>
          <p:nvPr/>
        </p:nvSpPr>
        <p:spPr>
          <a:xfrm>
            <a:off x="685800" y="4495680"/>
            <a:ext cx="144360" cy="287280"/>
          </a:xfrm>
          <a:custGeom>
            <a:avLst/>
            <a:gdLst>
              <a:gd name="textAreaLeft" fmla="*/ 0 w 144360"/>
              <a:gd name="textAreaRight" fmla="*/ 144360 w 14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885240" y="4191120"/>
            <a:ext cx="84528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1" lang="en-US" sz="4000" spc="-1" strike="noStrike" baseline="50000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4572000" y="32846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5°× 2 =70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0°- 70°=110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Group 25"/>
          <p:cNvGrpSpPr/>
          <p:nvPr/>
        </p:nvGrpSpPr>
        <p:grpSpPr>
          <a:xfrm>
            <a:off x="1828800" y="3505320"/>
            <a:ext cx="1295280" cy="703440"/>
            <a:chOff x="1828800" y="3505320"/>
            <a:chExt cx="1295280" cy="703440"/>
          </a:xfrm>
        </p:grpSpPr>
        <p:sp>
          <p:nvSpPr>
            <p:cNvPr id="540" name="Freeform 23"/>
            <p:cNvSpPr/>
            <p:nvPr/>
          </p:nvSpPr>
          <p:spPr>
            <a:xfrm>
              <a:off x="2133720" y="3510360"/>
              <a:ext cx="439560" cy="1015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77" h="64">
                  <a:moveTo>
                    <a:pt x="0" y="0"/>
                  </a:moveTo>
                  <a:cubicBezTo>
                    <a:pt x="27" y="17"/>
                    <a:pt x="58" y="22"/>
                    <a:pt x="85" y="39"/>
                  </a:cubicBezTo>
                  <a:cubicBezTo>
                    <a:pt x="240" y="34"/>
                    <a:pt x="213" y="64"/>
                    <a:pt x="27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 Box 24"/>
            <p:cNvSpPr/>
            <p:nvPr/>
          </p:nvSpPr>
          <p:spPr>
            <a:xfrm>
              <a:off x="1828800" y="35053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110 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26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0" y="288828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让学生在实际的操作过程中，认识并掌握等腰三角形和等边三角形的基本特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在探究图形特征以及相关结论的活动中，进一步发展学生的空间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在学习活动中，进一步培养学生对数学的好奇心，提高动手能力，培养创新意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1"/>
          <p:cNvSpPr/>
          <p:nvPr/>
        </p:nvSpPr>
        <p:spPr>
          <a:xfrm rot="18297600">
            <a:off x="2857320" y="239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47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508720" y="4149720"/>
            <a:ext cx="3084480" cy="2158920"/>
          </a:xfrm>
          <a:prstGeom prst="rect">
            <a:avLst/>
          </a:prstGeom>
          <a:ln w="0">
            <a:noFill/>
          </a:ln>
        </p:spPr>
      </p:pic>
      <p:sp>
        <p:nvSpPr>
          <p:cNvPr id="548" name="矩形 7"/>
          <p:cNvSpPr/>
          <p:nvPr/>
        </p:nvSpPr>
        <p:spPr>
          <a:xfrm>
            <a:off x="611280" y="191628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等腰三角形的顶角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70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那么它的一个底角是（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10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0"/>
          <p:cNvSpPr/>
          <p:nvPr/>
        </p:nvSpPr>
        <p:spPr>
          <a:xfrm>
            <a:off x="684360" y="1844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554" name="矩形 6"/>
          <p:cNvSpPr/>
          <p:nvPr/>
        </p:nvSpPr>
        <p:spPr>
          <a:xfrm>
            <a:off x="684360" y="4292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等腰三角形的顶角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70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那么它的一个底角是（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55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7"/>
          <p:cNvSpPr/>
          <p:nvPr/>
        </p:nvSpPr>
        <p:spPr>
          <a:xfrm>
            <a:off x="900000" y="2924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腰三角形两个底角相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8"/>
          <p:cNvSpPr/>
          <p:nvPr/>
        </p:nvSpPr>
        <p:spPr>
          <a:xfrm rot="18297600">
            <a:off x="3936960" y="4554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0" y="1341360"/>
            <a:ext cx="897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用一根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厘米长的线，可以围成边长是几厘米的等边三角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0" y="3645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要围一个边长是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厘米的等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三角形需要多少长的铁丝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403280" y="2852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18÷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6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厘米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187280" y="5157720"/>
            <a:ext cx="58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8×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（厘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同侧圆角矩形 9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线连接符 21"/>
          <p:cNvSpPr/>
          <p:nvPr/>
        </p:nvSpPr>
        <p:spPr>
          <a:xfrm flipV="1">
            <a:off x="484200" y="147924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468360" y="981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等腰三角形的顶角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它的一个底角是（      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68360" y="249228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等腰三角形的一个底角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它的顶角是（      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395280" y="4076640"/>
            <a:ext cx="75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长的线可以围成边长是（   ）厘米的等边三角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68360" y="423396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3276720" y="155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55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2987640" y="31417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110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1332000" y="4724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2"/>
          <p:cNvSpPr/>
          <p:nvPr/>
        </p:nvSpPr>
        <p:spPr>
          <a:xfrm rot="16200000">
            <a:off x="2602080" y="2249280"/>
            <a:ext cx="2879640" cy="287964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3"/>
          <p:cNvSpPr/>
          <p:nvPr/>
        </p:nvSpPr>
        <p:spPr>
          <a:xfrm rot="5400000">
            <a:off x="2601360" y="2249280"/>
            <a:ext cx="2879640" cy="287964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4"/>
          <p:cNvSpPr/>
          <p:nvPr/>
        </p:nvSpPr>
        <p:spPr>
          <a:xfrm flipV="1">
            <a:off x="2602080" y="2249280"/>
            <a:ext cx="2879640" cy="28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700360" y="530064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直角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2602080" y="2249640"/>
            <a:ext cx="2879640" cy="2879640"/>
            <a:chOff x="2602080" y="2249640"/>
            <a:chExt cx="2879640" cy="2879640"/>
          </a:xfrm>
        </p:grpSpPr>
        <p:sp>
          <p:nvSpPr>
            <p:cNvPr id="576" name="Line 6"/>
            <p:cNvSpPr/>
            <p:nvPr/>
          </p:nvSpPr>
          <p:spPr>
            <a:xfrm>
              <a:off x="2602080" y="5129280"/>
              <a:ext cx="28796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Line 7"/>
            <p:cNvSpPr/>
            <p:nvPr/>
          </p:nvSpPr>
          <p:spPr>
            <a:xfrm>
              <a:off x="5481720" y="2249640"/>
              <a:ext cx="0" cy="2879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Group 8"/>
          <p:cNvGrpSpPr/>
          <p:nvPr/>
        </p:nvGrpSpPr>
        <p:grpSpPr>
          <a:xfrm>
            <a:off x="5121360" y="4842000"/>
            <a:ext cx="360360" cy="287280"/>
            <a:chOff x="5121360" y="4842000"/>
            <a:chExt cx="360360" cy="287280"/>
          </a:xfrm>
        </p:grpSpPr>
        <p:sp>
          <p:nvSpPr>
            <p:cNvPr id="579" name="Line 9"/>
            <p:cNvSpPr/>
            <p:nvPr/>
          </p:nvSpPr>
          <p:spPr>
            <a:xfrm>
              <a:off x="5121360" y="4842000"/>
              <a:ext cx="36036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5121360" y="4842000"/>
              <a:ext cx="0" cy="287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Text Box 12"/>
          <p:cNvSpPr/>
          <p:nvPr/>
        </p:nvSpPr>
        <p:spPr>
          <a:xfrm>
            <a:off x="2700360" y="587700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等腰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539640" y="907920"/>
            <a:ext cx="800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用一张正方形的纸，沿对角线剪开。剪出的两个三角形是什么三角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-0.07084 -0.09444 E">
                                      <p:cBhvr>
                                        <p:cTn id="936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250920" y="1989000"/>
          <a:ext cx="8642160" cy="4389480"/>
        </p:xfrm>
        <a:graphic>
          <a:graphicData uri="http://schemas.openxmlformats.org/drawingml/2006/table">
            <a:tbl>
              <a:tblPr/>
              <a:tblGrid>
                <a:gridCol w="504720"/>
                <a:gridCol w="501840"/>
                <a:gridCol w="507960"/>
                <a:gridCol w="498240"/>
                <a:gridCol w="507960"/>
                <a:gridCol w="505080"/>
                <a:gridCol w="503280"/>
                <a:gridCol w="502920"/>
                <a:gridCol w="503280"/>
                <a:gridCol w="506520"/>
                <a:gridCol w="503280"/>
                <a:gridCol w="546120"/>
                <a:gridCol w="534960"/>
                <a:gridCol w="503280"/>
                <a:gridCol w="504720"/>
                <a:gridCol w="503280"/>
                <a:gridCol w="504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</a:tbl>
          </a:graphicData>
        </a:graphic>
      </p:graphicFrame>
      <p:sp>
        <p:nvSpPr>
          <p:cNvPr id="584" name="Line 184"/>
          <p:cNvSpPr/>
          <p:nvPr/>
        </p:nvSpPr>
        <p:spPr>
          <a:xfrm>
            <a:off x="1258920" y="1989000"/>
            <a:ext cx="0" cy="424836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Line 185"/>
          <p:cNvSpPr/>
          <p:nvPr/>
        </p:nvSpPr>
        <p:spPr>
          <a:xfrm>
            <a:off x="250920" y="5084640"/>
            <a:ext cx="1008000" cy="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Line 186"/>
          <p:cNvSpPr/>
          <p:nvPr/>
        </p:nvSpPr>
        <p:spPr>
          <a:xfrm flipV="1">
            <a:off x="250920" y="2491920"/>
            <a:ext cx="1008000" cy="25923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Line 187"/>
          <p:cNvSpPr/>
          <p:nvPr/>
        </p:nvSpPr>
        <p:spPr>
          <a:xfrm flipH="1">
            <a:off x="2484000" y="5084640"/>
            <a:ext cx="230508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188"/>
          <p:cNvSpPr/>
          <p:nvPr/>
        </p:nvSpPr>
        <p:spPr>
          <a:xfrm flipV="1">
            <a:off x="2771640" y="3502080"/>
            <a:ext cx="0" cy="15825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189"/>
          <p:cNvSpPr/>
          <p:nvPr/>
        </p:nvSpPr>
        <p:spPr>
          <a:xfrm flipH="1" flipV="1">
            <a:off x="2771640" y="3502080"/>
            <a:ext cx="1511280" cy="15825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190"/>
          <p:cNvSpPr/>
          <p:nvPr/>
        </p:nvSpPr>
        <p:spPr>
          <a:xfrm>
            <a:off x="6372360" y="2565360"/>
            <a:ext cx="0" cy="345600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Line 191"/>
          <p:cNvSpPr/>
          <p:nvPr/>
        </p:nvSpPr>
        <p:spPr>
          <a:xfrm flipH="1" flipV="1">
            <a:off x="6372360" y="3571920"/>
            <a:ext cx="2520720" cy="151272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Line 192"/>
          <p:cNvSpPr/>
          <p:nvPr/>
        </p:nvSpPr>
        <p:spPr>
          <a:xfrm>
            <a:off x="6372360" y="5084640"/>
            <a:ext cx="2520720" cy="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202"/>
          <p:cNvSpPr/>
          <p:nvPr/>
        </p:nvSpPr>
        <p:spPr>
          <a:xfrm>
            <a:off x="395280" y="260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204"/>
          <p:cNvSpPr/>
          <p:nvPr/>
        </p:nvSpPr>
        <p:spPr>
          <a:xfrm>
            <a:off x="395280" y="7650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206"/>
          <p:cNvSpPr/>
          <p:nvPr/>
        </p:nvSpPr>
        <p:spPr>
          <a:xfrm>
            <a:off x="468360" y="836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华文新魏"/>
              </a:rPr>
              <a:t>画出下面每个图形的另一半，使它成为一个轴对称图形，并说说这几个轴对称图形都是什么三角形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324000" y="1197000"/>
          <a:ext cx="8642160" cy="4389480"/>
        </p:xfrm>
        <a:graphic>
          <a:graphicData uri="http://schemas.openxmlformats.org/drawingml/2006/table">
            <a:tbl>
              <a:tblPr/>
              <a:tblGrid>
                <a:gridCol w="504720"/>
                <a:gridCol w="501480"/>
                <a:gridCol w="507960"/>
                <a:gridCol w="498600"/>
                <a:gridCol w="507960"/>
                <a:gridCol w="505080"/>
                <a:gridCol w="502920"/>
                <a:gridCol w="503280"/>
                <a:gridCol w="503280"/>
                <a:gridCol w="504720"/>
                <a:gridCol w="505080"/>
                <a:gridCol w="546120"/>
                <a:gridCol w="534960"/>
                <a:gridCol w="503280"/>
                <a:gridCol w="504720"/>
                <a:gridCol w="503280"/>
                <a:gridCol w="504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</a:tbl>
          </a:graphicData>
        </a:graphic>
      </p:graphicFrame>
      <p:sp>
        <p:nvSpPr>
          <p:cNvPr id="597" name="Line 184"/>
          <p:cNvSpPr/>
          <p:nvPr/>
        </p:nvSpPr>
        <p:spPr>
          <a:xfrm>
            <a:off x="1836720" y="1413000"/>
            <a:ext cx="0" cy="424800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ine 185"/>
          <p:cNvSpPr/>
          <p:nvPr/>
        </p:nvSpPr>
        <p:spPr>
          <a:xfrm>
            <a:off x="828720" y="4294080"/>
            <a:ext cx="1008000" cy="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186"/>
          <p:cNvSpPr/>
          <p:nvPr/>
        </p:nvSpPr>
        <p:spPr>
          <a:xfrm flipV="1">
            <a:off x="828720" y="1701360"/>
            <a:ext cx="1008000" cy="25923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187"/>
          <p:cNvSpPr/>
          <p:nvPr/>
        </p:nvSpPr>
        <p:spPr>
          <a:xfrm flipH="1">
            <a:off x="3060360" y="3284640"/>
            <a:ext cx="230508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Line 188"/>
          <p:cNvSpPr/>
          <p:nvPr/>
        </p:nvSpPr>
        <p:spPr>
          <a:xfrm flipV="1">
            <a:off x="3349800" y="1701360"/>
            <a:ext cx="0" cy="158292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Line 189"/>
          <p:cNvSpPr/>
          <p:nvPr/>
        </p:nvSpPr>
        <p:spPr>
          <a:xfrm flipH="1" flipV="1">
            <a:off x="3349800" y="1701360"/>
            <a:ext cx="1511280" cy="158292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Line 190"/>
          <p:cNvSpPr/>
          <p:nvPr/>
        </p:nvSpPr>
        <p:spPr>
          <a:xfrm>
            <a:off x="6445080" y="2133720"/>
            <a:ext cx="0" cy="345600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Line 191"/>
          <p:cNvSpPr/>
          <p:nvPr/>
        </p:nvSpPr>
        <p:spPr>
          <a:xfrm flipH="1" flipV="1">
            <a:off x="6444720" y="3284640"/>
            <a:ext cx="2521080" cy="151272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Line 192"/>
          <p:cNvSpPr/>
          <p:nvPr/>
        </p:nvSpPr>
        <p:spPr>
          <a:xfrm>
            <a:off x="6445080" y="4797360"/>
            <a:ext cx="2521080" cy="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193"/>
          <p:cNvSpPr/>
          <p:nvPr/>
        </p:nvSpPr>
        <p:spPr>
          <a:xfrm>
            <a:off x="2806560" y="4246560"/>
            <a:ext cx="71640" cy="71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194"/>
          <p:cNvSpPr/>
          <p:nvPr/>
        </p:nvSpPr>
        <p:spPr>
          <a:xfrm>
            <a:off x="1836720" y="4294080"/>
            <a:ext cx="1008000" cy="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195"/>
          <p:cNvSpPr/>
          <p:nvPr/>
        </p:nvSpPr>
        <p:spPr>
          <a:xfrm flipH="1" flipV="1">
            <a:off x="1836720" y="1701360"/>
            <a:ext cx="1008000" cy="25923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Oval 196"/>
          <p:cNvSpPr/>
          <p:nvPr/>
        </p:nvSpPr>
        <p:spPr>
          <a:xfrm>
            <a:off x="3311640" y="479736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197"/>
          <p:cNvSpPr/>
          <p:nvPr/>
        </p:nvSpPr>
        <p:spPr>
          <a:xfrm flipV="1">
            <a:off x="3349800" y="3284640"/>
            <a:ext cx="0" cy="15825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98"/>
          <p:cNvSpPr/>
          <p:nvPr/>
        </p:nvSpPr>
        <p:spPr>
          <a:xfrm flipH="1">
            <a:off x="3349800" y="3284640"/>
            <a:ext cx="1511280" cy="151272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Oval 199"/>
          <p:cNvSpPr/>
          <p:nvPr/>
        </p:nvSpPr>
        <p:spPr>
          <a:xfrm>
            <a:off x="3814920" y="479736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200"/>
          <p:cNvSpPr/>
          <p:nvPr/>
        </p:nvSpPr>
        <p:spPr>
          <a:xfrm>
            <a:off x="3852720" y="4797360"/>
            <a:ext cx="2592360" cy="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201"/>
          <p:cNvSpPr/>
          <p:nvPr/>
        </p:nvSpPr>
        <p:spPr>
          <a:xfrm flipV="1">
            <a:off x="3852720" y="3284640"/>
            <a:ext cx="2592360" cy="151272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5" name="Group 204"/>
          <p:cNvGrpSpPr/>
          <p:nvPr/>
        </p:nvGrpSpPr>
        <p:grpSpPr>
          <a:xfrm>
            <a:off x="1836360" y="668160"/>
            <a:ext cx="5040360" cy="815760"/>
            <a:chOff x="1836360" y="668160"/>
            <a:chExt cx="5040360" cy="815760"/>
          </a:xfrm>
        </p:grpSpPr>
        <p:sp>
          <p:nvSpPr>
            <p:cNvPr id="616" name="Text Box 202"/>
            <p:cNvSpPr/>
            <p:nvPr/>
          </p:nvSpPr>
          <p:spPr>
            <a:xfrm>
              <a:off x="3278160" y="668160"/>
              <a:ext cx="20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等腰三角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203"/>
            <p:cNvSpPr/>
            <p:nvPr/>
          </p:nvSpPr>
          <p:spPr>
            <a:xfrm rot="5400000">
              <a:off x="4212720" y="-1180080"/>
              <a:ext cx="287640" cy="5040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131400 h 5040360"/>
                <a:gd name="textAreaBottom" fmla="*/ 490896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Text Box 205"/>
          <p:cNvSpPr/>
          <p:nvPr/>
        </p:nvSpPr>
        <p:spPr>
          <a:xfrm>
            <a:off x="826920" y="573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锐角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2700360" y="587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直角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207"/>
          <p:cNvSpPr/>
          <p:nvPr/>
        </p:nvSpPr>
        <p:spPr>
          <a:xfrm>
            <a:off x="565164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钝角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395280" y="8938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手画一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39640" y="16286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楷体_GB2312"/>
              </a:rPr>
              <a:t>在点子图上分别画出有一个角是直角的等腰三角形、以及一个每个角都是锐角的等腰三角形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图片 5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4149720"/>
            <a:ext cx="2592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611280" y="333360"/>
            <a:ext cx="7777080" cy="5904000"/>
            <a:chOff x="611280" y="333360"/>
            <a:chExt cx="7777080" cy="5904000"/>
          </a:xfrm>
        </p:grpSpPr>
        <p:sp>
          <p:nvSpPr>
            <p:cNvPr id="625" name="Rectangle 3"/>
            <p:cNvSpPr/>
            <p:nvPr/>
          </p:nvSpPr>
          <p:spPr>
            <a:xfrm>
              <a:off x="611280" y="333360"/>
              <a:ext cx="7777080" cy="590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6" name="Group 4"/>
            <p:cNvGrpSpPr/>
            <p:nvPr/>
          </p:nvGrpSpPr>
          <p:grpSpPr>
            <a:xfrm>
              <a:off x="1187280" y="692280"/>
              <a:ext cx="6553440" cy="5185800"/>
              <a:chOff x="1187280" y="692280"/>
              <a:chExt cx="6553440" cy="5185800"/>
            </a:xfrm>
          </p:grpSpPr>
          <p:grpSp>
            <p:nvGrpSpPr>
              <p:cNvPr id="627" name="Group 5"/>
              <p:cNvGrpSpPr/>
              <p:nvPr/>
            </p:nvGrpSpPr>
            <p:grpSpPr>
              <a:xfrm>
                <a:off x="1187280" y="692280"/>
                <a:ext cx="6553440" cy="72720"/>
                <a:chOff x="1187280" y="692280"/>
                <a:chExt cx="6553440" cy="72720"/>
              </a:xfrm>
            </p:grpSpPr>
            <p:sp>
              <p:nvSpPr>
                <p:cNvPr id="628" name="Oval 6"/>
                <p:cNvSpPr/>
                <p:nvPr/>
              </p:nvSpPr>
              <p:spPr>
                <a:xfrm>
                  <a:off x="118728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9" name="Oval 7"/>
                <p:cNvSpPr/>
                <p:nvPr/>
              </p:nvSpPr>
              <p:spPr>
                <a:xfrm>
                  <a:off x="1835280" y="69228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0" name="Oval 8"/>
                <p:cNvSpPr/>
                <p:nvPr/>
              </p:nvSpPr>
              <p:spPr>
                <a:xfrm>
                  <a:off x="248292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Oval 9"/>
                <p:cNvSpPr/>
                <p:nvPr/>
              </p:nvSpPr>
              <p:spPr>
                <a:xfrm>
                  <a:off x="313200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Oval 10"/>
                <p:cNvSpPr/>
                <p:nvPr/>
              </p:nvSpPr>
              <p:spPr>
                <a:xfrm>
                  <a:off x="3780000" y="69228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Oval 11"/>
                <p:cNvSpPr/>
                <p:nvPr/>
              </p:nvSpPr>
              <p:spPr>
                <a:xfrm>
                  <a:off x="442764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4" name="Oval 12"/>
                <p:cNvSpPr/>
                <p:nvPr/>
              </p:nvSpPr>
              <p:spPr>
                <a:xfrm>
                  <a:off x="507672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Oval 13"/>
                <p:cNvSpPr/>
                <p:nvPr/>
              </p:nvSpPr>
              <p:spPr>
                <a:xfrm>
                  <a:off x="572436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6" name="Oval 14"/>
                <p:cNvSpPr/>
                <p:nvPr/>
              </p:nvSpPr>
              <p:spPr>
                <a:xfrm>
                  <a:off x="637056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Oval 15"/>
                <p:cNvSpPr/>
                <p:nvPr/>
              </p:nvSpPr>
              <p:spPr>
                <a:xfrm>
                  <a:off x="702000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8" name="Oval 16"/>
                <p:cNvSpPr/>
                <p:nvPr/>
              </p:nvSpPr>
              <p:spPr>
                <a:xfrm>
                  <a:off x="7667640" y="692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9" name="Group 17"/>
              <p:cNvGrpSpPr/>
              <p:nvPr/>
            </p:nvGrpSpPr>
            <p:grpSpPr>
              <a:xfrm>
                <a:off x="1187280" y="1341360"/>
                <a:ext cx="6553440" cy="72720"/>
                <a:chOff x="1187280" y="1341360"/>
                <a:chExt cx="6553440" cy="72720"/>
              </a:xfrm>
            </p:grpSpPr>
            <p:sp>
              <p:nvSpPr>
                <p:cNvPr id="640" name="Oval 18"/>
                <p:cNvSpPr/>
                <p:nvPr/>
              </p:nvSpPr>
              <p:spPr>
                <a:xfrm>
                  <a:off x="118728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1" name="Oval 19"/>
                <p:cNvSpPr/>
                <p:nvPr/>
              </p:nvSpPr>
              <p:spPr>
                <a:xfrm>
                  <a:off x="1835280" y="134136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2" name="Oval 20"/>
                <p:cNvSpPr/>
                <p:nvPr/>
              </p:nvSpPr>
              <p:spPr>
                <a:xfrm>
                  <a:off x="248292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3" name="Oval 21"/>
                <p:cNvSpPr/>
                <p:nvPr/>
              </p:nvSpPr>
              <p:spPr>
                <a:xfrm>
                  <a:off x="313200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4" name="Oval 22"/>
                <p:cNvSpPr/>
                <p:nvPr/>
              </p:nvSpPr>
              <p:spPr>
                <a:xfrm>
                  <a:off x="3780000" y="134136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5" name="Oval 23"/>
                <p:cNvSpPr/>
                <p:nvPr/>
              </p:nvSpPr>
              <p:spPr>
                <a:xfrm>
                  <a:off x="442764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6" name="Oval 24"/>
                <p:cNvSpPr/>
                <p:nvPr/>
              </p:nvSpPr>
              <p:spPr>
                <a:xfrm>
                  <a:off x="507672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7" name="Oval 25"/>
                <p:cNvSpPr/>
                <p:nvPr/>
              </p:nvSpPr>
              <p:spPr>
                <a:xfrm>
                  <a:off x="572436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Oval 26"/>
                <p:cNvSpPr/>
                <p:nvPr/>
              </p:nvSpPr>
              <p:spPr>
                <a:xfrm>
                  <a:off x="637056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Oval 27"/>
                <p:cNvSpPr/>
                <p:nvPr/>
              </p:nvSpPr>
              <p:spPr>
                <a:xfrm>
                  <a:off x="702000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Oval 28"/>
                <p:cNvSpPr/>
                <p:nvPr/>
              </p:nvSpPr>
              <p:spPr>
                <a:xfrm>
                  <a:off x="7667640" y="1341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1" name="Group 29"/>
              <p:cNvGrpSpPr/>
              <p:nvPr/>
            </p:nvGrpSpPr>
            <p:grpSpPr>
              <a:xfrm>
                <a:off x="1187280" y="1916280"/>
                <a:ext cx="6553440" cy="72720"/>
                <a:chOff x="1187280" y="1916280"/>
                <a:chExt cx="6553440" cy="72720"/>
              </a:xfrm>
            </p:grpSpPr>
            <p:sp>
              <p:nvSpPr>
                <p:cNvPr id="652" name="Oval 30"/>
                <p:cNvSpPr/>
                <p:nvPr/>
              </p:nvSpPr>
              <p:spPr>
                <a:xfrm>
                  <a:off x="118728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Oval 31"/>
                <p:cNvSpPr/>
                <p:nvPr/>
              </p:nvSpPr>
              <p:spPr>
                <a:xfrm>
                  <a:off x="1835280" y="191628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Oval 32"/>
                <p:cNvSpPr/>
                <p:nvPr/>
              </p:nvSpPr>
              <p:spPr>
                <a:xfrm>
                  <a:off x="248292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5" name="Oval 33"/>
                <p:cNvSpPr/>
                <p:nvPr/>
              </p:nvSpPr>
              <p:spPr>
                <a:xfrm>
                  <a:off x="313200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6" name="Oval 34"/>
                <p:cNvSpPr/>
                <p:nvPr/>
              </p:nvSpPr>
              <p:spPr>
                <a:xfrm>
                  <a:off x="3780000" y="191628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Oval 35"/>
                <p:cNvSpPr/>
                <p:nvPr/>
              </p:nvSpPr>
              <p:spPr>
                <a:xfrm>
                  <a:off x="442764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Oval 36"/>
                <p:cNvSpPr/>
                <p:nvPr/>
              </p:nvSpPr>
              <p:spPr>
                <a:xfrm>
                  <a:off x="507672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Oval 37"/>
                <p:cNvSpPr/>
                <p:nvPr/>
              </p:nvSpPr>
              <p:spPr>
                <a:xfrm>
                  <a:off x="572436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0" name="Oval 38"/>
                <p:cNvSpPr/>
                <p:nvPr/>
              </p:nvSpPr>
              <p:spPr>
                <a:xfrm>
                  <a:off x="637056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1" name="Oval 39"/>
                <p:cNvSpPr/>
                <p:nvPr/>
              </p:nvSpPr>
              <p:spPr>
                <a:xfrm>
                  <a:off x="702000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Oval 40"/>
                <p:cNvSpPr/>
                <p:nvPr/>
              </p:nvSpPr>
              <p:spPr>
                <a:xfrm>
                  <a:off x="7667640" y="191628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3" name="Group 41"/>
              <p:cNvGrpSpPr/>
              <p:nvPr/>
            </p:nvGrpSpPr>
            <p:grpSpPr>
              <a:xfrm>
                <a:off x="1187280" y="2565360"/>
                <a:ext cx="6553440" cy="72720"/>
                <a:chOff x="1187280" y="2565360"/>
                <a:chExt cx="6553440" cy="72720"/>
              </a:xfrm>
            </p:grpSpPr>
            <p:sp>
              <p:nvSpPr>
                <p:cNvPr id="664" name="Oval 42"/>
                <p:cNvSpPr/>
                <p:nvPr/>
              </p:nvSpPr>
              <p:spPr>
                <a:xfrm>
                  <a:off x="118728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Oval 43"/>
                <p:cNvSpPr/>
                <p:nvPr/>
              </p:nvSpPr>
              <p:spPr>
                <a:xfrm>
                  <a:off x="1835280" y="256536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6" name="Oval 44"/>
                <p:cNvSpPr/>
                <p:nvPr/>
              </p:nvSpPr>
              <p:spPr>
                <a:xfrm>
                  <a:off x="248292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7" name="Oval 45"/>
                <p:cNvSpPr/>
                <p:nvPr/>
              </p:nvSpPr>
              <p:spPr>
                <a:xfrm>
                  <a:off x="313200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Oval 46"/>
                <p:cNvSpPr/>
                <p:nvPr/>
              </p:nvSpPr>
              <p:spPr>
                <a:xfrm>
                  <a:off x="3780000" y="256536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9" name="Oval 47"/>
                <p:cNvSpPr/>
                <p:nvPr/>
              </p:nvSpPr>
              <p:spPr>
                <a:xfrm>
                  <a:off x="442764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0" name="Oval 48"/>
                <p:cNvSpPr/>
                <p:nvPr/>
              </p:nvSpPr>
              <p:spPr>
                <a:xfrm>
                  <a:off x="507672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Oval 49"/>
                <p:cNvSpPr/>
                <p:nvPr/>
              </p:nvSpPr>
              <p:spPr>
                <a:xfrm>
                  <a:off x="572436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Oval 50"/>
                <p:cNvSpPr/>
                <p:nvPr/>
              </p:nvSpPr>
              <p:spPr>
                <a:xfrm>
                  <a:off x="637056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Oval 51"/>
                <p:cNvSpPr/>
                <p:nvPr/>
              </p:nvSpPr>
              <p:spPr>
                <a:xfrm>
                  <a:off x="702000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Oval 52"/>
                <p:cNvSpPr/>
                <p:nvPr/>
              </p:nvSpPr>
              <p:spPr>
                <a:xfrm>
                  <a:off x="7667640" y="256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5" name="Group 53"/>
              <p:cNvGrpSpPr/>
              <p:nvPr/>
            </p:nvGrpSpPr>
            <p:grpSpPr>
              <a:xfrm>
                <a:off x="1187280" y="3213000"/>
                <a:ext cx="6553440" cy="72720"/>
                <a:chOff x="1187280" y="3213000"/>
                <a:chExt cx="6553440" cy="72720"/>
              </a:xfrm>
            </p:grpSpPr>
            <p:sp>
              <p:nvSpPr>
                <p:cNvPr id="676" name="Oval 54"/>
                <p:cNvSpPr/>
                <p:nvPr/>
              </p:nvSpPr>
              <p:spPr>
                <a:xfrm>
                  <a:off x="118728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Oval 55"/>
                <p:cNvSpPr/>
                <p:nvPr/>
              </p:nvSpPr>
              <p:spPr>
                <a:xfrm>
                  <a:off x="1835280" y="321300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Oval 56"/>
                <p:cNvSpPr/>
                <p:nvPr/>
              </p:nvSpPr>
              <p:spPr>
                <a:xfrm>
                  <a:off x="248292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Oval 57"/>
                <p:cNvSpPr/>
                <p:nvPr/>
              </p:nvSpPr>
              <p:spPr>
                <a:xfrm>
                  <a:off x="313200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Oval 58"/>
                <p:cNvSpPr/>
                <p:nvPr/>
              </p:nvSpPr>
              <p:spPr>
                <a:xfrm>
                  <a:off x="3780000" y="321300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Oval 59"/>
                <p:cNvSpPr/>
                <p:nvPr/>
              </p:nvSpPr>
              <p:spPr>
                <a:xfrm>
                  <a:off x="442764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Oval 60"/>
                <p:cNvSpPr/>
                <p:nvPr/>
              </p:nvSpPr>
              <p:spPr>
                <a:xfrm>
                  <a:off x="507672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3" name="Oval 61"/>
                <p:cNvSpPr/>
                <p:nvPr/>
              </p:nvSpPr>
              <p:spPr>
                <a:xfrm>
                  <a:off x="572436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Oval 62"/>
                <p:cNvSpPr/>
                <p:nvPr/>
              </p:nvSpPr>
              <p:spPr>
                <a:xfrm>
                  <a:off x="637056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Oval 63"/>
                <p:cNvSpPr/>
                <p:nvPr/>
              </p:nvSpPr>
              <p:spPr>
                <a:xfrm>
                  <a:off x="702000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Oval 64"/>
                <p:cNvSpPr/>
                <p:nvPr/>
              </p:nvSpPr>
              <p:spPr>
                <a:xfrm>
                  <a:off x="7667640" y="321300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7" name="Group 65"/>
              <p:cNvGrpSpPr/>
              <p:nvPr/>
            </p:nvGrpSpPr>
            <p:grpSpPr>
              <a:xfrm>
                <a:off x="1187280" y="3860640"/>
                <a:ext cx="6553440" cy="72720"/>
                <a:chOff x="1187280" y="3860640"/>
                <a:chExt cx="6553440" cy="72720"/>
              </a:xfrm>
            </p:grpSpPr>
            <p:sp>
              <p:nvSpPr>
                <p:cNvPr id="688" name="Oval 66"/>
                <p:cNvSpPr/>
                <p:nvPr/>
              </p:nvSpPr>
              <p:spPr>
                <a:xfrm>
                  <a:off x="118728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9" name="Oval 67"/>
                <p:cNvSpPr/>
                <p:nvPr/>
              </p:nvSpPr>
              <p:spPr>
                <a:xfrm>
                  <a:off x="1835280" y="386064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Oval 68"/>
                <p:cNvSpPr/>
                <p:nvPr/>
              </p:nvSpPr>
              <p:spPr>
                <a:xfrm>
                  <a:off x="248292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Oval 69"/>
                <p:cNvSpPr/>
                <p:nvPr/>
              </p:nvSpPr>
              <p:spPr>
                <a:xfrm>
                  <a:off x="313200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Oval 70"/>
                <p:cNvSpPr/>
                <p:nvPr/>
              </p:nvSpPr>
              <p:spPr>
                <a:xfrm>
                  <a:off x="3780000" y="386064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Oval 71"/>
                <p:cNvSpPr/>
                <p:nvPr/>
              </p:nvSpPr>
              <p:spPr>
                <a:xfrm>
                  <a:off x="442764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4" name="Oval 72"/>
                <p:cNvSpPr/>
                <p:nvPr/>
              </p:nvSpPr>
              <p:spPr>
                <a:xfrm>
                  <a:off x="507672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5" name="Oval 73"/>
                <p:cNvSpPr/>
                <p:nvPr/>
              </p:nvSpPr>
              <p:spPr>
                <a:xfrm>
                  <a:off x="572436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Oval 74"/>
                <p:cNvSpPr/>
                <p:nvPr/>
              </p:nvSpPr>
              <p:spPr>
                <a:xfrm>
                  <a:off x="637056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7" name="Oval 75"/>
                <p:cNvSpPr/>
                <p:nvPr/>
              </p:nvSpPr>
              <p:spPr>
                <a:xfrm>
                  <a:off x="702000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8" name="Oval 76"/>
                <p:cNvSpPr/>
                <p:nvPr/>
              </p:nvSpPr>
              <p:spPr>
                <a:xfrm>
                  <a:off x="7667640" y="3860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9" name="Group 77"/>
              <p:cNvGrpSpPr/>
              <p:nvPr/>
            </p:nvGrpSpPr>
            <p:grpSpPr>
              <a:xfrm>
                <a:off x="1187280" y="4508640"/>
                <a:ext cx="6553440" cy="72720"/>
                <a:chOff x="1187280" y="4508640"/>
                <a:chExt cx="6553440" cy="72720"/>
              </a:xfrm>
            </p:grpSpPr>
            <p:sp>
              <p:nvSpPr>
                <p:cNvPr id="700" name="Oval 78"/>
                <p:cNvSpPr/>
                <p:nvPr/>
              </p:nvSpPr>
              <p:spPr>
                <a:xfrm>
                  <a:off x="118728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1" name="Oval 79"/>
                <p:cNvSpPr/>
                <p:nvPr/>
              </p:nvSpPr>
              <p:spPr>
                <a:xfrm>
                  <a:off x="1835280" y="450864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Oval 80"/>
                <p:cNvSpPr/>
                <p:nvPr/>
              </p:nvSpPr>
              <p:spPr>
                <a:xfrm>
                  <a:off x="248292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3" name="Oval 81"/>
                <p:cNvSpPr/>
                <p:nvPr/>
              </p:nvSpPr>
              <p:spPr>
                <a:xfrm>
                  <a:off x="313200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4" name="Oval 82"/>
                <p:cNvSpPr/>
                <p:nvPr/>
              </p:nvSpPr>
              <p:spPr>
                <a:xfrm>
                  <a:off x="3780000" y="450864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5" name="Oval 83"/>
                <p:cNvSpPr/>
                <p:nvPr/>
              </p:nvSpPr>
              <p:spPr>
                <a:xfrm>
                  <a:off x="442764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6" name="Oval 84"/>
                <p:cNvSpPr/>
                <p:nvPr/>
              </p:nvSpPr>
              <p:spPr>
                <a:xfrm>
                  <a:off x="507672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7" name="Oval 85"/>
                <p:cNvSpPr/>
                <p:nvPr/>
              </p:nvSpPr>
              <p:spPr>
                <a:xfrm>
                  <a:off x="572436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8" name="Oval 86"/>
                <p:cNvSpPr/>
                <p:nvPr/>
              </p:nvSpPr>
              <p:spPr>
                <a:xfrm>
                  <a:off x="637056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9" name="Oval 87"/>
                <p:cNvSpPr/>
                <p:nvPr/>
              </p:nvSpPr>
              <p:spPr>
                <a:xfrm>
                  <a:off x="702000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0" name="Oval 88"/>
                <p:cNvSpPr/>
                <p:nvPr/>
              </p:nvSpPr>
              <p:spPr>
                <a:xfrm>
                  <a:off x="7667640" y="450864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1" name="Group 89"/>
              <p:cNvGrpSpPr/>
              <p:nvPr/>
            </p:nvGrpSpPr>
            <p:grpSpPr>
              <a:xfrm>
                <a:off x="1187280" y="5157720"/>
                <a:ext cx="6553440" cy="72720"/>
                <a:chOff x="1187280" y="5157720"/>
                <a:chExt cx="6553440" cy="72720"/>
              </a:xfrm>
            </p:grpSpPr>
            <p:sp>
              <p:nvSpPr>
                <p:cNvPr id="712" name="Oval 90"/>
                <p:cNvSpPr/>
                <p:nvPr/>
              </p:nvSpPr>
              <p:spPr>
                <a:xfrm>
                  <a:off x="118728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3" name="Oval 91"/>
                <p:cNvSpPr/>
                <p:nvPr/>
              </p:nvSpPr>
              <p:spPr>
                <a:xfrm>
                  <a:off x="1835280" y="515772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4" name="Oval 92"/>
                <p:cNvSpPr/>
                <p:nvPr/>
              </p:nvSpPr>
              <p:spPr>
                <a:xfrm>
                  <a:off x="248292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5" name="Oval 93"/>
                <p:cNvSpPr/>
                <p:nvPr/>
              </p:nvSpPr>
              <p:spPr>
                <a:xfrm>
                  <a:off x="313200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6" name="Oval 94"/>
                <p:cNvSpPr/>
                <p:nvPr/>
              </p:nvSpPr>
              <p:spPr>
                <a:xfrm>
                  <a:off x="3780000" y="515772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7" name="Oval 95"/>
                <p:cNvSpPr/>
                <p:nvPr/>
              </p:nvSpPr>
              <p:spPr>
                <a:xfrm>
                  <a:off x="442764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8" name="Oval 96"/>
                <p:cNvSpPr/>
                <p:nvPr/>
              </p:nvSpPr>
              <p:spPr>
                <a:xfrm>
                  <a:off x="507672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9" name="Oval 97"/>
                <p:cNvSpPr/>
                <p:nvPr/>
              </p:nvSpPr>
              <p:spPr>
                <a:xfrm>
                  <a:off x="572436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0" name="Oval 98"/>
                <p:cNvSpPr/>
                <p:nvPr/>
              </p:nvSpPr>
              <p:spPr>
                <a:xfrm>
                  <a:off x="637056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Oval 99"/>
                <p:cNvSpPr/>
                <p:nvPr/>
              </p:nvSpPr>
              <p:spPr>
                <a:xfrm>
                  <a:off x="702000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2" name="Oval 100"/>
                <p:cNvSpPr/>
                <p:nvPr/>
              </p:nvSpPr>
              <p:spPr>
                <a:xfrm>
                  <a:off x="7667640" y="515772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3" name="Group 101"/>
              <p:cNvGrpSpPr/>
              <p:nvPr/>
            </p:nvGrpSpPr>
            <p:grpSpPr>
              <a:xfrm>
                <a:off x="1187280" y="5805360"/>
                <a:ext cx="6553440" cy="72720"/>
                <a:chOff x="1187280" y="5805360"/>
                <a:chExt cx="6553440" cy="72720"/>
              </a:xfrm>
            </p:grpSpPr>
            <p:sp>
              <p:nvSpPr>
                <p:cNvPr id="724" name="Oval 102"/>
                <p:cNvSpPr/>
                <p:nvPr/>
              </p:nvSpPr>
              <p:spPr>
                <a:xfrm>
                  <a:off x="118728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5" name="Oval 103"/>
                <p:cNvSpPr/>
                <p:nvPr/>
              </p:nvSpPr>
              <p:spPr>
                <a:xfrm>
                  <a:off x="1835280" y="580536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6" name="Oval 104"/>
                <p:cNvSpPr/>
                <p:nvPr/>
              </p:nvSpPr>
              <p:spPr>
                <a:xfrm>
                  <a:off x="248292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7" name="Oval 105"/>
                <p:cNvSpPr/>
                <p:nvPr/>
              </p:nvSpPr>
              <p:spPr>
                <a:xfrm>
                  <a:off x="313200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8" name="Oval 106"/>
                <p:cNvSpPr/>
                <p:nvPr/>
              </p:nvSpPr>
              <p:spPr>
                <a:xfrm>
                  <a:off x="3780000" y="5805360"/>
                  <a:ext cx="7272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9" name="Oval 107"/>
                <p:cNvSpPr/>
                <p:nvPr/>
              </p:nvSpPr>
              <p:spPr>
                <a:xfrm>
                  <a:off x="442764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0" name="Oval 108"/>
                <p:cNvSpPr/>
                <p:nvPr/>
              </p:nvSpPr>
              <p:spPr>
                <a:xfrm>
                  <a:off x="507672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1" name="Oval 109"/>
                <p:cNvSpPr/>
                <p:nvPr/>
              </p:nvSpPr>
              <p:spPr>
                <a:xfrm>
                  <a:off x="572436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2" name="Oval 110"/>
                <p:cNvSpPr/>
                <p:nvPr/>
              </p:nvSpPr>
              <p:spPr>
                <a:xfrm>
                  <a:off x="637056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3" name="Oval 111"/>
                <p:cNvSpPr/>
                <p:nvPr/>
              </p:nvSpPr>
              <p:spPr>
                <a:xfrm>
                  <a:off x="702000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4" name="Oval 112"/>
                <p:cNvSpPr/>
                <p:nvPr/>
              </p:nvSpPr>
              <p:spPr>
                <a:xfrm>
                  <a:off x="7667640" y="5805360"/>
                  <a:ext cx="73080" cy="727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35" name="Oval 113"/>
          <p:cNvSpPr/>
          <p:nvPr/>
        </p:nvSpPr>
        <p:spPr>
          <a:xfrm>
            <a:off x="1187280" y="134136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114"/>
          <p:cNvSpPr/>
          <p:nvPr/>
        </p:nvSpPr>
        <p:spPr>
          <a:xfrm>
            <a:off x="1187280" y="321300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15"/>
          <p:cNvSpPr/>
          <p:nvPr/>
        </p:nvSpPr>
        <p:spPr>
          <a:xfrm>
            <a:off x="3132000" y="321300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116"/>
          <p:cNvSpPr/>
          <p:nvPr/>
        </p:nvSpPr>
        <p:spPr>
          <a:xfrm>
            <a:off x="1222200" y="1413000"/>
            <a:ext cx="0" cy="18349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Line 117"/>
          <p:cNvSpPr/>
          <p:nvPr/>
        </p:nvSpPr>
        <p:spPr>
          <a:xfrm flipH="1">
            <a:off x="1258560" y="3284640"/>
            <a:ext cx="187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118"/>
          <p:cNvSpPr/>
          <p:nvPr/>
        </p:nvSpPr>
        <p:spPr>
          <a:xfrm>
            <a:off x="1258920" y="1413000"/>
            <a:ext cx="1873080" cy="1871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Group 119"/>
          <p:cNvGrpSpPr/>
          <p:nvPr/>
        </p:nvGrpSpPr>
        <p:grpSpPr>
          <a:xfrm>
            <a:off x="1260360" y="2924280"/>
            <a:ext cx="287280" cy="360360"/>
            <a:chOff x="1260360" y="2924280"/>
            <a:chExt cx="287280" cy="360360"/>
          </a:xfrm>
        </p:grpSpPr>
        <p:sp>
          <p:nvSpPr>
            <p:cNvPr id="742" name="Line 120"/>
            <p:cNvSpPr/>
            <p:nvPr/>
          </p:nvSpPr>
          <p:spPr>
            <a:xfrm>
              <a:off x="1547640" y="2924280"/>
              <a:ext cx="0" cy="360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Line 121"/>
            <p:cNvSpPr/>
            <p:nvPr/>
          </p:nvSpPr>
          <p:spPr>
            <a:xfrm flipH="1">
              <a:off x="1260360" y="2924280"/>
              <a:ext cx="287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Oval 122"/>
          <p:cNvSpPr/>
          <p:nvPr/>
        </p:nvSpPr>
        <p:spPr>
          <a:xfrm>
            <a:off x="4427640" y="134136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123"/>
          <p:cNvSpPr/>
          <p:nvPr/>
        </p:nvSpPr>
        <p:spPr>
          <a:xfrm>
            <a:off x="3780000" y="321300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124"/>
          <p:cNvSpPr/>
          <p:nvPr/>
        </p:nvSpPr>
        <p:spPr>
          <a:xfrm>
            <a:off x="5076720" y="321300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Line 125"/>
          <p:cNvSpPr/>
          <p:nvPr/>
        </p:nvSpPr>
        <p:spPr>
          <a:xfrm>
            <a:off x="4500720" y="1413000"/>
            <a:ext cx="647640" cy="1871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26"/>
          <p:cNvSpPr/>
          <p:nvPr/>
        </p:nvSpPr>
        <p:spPr>
          <a:xfrm flipH="1">
            <a:off x="3814560" y="1413000"/>
            <a:ext cx="649080" cy="1871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27"/>
          <p:cNvSpPr/>
          <p:nvPr/>
        </p:nvSpPr>
        <p:spPr>
          <a:xfrm flipH="1">
            <a:off x="3851280" y="3284640"/>
            <a:ext cx="12254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128"/>
          <p:cNvSpPr/>
          <p:nvPr/>
        </p:nvSpPr>
        <p:spPr>
          <a:xfrm>
            <a:off x="5724360" y="386064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129"/>
          <p:cNvSpPr/>
          <p:nvPr/>
        </p:nvSpPr>
        <p:spPr>
          <a:xfrm>
            <a:off x="3780000" y="515772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130"/>
          <p:cNvSpPr/>
          <p:nvPr/>
        </p:nvSpPr>
        <p:spPr>
          <a:xfrm>
            <a:off x="7667640" y="515772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Line 131"/>
          <p:cNvSpPr/>
          <p:nvPr/>
        </p:nvSpPr>
        <p:spPr>
          <a:xfrm flipH="1">
            <a:off x="3780000" y="3933720"/>
            <a:ext cx="1946160" cy="1295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Line 132"/>
          <p:cNvSpPr/>
          <p:nvPr/>
        </p:nvSpPr>
        <p:spPr>
          <a:xfrm>
            <a:off x="5796000" y="3933720"/>
            <a:ext cx="1944720" cy="1295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Line 133"/>
          <p:cNvSpPr/>
          <p:nvPr/>
        </p:nvSpPr>
        <p:spPr>
          <a:xfrm flipH="1">
            <a:off x="3780000" y="5229360"/>
            <a:ext cx="3960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rc 134"/>
          <p:cNvSpPr/>
          <p:nvPr/>
        </p:nvSpPr>
        <p:spPr>
          <a:xfrm flipV="1" rot="3219000">
            <a:off x="4246560" y="1625040"/>
            <a:ext cx="368280" cy="387360"/>
          </a:xfrm>
          <a:custGeom>
            <a:avLst/>
            <a:gdLst>
              <a:gd name="textAreaLeft" fmla="*/ 0 w 368280"/>
              <a:gd name="textAreaRight" fmla="*/ 368640 w 368280"/>
              <a:gd name="textAreaTop" fmla="*/ 360 h 387360"/>
              <a:gd name="textAreaBottom" fmla="*/ 388080 h 387360"/>
            </a:gdLst>
            <a:ahLst/>
            <a:rect l="textAreaLeft" t="textAreaTop" r="textAreaRight" b="textAreaBottom"/>
            <a:pathLst>
              <a:path fill="none" w="21600" h="21140">
                <a:moveTo>
                  <a:pt x="10313" y="0"/>
                </a:moveTo>
                <a:cubicBezTo>
                  <a:pt x="17269" y="3780"/>
                  <a:pt x="21600" y="11062"/>
                  <a:pt x="21600" y="18979"/>
                </a:cubicBezTo>
                <a:cubicBezTo>
                  <a:pt x="21600" y="19700"/>
                  <a:pt x="21563" y="20421"/>
                  <a:pt x="21491" y="21139"/>
                </a:cubicBezTo>
              </a:path>
              <a:path stroke="0" w="21600" h="21140">
                <a:moveTo>
                  <a:pt x="10313" y="0"/>
                </a:moveTo>
                <a:cubicBezTo>
                  <a:pt x="17269" y="3780"/>
                  <a:pt x="21600" y="11062"/>
                  <a:pt x="21600" y="18979"/>
                </a:cubicBezTo>
                <a:cubicBezTo>
                  <a:pt x="21600" y="19700"/>
                  <a:pt x="21563" y="20421"/>
                  <a:pt x="21491" y="21139"/>
                </a:cubicBezTo>
                <a:lnTo>
                  <a:pt x="0" y="1897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Arc 135"/>
          <p:cNvSpPr/>
          <p:nvPr/>
        </p:nvSpPr>
        <p:spPr>
          <a:xfrm rot="7394400">
            <a:off x="5499000" y="3914280"/>
            <a:ext cx="417600" cy="503280"/>
          </a:xfrm>
          <a:custGeom>
            <a:avLst/>
            <a:gdLst>
              <a:gd name="textAreaLeft" fmla="*/ 0 w 417600"/>
              <a:gd name="textAreaRight" fmla="*/ 417960 w 4176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5030" h="21600">
                <a:moveTo>
                  <a:pt x="0" y="274"/>
                </a:moveTo>
                <a:cubicBezTo>
                  <a:pt x="1134" y="91"/>
                  <a:pt x="2281" y="-1"/>
                  <a:pt x="3430" y="0"/>
                </a:cubicBezTo>
                <a:cubicBezTo>
                  <a:pt x="15359" y="0"/>
                  <a:pt x="25030" y="9670"/>
                  <a:pt x="25030" y="21600"/>
                </a:cubicBezTo>
              </a:path>
              <a:path stroke="0" w="25030" h="21600">
                <a:moveTo>
                  <a:pt x="0" y="274"/>
                </a:moveTo>
                <a:cubicBezTo>
                  <a:pt x="1134" y="91"/>
                  <a:pt x="2281" y="-1"/>
                  <a:pt x="3430" y="0"/>
                </a:cubicBezTo>
                <a:cubicBezTo>
                  <a:pt x="15359" y="0"/>
                  <a:pt x="25030" y="9670"/>
                  <a:pt x="25030" y="21600"/>
                </a:cubicBezTo>
                <a:lnTo>
                  <a:pt x="343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5"/>
          <p:cNvSpPr/>
          <p:nvPr/>
        </p:nvSpPr>
        <p:spPr>
          <a:xfrm>
            <a:off x="-55800" y="1268280"/>
            <a:ext cx="1521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三角形的分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19280" y="1413000"/>
            <a:ext cx="863640" cy="3743280"/>
          </a:xfrm>
          <a:custGeom>
            <a:avLst/>
            <a:gdLst>
              <a:gd name="textAreaLeft" fmla="*/ 551880 w 863640"/>
              <a:gd name="textAreaRight" fmla="*/ 864000 w 863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2700360" y="1125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按角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8"/>
          <p:cNvSpPr/>
          <p:nvPr/>
        </p:nvSpPr>
        <p:spPr>
          <a:xfrm>
            <a:off x="2627280" y="4724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按边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9"/>
          <p:cNvSpPr/>
          <p:nvPr/>
        </p:nvSpPr>
        <p:spPr>
          <a:xfrm>
            <a:off x="4427640" y="4005360"/>
            <a:ext cx="576000" cy="2016000"/>
          </a:xfrm>
          <a:custGeom>
            <a:avLst/>
            <a:gdLst>
              <a:gd name="textAreaLeft" fmla="*/ 367920 w 576000"/>
              <a:gd name="textAreaRight" fmla="*/ 576000 w 576000"/>
              <a:gd name="textAreaTop" fmla="*/ 34920 h 2016000"/>
              <a:gd name="textAreaBottom" fmla="*/ 198108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1"/>
                  <a:pt x="10800" y="1201"/>
                </a:cubicBezTo>
                <a:lnTo>
                  <a:pt x="10800" y="9599"/>
                </a:lnTo>
                <a:cubicBezTo>
                  <a:pt x="10800" y="10200"/>
                  <a:pt x="5400" y="10800"/>
                  <a:pt x="0" y="10800"/>
                </a:cubicBezTo>
                <a:cubicBezTo>
                  <a:pt x="5400" y="10800"/>
                  <a:pt x="10800" y="11401"/>
                  <a:pt x="10800" y="12001"/>
                </a:cubicBezTo>
                <a:lnTo>
                  <a:pt x="10800" y="20399"/>
                </a:lnTo>
                <a:cubicBezTo>
                  <a:pt x="10800" y="210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10"/>
          <p:cNvSpPr/>
          <p:nvPr/>
        </p:nvSpPr>
        <p:spPr>
          <a:xfrm>
            <a:off x="4500720" y="692280"/>
            <a:ext cx="863280" cy="2592360"/>
          </a:xfrm>
          <a:custGeom>
            <a:avLst/>
            <a:gdLst>
              <a:gd name="textAreaLeft" fmla="*/ 551520 w 863280"/>
              <a:gd name="textAreaRight" fmla="*/ 863640 w 863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11"/>
          <p:cNvSpPr/>
          <p:nvPr/>
        </p:nvSpPr>
        <p:spPr>
          <a:xfrm>
            <a:off x="5076720" y="476280"/>
            <a:ext cx="370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4932360" y="3933720"/>
            <a:ext cx="421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等腰三角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等边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不等边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4859280" y="1197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都是锐角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4932360" y="234936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有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是直角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15"/>
          <p:cNvSpPr/>
          <p:nvPr/>
        </p:nvSpPr>
        <p:spPr>
          <a:xfrm>
            <a:off x="5003640" y="328464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有一个角是钝角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16"/>
          <p:cNvSpPr/>
          <p:nvPr/>
        </p:nvSpPr>
        <p:spPr>
          <a:xfrm>
            <a:off x="5076720" y="4221000"/>
            <a:ext cx="35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有两边或三条边都相等的三角形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17"/>
          <p:cNvSpPr/>
          <p:nvPr/>
        </p:nvSpPr>
        <p:spPr>
          <a:xfrm>
            <a:off x="4067280" y="57326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边都不相等的三角形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同侧圆角矩形 14"/>
          <p:cNvSpPr/>
          <p:nvPr/>
        </p:nvSpPr>
        <p:spPr>
          <a:xfrm>
            <a:off x="468360" y="6922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线连接符 21"/>
          <p:cNvSpPr/>
          <p:nvPr/>
        </p:nvSpPr>
        <p:spPr>
          <a:xfrm flipV="1">
            <a:off x="484200" y="134748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1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300720" y="836640"/>
            <a:ext cx="2374920" cy="1662120"/>
          </a:xfrm>
          <a:prstGeom prst="rect">
            <a:avLst/>
          </a:prstGeom>
          <a:ln w="0">
            <a:noFill/>
          </a:ln>
        </p:spPr>
      </p:pic>
      <p:sp>
        <p:nvSpPr>
          <p:cNvPr id="267" name="Oval 2"/>
          <p:cNvSpPr/>
          <p:nvPr/>
        </p:nvSpPr>
        <p:spPr>
          <a:xfrm>
            <a:off x="1308240" y="1989000"/>
            <a:ext cx="6576840" cy="394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1308240" y="1989000"/>
            <a:ext cx="6576840" cy="3946680"/>
          </a:xfrm>
          <a:prstGeom prst="ellipse">
            <a:avLst/>
          </a:prstGeom>
          <a:solidFill>
            <a:srgbClr val="ffccff"/>
          </a:solidFill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d"/>
          <p:cNvPicPr/>
          <p:nvPr/>
        </p:nvPicPr>
        <p:blipFill>
          <a:blip r:embed="rId2"/>
          <a:stretch/>
        </p:blipFill>
        <p:spPr>
          <a:xfrm>
            <a:off x="1403280" y="1773360"/>
            <a:ext cx="6408720" cy="2447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jfn"/>
          <p:cNvPicPr/>
          <p:nvPr/>
        </p:nvPicPr>
        <p:blipFill>
          <a:blip r:embed="rId3"/>
          <a:stretch/>
        </p:blipFill>
        <p:spPr>
          <a:xfrm>
            <a:off x="1042920" y="2924280"/>
            <a:ext cx="3749760" cy="3313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ou"/>
          <p:cNvPicPr/>
          <p:nvPr/>
        </p:nvPicPr>
        <p:blipFill>
          <a:blip r:embed="rId4"/>
          <a:stretch/>
        </p:blipFill>
        <p:spPr>
          <a:xfrm>
            <a:off x="4284720" y="304956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272" name="Oval 7"/>
          <p:cNvSpPr/>
          <p:nvPr/>
        </p:nvSpPr>
        <p:spPr>
          <a:xfrm>
            <a:off x="1308240" y="2001960"/>
            <a:ext cx="6576840" cy="3946320"/>
          </a:xfrm>
          <a:prstGeom prst="ellipse">
            <a:avLst/>
          </a:prstGeom>
          <a:noFill/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348000" y="2603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锐角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9236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4859280" y="4005360"/>
            <a:ext cx="235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钝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1692360" y="3068640"/>
            <a:ext cx="5832360" cy="2879640"/>
            <a:chOff x="1692360" y="3068640"/>
            <a:chExt cx="5832360" cy="2879640"/>
          </a:xfrm>
        </p:grpSpPr>
        <p:sp>
          <p:nvSpPr>
            <p:cNvPr id="277" name="Line 12"/>
            <p:cNvSpPr/>
            <p:nvPr/>
          </p:nvSpPr>
          <p:spPr>
            <a:xfrm>
              <a:off x="1692360" y="3068640"/>
              <a:ext cx="2952720" cy="93672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645080" y="4005360"/>
              <a:ext cx="0" cy="194292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 flipV="1">
              <a:off x="4645080" y="3139920"/>
              <a:ext cx="2879640" cy="86544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Box 15"/>
          <p:cNvSpPr/>
          <p:nvPr/>
        </p:nvSpPr>
        <p:spPr>
          <a:xfrm>
            <a:off x="3276720" y="1341360"/>
            <a:ext cx="25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三角形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419640" y="76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按角分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同侧圆角矩形 19"/>
          <p:cNvSpPr/>
          <p:nvPr/>
        </p:nvSpPr>
        <p:spPr>
          <a:xfrm>
            <a:off x="53964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线连接符 21"/>
          <p:cNvSpPr/>
          <p:nvPr/>
        </p:nvSpPr>
        <p:spPr>
          <a:xfrm flipV="1">
            <a:off x="39528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156360" y="836640"/>
            <a:ext cx="2519280" cy="157968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5"/>
          <p:cNvSpPr/>
          <p:nvPr/>
        </p:nvSpPr>
        <p:spPr>
          <a:xfrm>
            <a:off x="1187280" y="3213000"/>
            <a:ext cx="1224000" cy="2159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3708360" y="3573360"/>
            <a:ext cx="1655640" cy="1656000"/>
          </a:xfrm>
          <a:prstGeom prst="rtTriangl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12"/>
          <p:cNvSpPr/>
          <p:nvPr/>
        </p:nvSpPr>
        <p:spPr>
          <a:xfrm rot="10800000">
            <a:off x="5796000" y="4149720"/>
            <a:ext cx="2952720" cy="9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468360" y="206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量一量下面三角形每条边的长度，看看这些三角形有什么共同的特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同侧圆角矩形 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2"/>
          <p:cNvSpPr/>
          <p:nvPr/>
        </p:nvSpPr>
        <p:spPr>
          <a:xfrm>
            <a:off x="1187280" y="1052640"/>
            <a:ext cx="3095640" cy="42480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16000" y="2852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腰        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195640" y="5373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1332000" y="4581360"/>
            <a:ext cx="1510560" cy="747720"/>
            <a:chOff x="1332000" y="4581360"/>
            <a:chExt cx="1510560" cy="747720"/>
          </a:xfrm>
        </p:grpSpPr>
        <p:sp>
          <p:nvSpPr>
            <p:cNvPr id="295" name="Freeform 6"/>
            <p:cNvSpPr/>
            <p:nvPr/>
          </p:nvSpPr>
          <p:spPr>
            <a:xfrm>
              <a:off x="1332000" y="4908240"/>
              <a:ext cx="314280" cy="420840"/>
            </a:xfrm>
            <a:custGeom>
              <a:avLst/>
              <a:gdLst>
                <a:gd name="textAreaLeft" fmla="*/ 0 w 314280"/>
                <a:gd name="textAreaRight" fmla="*/ 314280 w 3142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90" h="158">
                  <a:moveTo>
                    <a:pt x="0" y="0"/>
                  </a:moveTo>
                  <a:cubicBezTo>
                    <a:pt x="90" y="29"/>
                    <a:pt x="90" y="75"/>
                    <a:pt x="90" y="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>
              <a:off x="1654920" y="458136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底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Arc 8"/>
          <p:cNvSpPr/>
          <p:nvPr/>
        </p:nvSpPr>
        <p:spPr>
          <a:xfrm rot="4453800">
            <a:off x="3717360" y="4949640"/>
            <a:ext cx="504720" cy="374760"/>
          </a:xfrm>
          <a:custGeom>
            <a:avLst/>
            <a:gdLst>
              <a:gd name="textAreaLeft" fmla="*/ 0 w 504720"/>
              <a:gd name="textAreaRight" fmla="*/ 505080 w 5047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30754">
                <a:moveTo>
                  <a:pt x="14148" y="30753"/>
                </a:moveTo>
                <a:cubicBezTo>
                  <a:pt x="5648" y="27629"/>
                  <a:pt x="0" y="19535"/>
                  <a:pt x="0" y="10480"/>
                </a:cubicBezTo>
                <a:cubicBezTo>
                  <a:pt x="-1" y="6812"/>
                  <a:pt x="933" y="3206"/>
                  <a:pt x="2712" y="-1"/>
                </a:cubicBezTo>
              </a:path>
              <a:path stroke="0" w="21600" h="30754">
                <a:moveTo>
                  <a:pt x="14148" y="30753"/>
                </a:moveTo>
                <a:cubicBezTo>
                  <a:pt x="5648" y="27629"/>
                  <a:pt x="0" y="19535"/>
                  <a:pt x="0" y="10480"/>
                </a:cubicBezTo>
                <a:cubicBezTo>
                  <a:pt x="-1" y="6812"/>
                  <a:pt x="933" y="3206"/>
                  <a:pt x="2712" y="-1"/>
                </a:cubicBezTo>
                <a:lnTo>
                  <a:pt x="21600" y="10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2916360" y="458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底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rc 10"/>
          <p:cNvSpPr/>
          <p:nvPr/>
        </p:nvSpPr>
        <p:spPr>
          <a:xfrm rot="13870800">
            <a:off x="2390400" y="1361520"/>
            <a:ext cx="505080" cy="317520"/>
          </a:xfrm>
          <a:custGeom>
            <a:avLst/>
            <a:gdLst>
              <a:gd name="textAreaLeft" fmla="*/ 0 w 505080"/>
              <a:gd name="textAreaRight" fmla="*/ 505440 w 5050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fill="none" w="21600" h="26127">
                <a:moveTo>
                  <a:pt x="1652" y="26126"/>
                </a:moveTo>
                <a:cubicBezTo>
                  <a:pt x="561" y="23500"/>
                  <a:pt x="0" y="20685"/>
                  <a:pt x="0" y="17842"/>
                </a:cubicBezTo>
                <a:cubicBezTo>
                  <a:pt x="-1" y="10702"/>
                  <a:pt x="3527" y="4024"/>
                  <a:pt x="9425" y="0"/>
                </a:cubicBezTo>
              </a:path>
              <a:path stroke="0" w="21600" h="26127">
                <a:moveTo>
                  <a:pt x="1652" y="26126"/>
                </a:moveTo>
                <a:cubicBezTo>
                  <a:pt x="561" y="23500"/>
                  <a:pt x="0" y="20685"/>
                  <a:pt x="0" y="17842"/>
                </a:cubicBezTo>
                <a:cubicBezTo>
                  <a:pt x="-1" y="10702"/>
                  <a:pt x="3527" y="4024"/>
                  <a:pt x="9425" y="0"/>
                </a:cubicBezTo>
                <a:lnTo>
                  <a:pt x="21600" y="178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484360" y="2060640"/>
            <a:ext cx="5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2268360" y="191628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顶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116000" y="33336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116000" y="580536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等腰三角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18"/>
          <p:cNvSpPr/>
          <p:nvPr/>
        </p:nvSpPr>
        <p:spPr>
          <a:xfrm flipH="1" flipV="1">
            <a:off x="2700000" y="980640"/>
            <a:ext cx="1584360" cy="4319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19"/>
          <p:cNvSpPr/>
          <p:nvPr/>
        </p:nvSpPr>
        <p:spPr>
          <a:xfrm flipV="1">
            <a:off x="1187280" y="1052640"/>
            <a:ext cx="1513080" cy="4249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Line 20"/>
          <p:cNvSpPr/>
          <p:nvPr/>
        </p:nvSpPr>
        <p:spPr>
          <a:xfrm flipH="1">
            <a:off x="1116000" y="5300640"/>
            <a:ext cx="3168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七角星 18"/>
          <p:cNvSpPr/>
          <p:nvPr/>
        </p:nvSpPr>
        <p:spPr>
          <a:xfrm>
            <a:off x="3851280" y="1268280"/>
            <a:ext cx="5292720" cy="39592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上面等腰三角形的顶角和底角分别在哪里？腰和底呢？指一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925560" y="4041720"/>
            <a:ext cx="244440" cy="250920"/>
            <a:chOff x="925560" y="4041720"/>
            <a:chExt cx="244440" cy="250920"/>
          </a:xfrm>
        </p:grpSpPr>
        <p:sp>
          <p:nvSpPr>
            <p:cNvPr id="309" name="Line 4"/>
            <p:cNvSpPr/>
            <p:nvPr/>
          </p:nvSpPr>
          <p:spPr>
            <a:xfrm>
              <a:off x="925560" y="4041720"/>
              <a:ext cx="24444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>
              <a:off x="1170000" y="4041720"/>
              <a:ext cx="0" cy="25092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Group 6"/>
          <p:cNvGrpSpPr/>
          <p:nvPr/>
        </p:nvGrpSpPr>
        <p:grpSpPr>
          <a:xfrm>
            <a:off x="900000" y="1341360"/>
            <a:ext cx="2594160" cy="2950920"/>
            <a:chOff x="900000" y="1341360"/>
            <a:chExt cx="2594160" cy="2950920"/>
          </a:xfrm>
        </p:grpSpPr>
        <p:sp>
          <p:nvSpPr>
            <p:cNvPr id="312" name="m2line01"/>
            <p:cNvSpPr/>
            <p:nvPr/>
          </p:nvSpPr>
          <p:spPr>
            <a:xfrm>
              <a:off x="900000" y="1341360"/>
              <a:ext cx="0" cy="295092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m2line02"/>
            <p:cNvSpPr/>
            <p:nvPr/>
          </p:nvSpPr>
          <p:spPr>
            <a:xfrm>
              <a:off x="900000" y="4292280"/>
              <a:ext cx="259416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m2line03"/>
            <p:cNvSpPr/>
            <p:nvPr/>
          </p:nvSpPr>
          <p:spPr>
            <a:xfrm>
              <a:off x="900000" y="1341360"/>
              <a:ext cx="2594160" cy="295092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10"/>
          <p:cNvGrpSpPr/>
          <p:nvPr/>
        </p:nvGrpSpPr>
        <p:grpSpPr>
          <a:xfrm>
            <a:off x="4140720" y="3068640"/>
            <a:ext cx="4550760" cy="1224000"/>
            <a:chOff x="4140720" y="3068640"/>
            <a:chExt cx="4550760" cy="1224000"/>
          </a:xfrm>
        </p:grpSpPr>
        <p:sp>
          <p:nvSpPr>
            <p:cNvPr id="316" name="m1line01"/>
            <p:cNvSpPr/>
            <p:nvPr/>
          </p:nvSpPr>
          <p:spPr>
            <a:xfrm flipH="1">
              <a:off x="6552000" y="3068640"/>
              <a:ext cx="2139480" cy="12240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m1line02"/>
            <p:cNvSpPr/>
            <p:nvPr/>
          </p:nvSpPr>
          <p:spPr>
            <a:xfrm flipH="1">
              <a:off x="4140720" y="3073320"/>
              <a:ext cx="4546440" cy="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m1line03"/>
            <p:cNvSpPr/>
            <p:nvPr/>
          </p:nvSpPr>
          <p:spPr>
            <a:xfrm flipH="1" flipV="1">
              <a:off x="4145040" y="3068640"/>
              <a:ext cx="2406960" cy="122400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Text Box 14"/>
          <p:cNvSpPr/>
          <p:nvPr/>
        </p:nvSpPr>
        <p:spPr>
          <a:xfrm>
            <a:off x="2345400" y="2610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198504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54612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2463480" y="378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底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95040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底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1230120" y="368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顶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4643280" y="3500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765792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22"/>
          <p:cNvSpPr/>
          <p:nvPr/>
        </p:nvSpPr>
        <p:spPr>
          <a:xfrm>
            <a:off x="636336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7164360" y="30686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底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505584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底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25"/>
          <p:cNvSpPr/>
          <p:nvPr/>
        </p:nvSpPr>
        <p:spPr>
          <a:xfrm>
            <a:off x="62082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顶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26"/>
          <p:cNvSpPr/>
          <p:nvPr/>
        </p:nvSpPr>
        <p:spPr>
          <a:xfrm>
            <a:off x="900000" y="1700280"/>
            <a:ext cx="266760" cy="114120"/>
          </a:xfrm>
          <a:custGeom>
            <a:avLst/>
            <a:gdLst>
              <a:gd name="textAreaLeft" fmla="*/ 0 w 266760"/>
              <a:gd name="textAreaRight" fmla="*/ 267120 w 266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68" h="72">
                <a:moveTo>
                  <a:pt x="168" y="0"/>
                </a:moveTo>
                <a:cubicBezTo>
                  <a:pt x="122" y="69"/>
                  <a:pt x="80" y="72"/>
                  <a:pt x="0" y="72"/>
                </a:cubicBezTo>
              </a:path>
            </a:pathLst>
          </a:custGeom>
          <a:noFill/>
          <a:ln w="2556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7"/>
          <p:cNvSpPr/>
          <p:nvPr/>
        </p:nvSpPr>
        <p:spPr>
          <a:xfrm>
            <a:off x="3079800" y="4019400"/>
            <a:ext cx="139680" cy="285840"/>
          </a:xfrm>
          <a:custGeom>
            <a:avLst/>
            <a:gdLst>
              <a:gd name="textAreaLeft" fmla="*/ 0 w 139680"/>
              <a:gd name="textAreaRight" fmla="*/ 140040 w 1396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88" h="180">
                <a:moveTo>
                  <a:pt x="88" y="0"/>
                </a:moveTo>
                <a:cubicBezTo>
                  <a:pt x="0" y="29"/>
                  <a:pt x="28" y="87"/>
                  <a:pt x="28" y="180"/>
                </a:cubicBezTo>
              </a:path>
            </a:pathLst>
          </a:custGeom>
          <a:noFill/>
          <a:ln w="2556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28"/>
          <p:cNvSpPr/>
          <p:nvPr/>
        </p:nvSpPr>
        <p:spPr>
          <a:xfrm>
            <a:off x="4500720" y="3068640"/>
            <a:ext cx="72720" cy="216000"/>
          </a:xfrm>
          <a:custGeom>
            <a:avLst/>
            <a:gdLst>
              <a:gd name="textAreaLeft" fmla="*/ 0 w 72720"/>
              <a:gd name="textAreaRight" fmla="*/ 73080 w 72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1" h="144">
                <a:moveTo>
                  <a:pt x="0" y="0"/>
                </a:moveTo>
                <a:cubicBezTo>
                  <a:pt x="8" y="25"/>
                  <a:pt x="30" y="46"/>
                  <a:pt x="36" y="72"/>
                </a:cubicBezTo>
                <a:cubicBezTo>
                  <a:pt x="41" y="95"/>
                  <a:pt x="36" y="120"/>
                  <a:pt x="36" y="144"/>
                </a:cubicBezTo>
              </a:path>
            </a:pathLst>
          </a:custGeom>
          <a:noFill/>
          <a:ln w="2556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29"/>
          <p:cNvSpPr/>
          <p:nvPr/>
        </p:nvSpPr>
        <p:spPr>
          <a:xfrm>
            <a:off x="8101080" y="3068640"/>
            <a:ext cx="95040" cy="254160"/>
          </a:xfrm>
          <a:custGeom>
            <a:avLst/>
            <a:gdLst>
              <a:gd name="textAreaLeft" fmla="*/ 0 w 95040"/>
              <a:gd name="textAreaRight" fmla="*/ 95400 w 95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60" h="160">
                <a:moveTo>
                  <a:pt x="60" y="0"/>
                </a:moveTo>
                <a:cubicBezTo>
                  <a:pt x="0" y="60"/>
                  <a:pt x="11" y="31"/>
                  <a:pt x="36" y="156"/>
                </a:cubicBezTo>
                <a:cubicBezTo>
                  <a:pt x="37" y="160"/>
                  <a:pt x="44" y="156"/>
                  <a:pt x="48" y="156"/>
                </a:cubicBezTo>
              </a:path>
            </a:pathLst>
          </a:custGeom>
          <a:noFill/>
          <a:ln w="2556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30"/>
          <p:cNvSpPr/>
          <p:nvPr/>
        </p:nvSpPr>
        <p:spPr>
          <a:xfrm flipH="1" flipV="1" rot="6605400">
            <a:off x="6483600" y="3938760"/>
            <a:ext cx="144360" cy="387720"/>
          </a:xfrm>
          <a:custGeom>
            <a:avLst/>
            <a:gdLst>
              <a:gd name="textAreaLeft" fmla="*/ -360 w 144360"/>
              <a:gd name="textAreaRight" fmla="*/ 144360 w 144360"/>
              <a:gd name="textAreaTop" fmla="*/ -360 h 387720"/>
              <a:gd name="textAreaBottom" fmla="*/ 387720 h 387720"/>
            </a:gdLst>
            <a:ahLst/>
            <a:rect l="textAreaLeft" t="textAreaTop" r="textAreaRight" b="textAreaBottom"/>
            <a:pathLst>
              <a:path w="41" h="144">
                <a:moveTo>
                  <a:pt x="0" y="0"/>
                </a:moveTo>
                <a:cubicBezTo>
                  <a:pt x="8" y="25"/>
                  <a:pt x="30" y="46"/>
                  <a:pt x="36" y="72"/>
                </a:cubicBezTo>
                <a:cubicBezTo>
                  <a:pt x="41" y="95"/>
                  <a:pt x="36" y="120"/>
                  <a:pt x="36" y="144"/>
                </a:cubicBezTo>
              </a:path>
            </a:pathLst>
          </a:custGeom>
          <a:noFill/>
          <a:ln w="2556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08000" y="2421000"/>
            <a:ext cx="1584360" cy="12747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1763640" y="2997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4356000" y="2997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5940360" y="292428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348000" y="2492280"/>
            <a:ext cx="863640" cy="1154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7"/>
          <p:cNvSpPr/>
          <p:nvPr/>
        </p:nvSpPr>
        <p:spPr>
          <a:xfrm flipH="1">
            <a:off x="2484360" y="3645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48436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9"/>
          <p:cNvSpPr/>
          <p:nvPr/>
        </p:nvSpPr>
        <p:spPr>
          <a:xfrm flipH="1">
            <a:off x="2484360" y="2492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AutoShape 10"/>
          <p:cNvSpPr/>
          <p:nvPr/>
        </p:nvSpPr>
        <p:spPr>
          <a:xfrm flipH="1" flipV="1">
            <a:off x="6732720" y="2491560"/>
            <a:ext cx="706320" cy="117180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7920000" y="2349360"/>
            <a:ext cx="1224000" cy="129708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Line 12"/>
          <p:cNvSpPr/>
          <p:nvPr/>
        </p:nvSpPr>
        <p:spPr>
          <a:xfrm>
            <a:off x="8532720" y="2421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684360" y="822240"/>
            <a:ext cx="748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照下面的样子剪出的三角形是等腰三角形吗？先剪一剪，再比一比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0" y="4221000"/>
            <a:ext cx="194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方形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2700360" y="4221000"/>
            <a:ext cx="136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  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4643280" y="4221000"/>
            <a:ext cx="252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对角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6588000" y="4149720"/>
            <a:ext cx="115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沿对角线剪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5003640" y="2492280"/>
            <a:ext cx="792360" cy="1154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03640" y="2492280"/>
            <a:ext cx="79236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20"/>
          <p:cNvSpPr/>
          <p:nvPr/>
        </p:nvSpPr>
        <p:spPr>
          <a:xfrm flipH="1" flipV="1" rot="10800000">
            <a:off x="6659640" y="2491200"/>
            <a:ext cx="706320" cy="117180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21"/>
          <p:cNvSpPr/>
          <p:nvPr/>
        </p:nvSpPr>
        <p:spPr>
          <a:xfrm>
            <a:off x="7667640" y="285264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8244000" y="429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展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839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</a:rPr>
              <a:t>仔细观察，说说等腰梯形都有哪些特征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388920" y="3933000"/>
            <a:ext cx="1475640" cy="115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611280" y="170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等腰三角形两条腰相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84360" y="292428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等腰三角形的底角相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539640" y="4149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等腰三角形是轴对称图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826920" y="51577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等腰三角形底边上的高在它的对称轴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10"/>
          <p:cNvSpPr/>
          <p:nvPr/>
        </p:nvSpPr>
        <p:spPr>
          <a:xfrm flipH="1">
            <a:off x="5651280" y="2205000"/>
            <a:ext cx="1439640" cy="345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7093080" y="2205000"/>
            <a:ext cx="1511280" cy="34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rc 12"/>
          <p:cNvSpPr/>
          <p:nvPr/>
        </p:nvSpPr>
        <p:spPr>
          <a:xfrm>
            <a:off x="5867280" y="5157720"/>
            <a:ext cx="287280" cy="493920"/>
          </a:xfrm>
          <a:custGeom>
            <a:avLst/>
            <a:gdLst>
              <a:gd name="textAreaLeft" fmla="*/ 0 w 287280"/>
              <a:gd name="textAreaRight" fmla="*/ 287640 w 28728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fill="none" w="21600" h="2470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40"/>
                  <a:pt x="21524" y="23678"/>
                  <a:pt x="21375" y="24708"/>
                </a:cubicBezTo>
              </a:path>
              <a:path stroke="0" w="21600" h="2470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40"/>
                  <a:pt x="21524" y="23678"/>
                  <a:pt x="21375" y="24708"/>
                </a:cubicBezTo>
                <a:lnTo>
                  <a:pt x="0" y="21600"/>
                </a:lnTo>
                <a:close/>
              </a:path>
            </a:pathLst>
          </a:custGeom>
          <a:noFill/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rc 14"/>
          <p:cNvSpPr/>
          <p:nvPr/>
        </p:nvSpPr>
        <p:spPr>
          <a:xfrm flipH="1">
            <a:off x="8027280" y="5084640"/>
            <a:ext cx="289080" cy="576360"/>
          </a:xfrm>
          <a:custGeom>
            <a:avLst/>
            <a:gdLst>
              <a:gd name="textAreaLeft" fmla="*/ 0 w 289080"/>
              <a:gd name="textAreaRight" fmla="*/ 289080 w 28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16"/>
          <p:cNvSpPr/>
          <p:nvPr/>
        </p:nvSpPr>
        <p:spPr>
          <a:xfrm>
            <a:off x="539640" y="2708280"/>
            <a:ext cx="4896000" cy="936720"/>
          </a:xfrm>
          <a:prstGeom prst="roundRect">
            <a:avLst>
              <a:gd name="adj" fmla="val 16667"/>
            </a:avLst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17"/>
          <p:cNvSpPr/>
          <p:nvPr/>
        </p:nvSpPr>
        <p:spPr>
          <a:xfrm>
            <a:off x="539640" y="4005360"/>
            <a:ext cx="4967280" cy="934920"/>
          </a:xfrm>
          <a:prstGeom prst="roundRect">
            <a:avLst>
              <a:gd name="adj" fmla="val 16667"/>
            </a:avLst>
          </a:prstGeom>
          <a:solidFill>
            <a:srgbClr val="00cc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18"/>
          <p:cNvSpPr/>
          <p:nvPr/>
        </p:nvSpPr>
        <p:spPr>
          <a:xfrm>
            <a:off x="539640" y="1484280"/>
            <a:ext cx="4897440" cy="934920"/>
          </a:xfrm>
          <a:prstGeom prst="roundRect">
            <a:avLst>
              <a:gd name="adj" fmla="val 16667"/>
            </a:avLst>
          </a:prstGeom>
          <a:solidFill>
            <a:srgbClr val="9900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7093080" y="2205000"/>
            <a:ext cx="0" cy="3456000"/>
          </a:xfrm>
          <a:prstGeom prst="line">
            <a:avLst/>
          </a:prstGeom>
          <a:ln w="3816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19"/>
          <p:cNvSpPr/>
          <p:nvPr/>
        </p:nvSpPr>
        <p:spPr>
          <a:xfrm>
            <a:off x="468360" y="5229360"/>
            <a:ext cx="5040360" cy="1006200"/>
          </a:xfrm>
          <a:prstGeom prst="roundRect">
            <a:avLst>
              <a:gd name="adj" fmla="val 16667"/>
            </a:avLst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>
            <a:off x="1689120" y="1341360"/>
            <a:ext cx="3457440" cy="36003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1258920" y="1341360"/>
            <a:ext cx="4321080" cy="360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4"/>
          <p:cNvSpPr/>
          <p:nvPr/>
        </p:nvSpPr>
        <p:spPr>
          <a:xfrm flipH="1">
            <a:off x="1258560" y="1341360"/>
            <a:ext cx="2158920" cy="360036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1258920" y="4941720"/>
            <a:ext cx="431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6"/>
          <p:cNvSpPr/>
          <p:nvPr/>
        </p:nvSpPr>
        <p:spPr>
          <a:xfrm flipH="1" flipV="1">
            <a:off x="3417840" y="1341000"/>
            <a:ext cx="2160720" cy="3600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826920" y="551664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  <a:ea typeface="楷体_GB2312"/>
              </a:rPr>
              <a:t>等边三角形（正三角形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2987640" y="6216480"/>
            <a:ext cx="31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黑体"/>
              </a:rPr>
              <a:t>（正三角形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68324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  <a:ea typeface="楷体_GB2312"/>
              </a:rPr>
              <a:t>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1638360" y="270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  <a:ea typeface="楷体_GB2312"/>
              </a:rPr>
              <a:t>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149640" y="4827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  <a:ea typeface="楷体_GB2312"/>
              </a:rPr>
              <a:t>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573440" y="1484280"/>
            <a:ext cx="431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4573440" y="1771560"/>
            <a:ext cx="431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573440" y="2060640"/>
            <a:ext cx="431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6041160" y="141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  <a:ea typeface="楷体_GB2312"/>
              </a:rPr>
              <a:t>三边都相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5254560" y="2781360"/>
            <a:ext cx="388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条边都相等的三角形是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</a:rPr>
              <a:t>等边三角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5364000" y="393372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也叫做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正三角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"/>
                            </p:stCondLst>
                            <p:childTnLst>
                              <p:par>
                                <p:cTn id="31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07:53:44Z</dcterms:created>
  <dc:creator/>
  <dc:description/>
  <dc:language>en-US</dc:language>
  <cp:lastModifiedBy/>
  <dcterms:modified xsi:type="dcterms:W3CDTF">2017-01-11T07:53:47Z</dcterms:modified>
  <cp:revision>1</cp:revision>
  <dc:subject/>
  <dc:title/>
</cp:coreProperties>
</file>