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10.png" ContentType="image/png"/>
  <Override PartName="/ppt/media/image6.jpeg" ContentType="image/jpeg"/>
  <Override PartName="/ppt/media/image8.gif" ContentType="image/gif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35E-F987-405B-B816-1D4CB6AA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CEC-9AB2-40D4-A653-783E9412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771-EA7D-41CB-A6B3-A92A5DC0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FFC-DE11-4533-8D56-EB3590B7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6CD-6071-455C-92E5-E9D95342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46C-AAD3-4CB9-AFEB-8C5B104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65A-31D4-46F4-A4BC-DF40707E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960-D8AA-4BB3-8F78-B6845257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8E8-89B4-4666-A4A6-6B8333F9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D44-5C84-4331-8144-BF878313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BC4-8C45-4054-B2E0-BDE04033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AF0-0159-44EF-AF1C-3B64C49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CDC0-FD50-4128-AC57-9BAB56114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37960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209600" y="3333600"/>
            <a:ext cx="68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亿以内数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752480"/>
            <a:ext cx="8404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二 单元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多位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26240" cy="5184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76"/>
          <p:cNvSpPr/>
          <p:nvPr/>
        </p:nvSpPr>
        <p:spPr>
          <a:xfrm>
            <a:off x="1268280" y="2130480"/>
            <a:ext cx="7069320" cy="40924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598680" y="1339920"/>
            <a:ext cx="790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茶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2547360" y="1476360"/>
            <a:ext cx="253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方正彩云简体"/>
                <a:ea typeface="方正彩云简体"/>
              </a:rPr>
              <a:t>是多少</a:t>
            </a:r>
            <a:r>
              <a:rPr b="1" lang="en-US" sz="3600" spc="-1" strike="noStrike">
                <a:solidFill>
                  <a:srgbClr val="0c0c0c"/>
                </a:solidFill>
                <a:latin typeface="方正彩云简体"/>
                <a:ea typeface="方正彩云简体"/>
              </a:rPr>
              <a:t>?</a:t>
            </a:r>
            <a:r>
              <a:rPr b="1" lang="zh-CN" sz="3600" spc="-1" strike="noStrike">
                <a:solidFill>
                  <a:srgbClr val="0c0c0c"/>
                </a:solidFill>
                <a:latin typeface="方正彩云简体"/>
                <a:ea typeface="方正彩云简体"/>
              </a:rPr>
              <a:t>怎么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839960" y="4645080"/>
            <a:ext cx="6178680" cy="895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352040" y="4775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4908600" y="47750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495760" y="47750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6996240" y="4775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 flipH="1">
            <a:off x="4462560" y="2225520"/>
            <a:ext cx="71280" cy="241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 flipH="1">
            <a:off x="5134680" y="2225520"/>
            <a:ext cx="71640" cy="241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 flipH="1">
            <a:off x="5855400" y="2225520"/>
            <a:ext cx="73080" cy="241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 flipH="1">
            <a:off x="7268400" y="2225520"/>
            <a:ext cx="73080" cy="241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 flipH="1">
            <a:off x="6647760" y="2225520"/>
            <a:ext cx="73080" cy="241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6216480" y="477504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8"/>
          <p:cNvSpPr/>
          <p:nvPr/>
        </p:nvSpPr>
        <p:spPr>
          <a:xfrm>
            <a:off x="4262400" y="4276800"/>
            <a:ext cx="503280" cy="1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0"/>
          <p:cNvSpPr/>
          <p:nvPr/>
        </p:nvSpPr>
        <p:spPr>
          <a:xfrm>
            <a:off x="4259160" y="4467240"/>
            <a:ext cx="503280" cy="1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4"/>
          <p:cNvSpPr/>
          <p:nvPr/>
        </p:nvSpPr>
        <p:spPr>
          <a:xfrm>
            <a:off x="3621240" y="4676760"/>
            <a:ext cx="3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5"/>
          <p:cNvSpPr/>
          <p:nvPr/>
        </p:nvSpPr>
        <p:spPr>
          <a:xfrm>
            <a:off x="3027240" y="467676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6"/>
          <p:cNvSpPr/>
          <p:nvPr/>
        </p:nvSpPr>
        <p:spPr>
          <a:xfrm>
            <a:off x="2347920" y="468000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7"/>
          <p:cNvSpPr/>
          <p:nvPr/>
        </p:nvSpPr>
        <p:spPr>
          <a:xfrm flipH="1">
            <a:off x="3841920" y="2212920"/>
            <a:ext cx="72720" cy="2416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8"/>
          <p:cNvSpPr/>
          <p:nvPr/>
        </p:nvSpPr>
        <p:spPr>
          <a:xfrm flipH="1">
            <a:off x="3233880" y="2238480"/>
            <a:ext cx="72720" cy="2415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9"/>
          <p:cNvSpPr/>
          <p:nvPr/>
        </p:nvSpPr>
        <p:spPr>
          <a:xfrm flipH="1">
            <a:off x="2594880" y="2247840"/>
            <a:ext cx="73080" cy="241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6"/>
          <p:cNvSpPr/>
          <p:nvPr/>
        </p:nvSpPr>
        <p:spPr>
          <a:xfrm>
            <a:off x="3594240" y="3911760"/>
            <a:ext cx="502920" cy="18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8"/>
          <p:cNvSpPr/>
          <p:nvPr/>
        </p:nvSpPr>
        <p:spPr>
          <a:xfrm>
            <a:off x="3589200" y="4086360"/>
            <a:ext cx="503280" cy="1807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5"/>
          <p:cNvSpPr/>
          <p:nvPr/>
        </p:nvSpPr>
        <p:spPr>
          <a:xfrm>
            <a:off x="3589200" y="4267080"/>
            <a:ext cx="503280" cy="1810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6"/>
          <p:cNvSpPr/>
          <p:nvPr/>
        </p:nvSpPr>
        <p:spPr>
          <a:xfrm>
            <a:off x="3600360" y="4457880"/>
            <a:ext cx="503280" cy="1807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60"/>
          <p:cNvSpPr/>
          <p:nvPr/>
        </p:nvSpPr>
        <p:spPr>
          <a:xfrm>
            <a:off x="3592440" y="3727440"/>
            <a:ext cx="503280" cy="181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1"/>
          <p:cNvSpPr/>
          <p:nvPr/>
        </p:nvSpPr>
        <p:spPr>
          <a:xfrm>
            <a:off x="3592440" y="3530520"/>
            <a:ext cx="503280" cy="181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7"/>
          <p:cNvSpPr/>
          <p:nvPr/>
        </p:nvSpPr>
        <p:spPr>
          <a:xfrm>
            <a:off x="2378520" y="5565600"/>
            <a:ext cx="38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6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个万是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62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916360" y="692280"/>
            <a:ext cx="3771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一百六十二万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3"/>
          <p:cNvSpPr/>
          <p:nvPr/>
        </p:nvSpPr>
        <p:spPr>
          <a:xfrm>
            <a:off x="3060720" y="1268280"/>
            <a:ext cx="2782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5"/>
          <p:cNvSpPr/>
          <p:nvPr/>
        </p:nvSpPr>
        <p:spPr>
          <a:xfrm>
            <a:off x="4572000" y="1268280"/>
            <a:ext cx="1584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2"/>
          <p:cNvSpPr/>
          <p:nvPr/>
        </p:nvSpPr>
        <p:spPr>
          <a:xfrm>
            <a:off x="2987640" y="4365720"/>
            <a:ext cx="503280" cy="239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66560" y="836640"/>
            <a:ext cx="8282160" cy="53290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40"/>
          <p:cNvSpPr/>
          <p:nvPr/>
        </p:nvSpPr>
        <p:spPr>
          <a:xfrm>
            <a:off x="428760" y="825480"/>
            <a:ext cx="729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c0c"/>
                </a:solidFill>
                <a:latin typeface="宋体"/>
              </a:rPr>
              <a:t>芝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1"/>
          <p:cNvSpPr/>
          <p:nvPr/>
        </p:nvSpPr>
        <p:spPr>
          <a:xfrm>
            <a:off x="2935440" y="826920"/>
            <a:ext cx="637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c0c"/>
                </a:solidFill>
                <a:latin typeface="宋体"/>
              </a:rPr>
              <a:t>六十一万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2"/>
          <p:cNvSpPr/>
          <p:nvPr/>
        </p:nvSpPr>
        <p:spPr>
          <a:xfrm>
            <a:off x="2195640" y="141300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3"/>
          <p:cNvSpPr/>
          <p:nvPr/>
        </p:nvSpPr>
        <p:spPr>
          <a:xfrm flipH="1">
            <a:off x="6532200" y="1933560"/>
            <a:ext cx="12600" cy="86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4"/>
          <p:cNvSpPr/>
          <p:nvPr/>
        </p:nvSpPr>
        <p:spPr>
          <a:xfrm>
            <a:off x="5772240" y="863640"/>
            <a:ext cx="253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华文新魏"/>
                <a:ea typeface="华文彩云"/>
              </a:rPr>
              <a:t>是多少</a:t>
            </a:r>
            <a:r>
              <a:rPr b="1" lang="en-US" sz="3600" spc="-1" strike="noStrike">
                <a:solidFill>
                  <a:srgbClr val="0c0c0c"/>
                </a:solidFill>
                <a:latin typeface="华文新魏"/>
                <a:ea typeface="华文彩云"/>
              </a:rPr>
              <a:t>?</a:t>
            </a:r>
            <a:r>
              <a:rPr b="1" lang="zh-CN" sz="3600" spc="-1" strike="noStrike">
                <a:solidFill>
                  <a:srgbClr val="0c0c0c"/>
                </a:solidFill>
                <a:latin typeface="华文新魏"/>
                <a:ea typeface="华文彩云"/>
              </a:rPr>
              <a:t>怎么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8"/>
          <p:cNvSpPr/>
          <p:nvPr/>
        </p:nvSpPr>
        <p:spPr>
          <a:xfrm>
            <a:off x="1685880" y="1654200"/>
            <a:ext cx="6561360" cy="486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43200" y="4641840"/>
            <a:ext cx="6178320" cy="917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354920" y="470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911840" y="4707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499000" y="470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6999120" y="4707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 flipH="1">
            <a:off x="4465800" y="2174760"/>
            <a:ext cx="71280" cy="247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 flipH="1">
            <a:off x="5137920" y="2174760"/>
            <a:ext cx="71640" cy="247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 flipH="1">
            <a:off x="5858640" y="2174760"/>
            <a:ext cx="73080" cy="247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 flipH="1">
            <a:off x="7271640" y="2174760"/>
            <a:ext cx="73080" cy="247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 flipH="1">
            <a:off x="6651000" y="2174760"/>
            <a:ext cx="73080" cy="247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6219720" y="470700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3" descr="不光头"/>
          <p:cNvPicPr/>
          <p:nvPr/>
        </p:nvPicPr>
        <p:blipFill>
          <a:blip r:embed="rId2"/>
          <a:stretch/>
        </p:blipFill>
        <p:spPr>
          <a:xfrm>
            <a:off x="0" y="1871640"/>
            <a:ext cx="1343160" cy="1679760"/>
          </a:xfrm>
          <a:prstGeom prst="rect">
            <a:avLst/>
          </a:prstGeom>
          <a:ln w="0">
            <a:noFill/>
          </a:ln>
        </p:spPr>
      </p:pic>
      <p:sp>
        <p:nvSpPr>
          <p:cNvPr id="280" name="Oval 16"/>
          <p:cNvSpPr/>
          <p:nvPr/>
        </p:nvSpPr>
        <p:spPr>
          <a:xfrm>
            <a:off x="4248000" y="4460760"/>
            <a:ext cx="503280" cy="18576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3624120" y="4651200"/>
            <a:ext cx="4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3030480" y="464976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1"/>
          <p:cNvSpPr/>
          <p:nvPr/>
        </p:nvSpPr>
        <p:spPr>
          <a:xfrm>
            <a:off x="2351160" y="462456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 flipH="1">
            <a:off x="3844080" y="2157480"/>
            <a:ext cx="7308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3"/>
          <p:cNvSpPr/>
          <p:nvPr/>
        </p:nvSpPr>
        <p:spPr>
          <a:xfrm flipH="1">
            <a:off x="3236040" y="2187720"/>
            <a:ext cx="7308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4"/>
          <p:cNvSpPr/>
          <p:nvPr/>
        </p:nvSpPr>
        <p:spPr>
          <a:xfrm flipH="1">
            <a:off x="2598120" y="2173320"/>
            <a:ext cx="7308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3073680" y="5543640"/>
            <a:ext cx="292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六十一万是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(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5"/>
          <p:cNvSpPr/>
          <p:nvPr/>
        </p:nvSpPr>
        <p:spPr>
          <a:xfrm>
            <a:off x="3627360" y="421020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7"/>
          <p:cNvSpPr/>
          <p:nvPr/>
        </p:nvSpPr>
        <p:spPr>
          <a:xfrm>
            <a:off x="3638520" y="443700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7"/>
          <p:cNvSpPr/>
          <p:nvPr/>
        </p:nvSpPr>
        <p:spPr>
          <a:xfrm>
            <a:off x="4670640" y="5589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楷体_GB2312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楷体_GB2312"/>
              </a:rPr>
              <a:t>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5"/>
          <p:cNvSpPr/>
          <p:nvPr/>
        </p:nvSpPr>
        <p:spPr>
          <a:xfrm>
            <a:off x="3635280" y="335772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5"/>
          <p:cNvSpPr/>
          <p:nvPr/>
        </p:nvSpPr>
        <p:spPr>
          <a:xfrm>
            <a:off x="3635280" y="357336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5"/>
          <p:cNvSpPr/>
          <p:nvPr/>
        </p:nvSpPr>
        <p:spPr>
          <a:xfrm>
            <a:off x="3635280" y="378936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3635280" y="400536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42371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42372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97800" cy="51850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43"/>
          <p:cNvSpPr/>
          <p:nvPr/>
        </p:nvSpPr>
        <p:spPr>
          <a:xfrm>
            <a:off x="1508040" y="1690560"/>
            <a:ext cx="7067520" cy="46180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8"/>
          <p:cNvSpPr/>
          <p:nvPr/>
        </p:nvSpPr>
        <p:spPr>
          <a:xfrm>
            <a:off x="1827720" y="666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c0c"/>
                </a:solidFill>
                <a:latin typeface="宋体"/>
              </a:rPr>
              <a:t>油菜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9"/>
          <p:cNvSpPr/>
          <p:nvPr/>
        </p:nvSpPr>
        <p:spPr>
          <a:xfrm>
            <a:off x="4990320" y="7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一千三百四十三万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0"/>
          <p:cNvSpPr/>
          <p:nvPr/>
        </p:nvSpPr>
        <p:spPr>
          <a:xfrm>
            <a:off x="3456000" y="1287360"/>
            <a:ext cx="3611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2046240" y="4441680"/>
            <a:ext cx="6051600" cy="917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4240800" y="4449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4911840" y="444960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5499000" y="4449600"/>
            <a:ext cx="4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999120" y="4449600"/>
            <a:ext cx="3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 flipH="1">
            <a:off x="4465080" y="1960560"/>
            <a:ext cx="4284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 flipH="1">
            <a:off x="5137920" y="1974960"/>
            <a:ext cx="4284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 flipH="1">
            <a:off x="5858640" y="1974960"/>
            <a:ext cx="4284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 flipH="1">
            <a:off x="7271640" y="1974960"/>
            <a:ext cx="4284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 flipH="1">
            <a:off x="6651000" y="1974960"/>
            <a:ext cx="4284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6219720" y="44496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09920" y="4048200"/>
            <a:ext cx="40824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5"/>
          <p:cNvSpPr/>
          <p:nvPr/>
        </p:nvSpPr>
        <p:spPr>
          <a:xfrm>
            <a:off x="4319640" y="4278240"/>
            <a:ext cx="407880" cy="200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3624120" y="4394160"/>
            <a:ext cx="23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030480" y="4392720"/>
            <a:ext cx="21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2351160" y="4395960"/>
            <a:ext cx="21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0"/>
          <p:cNvSpPr/>
          <p:nvPr/>
        </p:nvSpPr>
        <p:spPr>
          <a:xfrm flipH="1">
            <a:off x="3844080" y="1957320"/>
            <a:ext cx="42840" cy="247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1"/>
          <p:cNvSpPr/>
          <p:nvPr/>
        </p:nvSpPr>
        <p:spPr>
          <a:xfrm flipH="1">
            <a:off x="3236040" y="1987560"/>
            <a:ext cx="4284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2"/>
          <p:cNvSpPr/>
          <p:nvPr/>
        </p:nvSpPr>
        <p:spPr>
          <a:xfrm flipH="1">
            <a:off x="2598120" y="2001960"/>
            <a:ext cx="42840" cy="247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5"/>
          <p:cNvSpPr/>
          <p:nvPr/>
        </p:nvSpPr>
        <p:spPr>
          <a:xfrm>
            <a:off x="3068640" y="4202280"/>
            <a:ext cx="378000" cy="2570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6"/>
          <p:cNvSpPr/>
          <p:nvPr/>
        </p:nvSpPr>
        <p:spPr>
          <a:xfrm>
            <a:off x="2443320" y="4183200"/>
            <a:ext cx="363240" cy="260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2031480" y="5457960"/>
            <a:ext cx="48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(         )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个万是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(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4"/>
          <p:cNvSpPr/>
          <p:nvPr/>
        </p:nvSpPr>
        <p:spPr>
          <a:xfrm>
            <a:off x="3699000" y="4083120"/>
            <a:ext cx="392040" cy="21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35"/>
          <p:cNvSpPr/>
          <p:nvPr/>
        </p:nvSpPr>
        <p:spPr>
          <a:xfrm>
            <a:off x="3697200" y="4309920"/>
            <a:ext cx="405000" cy="1875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6"/>
          <p:cNvSpPr/>
          <p:nvPr/>
        </p:nvSpPr>
        <p:spPr>
          <a:xfrm>
            <a:off x="3692520" y="3838680"/>
            <a:ext cx="378000" cy="230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3689280" y="3589200"/>
            <a:ext cx="378000" cy="230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5"/>
          <p:cNvSpPr/>
          <p:nvPr/>
        </p:nvSpPr>
        <p:spPr>
          <a:xfrm>
            <a:off x="954360" y="55008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13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6"/>
          <p:cNvSpPr/>
          <p:nvPr/>
        </p:nvSpPr>
        <p:spPr>
          <a:xfrm>
            <a:off x="4728600" y="547200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1343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5"/>
          <p:cNvSpPr/>
          <p:nvPr/>
        </p:nvSpPr>
        <p:spPr>
          <a:xfrm>
            <a:off x="3060720" y="3645000"/>
            <a:ext cx="377640" cy="2570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5"/>
          <p:cNvSpPr/>
          <p:nvPr/>
        </p:nvSpPr>
        <p:spPr>
          <a:xfrm>
            <a:off x="3060720" y="3933720"/>
            <a:ext cx="377640" cy="25740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"/>
          <p:cNvSpPr/>
          <p:nvPr/>
        </p:nvSpPr>
        <p:spPr>
          <a:xfrm>
            <a:off x="4282920" y="3789360"/>
            <a:ext cx="40824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72"/>
          <p:cNvGrpSpPr/>
          <p:nvPr/>
        </p:nvGrpSpPr>
        <p:grpSpPr>
          <a:xfrm>
            <a:off x="906480" y="1441440"/>
            <a:ext cx="7083000" cy="2470320"/>
            <a:chOff x="906480" y="1441440"/>
            <a:chExt cx="7083000" cy="2470320"/>
          </a:xfrm>
        </p:grpSpPr>
        <p:sp>
          <p:nvSpPr>
            <p:cNvPr id="334" name="Rectangle 22"/>
            <p:cNvSpPr/>
            <p:nvPr/>
          </p:nvSpPr>
          <p:spPr>
            <a:xfrm>
              <a:off x="7310160" y="2313000"/>
              <a:ext cx="67752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1"/>
            <p:cNvSpPr/>
            <p:nvPr/>
          </p:nvSpPr>
          <p:spPr>
            <a:xfrm>
              <a:off x="6634080" y="2313000"/>
              <a:ext cx="67572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5956560" y="2313000"/>
              <a:ext cx="67752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318280" y="2313000"/>
              <a:ext cx="63792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4602600" y="2313000"/>
              <a:ext cx="71568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3924720" y="2313000"/>
              <a:ext cx="67752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3247200" y="2313000"/>
              <a:ext cx="67752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2571120" y="2313000"/>
              <a:ext cx="67572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4"/>
            <p:cNvSpPr/>
            <p:nvPr/>
          </p:nvSpPr>
          <p:spPr>
            <a:xfrm>
              <a:off x="906480" y="2313000"/>
              <a:ext cx="166464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5318280" y="1441440"/>
              <a:ext cx="26694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个  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2571120" y="1441440"/>
              <a:ext cx="274716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万    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5"/>
            <p:cNvSpPr/>
            <p:nvPr/>
          </p:nvSpPr>
          <p:spPr>
            <a:xfrm>
              <a:off x="906480" y="1441440"/>
              <a:ext cx="166464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906480" y="1441440"/>
              <a:ext cx="708156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906480" y="2313000"/>
              <a:ext cx="7081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906480" y="3909960"/>
              <a:ext cx="7081560" cy="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906480" y="1441440"/>
              <a:ext cx="1080" cy="2468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2571120" y="1441440"/>
              <a:ext cx="1080" cy="24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1"/>
            <p:cNvSpPr/>
            <p:nvPr/>
          </p:nvSpPr>
          <p:spPr>
            <a:xfrm>
              <a:off x="5318280" y="1441440"/>
              <a:ext cx="1080" cy="24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5"/>
            <p:cNvSpPr/>
            <p:nvPr/>
          </p:nvSpPr>
          <p:spPr>
            <a:xfrm>
              <a:off x="7988040" y="1441440"/>
              <a:ext cx="1440" cy="2468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7"/>
            <p:cNvSpPr/>
            <p:nvPr/>
          </p:nvSpPr>
          <p:spPr>
            <a:xfrm>
              <a:off x="3247200" y="2313000"/>
              <a:ext cx="1440" cy="15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8"/>
            <p:cNvSpPr/>
            <p:nvPr/>
          </p:nvSpPr>
          <p:spPr>
            <a:xfrm>
              <a:off x="3924720" y="2313000"/>
              <a:ext cx="1440" cy="15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0"/>
            <p:cNvSpPr/>
            <p:nvPr/>
          </p:nvSpPr>
          <p:spPr>
            <a:xfrm>
              <a:off x="4602600" y="2313000"/>
              <a:ext cx="1440" cy="15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2"/>
            <p:cNvSpPr/>
            <p:nvPr/>
          </p:nvSpPr>
          <p:spPr>
            <a:xfrm>
              <a:off x="5956560" y="2313000"/>
              <a:ext cx="1080" cy="15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3"/>
            <p:cNvSpPr/>
            <p:nvPr/>
          </p:nvSpPr>
          <p:spPr>
            <a:xfrm>
              <a:off x="6634080" y="2313000"/>
              <a:ext cx="1080" cy="15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44"/>
            <p:cNvSpPr/>
            <p:nvPr/>
          </p:nvSpPr>
          <p:spPr>
            <a:xfrm>
              <a:off x="7310160" y="2313000"/>
              <a:ext cx="1440" cy="15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47"/>
          <p:cNvSpPr/>
          <p:nvPr/>
        </p:nvSpPr>
        <p:spPr>
          <a:xfrm rot="5400000">
            <a:off x="3577320" y="25711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8"/>
          <p:cNvSpPr/>
          <p:nvPr/>
        </p:nvSpPr>
        <p:spPr>
          <a:xfrm>
            <a:off x="3393360" y="3286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9"/>
          <p:cNvSpPr/>
          <p:nvPr/>
        </p:nvSpPr>
        <p:spPr>
          <a:xfrm>
            <a:off x="2636280" y="3282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0"/>
          <p:cNvSpPr/>
          <p:nvPr/>
        </p:nvSpPr>
        <p:spPr>
          <a:xfrm>
            <a:off x="4028400" y="3319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1"/>
          <p:cNvSpPr/>
          <p:nvPr/>
        </p:nvSpPr>
        <p:spPr>
          <a:xfrm rot="5400000">
            <a:off x="2879280" y="25851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2"/>
          <p:cNvSpPr/>
          <p:nvPr/>
        </p:nvSpPr>
        <p:spPr>
          <a:xfrm rot="5400000">
            <a:off x="2224800" y="25567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3"/>
          <p:cNvSpPr/>
          <p:nvPr/>
        </p:nvSpPr>
        <p:spPr>
          <a:xfrm>
            <a:off x="4529160" y="2108160"/>
            <a:ext cx="73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万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4"/>
          <p:cNvSpPr/>
          <p:nvPr/>
        </p:nvSpPr>
        <p:spPr>
          <a:xfrm>
            <a:off x="5281560" y="2120760"/>
            <a:ext cx="7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千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6"/>
          <p:cNvSpPr/>
          <p:nvPr/>
        </p:nvSpPr>
        <p:spPr>
          <a:xfrm>
            <a:off x="7240680" y="2136600"/>
            <a:ext cx="73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6659640" y="2131920"/>
            <a:ext cx="73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十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8"/>
          <p:cNvSpPr/>
          <p:nvPr/>
        </p:nvSpPr>
        <p:spPr>
          <a:xfrm>
            <a:off x="6018120" y="2103480"/>
            <a:ext cx="7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百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6"/>
          <p:cNvSpPr/>
          <p:nvPr/>
        </p:nvSpPr>
        <p:spPr>
          <a:xfrm>
            <a:off x="2340000" y="692280"/>
            <a:ext cx="48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宋体"/>
              </a:rPr>
              <a:t>数  位   顺   序  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7"/>
          <p:cNvSpPr/>
          <p:nvPr/>
        </p:nvSpPr>
        <p:spPr>
          <a:xfrm>
            <a:off x="3963960" y="2355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十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8"/>
          <p:cNvSpPr/>
          <p:nvPr/>
        </p:nvSpPr>
        <p:spPr>
          <a:xfrm>
            <a:off x="3224160" y="238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百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2565360" y="2370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0"/>
          <p:cNvSpPr/>
          <p:nvPr/>
        </p:nvSpPr>
        <p:spPr>
          <a:xfrm>
            <a:off x="2464560" y="4119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宋体"/>
              </a:rPr>
              <a:t>从右边起，每四个数位是一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4"/>
          <p:cNvSpPr/>
          <p:nvPr/>
        </p:nvSpPr>
        <p:spPr>
          <a:xfrm>
            <a:off x="2209320" y="51624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6"/>
          <p:cNvSpPr/>
          <p:nvPr/>
        </p:nvSpPr>
        <p:spPr>
          <a:xfrm>
            <a:off x="2841480" y="4802040"/>
            <a:ext cx="0" cy="145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7"/>
          <p:cNvSpPr/>
          <p:nvPr/>
        </p:nvSpPr>
        <p:spPr>
          <a:xfrm>
            <a:off x="2953080" y="5718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个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8"/>
          <p:cNvSpPr/>
          <p:nvPr/>
        </p:nvSpPr>
        <p:spPr>
          <a:xfrm>
            <a:off x="1981440" y="5702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万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9"/>
          <p:cNvSpPr/>
          <p:nvPr/>
        </p:nvSpPr>
        <p:spPr>
          <a:xfrm>
            <a:off x="5212800" y="520380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88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80"/>
          <p:cNvSpPr/>
          <p:nvPr/>
        </p:nvSpPr>
        <p:spPr>
          <a:xfrm>
            <a:off x="6353280" y="4857840"/>
            <a:ext cx="0" cy="1450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1"/>
          <p:cNvSpPr/>
          <p:nvPr/>
        </p:nvSpPr>
        <p:spPr>
          <a:xfrm>
            <a:off x="6450480" y="5745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个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2"/>
          <p:cNvSpPr/>
          <p:nvPr/>
        </p:nvSpPr>
        <p:spPr>
          <a:xfrm>
            <a:off x="5464440" y="5743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万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2737080" cy="13813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2"/>
          <p:cNvSpPr/>
          <p:nvPr/>
        </p:nvSpPr>
        <p:spPr>
          <a:xfrm>
            <a:off x="826920" y="2565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23952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3564000" y="907920"/>
            <a:ext cx="55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一说这个数由多少个万和多少个一组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23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个万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23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个一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它应该怎样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读作：五千二百三十九万五千二百三十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539640" y="4076640"/>
            <a:ext cx="8064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说你的读数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从高级读起，读万级的数时，要按照个级的数的读法来读，再在后面加上 “万”字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2"/>
          <p:cNvSpPr/>
          <p:nvPr/>
        </p:nvSpPr>
        <p:spPr>
          <a:xfrm>
            <a:off x="539640" y="981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先说说下面各数是由多少个万和多少个一组成的，再写一写、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539640" y="458136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个数由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个万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个一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4211640" y="4581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个数由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个万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个一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735280" cy="1800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3313080" cy="1655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8"/>
          <p:cNvSpPr/>
          <p:nvPr/>
        </p:nvSpPr>
        <p:spPr>
          <a:xfrm>
            <a:off x="755640" y="40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04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4211640" y="39337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8000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6"/>
          <p:cNvSpPr/>
          <p:nvPr/>
        </p:nvSpPr>
        <p:spPr>
          <a:xfrm>
            <a:off x="611280" y="1052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04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3995640" y="981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8000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611280" y="1773360"/>
            <a:ext cx="7561080" cy="40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两个数要怎么读？先观察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都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那这些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要怎么读？看书解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1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每级末尾的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都不读．其他数位有一个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或连续有几个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都只读一个“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读作：六百万四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9"/>
          <p:cNvSpPr/>
          <p:nvPr/>
        </p:nvSpPr>
        <p:spPr>
          <a:xfrm>
            <a:off x="4282920" y="515772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读作：三百零八万零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934920" y="220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从高位起，一级一级地往下读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250920" y="321300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读万级的数时，要按照个级的数的读法来读，再在后面加上 “万”字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324000" y="4797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每级末尾的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不读．其他数位有一个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或连续有几个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只读一个“零”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987640" y="1123920"/>
            <a:ext cx="3591000" cy="64260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位数的读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48485"/>
          <p:cNvSpPr/>
          <p:nvPr/>
        </p:nvSpPr>
        <p:spPr>
          <a:xfrm>
            <a:off x="4257360" y="3375000"/>
            <a:ext cx="631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黑体"/>
                <a:ea typeface="黑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  <a:ea typeface="黑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  <a:ea typeface="黑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  <a:ea typeface="黑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48486"/>
          <p:cNvSpPr/>
          <p:nvPr/>
        </p:nvSpPr>
        <p:spPr>
          <a:xfrm>
            <a:off x="4473360" y="3591000"/>
            <a:ext cx="631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黑体"/>
                <a:ea typeface="黑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  <a:ea typeface="黑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  <a:ea typeface="黑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  <a:ea typeface="黑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Line 3"/>
          <p:cNvSpPr/>
          <p:nvPr/>
        </p:nvSpPr>
        <p:spPr>
          <a:xfrm>
            <a:off x="6867360" y="486900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251000" y="2997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467000" y="2997360"/>
            <a:ext cx="252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2330280" y="907920"/>
            <a:ext cx="2482560" cy="1008000"/>
            <a:chOff x="2330280" y="907920"/>
            <a:chExt cx="2482560" cy="1008000"/>
          </a:xfrm>
        </p:grpSpPr>
        <p:sp>
          <p:nvSpPr>
            <p:cNvPr id="408" name="Rectangle 15"/>
            <p:cNvSpPr/>
            <p:nvPr/>
          </p:nvSpPr>
          <p:spPr>
            <a:xfrm>
              <a:off x="2616480" y="907920"/>
              <a:ext cx="20048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2330280" y="907920"/>
              <a:ext cx="248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华文新魏"/>
                  <a:ea typeface="黑体"/>
                </a:rPr>
                <a:t>四千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AutoShape 22"/>
          <p:cNvSpPr/>
          <p:nvPr/>
        </p:nvSpPr>
        <p:spPr>
          <a:xfrm>
            <a:off x="3743280" y="2003400"/>
            <a:ext cx="216000" cy="6494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0000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7093080" y="5192640"/>
            <a:ext cx="780840" cy="8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6305400" y="5192640"/>
            <a:ext cx="787680" cy="8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7"/>
          <p:cNvSpPr/>
          <p:nvPr/>
        </p:nvSpPr>
        <p:spPr>
          <a:xfrm>
            <a:off x="5524560" y="5192640"/>
            <a:ext cx="780840" cy="8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8"/>
          <p:cNvSpPr/>
          <p:nvPr/>
        </p:nvSpPr>
        <p:spPr>
          <a:xfrm>
            <a:off x="4737240" y="5192640"/>
            <a:ext cx="787320" cy="8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9"/>
          <p:cNvSpPr/>
          <p:nvPr/>
        </p:nvSpPr>
        <p:spPr>
          <a:xfrm>
            <a:off x="4137120" y="5192640"/>
            <a:ext cx="600120" cy="8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0"/>
          <p:cNvSpPr/>
          <p:nvPr/>
        </p:nvSpPr>
        <p:spPr>
          <a:xfrm>
            <a:off x="3336840" y="5192640"/>
            <a:ext cx="800280" cy="8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1"/>
          <p:cNvSpPr/>
          <p:nvPr/>
        </p:nvSpPr>
        <p:spPr>
          <a:xfrm>
            <a:off x="2403360" y="5192640"/>
            <a:ext cx="933480" cy="8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2"/>
          <p:cNvSpPr/>
          <p:nvPr/>
        </p:nvSpPr>
        <p:spPr>
          <a:xfrm>
            <a:off x="1600200" y="5192640"/>
            <a:ext cx="803160" cy="8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4"/>
          <p:cNvSpPr/>
          <p:nvPr/>
        </p:nvSpPr>
        <p:spPr>
          <a:xfrm>
            <a:off x="7093080" y="3860640"/>
            <a:ext cx="780840" cy="13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个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5"/>
          <p:cNvSpPr/>
          <p:nvPr/>
        </p:nvSpPr>
        <p:spPr>
          <a:xfrm>
            <a:off x="6305400" y="3860640"/>
            <a:ext cx="787680" cy="13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十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6"/>
          <p:cNvSpPr/>
          <p:nvPr/>
        </p:nvSpPr>
        <p:spPr>
          <a:xfrm>
            <a:off x="5524560" y="3860640"/>
            <a:ext cx="780840" cy="13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百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7"/>
          <p:cNvSpPr/>
          <p:nvPr/>
        </p:nvSpPr>
        <p:spPr>
          <a:xfrm>
            <a:off x="4737240" y="3860640"/>
            <a:ext cx="787320" cy="13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千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8"/>
          <p:cNvSpPr/>
          <p:nvPr/>
        </p:nvSpPr>
        <p:spPr>
          <a:xfrm>
            <a:off x="4137120" y="3860640"/>
            <a:ext cx="600120" cy="13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9"/>
          <p:cNvSpPr/>
          <p:nvPr/>
        </p:nvSpPr>
        <p:spPr>
          <a:xfrm>
            <a:off x="3336840" y="3860640"/>
            <a:ext cx="800280" cy="13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0"/>
          <p:cNvSpPr/>
          <p:nvPr/>
        </p:nvSpPr>
        <p:spPr>
          <a:xfrm>
            <a:off x="2403360" y="3860640"/>
            <a:ext cx="933480" cy="13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1"/>
          <p:cNvSpPr/>
          <p:nvPr/>
        </p:nvSpPr>
        <p:spPr>
          <a:xfrm>
            <a:off x="1600200" y="3860640"/>
            <a:ext cx="803160" cy="13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3"/>
          <p:cNvSpPr/>
          <p:nvPr/>
        </p:nvSpPr>
        <p:spPr>
          <a:xfrm>
            <a:off x="1603440" y="3860640"/>
            <a:ext cx="6270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4"/>
          <p:cNvSpPr/>
          <p:nvPr/>
        </p:nvSpPr>
        <p:spPr>
          <a:xfrm>
            <a:off x="1587600" y="5164200"/>
            <a:ext cx="628632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5"/>
          <p:cNvSpPr/>
          <p:nvPr/>
        </p:nvSpPr>
        <p:spPr>
          <a:xfrm>
            <a:off x="1558800" y="6005520"/>
            <a:ext cx="6315120" cy="30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8"/>
          <p:cNvSpPr/>
          <p:nvPr/>
        </p:nvSpPr>
        <p:spPr>
          <a:xfrm>
            <a:off x="2403360" y="3860640"/>
            <a:ext cx="0" cy="217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9"/>
          <p:cNvSpPr/>
          <p:nvPr/>
        </p:nvSpPr>
        <p:spPr>
          <a:xfrm>
            <a:off x="3336840" y="3860640"/>
            <a:ext cx="1800" cy="217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0"/>
          <p:cNvSpPr/>
          <p:nvPr/>
        </p:nvSpPr>
        <p:spPr>
          <a:xfrm>
            <a:off x="4137120" y="3860640"/>
            <a:ext cx="1440" cy="217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1"/>
          <p:cNvSpPr/>
          <p:nvPr/>
        </p:nvSpPr>
        <p:spPr>
          <a:xfrm>
            <a:off x="4737240" y="3860640"/>
            <a:ext cx="1440" cy="217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2"/>
          <p:cNvSpPr/>
          <p:nvPr/>
        </p:nvSpPr>
        <p:spPr>
          <a:xfrm>
            <a:off x="5524560" y="3860640"/>
            <a:ext cx="0" cy="217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3"/>
          <p:cNvSpPr/>
          <p:nvPr/>
        </p:nvSpPr>
        <p:spPr>
          <a:xfrm>
            <a:off x="6305400" y="3860640"/>
            <a:ext cx="1800" cy="217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4"/>
          <p:cNvSpPr/>
          <p:nvPr/>
        </p:nvSpPr>
        <p:spPr>
          <a:xfrm>
            <a:off x="7093080" y="3860640"/>
            <a:ext cx="0" cy="217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5"/>
          <p:cNvSpPr/>
          <p:nvPr/>
        </p:nvSpPr>
        <p:spPr>
          <a:xfrm>
            <a:off x="7873920" y="3860640"/>
            <a:ext cx="1800" cy="2175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7"/>
          <p:cNvSpPr/>
          <p:nvPr/>
        </p:nvSpPr>
        <p:spPr>
          <a:xfrm>
            <a:off x="3564000" y="2708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8"/>
          <p:cNvSpPr/>
          <p:nvPr/>
        </p:nvSpPr>
        <p:spPr>
          <a:xfrm>
            <a:off x="3987720" y="2708280"/>
            <a:ext cx="5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9"/>
          <p:cNvSpPr/>
          <p:nvPr/>
        </p:nvSpPr>
        <p:spPr>
          <a:xfrm>
            <a:off x="4419720" y="2708280"/>
            <a:ext cx="57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0"/>
          <p:cNvSpPr/>
          <p:nvPr/>
        </p:nvSpPr>
        <p:spPr>
          <a:xfrm>
            <a:off x="4778280" y="2708280"/>
            <a:ext cx="57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1"/>
          <p:cNvSpPr/>
          <p:nvPr/>
        </p:nvSpPr>
        <p:spPr>
          <a:xfrm>
            <a:off x="5137200" y="2708280"/>
            <a:ext cx="57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2"/>
          <p:cNvSpPr/>
          <p:nvPr/>
        </p:nvSpPr>
        <p:spPr>
          <a:xfrm>
            <a:off x="5499000" y="2708280"/>
            <a:ext cx="5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3"/>
          <p:cNvSpPr/>
          <p:nvPr/>
        </p:nvSpPr>
        <p:spPr>
          <a:xfrm>
            <a:off x="5857920" y="2708280"/>
            <a:ext cx="57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4"/>
          <p:cNvSpPr/>
          <p:nvPr/>
        </p:nvSpPr>
        <p:spPr>
          <a:xfrm>
            <a:off x="6219720" y="2708280"/>
            <a:ext cx="5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65"/>
          <p:cNvSpPr/>
          <p:nvPr/>
        </p:nvSpPr>
        <p:spPr>
          <a:xfrm flipH="1">
            <a:off x="1590480" y="3889440"/>
            <a:ext cx="28440" cy="21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6612 L -0.21077 0.35237 E">
                                      <p:cBhvr>
                                        <p:cTn id="903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7653 L -0.15781 0.35213 E">
                                      <p:cBhvr>
                                        <p:cTn id="907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7653 L -0.12135 0.35653 E">
                                      <p:cBhvr>
                                        <p:cTn id="911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6612 L -0.07239 0.35653 E">
                                      <p:cBhvr>
                                        <p:cTn id="915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7653 L -0.02951 0.35237 E">
                                      <p:cBhvr>
                                        <p:cTn id="919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7653 L 0.01424 0.35653 E">
                                      <p:cBhvr>
                                        <p:cTn id="92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6612 L 0.07101 0.35838 E">
                                      <p:cBhvr>
                                        <p:cTn id="927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7653 L 0.11198 0.35421 E">
                                      <p:cBhvr>
                                        <p:cTn id="931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5"/>
          <p:cNvSpPr/>
          <p:nvPr/>
        </p:nvSpPr>
        <p:spPr>
          <a:xfrm>
            <a:off x="2627280" y="155736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6"/>
          <p:cNvGrpSpPr/>
          <p:nvPr/>
        </p:nvGrpSpPr>
        <p:grpSpPr>
          <a:xfrm>
            <a:off x="826920" y="907920"/>
            <a:ext cx="6697800" cy="5041800"/>
            <a:chOff x="826920" y="907920"/>
            <a:chExt cx="6697800" cy="5041800"/>
          </a:xfrm>
        </p:grpSpPr>
        <p:sp>
          <p:nvSpPr>
            <p:cNvPr id="449" name="AutoShape 7"/>
            <p:cNvSpPr/>
            <p:nvPr/>
          </p:nvSpPr>
          <p:spPr>
            <a:xfrm>
              <a:off x="826920" y="907920"/>
              <a:ext cx="6697800" cy="5041800"/>
            </a:xfrm>
            <a:prstGeom prst="cloudCallout">
              <a:avLst>
                <a:gd name="adj1" fmla="val 19986"/>
                <a:gd name="adj2" fmla="val 43435"/>
              </a:avLst>
            </a:prstGeom>
            <a:solidFill>
              <a:srgbClr val="8eb4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华文新魏"/>
                  <a:ea typeface="黑体"/>
                </a:rPr>
                <a:t>写数时从高位写起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新魏"/>
                  <a:ea typeface="黑体"/>
                </a:rPr>
                <a:t>,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新魏"/>
                  <a:ea typeface="黑体"/>
                </a:rPr>
                <a:t>哪一个数位上有几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新魏"/>
                  <a:ea typeface="黑体"/>
                </a:rPr>
                <a:t>,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新魏"/>
                  <a:ea typeface="黑体"/>
                </a:rPr>
                <a:t>就在那一个数位上写上几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新魏"/>
                  <a:ea typeface="黑体"/>
                </a:rPr>
                <a:t>,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新魏"/>
                  <a:ea typeface="黑体"/>
                </a:rPr>
                <a:t>中间或末尾的数位上一个计数单位也没有就在对应的数位上写上零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8"/>
            <p:cNvSpPr/>
            <p:nvPr/>
          </p:nvSpPr>
          <p:spPr>
            <a:xfrm>
              <a:off x="2698560" y="3931920"/>
              <a:ext cx="3456000" cy="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1834920" y="5011920"/>
              <a:ext cx="3960720" cy="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0"/>
            <p:cNvSpPr/>
            <p:nvPr/>
          </p:nvSpPr>
          <p:spPr>
            <a:xfrm>
              <a:off x="1906560" y="5516640"/>
              <a:ext cx="576000" cy="2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9"/>
          <p:cNvSpPr/>
          <p:nvPr/>
        </p:nvSpPr>
        <p:spPr>
          <a:xfrm>
            <a:off x="1979640" y="4437000"/>
            <a:ext cx="396072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11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727280" cy="151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27160" y="2622960"/>
            <a:ext cx="8604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认识计数单位，知道亿以内各个计数单位的名称和相邻两个单位之间的关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掌握亿以内的数位顺序表和分级的方法，学会整万数的读法和写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"/>
          <p:cNvGrpSpPr/>
          <p:nvPr/>
        </p:nvGrpSpPr>
        <p:grpSpPr>
          <a:xfrm>
            <a:off x="0" y="712800"/>
            <a:ext cx="3244680" cy="525600"/>
            <a:chOff x="0" y="712800"/>
            <a:chExt cx="3244680" cy="525600"/>
          </a:xfrm>
        </p:grpSpPr>
        <p:grpSp>
          <p:nvGrpSpPr>
            <p:cNvPr id="50" name="圆角矩形 4"/>
            <p:cNvGrpSpPr/>
            <p:nvPr/>
          </p:nvGrpSpPr>
          <p:grpSpPr>
            <a:xfrm>
              <a:off x="142200" y="712800"/>
              <a:ext cx="3102480" cy="525600"/>
              <a:chOff x="142200" y="712800"/>
              <a:chExt cx="3102480" cy="525600"/>
            </a:xfrm>
          </p:grpSpPr>
          <p:pic>
            <p:nvPicPr>
              <p:cNvPr id="5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712800"/>
                <a:ext cx="31024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89720" y="787320"/>
                <a:ext cx="295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4"/>
            <p:cNvGrpSpPr/>
            <p:nvPr/>
          </p:nvGrpSpPr>
          <p:grpSpPr>
            <a:xfrm>
              <a:off x="0" y="828720"/>
              <a:ext cx="428760" cy="187560"/>
              <a:chOff x="0" y="828720"/>
              <a:chExt cx="428760" cy="187560"/>
            </a:xfrm>
          </p:grpSpPr>
          <p:sp>
            <p:nvSpPr>
              <p:cNvPr id="54" name="椭圆 7"/>
              <p:cNvSpPr/>
              <p:nvPr/>
            </p:nvSpPr>
            <p:spPr>
              <a:xfrm rot="16200000">
                <a:off x="315000" y="90252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椭圆 8"/>
              <p:cNvGrpSpPr/>
              <p:nvPr/>
            </p:nvGrpSpPr>
            <p:grpSpPr>
              <a:xfrm>
                <a:off x="295560" y="942120"/>
                <a:ext cx="120240" cy="65880"/>
                <a:chOff x="295560" y="942120"/>
                <a:chExt cx="120240" cy="65880"/>
              </a:xfrm>
            </p:grpSpPr>
            <p:pic>
              <p:nvPicPr>
                <p:cNvPr id="5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9421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 rot="16200000">
                  <a:off x="331920" y="93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椭圆 9"/>
              <p:cNvSpPr/>
              <p:nvPr/>
            </p:nvSpPr>
            <p:spPr>
              <a:xfrm rot="16200000">
                <a:off x="315000" y="7974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椭圆 10"/>
              <p:cNvGrpSpPr/>
              <p:nvPr/>
            </p:nvGrpSpPr>
            <p:grpSpPr>
              <a:xfrm>
                <a:off x="295560" y="837720"/>
                <a:ext cx="120240" cy="65880"/>
                <a:chOff x="295560" y="837720"/>
                <a:chExt cx="120240" cy="65880"/>
              </a:xfrm>
            </p:grpSpPr>
            <p:pic>
              <p:nvPicPr>
                <p:cNvPr id="6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377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16200000">
                  <a:off x="331920" y="82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圆角矩形 12"/>
              <p:cNvGrpSpPr/>
              <p:nvPr/>
            </p:nvGrpSpPr>
            <p:grpSpPr>
              <a:xfrm>
                <a:off x="0" y="963000"/>
                <a:ext cx="393840" cy="52200"/>
                <a:chOff x="0" y="963000"/>
                <a:chExt cx="393840" cy="52200"/>
              </a:xfrm>
            </p:grpSpPr>
            <p:pic>
              <p:nvPicPr>
                <p:cNvPr id="6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963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200000">
                  <a:off x="192960" y="8280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圆角矩形 14"/>
              <p:cNvGrpSpPr/>
              <p:nvPr/>
            </p:nvGrpSpPr>
            <p:grpSpPr>
              <a:xfrm>
                <a:off x="0" y="938520"/>
                <a:ext cx="393840" cy="52200"/>
                <a:chOff x="0" y="938520"/>
                <a:chExt cx="393840" cy="52200"/>
              </a:xfrm>
            </p:grpSpPr>
            <p:pic>
              <p:nvPicPr>
                <p:cNvPr id="6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38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 rot="16200000">
                  <a:off x="192960" y="801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圆角矩形 17"/>
              <p:cNvGrpSpPr/>
              <p:nvPr/>
            </p:nvGrpSpPr>
            <p:grpSpPr>
              <a:xfrm>
                <a:off x="0" y="855000"/>
                <a:ext cx="393840" cy="52200"/>
                <a:chOff x="0" y="855000"/>
                <a:chExt cx="393840" cy="52200"/>
              </a:xfrm>
            </p:grpSpPr>
            <p:pic>
              <p:nvPicPr>
                <p:cNvPr id="6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55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16200000">
                  <a:off x="192960" y="72036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圆角矩形 18"/>
              <p:cNvGrpSpPr/>
              <p:nvPr/>
            </p:nvGrpSpPr>
            <p:grpSpPr>
              <a:xfrm>
                <a:off x="0" y="830520"/>
                <a:ext cx="393840" cy="52200"/>
                <a:chOff x="0" y="830520"/>
                <a:chExt cx="393840" cy="52200"/>
              </a:xfrm>
            </p:grpSpPr>
            <p:pic>
              <p:nvPicPr>
                <p:cNvPr id="7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30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6200000">
                  <a:off x="192960" y="693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 rot="5400000">
            <a:off x="1623240" y="929160"/>
            <a:ext cx="193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个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十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百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千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万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十 万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百 万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千 万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"/>
          <p:cNvSpPr/>
          <p:nvPr/>
        </p:nvSpPr>
        <p:spPr>
          <a:xfrm>
            <a:off x="900000" y="3141720"/>
            <a:ext cx="7272360" cy="14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2556000" y="3141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2   4   9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971640" y="35020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  4  9  6  0  0  0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187280" y="393372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6   4   0   7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  0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044720" y="42940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  5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 0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 0   0   3   0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444996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4469040" y="386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4449960" y="350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4469040" y="4267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5127480" y="3049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5555880" y="3116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仿宋_GB2312"/>
              </a:rPr>
              <a:t>二千四百九十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5643720" y="3548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仿宋_GB2312"/>
              </a:rPr>
              <a:t>二千四百九十六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5628960" y="39085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仿宋_GB2312"/>
              </a:rPr>
              <a:t>六百四十万七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571536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仿宋_GB2312"/>
              </a:rPr>
              <a:t>八千五百万零三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>
            <a:off x="2700360" y="1989000"/>
            <a:ext cx="0" cy="266544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18"/>
          <p:cNvGrpSpPr/>
          <p:nvPr/>
        </p:nvGrpSpPr>
        <p:grpSpPr>
          <a:xfrm>
            <a:off x="1186920" y="4797360"/>
            <a:ext cx="4896360" cy="1143000"/>
            <a:chOff x="1186920" y="4797360"/>
            <a:chExt cx="4896360" cy="1143000"/>
          </a:xfrm>
        </p:grpSpPr>
        <p:sp>
          <p:nvSpPr>
            <p:cNvPr id="472" name="AutoShape 19"/>
            <p:cNvSpPr/>
            <p:nvPr/>
          </p:nvSpPr>
          <p:spPr>
            <a:xfrm flipH="1" flipV="1">
              <a:off x="1186560" y="4860000"/>
              <a:ext cx="4824360" cy="1008360"/>
            </a:xfrm>
            <a:prstGeom prst="wedgeRoundRectCallout">
              <a:avLst>
                <a:gd name="adj1" fmla="val 57041"/>
                <a:gd name="adj2" fmla="val -7110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0"/>
            <p:cNvSpPr/>
            <p:nvPr/>
          </p:nvSpPr>
          <p:spPr>
            <a:xfrm>
              <a:off x="1223640" y="4797360"/>
              <a:ext cx="485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万级数的读法和个级数的读法有什么相同点和不同点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AutoShape 21"/>
          <p:cNvSpPr/>
          <p:nvPr/>
        </p:nvSpPr>
        <p:spPr>
          <a:xfrm>
            <a:off x="5508720" y="5157720"/>
            <a:ext cx="3313080" cy="10080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迷你简胖头鱼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该怎么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对象 25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476" name="组合 2"/>
          <p:cNvGrpSpPr/>
          <p:nvPr/>
        </p:nvGrpSpPr>
        <p:grpSpPr>
          <a:xfrm>
            <a:off x="0" y="712800"/>
            <a:ext cx="3244680" cy="525600"/>
            <a:chOff x="0" y="712800"/>
            <a:chExt cx="3244680" cy="525600"/>
          </a:xfrm>
        </p:grpSpPr>
        <p:grpSp>
          <p:nvGrpSpPr>
            <p:cNvPr id="477" name="圆角矩形 4"/>
            <p:cNvGrpSpPr/>
            <p:nvPr/>
          </p:nvGrpSpPr>
          <p:grpSpPr>
            <a:xfrm>
              <a:off x="142200" y="712800"/>
              <a:ext cx="3102480" cy="525600"/>
              <a:chOff x="142200" y="712800"/>
              <a:chExt cx="3102480" cy="525600"/>
            </a:xfrm>
          </p:grpSpPr>
          <p:pic>
            <p:nvPicPr>
              <p:cNvPr id="478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200" y="712800"/>
                <a:ext cx="31024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>
                <a:off x="189720" y="787320"/>
                <a:ext cx="295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组合 4"/>
            <p:cNvGrpSpPr/>
            <p:nvPr/>
          </p:nvGrpSpPr>
          <p:grpSpPr>
            <a:xfrm>
              <a:off x="0" y="828720"/>
              <a:ext cx="428760" cy="187560"/>
              <a:chOff x="0" y="828720"/>
              <a:chExt cx="428760" cy="187560"/>
            </a:xfrm>
          </p:grpSpPr>
          <p:sp>
            <p:nvSpPr>
              <p:cNvPr id="481" name="椭圆 7"/>
              <p:cNvSpPr/>
              <p:nvPr/>
            </p:nvSpPr>
            <p:spPr>
              <a:xfrm rot="16200000">
                <a:off x="315000" y="90252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椭圆 8"/>
              <p:cNvGrpSpPr/>
              <p:nvPr/>
            </p:nvGrpSpPr>
            <p:grpSpPr>
              <a:xfrm>
                <a:off x="295560" y="942120"/>
                <a:ext cx="120240" cy="65880"/>
                <a:chOff x="295560" y="942120"/>
                <a:chExt cx="120240" cy="65880"/>
              </a:xfrm>
            </p:grpSpPr>
            <p:pic>
              <p:nvPicPr>
                <p:cNvPr id="483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9421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4" name=""/>
                <p:cNvSpPr/>
                <p:nvPr/>
              </p:nvSpPr>
              <p:spPr>
                <a:xfrm rot="16200000">
                  <a:off x="331920" y="93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椭圆 9"/>
              <p:cNvSpPr/>
              <p:nvPr/>
            </p:nvSpPr>
            <p:spPr>
              <a:xfrm rot="16200000">
                <a:off x="315000" y="7974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椭圆 10"/>
              <p:cNvGrpSpPr/>
              <p:nvPr/>
            </p:nvGrpSpPr>
            <p:grpSpPr>
              <a:xfrm>
                <a:off x="295560" y="837720"/>
                <a:ext cx="120240" cy="65880"/>
                <a:chOff x="295560" y="837720"/>
                <a:chExt cx="120240" cy="65880"/>
              </a:xfrm>
            </p:grpSpPr>
            <p:pic>
              <p:nvPicPr>
                <p:cNvPr id="487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560" y="8377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8" name=""/>
                <p:cNvSpPr/>
                <p:nvPr/>
              </p:nvSpPr>
              <p:spPr>
                <a:xfrm rot="16200000">
                  <a:off x="331920" y="82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圆角矩形 12"/>
              <p:cNvGrpSpPr/>
              <p:nvPr/>
            </p:nvGrpSpPr>
            <p:grpSpPr>
              <a:xfrm>
                <a:off x="0" y="963000"/>
                <a:ext cx="393840" cy="52200"/>
                <a:chOff x="0" y="963000"/>
                <a:chExt cx="393840" cy="52200"/>
              </a:xfrm>
            </p:grpSpPr>
            <p:pic>
              <p:nvPicPr>
                <p:cNvPr id="490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63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"/>
                <p:cNvSpPr/>
                <p:nvPr/>
              </p:nvSpPr>
              <p:spPr>
                <a:xfrm rot="16200000">
                  <a:off x="192960" y="8280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圆角矩形 14"/>
              <p:cNvGrpSpPr/>
              <p:nvPr/>
            </p:nvGrpSpPr>
            <p:grpSpPr>
              <a:xfrm>
                <a:off x="0" y="938520"/>
                <a:ext cx="393840" cy="52200"/>
                <a:chOff x="0" y="938520"/>
                <a:chExt cx="393840" cy="52200"/>
              </a:xfrm>
            </p:grpSpPr>
            <p:pic>
              <p:nvPicPr>
                <p:cNvPr id="493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938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4" name=""/>
                <p:cNvSpPr/>
                <p:nvPr/>
              </p:nvSpPr>
              <p:spPr>
                <a:xfrm rot="16200000">
                  <a:off x="192960" y="801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圆角矩形 17"/>
              <p:cNvGrpSpPr/>
              <p:nvPr/>
            </p:nvGrpSpPr>
            <p:grpSpPr>
              <a:xfrm>
                <a:off x="0" y="855000"/>
                <a:ext cx="393840" cy="52200"/>
                <a:chOff x="0" y="855000"/>
                <a:chExt cx="393840" cy="52200"/>
              </a:xfrm>
            </p:grpSpPr>
            <p:pic>
              <p:nvPicPr>
                <p:cNvPr id="496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55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6200000">
                  <a:off x="192960" y="72036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圆角矩形 18"/>
              <p:cNvGrpSpPr/>
              <p:nvPr/>
            </p:nvGrpSpPr>
            <p:grpSpPr>
              <a:xfrm>
                <a:off x="0" y="830520"/>
                <a:ext cx="393840" cy="52200"/>
                <a:chOff x="0" y="830520"/>
                <a:chExt cx="393840" cy="52200"/>
              </a:xfrm>
            </p:grpSpPr>
            <p:pic>
              <p:nvPicPr>
                <p:cNvPr id="499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830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0" name=""/>
                <p:cNvSpPr/>
                <p:nvPr/>
              </p:nvSpPr>
              <p:spPr>
                <a:xfrm rot="16200000">
                  <a:off x="192960" y="693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9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10920" y="1268280"/>
            <a:ext cx="7705800" cy="11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同点：万级数先按个级数的读法来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点：读万级数时要在后面加读一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 rot="21247200">
            <a:off x="1001880" y="5116680"/>
            <a:ext cx="3168360" cy="431640"/>
          </a:xfrm>
          <a:prstGeom prst="cloudCallout">
            <a:avLst>
              <a:gd name="adj1" fmla="val -56615"/>
              <a:gd name="adj2" fmla="val 10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来告诉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398520" y="3068640"/>
            <a:ext cx="79884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迷你简胖头鱼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数时，每级末尾不管有几个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都不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数位上有一个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连续有几个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都只读一个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nodeType="clickEffect" fill="hold">
                      <p:stCondLst>
                        <p:cond delay="0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971640" y="1844640"/>
            <a:ext cx="7559640" cy="302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186920" y="3933360"/>
            <a:ext cx="315468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六千八百五十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3703680" y="2637000"/>
            <a:ext cx="347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个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十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百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千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万 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十 万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百 万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千 万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4211640" y="3860640"/>
            <a:ext cx="2952720" cy="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6"/>
          <p:cNvSpPr/>
          <p:nvPr/>
        </p:nvSpPr>
        <p:spPr>
          <a:xfrm>
            <a:off x="5651640" y="2637000"/>
            <a:ext cx="0" cy="2303280"/>
          </a:xfrm>
          <a:prstGeom prst="line">
            <a:avLst/>
          </a:prstGeom>
          <a:ln w="1260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7"/>
          <p:cNvGrpSpPr/>
          <p:nvPr/>
        </p:nvGrpSpPr>
        <p:grpSpPr>
          <a:xfrm>
            <a:off x="3311640" y="4437000"/>
            <a:ext cx="723960" cy="519120"/>
            <a:chOff x="3311640" y="4437000"/>
            <a:chExt cx="723960" cy="519120"/>
          </a:xfrm>
        </p:grpSpPr>
        <p:sp>
          <p:nvSpPr>
            <p:cNvPr id="510" name="Text Box 8"/>
            <p:cNvSpPr/>
            <p:nvPr/>
          </p:nvSpPr>
          <p:spPr>
            <a:xfrm>
              <a:off x="3311640" y="44370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9"/>
            <p:cNvSpPr/>
            <p:nvPr/>
          </p:nvSpPr>
          <p:spPr>
            <a:xfrm>
              <a:off x="3851280" y="4464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10"/>
          <p:cNvSpPr/>
          <p:nvPr/>
        </p:nvSpPr>
        <p:spPr>
          <a:xfrm>
            <a:off x="4228200" y="397980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迷你简胖头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迷你简胖头鱼"/>
              </a:rPr>
              <a:t>6  8  5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4228200" y="450684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迷你简胖头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迷你简胖头鱼"/>
              </a:rPr>
              <a:t>3  0  8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2"/>
          <p:cNvSpPr/>
          <p:nvPr/>
        </p:nvSpPr>
        <p:spPr>
          <a:xfrm>
            <a:off x="1692360" y="4869000"/>
            <a:ext cx="2520720" cy="865080"/>
          </a:xfrm>
          <a:prstGeom prst="wedgeRoundRectCallout">
            <a:avLst>
              <a:gd name="adj1" fmla="val -61902"/>
              <a:gd name="adj2" fmla="val 111467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3"/>
          <p:cNvSpPr/>
          <p:nvPr/>
        </p:nvSpPr>
        <p:spPr>
          <a:xfrm flipH="1">
            <a:off x="1619280" y="1052640"/>
            <a:ext cx="4680000" cy="574560"/>
          </a:xfrm>
          <a:prstGeom prst="wedgeRoundRectCallout">
            <a:avLst>
              <a:gd name="adj1" fmla="val -58990"/>
              <a:gd name="adj2" fmla="val 68777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含有两级的数，先写哪一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1619280" y="4422600"/>
            <a:ext cx="31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三千零八十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5739480" y="397980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迷你简胖头鱼"/>
              </a:rPr>
              <a:t>0  0   0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5739480" y="450864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迷你简胖头鱼"/>
              </a:rPr>
              <a:t>0  0   0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2346840" y="4940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万级怎么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2418480" y="530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个级怎么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0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66560" y="2060640"/>
            <a:ext cx="8280720" cy="316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66560" y="227664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</a:rPr>
              <a:t>写数的顺序和读数的顺序是一样的，先写万级，再写个级，个级上的数和以前学过的万以内数的写法一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</a:rPr>
              <a:t>中间或末尾哪一位上一个也没有，就在那一位上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1692360" y="1052640"/>
            <a:ext cx="7450920" cy="642600"/>
            <a:chOff x="1692360" y="1052640"/>
            <a:chExt cx="7450920" cy="642600"/>
          </a:xfrm>
        </p:grpSpPr>
        <p:sp>
          <p:nvSpPr>
            <p:cNvPr id="524" name="Rectangle 5"/>
            <p:cNvSpPr/>
            <p:nvPr/>
          </p:nvSpPr>
          <p:spPr>
            <a:xfrm>
              <a:off x="1692360" y="1052640"/>
              <a:ext cx="409104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6"/>
            <p:cNvSpPr/>
            <p:nvPr/>
          </p:nvSpPr>
          <p:spPr>
            <a:xfrm>
              <a:off x="1768680" y="1052640"/>
              <a:ext cx="737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我们来总结一下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0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-1825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对象 24" descr=""/>
          <p:cNvPicPr/>
          <p:nvPr/>
        </p:nvPicPr>
        <p:blipFill>
          <a:blip r:embed="rId1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1"/>
          <p:cNvGrpSpPr/>
          <p:nvPr/>
        </p:nvGrpSpPr>
        <p:grpSpPr>
          <a:xfrm>
            <a:off x="2556000" y="1197000"/>
            <a:ext cx="5471640" cy="1883880"/>
            <a:chOff x="2556000" y="1197000"/>
            <a:chExt cx="5471640" cy="1883880"/>
          </a:xfrm>
        </p:grpSpPr>
        <p:sp>
          <p:nvSpPr>
            <p:cNvPr id="529" name="AutoShape 12"/>
            <p:cNvSpPr/>
            <p:nvPr/>
          </p:nvSpPr>
          <p:spPr>
            <a:xfrm>
              <a:off x="2556000" y="1197000"/>
              <a:ext cx="5471640" cy="1225080"/>
            </a:xfrm>
            <a:prstGeom prst="cloudCallout">
              <a:avLst>
                <a:gd name="adj1" fmla="val -33657"/>
                <a:gd name="adj2" fmla="val 6165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3"/>
            <p:cNvSpPr/>
            <p:nvPr/>
          </p:nvSpPr>
          <p:spPr>
            <a:xfrm>
              <a:off x="3511440" y="1341000"/>
              <a:ext cx="4516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四千零五十万写作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40000500000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矩形 10"/>
          <p:cNvSpPr/>
          <p:nvPr/>
        </p:nvSpPr>
        <p:spPr>
          <a:xfrm rot="18297600">
            <a:off x="7284960" y="15652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466560" y="2852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写数时，万级的数就按照个级的数写，四千零五十写作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0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1"/>
          <p:cNvGrpSpPr/>
          <p:nvPr/>
        </p:nvGrpSpPr>
        <p:grpSpPr>
          <a:xfrm>
            <a:off x="539640" y="4221000"/>
            <a:ext cx="5472000" cy="1884240"/>
            <a:chOff x="539640" y="4221000"/>
            <a:chExt cx="5472000" cy="1884240"/>
          </a:xfrm>
        </p:grpSpPr>
        <p:sp>
          <p:nvSpPr>
            <p:cNvPr id="534" name="AutoShape 12"/>
            <p:cNvSpPr/>
            <p:nvPr/>
          </p:nvSpPr>
          <p:spPr>
            <a:xfrm>
              <a:off x="539640" y="4221000"/>
              <a:ext cx="5472000" cy="1225440"/>
            </a:xfrm>
            <a:prstGeom prst="cloudCallout">
              <a:avLst>
                <a:gd name="adj1" fmla="val -33657"/>
                <a:gd name="adj2" fmla="val 6165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3"/>
            <p:cNvSpPr/>
            <p:nvPr/>
          </p:nvSpPr>
          <p:spPr>
            <a:xfrm>
              <a:off x="1495080" y="4365360"/>
              <a:ext cx="4516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四千零五十万写作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40500000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矩形 17"/>
          <p:cNvSpPr/>
          <p:nvPr/>
        </p:nvSpPr>
        <p:spPr>
          <a:xfrm rot="18297600">
            <a:off x="5067000" y="49107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0" y="712800"/>
            <a:ext cx="3244680" cy="525600"/>
            <a:chOff x="0" y="712800"/>
            <a:chExt cx="3244680" cy="525600"/>
          </a:xfrm>
        </p:grpSpPr>
        <p:grpSp>
          <p:nvGrpSpPr>
            <p:cNvPr id="538" name="圆角矩形 4"/>
            <p:cNvGrpSpPr/>
            <p:nvPr/>
          </p:nvGrpSpPr>
          <p:grpSpPr>
            <a:xfrm>
              <a:off x="142200" y="712800"/>
              <a:ext cx="3102480" cy="525600"/>
              <a:chOff x="142200" y="712800"/>
              <a:chExt cx="3102480" cy="525600"/>
            </a:xfrm>
          </p:grpSpPr>
          <p:pic>
            <p:nvPicPr>
              <p:cNvPr id="539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200" y="712800"/>
                <a:ext cx="31024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189720" y="787320"/>
                <a:ext cx="295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易错提醒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组合 4"/>
            <p:cNvGrpSpPr/>
            <p:nvPr/>
          </p:nvGrpSpPr>
          <p:grpSpPr>
            <a:xfrm>
              <a:off x="0" y="828720"/>
              <a:ext cx="428760" cy="187560"/>
              <a:chOff x="0" y="828720"/>
              <a:chExt cx="428760" cy="187560"/>
            </a:xfrm>
          </p:grpSpPr>
          <p:sp>
            <p:nvSpPr>
              <p:cNvPr id="542" name="椭圆 7"/>
              <p:cNvSpPr/>
              <p:nvPr/>
            </p:nvSpPr>
            <p:spPr>
              <a:xfrm rot="16200000">
                <a:off x="315000" y="90252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椭圆 8"/>
              <p:cNvGrpSpPr/>
              <p:nvPr/>
            </p:nvGrpSpPr>
            <p:grpSpPr>
              <a:xfrm>
                <a:off x="295560" y="942120"/>
                <a:ext cx="120240" cy="65880"/>
                <a:chOff x="295560" y="942120"/>
                <a:chExt cx="120240" cy="65880"/>
              </a:xfrm>
            </p:grpSpPr>
            <p:pic>
              <p:nvPicPr>
                <p:cNvPr id="544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9421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5" name=""/>
                <p:cNvSpPr/>
                <p:nvPr/>
              </p:nvSpPr>
              <p:spPr>
                <a:xfrm rot="16200000">
                  <a:off x="331920" y="93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椭圆 9"/>
              <p:cNvSpPr/>
              <p:nvPr/>
            </p:nvSpPr>
            <p:spPr>
              <a:xfrm rot="16200000">
                <a:off x="315000" y="7974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椭圆 10"/>
              <p:cNvGrpSpPr/>
              <p:nvPr/>
            </p:nvGrpSpPr>
            <p:grpSpPr>
              <a:xfrm>
                <a:off x="295560" y="837720"/>
                <a:ext cx="120240" cy="65880"/>
                <a:chOff x="295560" y="837720"/>
                <a:chExt cx="120240" cy="65880"/>
              </a:xfrm>
            </p:grpSpPr>
            <p:pic>
              <p:nvPicPr>
                <p:cNvPr id="548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560" y="8377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9" name=""/>
                <p:cNvSpPr/>
                <p:nvPr/>
              </p:nvSpPr>
              <p:spPr>
                <a:xfrm rot="16200000">
                  <a:off x="331920" y="82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圆角矩形 12"/>
              <p:cNvGrpSpPr/>
              <p:nvPr/>
            </p:nvGrpSpPr>
            <p:grpSpPr>
              <a:xfrm>
                <a:off x="0" y="963000"/>
                <a:ext cx="393840" cy="52200"/>
                <a:chOff x="0" y="963000"/>
                <a:chExt cx="393840" cy="52200"/>
              </a:xfrm>
            </p:grpSpPr>
            <p:pic>
              <p:nvPicPr>
                <p:cNvPr id="551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63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2" name=""/>
                <p:cNvSpPr/>
                <p:nvPr/>
              </p:nvSpPr>
              <p:spPr>
                <a:xfrm rot="16200000">
                  <a:off x="192960" y="8280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圆角矩形 14"/>
              <p:cNvGrpSpPr/>
              <p:nvPr/>
            </p:nvGrpSpPr>
            <p:grpSpPr>
              <a:xfrm>
                <a:off x="0" y="938520"/>
                <a:ext cx="393840" cy="52200"/>
                <a:chOff x="0" y="938520"/>
                <a:chExt cx="393840" cy="52200"/>
              </a:xfrm>
            </p:grpSpPr>
            <p:pic>
              <p:nvPicPr>
                <p:cNvPr id="554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938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5" name=""/>
                <p:cNvSpPr/>
                <p:nvPr/>
              </p:nvSpPr>
              <p:spPr>
                <a:xfrm rot="16200000">
                  <a:off x="192960" y="801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圆角矩形 17"/>
              <p:cNvGrpSpPr/>
              <p:nvPr/>
            </p:nvGrpSpPr>
            <p:grpSpPr>
              <a:xfrm>
                <a:off x="0" y="855000"/>
                <a:ext cx="393840" cy="52200"/>
                <a:chOff x="0" y="855000"/>
                <a:chExt cx="393840" cy="52200"/>
              </a:xfrm>
            </p:grpSpPr>
            <p:pic>
              <p:nvPicPr>
                <p:cNvPr id="557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55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8" name=""/>
                <p:cNvSpPr/>
                <p:nvPr/>
              </p:nvSpPr>
              <p:spPr>
                <a:xfrm rot="16200000">
                  <a:off x="192960" y="72036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圆角矩形 18"/>
              <p:cNvGrpSpPr/>
              <p:nvPr/>
            </p:nvGrpSpPr>
            <p:grpSpPr>
              <a:xfrm>
                <a:off x="0" y="830520"/>
                <a:ext cx="393840" cy="52200"/>
                <a:chOff x="0" y="830520"/>
                <a:chExt cx="393840" cy="52200"/>
              </a:xfrm>
            </p:grpSpPr>
            <p:pic>
              <p:nvPicPr>
                <p:cNvPr id="560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830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1" name=""/>
                <p:cNvSpPr/>
                <p:nvPr/>
              </p:nvSpPr>
              <p:spPr>
                <a:xfrm rot="16200000">
                  <a:off x="192960" y="693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nodeType="clickEffect" fill="hold">
                      <p:stCondLst>
                        <p:cond delay="0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031840" y="4232160"/>
            <a:ext cx="6178680" cy="91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537080" y="43671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100480" y="43671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688000" y="4367160"/>
            <a:ext cx="7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7188120" y="436716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7"/>
          <p:cNvSpPr/>
          <p:nvPr/>
        </p:nvSpPr>
        <p:spPr>
          <a:xfrm flipH="1">
            <a:off x="4653720" y="1751040"/>
            <a:ext cx="7164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8"/>
          <p:cNvSpPr/>
          <p:nvPr/>
        </p:nvSpPr>
        <p:spPr>
          <a:xfrm flipH="1">
            <a:off x="5327640" y="1751040"/>
            <a:ext cx="712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 flipH="1">
            <a:off x="6047640" y="1751040"/>
            <a:ext cx="730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"/>
          <p:cNvSpPr/>
          <p:nvPr/>
        </p:nvSpPr>
        <p:spPr>
          <a:xfrm flipH="1">
            <a:off x="7460640" y="1751040"/>
            <a:ext cx="730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 flipH="1">
            <a:off x="6839640" y="1751040"/>
            <a:ext cx="730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6408720" y="4367160"/>
            <a:ext cx="86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4"/>
          <p:cNvSpPr/>
          <p:nvPr/>
        </p:nvSpPr>
        <p:spPr>
          <a:xfrm>
            <a:off x="4425840" y="327960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5"/>
          <p:cNvSpPr/>
          <p:nvPr/>
        </p:nvSpPr>
        <p:spPr>
          <a:xfrm>
            <a:off x="4425840" y="385596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6"/>
          <p:cNvSpPr/>
          <p:nvPr/>
        </p:nvSpPr>
        <p:spPr>
          <a:xfrm>
            <a:off x="4437000" y="366552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7"/>
          <p:cNvSpPr/>
          <p:nvPr/>
        </p:nvSpPr>
        <p:spPr>
          <a:xfrm>
            <a:off x="4422600" y="405144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8"/>
          <p:cNvSpPr/>
          <p:nvPr/>
        </p:nvSpPr>
        <p:spPr>
          <a:xfrm>
            <a:off x="4432320" y="347652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9"/>
          <p:cNvSpPr/>
          <p:nvPr/>
        </p:nvSpPr>
        <p:spPr>
          <a:xfrm>
            <a:off x="3813120" y="4267080"/>
            <a:ext cx="399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0"/>
          <p:cNvSpPr/>
          <p:nvPr/>
        </p:nvSpPr>
        <p:spPr>
          <a:xfrm>
            <a:off x="3219480" y="4265640"/>
            <a:ext cx="36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2540160" y="4268880"/>
            <a:ext cx="36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2"/>
          <p:cNvSpPr/>
          <p:nvPr/>
        </p:nvSpPr>
        <p:spPr>
          <a:xfrm flipH="1">
            <a:off x="4033080" y="1751040"/>
            <a:ext cx="73080" cy="2479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3"/>
          <p:cNvSpPr/>
          <p:nvPr/>
        </p:nvSpPr>
        <p:spPr>
          <a:xfrm flipH="1">
            <a:off x="3425040" y="1762200"/>
            <a:ext cx="730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4"/>
          <p:cNvSpPr/>
          <p:nvPr/>
        </p:nvSpPr>
        <p:spPr>
          <a:xfrm flipH="1">
            <a:off x="2786760" y="1774800"/>
            <a:ext cx="73080" cy="2479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2"/>
          <p:cNvSpPr/>
          <p:nvPr/>
        </p:nvSpPr>
        <p:spPr>
          <a:xfrm>
            <a:off x="4433760" y="307332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4"/>
          <p:cNvSpPr/>
          <p:nvPr/>
        </p:nvSpPr>
        <p:spPr>
          <a:xfrm>
            <a:off x="1649520" y="5218200"/>
            <a:ext cx="330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写作：（        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5"/>
          <p:cNvSpPr/>
          <p:nvPr/>
        </p:nvSpPr>
        <p:spPr>
          <a:xfrm>
            <a:off x="250920" y="1484280"/>
            <a:ext cx="87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说出下面这个数是多少个万，再写一写、读一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7"/>
          <p:cNvSpPr/>
          <p:nvPr/>
        </p:nvSpPr>
        <p:spPr>
          <a:xfrm>
            <a:off x="1677960" y="5805360"/>
            <a:ext cx="330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作：（        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9"/>
          <p:cNvSpPr/>
          <p:nvPr/>
        </p:nvSpPr>
        <p:spPr>
          <a:xfrm>
            <a:off x="2700360" y="5734080"/>
            <a:ext cx="233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六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0"/>
          <p:cNvSpPr/>
          <p:nvPr/>
        </p:nvSpPr>
        <p:spPr>
          <a:xfrm>
            <a:off x="3211560" y="5192640"/>
            <a:ext cx="127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60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2"/>
          <p:cNvGrpSpPr/>
          <p:nvPr/>
        </p:nvGrpSpPr>
        <p:grpSpPr>
          <a:xfrm>
            <a:off x="0" y="712800"/>
            <a:ext cx="3244680" cy="525600"/>
            <a:chOff x="0" y="712800"/>
            <a:chExt cx="3244680" cy="525600"/>
          </a:xfrm>
        </p:grpSpPr>
        <p:grpSp>
          <p:nvGrpSpPr>
            <p:cNvPr id="591" name="圆角矩形 4"/>
            <p:cNvGrpSpPr/>
            <p:nvPr/>
          </p:nvGrpSpPr>
          <p:grpSpPr>
            <a:xfrm>
              <a:off x="142200" y="712800"/>
              <a:ext cx="3102480" cy="525600"/>
              <a:chOff x="142200" y="712800"/>
              <a:chExt cx="3102480" cy="525600"/>
            </a:xfrm>
          </p:grpSpPr>
          <p:pic>
            <p:nvPicPr>
              <p:cNvPr id="592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712800"/>
                <a:ext cx="31024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"/>
              <p:cNvSpPr/>
              <p:nvPr/>
            </p:nvSpPr>
            <p:spPr>
              <a:xfrm>
                <a:off x="189720" y="787320"/>
                <a:ext cx="295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组合 4"/>
            <p:cNvGrpSpPr/>
            <p:nvPr/>
          </p:nvGrpSpPr>
          <p:grpSpPr>
            <a:xfrm>
              <a:off x="0" y="828720"/>
              <a:ext cx="428760" cy="187560"/>
              <a:chOff x="0" y="828720"/>
              <a:chExt cx="428760" cy="187560"/>
            </a:xfrm>
          </p:grpSpPr>
          <p:sp>
            <p:nvSpPr>
              <p:cNvPr id="595" name="椭圆 7"/>
              <p:cNvSpPr/>
              <p:nvPr/>
            </p:nvSpPr>
            <p:spPr>
              <a:xfrm rot="16200000">
                <a:off x="315000" y="90252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6" name="椭圆 8"/>
              <p:cNvGrpSpPr/>
              <p:nvPr/>
            </p:nvGrpSpPr>
            <p:grpSpPr>
              <a:xfrm>
                <a:off x="295560" y="942120"/>
                <a:ext cx="120240" cy="65880"/>
                <a:chOff x="295560" y="942120"/>
                <a:chExt cx="120240" cy="65880"/>
              </a:xfrm>
            </p:grpSpPr>
            <p:pic>
              <p:nvPicPr>
                <p:cNvPr id="597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9421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8" name=""/>
                <p:cNvSpPr/>
                <p:nvPr/>
              </p:nvSpPr>
              <p:spPr>
                <a:xfrm rot="16200000">
                  <a:off x="331920" y="93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椭圆 9"/>
              <p:cNvSpPr/>
              <p:nvPr/>
            </p:nvSpPr>
            <p:spPr>
              <a:xfrm rot="16200000">
                <a:off x="315000" y="7974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0" name="椭圆 10"/>
              <p:cNvGrpSpPr/>
              <p:nvPr/>
            </p:nvGrpSpPr>
            <p:grpSpPr>
              <a:xfrm>
                <a:off x="295560" y="837720"/>
                <a:ext cx="120240" cy="65880"/>
                <a:chOff x="295560" y="837720"/>
                <a:chExt cx="120240" cy="65880"/>
              </a:xfrm>
            </p:grpSpPr>
            <p:pic>
              <p:nvPicPr>
                <p:cNvPr id="601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377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2" name=""/>
                <p:cNvSpPr/>
                <p:nvPr/>
              </p:nvSpPr>
              <p:spPr>
                <a:xfrm rot="16200000">
                  <a:off x="331920" y="82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圆角矩形 12"/>
              <p:cNvGrpSpPr/>
              <p:nvPr/>
            </p:nvGrpSpPr>
            <p:grpSpPr>
              <a:xfrm>
                <a:off x="0" y="963000"/>
                <a:ext cx="393840" cy="52200"/>
                <a:chOff x="0" y="963000"/>
                <a:chExt cx="393840" cy="52200"/>
              </a:xfrm>
            </p:grpSpPr>
            <p:pic>
              <p:nvPicPr>
                <p:cNvPr id="604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963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5" name=""/>
                <p:cNvSpPr/>
                <p:nvPr/>
              </p:nvSpPr>
              <p:spPr>
                <a:xfrm rot="16200000">
                  <a:off x="192960" y="8280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圆角矩形 14"/>
              <p:cNvGrpSpPr/>
              <p:nvPr/>
            </p:nvGrpSpPr>
            <p:grpSpPr>
              <a:xfrm>
                <a:off x="0" y="938520"/>
                <a:ext cx="393840" cy="52200"/>
                <a:chOff x="0" y="938520"/>
                <a:chExt cx="393840" cy="52200"/>
              </a:xfrm>
            </p:grpSpPr>
            <p:pic>
              <p:nvPicPr>
                <p:cNvPr id="607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38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8" name=""/>
                <p:cNvSpPr/>
                <p:nvPr/>
              </p:nvSpPr>
              <p:spPr>
                <a:xfrm rot="16200000">
                  <a:off x="192960" y="801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圆角矩形 17"/>
              <p:cNvGrpSpPr/>
              <p:nvPr/>
            </p:nvGrpSpPr>
            <p:grpSpPr>
              <a:xfrm>
                <a:off x="0" y="855000"/>
                <a:ext cx="393840" cy="52200"/>
                <a:chOff x="0" y="855000"/>
                <a:chExt cx="393840" cy="52200"/>
              </a:xfrm>
            </p:grpSpPr>
            <p:pic>
              <p:nvPicPr>
                <p:cNvPr id="610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55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1" name=""/>
                <p:cNvSpPr/>
                <p:nvPr/>
              </p:nvSpPr>
              <p:spPr>
                <a:xfrm rot="16200000">
                  <a:off x="192960" y="72036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圆角矩形 18"/>
              <p:cNvGrpSpPr/>
              <p:nvPr/>
            </p:nvGrpSpPr>
            <p:grpSpPr>
              <a:xfrm>
                <a:off x="0" y="830520"/>
                <a:ext cx="393840" cy="52200"/>
                <a:chOff x="0" y="830520"/>
                <a:chExt cx="393840" cy="52200"/>
              </a:xfrm>
            </p:grpSpPr>
            <p:pic>
              <p:nvPicPr>
                <p:cNvPr id="613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30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4" name=""/>
                <p:cNvSpPr/>
                <p:nvPr/>
              </p:nvSpPr>
              <p:spPr>
                <a:xfrm rot="16200000">
                  <a:off x="192960" y="693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2031840" y="4232160"/>
            <a:ext cx="6178680" cy="91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4543920" y="4367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5100480" y="4367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5688000" y="43671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7188120" y="4367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 flipH="1">
            <a:off x="4653720" y="1751040"/>
            <a:ext cx="7164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"/>
          <p:cNvSpPr/>
          <p:nvPr/>
        </p:nvSpPr>
        <p:spPr>
          <a:xfrm flipH="1">
            <a:off x="5327640" y="1751040"/>
            <a:ext cx="712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9"/>
          <p:cNvSpPr/>
          <p:nvPr/>
        </p:nvSpPr>
        <p:spPr>
          <a:xfrm flipH="1">
            <a:off x="6047640" y="1751040"/>
            <a:ext cx="730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0"/>
          <p:cNvSpPr/>
          <p:nvPr/>
        </p:nvSpPr>
        <p:spPr>
          <a:xfrm flipH="1">
            <a:off x="7460640" y="1751040"/>
            <a:ext cx="730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1"/>
          <p:cNvSpPr/>
          <p:nvPr/>
        </p:nvSpPr>
        <p:spPr>
          <a:xfrm flipH="1">
            <a:off x="6839640" y="1751040"/>
            <a:ext cx="730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08720" y="43671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4425840" y="327960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4454640" y="385596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5"/>
          <p:cNvSpPr/>
          <p:nvPr/>
        </p:nvSpPr>
        <p:spPr>
          <a:xfrm>
            <a:off x="4437000" y="366552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4451400" y="405144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7"/>
          <p:cNvSpPr/>
          <p:nvPr/>
        </p:nvSpPr>
        <p:spPr>
          <a:xfrm>
            <a:off x="4432320" y="347652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3813120" y="4267080"/>
            <a:ext cx="3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3219480" y="426564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0"/>
          <p:cNvSpPr/>
          <p:nvPr/>
        </p:nvSpPr>
        <p:spPr>
          <a:xfrm>
            <a:off x="2540160" y="426888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1"/>
          <p:cNvSpPr/>
          <p:nvPr/>
        </p:nvSpPr>
        <p:spPr>
          <a:xfrm flipH="1">
            <a:off x="4033080" y="1751040"/>
            <a:ext cx="73080" cy="2479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2"/>
          <p:cNvSpPr/>
          <p:nvPr/>
        </p:nvSpPr>
        <p:spPr>
          <a:xfrm flipH="1">
            <a:off x="3425040" y="1762200"/>
            <a:ext cx="73080" cy="248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3"/>
          <p:cNvSpPr/>
          <p:nvPr/>
        </p:nvSpPr>
        <p:spPr>
          <a:xfrm flipH="1">
            <a:off x="2786760" y="1774800"/>
            <a:ext cx="73080" cy="2479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24"/>
          <p:cNvSpPr/>
          <p:nvPr/>
        </p:nvSpPr>
        <p:spPr>
          <a:xfrm>
            <a:off x="4433760" y="3073320"/>
            <a:ext cx="503280" cy="18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5"/>
          <p:cNvSpPr/>
          <p:nvPr/>
        </p:nvSpPr>
        <p:spPr>
          <a:xfrm>
            <a:off x="1638720" y="5218200"/>
            <a:ext cx="39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写作：（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6"/>
          <p:cNvSpPr/>
          <p:nvPr/>
        </p:nvSpPr>
        <p:spPr>
          <a:xfrm>
            <a:off x="174600" y="666720"/>
            <a:ext cx="8813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先说出下面这个数是多少个万，再写一写、读一读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7"/>
          <p:cNvSpPr/>
          <p:nvPr/>
        </p:nvSpPr>
        <p:spPr>
          <a:xfrm>
            <a:off x="1595880" y="5805360"/>
            <a:ext cx="39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作：（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28"/>
          <p:cNvSpPr/>
          <p:nvPr/>
        </p:nvSpPr>
        <p:spPr>
          <a:xfrm>
            <a:off x="3213000" y="4059360"/>
            <a:ext cx="503280" cy="185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29"/>
          <p:cNvSpPr/>
          <p:nvPr/>
        </p:nvSpPr>
        <p:spPr>
          <a:xfrm>
            <a:off x="3198960" y="3854520"/>
            <a:ext cx="502920" cy="185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30"/>
          <p:cNvSpPr/>
          <p:nvPr/>
        </p:nvSpPr>
        <p:spPr>
          <a:xfrm>
            <a:off x="3197160" y="3662280"/>
            <a:ext cx="503280" cy="185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31"/>
          <p:cNvSpPr/>
          <p:nvPr/>
        </p:nvSpPr>
        <p:spPr>
          <a:xfrm>
            <a:off x="4417920" y="2838600"/>
            <a:ext cx="503280" cy="199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3"/>
          <p:cNvSpPr/>
          <p:nvPr/>
        </p:nvSpPr>
        <p:spPr>
          <a:xfrm>
            <a:off x="2932200" y="514656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07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4"/>
          <p:cNvSpPr/>
          <p:nvPr/>
        </p:nvSpPr>
        <p:spPr>
          <a:xfrm>
            <a:off x="3243960" y="5848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三百零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324000" y="11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出由下面各数组成的数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四百万、八十万、五万和三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六千万、九万和五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八千万和四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692360" y="240984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485  3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1763640" y="485784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8000    00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1692360" y="3562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6009 0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"/>
          <p:cNvPicPr/>
          <p:nvPr/>
        </p:nvPicPr>
        <p:blipFill>
          <a:blip r:embed="rId1"/>
          <a:stretch/>
        </p:blipFill>
        <p:spPr>
          <a:xfrm>
            <a:off x="466560" y="1052640"/>
            <a:ext cx="8066160" cy="51847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5"/>
          <p:cNvSpPr/>
          <p:nvPr/>
        </p:nvSpPr>
        <p:spPr>
          <a:xfrm>
            <a:off x="260280" y="2030400"/>
            <a:ext cx="74818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天安门广场是世界上最大的城市广场，面积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00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1853640" y="836640"/>
            <a:ext cx="33505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能读出下面横线上的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>
            <a:off x="2612880" y="3106800"/>
            <a:ext cx="169884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2670120" y="3265560"/>
            <a:ext cx="15526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四十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82160" cy="518472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5"/>
          <p:cNvSpPr/>
          <p:nvPr/>
        </p:nvSpPr>
        <p:spPr>
          <a:xfrm>
            <a:off x="2291400" y="5445000"/>
            <a:ext cx="48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北京著名园林颐和园占地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90000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5435640" y="6021360"/>
            <a:ext cx="18003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398200" y="4292640"/>
            <a:ext cx="14000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二百九十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114560" y="1860480"/>
            <a:ext cx="5759280" cy="295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1187280" y="5373720"/>
            <a:ext cx="1197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茶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627280" y="5373720"/>
            <a:ext cx="37735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一百六十二万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2"/>
          <p:cNvGrpSpPr/>
          <p:nvPr/>
        </p:nvGrpSpPr>
        <p:grpSpPr>
          <a:xfrm>
            <a:off x="0" y="712800"/>
            <a:ext cx="3244680" cy="525600"/>
            <a:chOff x="0" y="712800"/>
            <a:chExt cx="3244680" cy="525600"/>
          </a:xfrm>
        </p:grpSpPr>
        <p:grpSp>
          <p:nvGrpSpPr>
            <p:cNvPr id="78" name="圆角矩形 4"/>
            <p:cNvGrpSpPr/>
            <p:nvPr/>
          </p:nvGrpSpPr>
          <p:grpSpPr>
            <a:xfrm>
              <a:off x="142200" y="712800"/>
              <a:ext cx="3102480" cy="525600"/>
              <a:chOff x="142200" y="712800"/>
              <a:chExt cx="3102480" cy="525600"/>
            </a:xfrm>
          </p:grpSpPr>
          <p:pic>
            <p:nvPicPr>
              <p:cNvPr id="79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200" y="712800"/>
                <a:ext cx="31024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189720" y="787320"/>
                <a:ext cx="295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情境导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组合 4"/>
            <p:cNvGrpSpPr/>
            <p:nvPr/>
          </p:nvGrpSpPr>
          <p:grpSpPr>
            <a:xfrm>
              <a:off x="0" y="828720"/>
              <a:ext cx="428760" cy="187560"/>
              <a:chOff x="0" y="828720"/>
              <a:chExt cx="428760" cy="187560"/>
            </a:xfrm>
          </p:grpSpPr>
          <p:sp>
            <p:nvSpPr>
              <p:cNvPr id="82" name="椭圆 7"/>
              <p:cNvSpPr/>
              <p:nvPr/>
            </p:nvSpPr>
            <p:spPr>
              <a:xfrm rot="16200000">
                <a:off x="315000" y="90252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椭圆 8"/>
              <p:cNvGrpSpPr/>
              <p:nvPr/>
            </p:nvGrpSpPr>
            <p:grpSpPr>
              <a:xfrm>
                <a:off x="295560" y="942120"/>
                <a:ext cx="120240" cy="65880"/>
                <a:chOff x="295560" y="942120"/>
                <a:chExt cx="120240" cy="65880"/>
              </a:xfrm>
            </p:grpSpPr>
            <p:pic>
              <p:nvPicPr>
                <p:cNvPr id="84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9421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/>
                <p:nvPr/>
              </p:nvSpPr>
              <p:spPr>
                <a:xfrm rot="16200000">
                  <a:off x="331920" y="93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椭圆 9"/>
              <p:cNvSpPr/>
              <p:nvPr/>
            </p:nvSpPr>
            <p:spPr>
              <a:xfrm rot="16200000">
                <a:off x="315000" y="7974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椭圆 10"/>
              <p:cNvGrpSpPr/>
              <p:nvPr/>
            </p:nvGrpSpPr>
            <p:grpSpPr>
              <a:xfrm>
                <a:off x="295560" y="837720"/>
                <a:ext cx="120240" cy="65880"/>
                <a:chOff x="295560" y="837720"/>
                <a:chExt cx="120240" cy="65880"/>
              </a:xfrm>
            </p:grpSpPr>
            <p:pic>
              <p:nvPicPr>
                <p:cNvPr id="88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560" y="8377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6200000">
                  <a:off x="331920" y="82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圆角矩形 12"/>
              <p:cNvGrpSpPr/>
              <p:nvPr/>
            </p:nvGrpSpPr>
            <p:grpSpPr>
              <a:xfrm>
                <a:off x="0" y="963000"/>
                <a:ext cx="393840" cy="52200"/>
                <a:chOff x="0" y="963000"/>
                <a:chExt cx="393840" cy="52200"/>
              </a:xfrm>
            </p:grpSpPr>
            <p:pic>
              <p:nvPicPr>
                <p:cNvPr id="91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63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 rot="16200000">
                  <a:off x="192960" y="8280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圆角矩形 14"/>
              <p:cNvGrpSpPr/>
              <p:nvPr/>
            </p:nvGrpSpPr>
            <p:grpSpPr>
              <a:xfrm>
                <a:off x="0" y="938520"/>
                <a:ext cx="393840" cy="52200"/>
                <a:chOff x="0" y="938520"/>
                <a:chExt cx="393840" cy="52200"/>
              </a:xfrm>
            </p:grpSpPr>
            <p:pic>
              <p:nvPicPr>
                <p:cNvPr id="94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938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6200000">
                  <a:off x="192960" y="801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圆角矩形 17"/>
              <p:cNvGrpSpPr/>
              <p:nvPr/>
            </p:nvGrpSpPr>
            <p:grpSpPr>
              <a:xfrm>
                <a:off x="0" y="855000"/>
                <a:ext cx="393840" cy="52200"/>
                <a:chOff x="0" y="855000"/>
                <a:chExt cx="393840" cy="52200"/>
              </a:xfrm>
            </p:grpSpPr>
            <p:pic>
              <p:nvPicPr>
                <p:cNvPr id="97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55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6200000">
                  <a:off x="192960" y="72036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圆角矩形 18"/>
              <p:cNvGrpSpPr/>
              <p:nvPr/>
            </p:nvGrpSpPr>
            <p:grpSpPr>
              <a:xfrm>
                <a:off x="0" y="830520"/>
                <a:ext cx="393840" cy="52200"/>
                <a:chOff x="0" y="830520"/>
                <a:chExt cx="393840" cy="52200"/>
              </a:xfrm>
            </p:grpSpPr>
            <p:pic>
              <p:nvPicPr>
                <p:cNvPr id="100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830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 rot="16200000">
                  <a:off x="192960" y="693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24720" cy="50403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蝴蝶１"/>
          <p:cNvPicPr/>
          <p:nvPr/>
        </p:nvPicPr>
        <p:blipFill>
          <a:blip r:embed="rId2"/>
          <a:stretch/>
        </p:blipFill>
        <p:spPr>
          <a:xfrm>
            <a:off x="4584600" y="2340000"/>
            <a:ext cx="1946520" cy="15098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"/>
          <p:cNvPicPr/>
          <p:nvPr/>
        </p:nvPicPr>
        <p:blipFill>
          <a:blip r:embed="rId3"/>
          <a:stretch/>
        </p:blipFill>
        <p:spPr>
          <a:xfrm>
            <a:off x="1839960" y="2295360"/>
            <a:ext cx="949320" cy="9334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8" descr="u=48536580,688939461&amp;gp=24"/>
          <p:cNvPicPr/>
          <p:nvPr/>
        </p:nvPicPr>
        <p:blipFill>
          <a:blip r:embed="rId4"/>
          <a:stretch/>
        </p:blipFill>
        <p:spPr>
          <a:xfrm>
            <a:off x="6265800" y="2127240"/>
            <a:ext cx="1778040" cy="13842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9"/>
          <p:cNvSpPr/>
          <p:nvPr/>
        </p:nvSpPr>
        <p:spPr>
          <a:xfrm>
            <a:off x="4542840" y="5589720"/>
            <a:ext cx="37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全世界可确认的昆虫大约有七十万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2466360" y="757080"/>
            <a:ext cx="37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写出下面横线上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443640" y="6165720"/>
            <a:ext cx="1262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5707800" y="4383000"/>
            <a:ext cx="15796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7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3"/>
          <p:cNvSpPr/>
          <p:nvPr/>
        </p:nvSpPr>
        <p:spPr>
          <a:xfrm>
            <a:off x="6240600" y="4137120"/>
            <a:ext cx="1440" cy="1218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3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"/>
          <p:cNvPicPr/>
          <p:nvPr/>
        </p:nvPicPr>
        <p:blipFill>
          <a:blip r:embed="rId1"/>
          <a:stretch/>
        </p:blipFill>
        <p:spPr>
          <a:xfrm>
            <a:off x="4068720" y="1442880"/>
            <a:ext cx="4842000" cy="502632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5"/>
          <p:cNvSpPr/>
          <p:nvPr/>
        </p:nvSpPr>
        <p:spPr>
          <a:xfrm>
            <a:off x="306360" y="2320920"/>
            <a:ext cx="36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大约六千五百万年前，恐龙突然灭绝了，原因到现在还是个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2451960" y="728640"/>
            <a:ext cx="37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写出下面横线上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 flipV="1">
            <a:off x="1351080" y="2886120"/>
            <a:ext cx="2206440" cy="316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1162080" y="1641600"/>
            <a:ext cx="24955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65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0"/>
          <p:cNvSpPr/>
          <p:nvPr/>
        </p:nvSpPr>
        <p:spPr>
          <a:xfrm flipH="1">
            <a:off x="2425680" y="1351080"/>
            <a:ext cx="14400" cy="1060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0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3"/>
          <p:cNvSpPr/>
          <p:nvPr/>
        </p:nvSpPr>
        <p:spPr>
          <a:xfrm>
            <a:off x="395280" y="1700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写数时从高位写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哪一个数位上有几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就在那一个数位上写上几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间或末尾的数位上一个计数单位也没有就在对应的数位上写上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2"/>
          <p:cNvGrpSpPr/>
          <p:nvPr/>
        </p:nvGrpSpPr>
        <p:grpSpPr>
          <a:xfrm>
            <a:off x="0" y="712800"/>
            <a:ext cx="3244680" cy="525600"/>
            <a:chOff x="0" y="712800"/>
            <a:chExt cx="3244680" cy="525600"/>
          </a:xfrm>
        </p:grpSpPr>
        <p:grpSp>
          <p:nvGrpSpPr>
            <p:cNvPr id="677" name="圆角矩形 4"/>
            <p:cNvGrpSpPr/>
            <p:nvPr/>
          </p:nvGrpSpPr>
          <p:grpSpPr>
            <a:xfrm>
              <a:off x="142200" y="712800"/>
              <a:ext cx="3102480" cy="525600"/>
              <a:chOff x="142200" y="712800"/>
              <a:chExt cx="3102480" cy="525600"/>
            </a:xfrm>
          </p:grpSpPr>
          <p:pic>
            <p:nvPicPr>
              <p:cNvPr id="678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712800"/>
                <a:ext cx="31024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189720" y="787320"/>
                <a:ext cx="295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课堂小结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组合 4"/>
            <p:cNvGrpSpPr/>
            <p:nvPr/>
          </p:nvGrpSpPr>
          <p:grpSpPr>
            <a:xfrm>
              <a:off x="0" y="828720"/>
              <a:ext cx="428760" cy="187560"/>
              <a:chOff x="0" y="828720"/>
              <a:chExt cx="428760" cy="187560"/>
            </a:xfrm>
          </p:grpSpPr>
          <p:sp>
            <p:nvSpPr>
              <p:cNvPr id="681" name="椭圆 7"/>
              <p:cNvSpPr/>
              <p:nvPr/>
            </p:nvSpPr>
            <p:spPr>
              <a:xfrm rot="16200000">
                <a:off x="315000" y="90252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椭圆 8"/>
              <p:cNvGrpSpPr/>
              <p:nvPr/>
            </p:nvGrpSpPr>
            <p:grpSpPr>
              <a:xfrm>
                <a:off x="295560" y="942120"/>
                <a:ext cx="120240" cy="65880"/>
                <a:chOff x="295560" y="942120"/>
                <a:chExt cx="120240" cy="65880"/>
              </a:xfrm>
            </p:grpSpPr>
            <p:pic>
              <p:nvPicPr>
                <p:cNvPr id="683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9421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4" name=""/>
                <p:cNvSpPr/>
                <p:nvPr/>
              </p:nvSpPr>
              <p:spPr>
                <a:xfrm rot="16200000">
                  <a:off x="331920" y="93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椭圆 9"/>
              <p:cNvSpPr/>
              <p:nvPr/>
            </p:nvSpPr>
            <p:spPr>
              <a:xfrm rot="16200000">
                <a:off x="315000" y="7974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椭圆 10"/>
              <p:cNvGrpSpPr/>
              <p:nvPr/>
            </p:nvGrpSpPr>
            <p:grpSpPr>
              <a:xfrm>
                <a:off x="295560" y="837720"/>
                <a:ext cx="120240" cy="65880"/>
                <a:chOff x="295560" y="837720"/>
                <a:chExt cx="120240" cy="65880"/>
              </a:xfrm>
            </p:grpSpPr>
            <p:pic>
              <p:nvPicPr>
                <p:cNvPr id="687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377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"/>
                <p:cNvSpPr/>
                <p:nvPr/>
              </p:nvSpPr>
              <p:spPr>
                <a:xfrm rot="16200000">
                  <a:off x="331920" y="82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圆角矩形 12"/>
              <p:cNvGrpSpPr/>
              <p:nvPr/>
            </p:nvGrpSpPr>
            <p:grpSpPr>
              <a:xfrm>
                <a:off x="0" y="963000"/>
                <a:ext cx="393840" cy="52200"/>
                <a:chOff x="0" y="963000"/>
                <a:chExt cx="393840" cy="52200"/>
              </a:xfrm>
            </p:grpSpPr>
            <p:pic>
              <p:nvPicPr>
                <p:cNvPr id="690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963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1" name=""/>
                <p:cNvSpPr/>
                <p:nvPr/>
              </p:nvSpPr>
              <p:spPr>
                <a:xfrm rot="16200000">
                  <a:off x="192960" y="8280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圆角矩形 14"/>
              <p:cNvGrpSpPr/>
              <p:nvPr/>
            </p:nvGrpSpPr>
            <p:grpSpPr>
              <a:xfrm>
                <a:off x="0" y="938520"/>
                <a:ext cx="393840" cy="52200"/>
                <a:chOff x="0" y="938520"/>
                <a:chExt cx="393840" cy="52200"/>
              </a:xfrm>
            </p:grpSpPr>
            <p:pic>
              <p:nvPicPr>
                <p:cNvPr id="693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38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 rot="16200000">
                  <a:off x="192960" y="801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圆角矩形 17"/>
              <p:cNvGrpSpPr/>
              <p:nvPr/>
            </p:nvGrpSpPr>
            <p:grpSpPr>
              <a:xfrm>
                <a:off x="0" y="855000"/>
                <a:ext cx="393840" cy="52200"/>
                <a:chOff x="0" y="855000"/>
                <a:chExt cx="393840" cy="52200"/>
              </a:xfrm>
            </p:grpSpPr>
            <p:pic>
              <p:nvPicPr>
                <p:cNvPr id="696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55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7" name=""/>
                <p:cNvSpPr/>
                <p:nvPr/>
              </p:nvSpPr>
              <p:spPr>
                <a:xfrm rot="16200000">
                  <a:off x="192960" y="72036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圆角矩形 18"/>
              <p:cNvGrpSpPr/>
              <p:nvPr/>
            </p:nvGrpSpPr>
            <p:grpSpPr>
              <a:xfrm>
                <a:off x="0" y="830520"/>
                <a:ext cx="393840" cy="52200"/>
                <a:chOff x="0" y="830520"/>
                <a:chExt cx="393840" cy="52200"/>
              </a:xfrm>
            </p:grpSpPr>
            <p:pic>
              <p:nvPicPr>
                <p:cNvPr id="699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30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0" name=""/>
                <p:cNvSpPr/>
                <p:nvPr/>
              </p:nvSpPr>
              <p:spPr>
                <a:xfrm rot="16200000">
                  <a:off x="192960" y="693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934920" y="220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从高位起，一级一级地往下读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250920" y="321300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读万级的数时，要按照个级的数的读法来读，再在后面加上 “万”字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324000" y="4797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每级末尾的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不读．其它数位有一个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或连续有几个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只读一个“零”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2987640" y="1123920"/>
            <a:ext cx="3591000" cy="64260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位数的读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nodeType="clickEffect" fill="hold">
                      <p:stCondLst>
                        <p:cond delay="0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1565280" y="5229360"/>
            <a:ext cx="637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芝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807720" y="5300640"/>
            <a:ext cx="5616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六十一万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05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1250280" y="5157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油菜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948200" y="522936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一千三百四十三万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00000" y="1123920"/>
            <a:ext cx="705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611280" y="83808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从这三个情境图中你了解了哪些信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有哪些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六十一万、一百六十二万和一千三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四十三万各是多少？怎样写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1843200" y="5176800"/>
            <a:ext cx="6178320" cy="1068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354200" y="5334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911840" y="533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5499000" y="53341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999120" y="53341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 flipH="1">
            <a:off x="4465800" y="2297160"/>
            <a:ext cx="712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 flipH="1">
            <a:off x="5137920" y="2297160"/>
            <a:ext cx="7164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 flipH="1">
            <a:off x="585864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 flipH="1">
            <a:off x="727164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 flipH="1">
            <a:off x="66510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6219720" y="53341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7"/>
          <p:cNvSpPr/>
          <p:nvPr/>
        </p:nvSpPr>
        <p:spPr>
          <a:xfrm>
            <a:off x="4294080" y="4784760"/>
            <a:ext cx="50328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289400" y="457056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4289400" y="43513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4286160" y="500076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624120" y="5218200"/>
            <a:ext cx="4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3030480" y="521640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351160" y="521964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 flipH="1">
            <a:off x="3844080" y="227952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 flipH="1">
            <a:off x="3236040" y="23097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 flipH="1">
            <a:off x="2598120" y="2324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2"/>
          <p:cNvSpPr/>
          <p:nvPr/>
        </p:nvSpPr>
        <p:spPr>
          <a:xfrm>
            <a:off x="4287960" y="413244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4289400" y="39020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4"/>
          <p:cNvSpPr/>
          <p:nvPr/>
        </p:nvSpPr>
        <p:spPr>
          <a:xfrm>
            <a:off x="4303800" y="36846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305240" y="345276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6"/>
          <p:cNvSpPr/>
          <p:nvPr/>
        </p:nvSpPr>
        <p:spPr>
          <a:xfrm>
            <a:off x="4303800" y="320688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7"/>
          <p:cNvSpPr/>
          <p:nvPr/>
        </p:nvSpPr>
        <p:spPr>
          <a:xfrm>
            <a:off x="4317840" y="295920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3656160" y="4930920"/>
            <a:ext cx="502920" cy="215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8"/>
          <p:cNvSpPr/>
          <p:nvPr/>
        </p:nvSpPr>
        <p:spPr>
          <a:xfrm>
            <a:off x="4179960" y="2641680"/>
            <a:ext cx="711000" cy="2641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9"/>
          <p:cNvSpPr/>
          <p:nvPr/>
        </p:nvSpPr>
        <p:spPr>
          <a:xfrm>
            <a:off x="4497480" y="1773360"/>
            <a:ext cx="108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个一万是十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250920" y="1339920"/>
            <a:ext cx="88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我们知道</a:t>
            </a:r>
            <a:r>
              <a:rPr b="0" lang="en-US" sz="30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个一千是一万，再接着数下去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8275"/>
          <p:cNvSpPr/>
          <p:nvPr/>
        </p:nvSpPr>
        <p:spPr>
          <a:xfrm>
            <a:off x="4295880" y="3375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8276"/>
          <p:cNvSpPr/>
          <p:nvPr/>
        </p:nvSpPr>
        <p:spPr>
          <a:xfrm>
            <a:off x="4511880" y="3591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2"/>
          <p:cNvGrpSpPr/>
          <p:nvPr/>
        </p:nvGrpSpPr>
        <p:grpSpPr>
          <a:xfrm>
            <a:off x="0" y="712800"/>
            <a:ext cx="3244680" cy="525600"/>
            <a:chOff x="0" y="712800"/>
            <a:chExt cx="3244680" cy="525600"/>
          </a:xfrm>
        </p:grpSpPr>
        <p:grpSp>
          <p:nvGrpSpPr>
            <p:cNvPr id="143" name="圆角矩形 4"/>
            <p:cNvGrpSpPr/>
            <p:nvPr/>
          </p:nvGrpSpPr>
          <p:grpSpPr>
            <a:xfrm>
              <a:off x="142200" y="712800"/>
              <a:ext cx="3102480" cy="525600"/>
              <a:chOff x="142200" y="712800"/>
              <a:chExt cx="3102480" cy="525600"/>
            </a:xfrm>
          </p:grpSpPr>
          <p:pic>
            <p:nvPicPr>
              <p:cNvPr id="144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712800"/>
                <a:ext cx="31024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89720" y="787320"/>
                <a:ext cx="295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组合 4"/>
            <p:cNvGrpSpPr/>
            <p:nvPr/>
          </p:nvGrpSpPr>
          <p:grpSpPr>
            <a:xfrm>
              <a:off x="0" y="828720"/>
              <a:ext cx="428760" cy="187560"/>
              <a:chOff x="0" y="828720"/>
              <a:chExt cx="428760" cy="187560"/>
            </a:xfrm>
          </p:grpSpPr>
          <p:sp>
            <p:nvSpPr>
              <p:cNvPr id="147" name="椭圆 7"/>
              <p:cNvSpPr/>
              <p:nvPr/>
            </p:nvSpPr>
            <p:spPr>
              <a:xfrm rot="16200000">
                <a:off x="315000" y="90252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椭圆 8"/>
              <p:cNvGrpSpPr/>
              <p:nvPr/>
            </p:nvGrpSpPr>
            <p:grpSpPr>
              <a:xfrm>
                <a:off x="295560" y="942120"/>
                <a:ext cx="120240" cy="65880"/>
                <a:chOff x="295560" y="942120"/>
                <a:chExt cx="120240" cy="65880"/>
              </a:xfrm>
            </p:grpSpPr>
            <p:pic>
              <p:nvPicPr>
                <p:cNvPr id="149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9421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"/>
                <p:cNvSpPr/>
                <p:nvPr/>
              </p:nvSpPr>
              <p:spPr>
                <a:xfrm rot="16200000">
                  <a:off x="331920" y="93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椭圆 9"/>
              <p:cNvSpPr/>
              <p:nvPr/>
            </p:nvSpPr>
            <p:spPr>
              <a:xfrm rot="16200000">
                <a:off x="315000" y="7974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椭圆 10"/>
              <p:cNvGrpSpPr/>
              <p:nvPr/>
            </p:nvGrpSpPr>
            <p:grpSpPr>
              <a:xfrm>
                <a:off x="295560" y="837720"/>
                <a:ext cx="120240" cy="65880"/>
                <a:chOff x="295560" y="837720"/>
                <a:chExt cx="120240" cy="65880"/>
              </a:xfrm>
            </p:grpSpPr>
            <p:pic>
              <p:nvPicPr>
                <p:cNvPr id="153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3772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 rot="16200000">
                  <a:off x="331920" y="82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圆角矩形 12"/>
              <p:cNvGrpSpPr/>
              <p:nvPr/>
            </p:nvGrpSpPr>
            <p:grpSpPr>
              <a:xfrm>
                <a:off x="0" y="963000"/>
                <a:ext cx="393840" cy="52200"/>
                <a:chOff x="0" y="963000"/>
                <a:chExt cx="393840" cy="52200"/>
              </a:xfrm>
            </p:grpSpPr>
            <p:pic>
              <p:nvPicPr>
                <p:cNvPr id="156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963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 rot="16200000">
                  <a:off x="192960" y="82800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圆角矩形 14"/>
              <p:cNvGrpSpPr/>
              <p:nvPr/>
            </p:nvGrpSpPr>
            <p:grpSpPr>
              <a:xfrm>
                <a:off x="0" y="938520"/>
                <a:ext cx="393840" cy="52200"/>
                <a:chOff x="0" y="938520"/>
                <a:chExt cx="393840" cy="52200"/>
              </a:xfrm>
            </p:grpSpPr>
            <p:pic>
              <p:nvPicPr>
                <p:cNvPr id="159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938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 rot="16200000">
                  <a:off x="192960" y="801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圆角矩形 17"/>
              <p:cNvGrpSpPr/>
              <p:nvPr/>
            </p:nvGrpSpPr>
            <p:grpSpPr>
              <a:xfrm>
                <a:off x="0" y="855000"/>
                <a:ext cx="393840" cy="52200"/>
                <a:chOff x="0" y="855000"/>
                <a:chExt cx="393840" cy="52200"/>
              </a:xfrm>
            </p:grpSpPr>
            <p:pic>
              <p:nvPicPr>
                <p:cNvPr id="162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5500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 rot="16200000">
                  <a:off x="192960" y="72036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圆角矩形 18"/>
              <p:cNvGrpSpPr/>
              <p:nvPr/>
            </p:nvGrpSpPr>
            <p:grpSpPr>
              <a:xfrm>
                <a:off x="0" y="830520"/>
                <a:ext cx="393840" cy="52200"/>
                <a:chOff x="0" y="830520"/>
                <a:chExt cx="393840" cy="52200"/>
              </a:xfrm>
            </p:grpSpPr>
            <p:pic>
              <p:nvPicPr>
                <p:cNvPr id="165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30520"/>
                  <a:ext cx="3938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6200000">
                  <a:off x="192960" y="693720"/>
                  <a:ext cx="684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 flipH="1">
            <a:off x="3844080" y="227952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843200" y="5176800"/>
            <a:ext cx="6178320" cy="1068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354200" y="5334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911840" y="533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499000" y="53341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999120" y="53341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 flipH="1">
            <a:off x="4465800" y="2297160"/>
            <a:ext cx="712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 flipH="1">
            <a:off x="5137920" y="2297160"/>
            <a:ext cx="7164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 flipH="1">
            <a:off x="585864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 flipH="1">
            <a:off x="727164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 flipH="1">
            <a:off x="66510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219720" y="53341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3611520" y="4770360"/>
            <a:ext cx="50328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3606840" y="455616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3606840" y="43369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8"/>
          <p:cNvSpPr/>
          <p:nvPr/>
        </p:nvSpPr>
        <p:spPr>
          <a:xfrm>
            <a:off x="3603600" y="498636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624120" y="5218200"/>
            <a:ext cx="4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3030480" y="521640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351160" y="521964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 flipH="1">
            <a:off x="3236040" y="23097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4"/>
          <p:cNvSpPr/>
          <p:nvPr/>
        </p:nvSpPr>
        <p:spPr>
          <a:xfrm flipH="1">
            <a:off x="2598120" y="2324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5"/>
          <p:cNvSpPr/>
          <p:nvPr/>
        </p:nvSpPr>
        <p:spPr>
          <a:xfrm>
            <a:off x="3605040" y="41180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3606840" y="38876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7"/>
          <p:cNvSpPr/>
          <p:nvPr/>
        </p:nvSpPr>
        <p:spPr>
          <a:xfrm>
            <a:off x="3621240" y="3670200"/>
            <a:ext cx="50292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8"/>
          <p:cNvSpPr/>
          <p:nvPr/>
        </p:nvSpPr>
        <p:spPr>
          <a:xfrm>
            <a:off x="3622680" y="343836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9"/>
          <p:cNvSpPr/>
          <p:nvPr/>
        </p:nvSpPr>
        <p:spPr>
          <a:xfrm>
            <a:off x="3621240" y="3192480"/>
            <a:ext cx="50292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0"/>
          <p:cNvSpPr/>
          <p:nvPr/>
        </p:nvSpPr>
        <p:spPr>
          <a:xfrm>
            <a:off x="3635280" y="29448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3016080" y="4944960"/>
            <a:ext cx="503280" cy="21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3497400" y="2627280"/>
            <a:ext cx="711000" cy="2641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3954240" y="141912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个十万是一百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2"/>
          <p:cNvSpPr/>
          <p:nvPr/>
        </p:nvSpPr>
        <p:spPr>
          <a:xfrm flipH="1">
            <a:off x="3236040" y="23097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843200" y="5176800"/>
            <a:ext cx="6178320" cy="1068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354200" y="5334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911840" y="533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499000" y="53341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6999120" y="53341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 flipH="1">
            <a:off x="4465800" y="2297160"/>
            <a:ext cx="712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 flipH="1">
            <a:off x="5137920" y="2297160"/>
            <a:ext cx="7164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 flipH="1">
            <a:off x="585864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 flipH="1">
            <a:off x="727164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 flipH="1">
            <a:off x="66510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19720" y="53341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4"/>
          <p:cNvSpPr/>
          <p:nvPr/>
        </p:nvSpPr>
        <p:spPr>
          <a:xfrm>
            <a:off x="3032280" y="4710240"/>
            <a:ext cx="50292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3027240" y="449568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3027240" y="42768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7"/>
          <p:cNvSpPr/>
          <p:nvPr/>
        </p:nvSpPr>
        <p:spPr>
          <a:xfrm>
            <a:off x="3024360" y="4925880"/>
            <a:ext cx="50292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624120" y="5218200"/>
            <a:ext cx="4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3030480" y="521640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2351160" y="521964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 flipH="1">
            <a:off x="3844080" y="227952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 flipH="1">
            <a:off x="2598120" y="2324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3025800" y="405756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3027240" y="38275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6"/>
          <p:cNvSpPr/>
          <p:nvPr/>
        </p:nvSpPr>
        <p:spPr>
          <a:xfrm>
            <a:off x="3041640" y="361008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3043080" y="33782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8"/>
          <p:cNvSpPr/>
          <p:nvPr/>
        </p:nvSpPr>
        <p:spPr>
          <a:xfrm>
            <a:off x="3041640" y="31320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3056040" y="28843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2394000" y="4973760"/>
            <a:ext cx="503280" cy="215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2917800" y="2567160"/>
            <a:ext cx="711360" cy="264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2"/>
          <p:cNvSpPr/>
          <p:nvPr/>
        </p:nvSpPr>
        <p:spPr>
          <a:xfrm>
            <a:off x="3264480" y="10414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个一百万是一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30:1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