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gif" ContentType="image/gi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B5BB-C49B-4907-94A1-D51170A6F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3BA0-375D-4F65-A4F6-0FDF9E3D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894F-3622-4D56-A21B-784FF9745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2225-2AFA-46EA-BDCA-DBF92728E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8EF5-01EA-44BB-B638-A83E2771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F0D1-DBE2-43C8-B056-4956D6D2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F140-9730-4228-A9D8-664DB172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C210-FD6A-4813-AA52-D5212398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9E14-81AA-41BC-A31D-4DDA890D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305A-40BD-48A5-88CD-09E7B874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C1F2-6665-428E-A7FB-7591CC14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53B9-7337-427D-8D24-B4DDA7B2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BC73-5699-4245-9C1C-64CE62A5CA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5"/>
          <p:cNvSpPr/>
          <p:nvPr/>
        </p:nvSpPr>
        <p:spPr>
          <a:xfrm>
            <a:off x="2387520" y="334008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1209600" y="33336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多位数大小比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1600200"/>
            <a:ext cx="3162240" cy="99072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8"/>
          <p:cNvSpPr/>
          <p:nvPr/>
        </p:nvSpPr>
        <p:spPr>
          <a:xfrm>
            <a:off x="2957400" y="1600200"/>
            <a:ext cx="400320" cy="74304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1752480"/>
            <a:ext cx="8404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二 单元           </a:t>
            </a:r>
            <a:r>
              <a:rPr b="1" sz="5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认识多位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>
            <a:off x="3162240" y="2562120"/>
            <a:ext cx="5908680" cy="972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3162240" y="1962000"/>
            <a:ext cx="195480" cy="60984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对象 32" descr=""/>
          <p:cNvPicPr/>
          <p:nvPr/>
        </p:nvPicPr>
        <p:blipFill>
          <a:blip r:embed="rId1"/>
          <a:stretch/>
        </p:blipFill>
        <p:spPr>
          <a:xfrm>
            <a:off x="4968720" y="3094200"/>
            <a:ext cx="114480" cy="215640"/>
          </a:xfrm>
          <a:prstGeom prst="rect">
            <a:avLst/>
          </a:prstGeom>
          <a:ln w="0">
            <a:noFill/>
          </a:ln>
        </p:spPr>
      </p:pic>
      <p:sp>
        <p:nvSpPr>
          <p:cNvPr id="152" name="矩形 4"/>
          <p:cNvSpPr/>
          <p:nvPr/>
        </p:nvSpPr>
        <p:spPr>
          <a:xfrm>
            <a:off x="1281240" y="1546200"/>
            <a:ext cx="5526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华文新魏"/>
              </a:rPr>
              <a:t>47852 ○4785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华文新魏"/>
              </a:rPr>
              <a:t>658742 ○1578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华文新魏"/>
              </a:rPr>
              <a:t>777777 ○777777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华文新魏"/>
              </a:rPr>
              <a:t>99999 ○100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2"/>
          <p:cNvSpPr/>
          <p:nvPr/>
        </p:nvSpPr>
        <p:spPr>
          <a:xfrm>
            <a:off x="3102840" y="1617840"/>
            <a:ext cx="407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&l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2"/>
          <p:cNvSpPr/>
          <p:nvPr/>
        </p:nvSpPr>
        <p:spPr>
          <a:xfrm>
            <a:off x="3391560" y="4354560"/>
            <a:ext cx="407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&l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3175560" y="5722920"/>
            <a:ext cx="407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&l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 flipV="1">
            <a:off x="3370320" y="2986200"/>
            <a:ext cx="450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&l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组合 2"/>
          <p:cNvGrpSpPr/>
          <p:nvPr/>
        </p:nvGrpSpPr>
        <p:grpSpPr>
          <a:xfrm>
            <a:off x="60480" y="720720"/>
            <a:ext cx="3244680" cy="525600"/>
            <a:chOff x="60480" y="720720"/>
            <a:chExt cx="3244680" cy="525600"/>
          </a:xfrm>
        </p:grpSpPr>
        <p:grpSp>
          <p:nvGrpSpPr>
            <p:cNvPr id="158" name="圆角矩形 4"/>
            <p:cNvGrpSpPr/>
            <p:nvPr/>
          </p:nvGrpSpPr>
          <p:grpSpPr>
            <a:xfrm>
              <a:off x="203400" y="720720"/>
              <a:ext cx="3101760" cy="525600"/>
              <a:chOff x="203400" y="720720"/>
              <a:chExt cx="3101760" cy="525600"/>
            </a:xfrm>
          </p:grpSpPr>
          <p:pic>
            <p:nvPicPr>
              <p:cNvPr id="159" name="圆角矩形 4" descr=""/>
              <p:cNvPicPr/>
              <p:nvPr/>
            </p:nvPicPr>
            <p:blipFill>
              <a:blip r:embed="rId2"/>
              <a:stretch/>
            </p:blipFill>
            <p:spPr>
              <a:xfrm>
                <a:off x="203400" y="720720"/>
                <a:ext cx="310176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>
                <a:off x="250200" y="796320"/>
                <a:ext cx="295236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典例精讲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组合 4"/>
            <p:cNvGrpSpPr/>
            <p:nvPr/>
          </p:nvGrpSpPr>
          <p:grpSpPr>
            <a:xfrm>
              <a:off x="60480" y="838080"/>
              <a:ext cx="428760" cy="187560"/>
              <a:chOff x="60480" y="838080"/>
              <a:chExt cx="428760" cy="187560"/>
            </a:xfrm>
          </p:grpSpPr>
          <p:sp>
            <p:nvSpPr>
              <p:cNvPr id="162" name="椭圆 7"/>
              <p:cNvSpPr/>
              <p:nvPr/>
            </p:nvSpPr>
            <p:spPr>
              <a:xfrm rot="16200000">
                <a:off x="375480" y="911160"/>
                <a:ext cx="820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" name="椭圆 8"/>
              <p:cNvGrpSpPr/>
              <p:nvPr/>
            </p:nvGrpSpPr>
            <p:grpSpPr>
              <a:xfrm>
                <a:off x="356400" y="949680"/>
                <a:ext cx="120240" cy="65880"/>
                <a:chOff x="356400" y="949680"/>
                <a:chExt cx="120240" cy="65880"/>
              </a:xfrm>
            </p:grpSpPr>
            <p:pic>
              <p:nvPicPr>
                <p:cNvPr id="164" name="椭圆 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56400" y="949680"/>
                  <a:ext cx="12024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5" name=""/>
                <p:cNvSpPr/>
                <p:nvPr/>
              </p:nvSpPr>
              <p:spPr>
                <a:xfrm rot="16200000">
                  <a:off x="392040" y="941400"/>
                  <a:ext cx="475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椭圆 9"/>
              <p:cNvSpPr/>
              <p:nvPr/>
            </p:nvSpPr>
            <p:spPr>
              <a:xfrm rot="16200000">
                <a:off x="375480" y="806400"/>
                <a:ext cx="820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" name="椭圆 10"/>
              <p:cNvGrpSpPr/>
              <p:nvPr/>
            </p:nvGrpSpPr>
            <p:grpSpPr>
              <a:xfrm>
                <a:off x="356400" y="845640"/>
                <a:ext cx="120240" cy="65880"/>
                <a:chOff x="356400" y="845640"/>
                <a:chExt cx="120240" cy="65880"/>
              </a:xfrm>
            </p:grpSpPr>
            <p:pic>
              <p:nvPicPr>
                <p:cNvPr id="168" name="椭圆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56400" y="845640"/>
                  <a:ext cx="12024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9" name=""/>
                <p:cNvSpPr/>
                <p:nvPr/>
              </p:nvSpPr>
              <p:spPr>
                <a:xfrm rot="16200000">
                  <a:off x="392040" y="836640"/>
                  <a:ext cx="475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" name="圆角矩形 12"/>
              <p:cNvGrpSpPr/>
              <p:nvPr/>
            </p:nvGrpSpPr>
            <p:grpSpPr>
              <a:xfrm>
                <a:off x="60480" y="973800"/>
                <a:ext cx="394560" cy="51840"/>
                <a:chOff x="60480" y="973800"/>
                <a:chExt cx="394560" cy="51840"/>
              </a:xfrm>
            </p:grpSpPr>
            <p:pic>
              <p:nvPicPr>
                <p:cNvPr id="171" name="圆角矩形 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0480" y="973800"/>
                  <a:ext cx="39456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2" name=""/>
                <p:cNvSpPr/>
                <p:nvPr/>
              </p:nvSpPr>
              <p:spPr>
                <a:xfrm rot="16200000">
                  <a:off x="253440" y="835920"/>
                  <a:ext cx="684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圆角矩形 14"/>
              <p:cNvGrpSpPr/>
              <p:nvPr/>
            </p:nvGrpSpPr>
            <p:grpSpPr>
              <a:xfrm>
                <a:off x="60480" y="946080"/>
                <a:ext cx="394560" cy="51840"/>
                <a:chOff x="60480" y="946080"/>
                <a:chExt cx="394560" cy="51840"/>
              </a:xfrm>
            </p:grpSpPr>
            <p:pic>
              <p:nvPicPr>
                <p:cNvPr id="174" name="圆角矩形 14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0480" y="946080"/>
                  <a:ext cx="39456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5" name=""/>
                <p:cNvSpPr/>
                <p:nvPr/>
              </p:nvSpPr>
              <p:spPr>
                <a:xfrm rot="16200000">
                  <a:off x="253440" y="809640"/>
                  <a:ext cx="684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圆角矩形 17"/>
              <p:cNvGrpSpPr/>
              <p:nvPr/>
            </p:nvGrpSpPr>
            <p:grpSpPr>
              <a:xfrm>
                <a:off x="60480" y="866160"/>
                <a:ext cx="394560" cy="51840"/>
                <a:chOff x="60480" y="866160"/>
                <a:chExt cx="394560" cy="51840"/>
              </a:xfrm>
            </p:grpSpPr>
            <p:pic>
              <p:nvPicPr>
                <p:cNvPr id="177" name="圆角矩形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0480" y="866160"/>
                  <a:ext cx="39456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8" name=""/>
                <p:cNvSpPr/>
                <p:nvPr/>
              </p:nvSpPr>
              <p:spPr>
                <a:xfrm rot="16200000">
                  <a:off x="253440" y="728640"/>
                  <a:ext cx="684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圆角矩形 18"/>
              <p:cNvGrpSpPr/>
              <p:nvPr/>
            </p:nvGrpSpPr>
            <p:grpSpPr>
              <a:xfrm>
                <a:off x="60480" y="838440"/>
                <a:ext cx="394560" cy="51840"/>
                <a:chOff x="60480" y="838440"/>
                <a:chExt cx="394560" cy="51840"/>
              </a:xfrm>
            </p:grpSpPr>
            <p:pic>
              <p:nvPicPr>
                <p:cNvPr id="180" name="圆角矩形 1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0480" y="838440"/>
                  <a:ext cx="39456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1" name=""/>
                <p:cNvSpPr/>
                <p:nvPr/>
              </p:nvSpPr>
              <p:spPr>
                <a:xfrm rot="16200000">
                  <a:off x="253440" y="702360"/>
                  <a:ext cx="684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、位数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宋体"/>
              </a:rPr>
              <a:t>不同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的两个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34800" y="3890880"/>
            <a:ext cx="8290080" cy="204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位数不同的两个数，位数多的数大，位数少的数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3"/>
          <p:cNvSpPr/>
          <p:nvPr/>
        </p:nvSpPr>
        <p:spPr>
          <a:xfrm>
            <a:off x="2052360" y="119700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你是怎样比较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多位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大小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5280" y="1123920"/>
            <a:ext cx="82296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、位数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宋体"/>
              </a:rPr>
              <a:t>相同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的两个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9640" y="2637000"/>
            <a:ext cx="8229600" cy="190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位数相同的两个数，左起第一位大的那个数就大；如果左起第一位上的数相同，就比较左起第二位上的数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0" y="-2556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对象 24" descr=""/>
          <p:cNvPicPr/>
          <p:nvPr/>
        </p:nvPicPr>
        <p:blipFill>
          <a:blip r:embed="rId1"/>
          <a:stretch/>
        </p:blipFill>
        <p:spPr>
          <a:xfrm>
            <a:off x="1979640" y="3249720"/>
            <a:ext cx="114120" cy="215640"/>
          </a:xfrm>
          <a:prstGeom prst="rect">
            <a:avLst/>
          </a:prstGeom>
          <a:ln w="0">
            <a:noFill/>
          </a:ln>
        </p:spPr>
      </p:pic>
      <p:sp>
        <p:nvSpPr>
          <p:cNvPr id="190" name="矩形 7"/>
          <p:cNvSpPr/>
          <p:nvPr/>
        </p:nvSpPr>
        <p:spPr>
          <a:xfrm>
            <a:off x="900000" y="17733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5678 ○5678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98523 ○8999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2"/>
          <p:cNvSpPr/>
          <p:nvPr/>
        </p:nvSpPr>
        <p:spPr>
          <a:xfrm>
            <a:off x="2987640" y="2781360"/>
            <a:ext cx="450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&l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 flipV="1">
            <a:off x="2700360" y="1988280"/>
            <a:ext cx="450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&l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0"/>
          <p:cNvSpPr/>
          <p:nvPr/>
        </p:nvSpPr>
        <p:spPr>
          <a:xfrm rot="18297600">
            <a:off x="5325840" y="195408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3"/>
          <p:cNvSpPr/>
          <p:nvPr/>
        </p:nvSpPr>
        <p:spPr>
          <a:xfrm>
            <a:off x="324000" y="3429000"/>
            <a:ext cx="88200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位数不同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的两个数，位数多的数大，位数少的数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位数相同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的两个数，左起第一位上数大的那个数就大；如果左起第一位上的数相同，就比较左起第二位上的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14"/>
          <p:cNvSpPr/>
          <p:nvPr/>
        </p:nvSpPr>
        <p:spPr>
          <a:xfrm>
            <a:off x="684360" y="47260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5678 ○5678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98523 ○8999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3"/>
          <p:cNvSpPr/>
          <p:nvPr/>
        </p:nvSpPr>
        <p:spPr>
          <a:xfrm flipV="1">
            <a:off x="2771640" y="5661720"/>
            <a:ext cx="451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&l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2411280" y="4941720"/>
            <a:ext cx="451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&l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7"/>
          <p:cNvSpPr/>
          <p:nvPr/>
        </p:nvSpPr>
        <p:spPr>
          <a:xfrm rot="18297600">
            <a:off x="5328720" y="507168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209936"/>
          <p:cNvSpPr/>
          <p:nvPr/>
        </p:nvSpPr>
        <p:spPr>
          <a:xfrm>
            <a:off x="4304880" y="3375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209937"/>
          <p:cNvSpPr/>
          <p:nvPr/>
        </p:nvSpPr>
        <p:spPr>
          <a:xfrm>
            <a:off x="4520880" y="3591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组合 2"/>
          <p:cNvGrpSpPr/>
          <p:nvPr/>
        </p:nvGrpSpPr>
        <p:grpSpPr>
          <a:xfrm>
            <a:off x="60480" y="720720"/>
            <a:ext cx="3244680" cy="525600"/>
            <a:chOff x="60480" y="720720"/>
            <a:chExt cx="3244680" cy="525600"/>
          </a:xfrm>
        </p:grpSpPr>
        <p:grpSp>
          <p:nvGrpSpPr>
            <p:cNvPr id="202" name="圆角矩形 4"/>
            <p:cNvGrpSpPr/>
            <p:nvPr/>
          </p:nvGrpSpPr>
          <p:grpSpPr>
            <a:xfrm>
              <a:off x="203400" y="720720"/>
              <a:ext cx="3101760" cy="525600"/>
              <a:chOff x="203400" y="720720"/>
              <a:chExt cx="3101760" cy="525600"/>
            </a:xfrm>
          </p:grpSpPr>
          <p:pic>
            <p:nvPicPr>
              <p:cNvPr id="203" name="圆角矩形 4" descr=""/>
              <p:cNvPicPr/>
              <p:nvPr/>
            </p:nvPicPr>
            <p:blipFill>
              <a:blip r:embed="rId2"/>
              <a:stretch/>
            </p:blipFill>
            <p:spPr>
              <a:xfrm>
                <a:off x="203400" y="720720"/>
                <a:ext cx="310176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"/>
              <p:cNvSpPr/>
              <p:nvPr/>
            </p:nvSpPr>
            <p:spPr>
              <a:xfrm>
                <a:off x="250200" y="796320"/>
                <a:ext cx="295236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易错提醒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组合 4"/>
            <p:cNvGrpSpPr/>
            <p:nvPr/>
          </p:nvGrpSpPr>
          <p:grpSpPr>
            <a:xfrm>
              <a:off x="60480" y="838080"/>
              <a:ext cx="428760" cy="187560"/>
              <a:chOff x="60480" y="838080"/>
              <a:chExt cx="428760" cy="187560"/>
            </a:xfrm>
          </p:grpSpPr>
          <p:sp>
            <p:nvSpPr>
              <p:cNvPr id="206" name="椭圆 7"/>
              <p:cNvSpPr/>
              <p:nvPr/>
            </p:nvSpPr>
            <p:spPr>
              <a:xfrm rot="16200000">
                <a:off x="375480" y="911160"/>
                <a:ext cx="820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7" name="椭圆 8"/>
              <p:cNvGrpSpPr/>
              <p:nvPr/>
            </p:nvGrpSpPr>
            <p:grpSpPr>
              <a:xfrm>
                <a:off x="356400" y="949680"/>
                <a:ext cx="120240" cy="65880"/>
                <a:chOff x="356400" y="949680"/>
                <a:chExt cx="120240" cy="65880"/>
              </a:xfrm>
            </p:grpSpPr>
            <p:pic>
              <p:nvPicPr>
                <p:cNvPr id="208" name="椭圆 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56400" y="949680"/>
                  <a:ext cx="12024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9" name=""/>
                <p:cNvSpPr/>
                <p:nvPr/>
              </p:nvSpPr>
              <p:spPr>
                <a:xfrm rot="16200000">
                  <a:off x="392040" y="941400"/>
                  <a:ext cx="475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0" name="椭圆 9"/>
              <p:cNvSpPr/>
              <p:nvPr/>
            </p:nvSpPr>
            <p:spPr>
              <a:xfrm rot="16200000">
                <a:off x="375480" y="806400"/>
                <a:ext cx="820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椭圆 10"/>
              <p:cNvGrpSpPr/>
              <p:nvPr/>
            </p:nvGrpSpPr>
            <p:grpSpPr>
              <a:xfrm>
                <a:off x="356400" y="845640"/>
                <a:ext cx="120240" cy="65880"/>
                <a:chOff x="356400" y="845640"/>
                <a:chExt cx="120240" cy="65880"/>
              </a:xfrm>
            </p:grpSpPr>
            <p:pic>
              <p:nvPicPr>
                <p:cNvPr id="212" name="椭圆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56400" y="845640"/>
                  <a:ext cx="12024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3" name=""/>
                <p:cNvSpPr/>
                <p:nvPr/>
              </p:nvSpPr>
              <p:spPr>
                <a:xfrm rot="16200000">
                  <a:off x="392040" y="836640"/>
                  <a:ext cx="475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圆角矩形 12"/>
              <p:cNvGrpSpPr/>
              <p:nvPr/>
            </p:nvGrpSpPr>
            <p:grpSpPr>
              <a:xfrm>
                <a:off x="60480" y="973800"/>
                <a:ext cx="394560" cy="51840"/>
                <a:chOff x="60480" y="973800"/>
                <a:chExt cx="394560" cy="51840"/>
              </a:xfrm>
            </p:grpSpPr>
            <p:pic>
              <p:nvPicPr>
                <p:cNvPr id="215" name="圆角矩形 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0480" y="973800"/>
                  <a:ext cx="39456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6" name=""/>
                <p:cNvSpPr/>
                <p:nvPr/>
              </p:nvSpPr>
              <p:spPr>
                <a:xfrm rot="16200000">
                  <a:off x="253440" y="835920"/>
                  <a:ext cx="684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圆角矩形 14"/>
              <p:cNvGrpSpPr/>
              <p:nvPr/>
            </p:nvGrpSpPr>
            <p:grpSpPr>
              <a:xfrm>
                <a:off x="60480" y="946080"/>
                <a:ext cx="394560" cy="51840"/>
                <a:chOff x="60480" y="946080"/>
                <a:chExt cx="394560" cy="51840"/>
              </a:xfrm>
            </p:grpSpPr>
            <p:pic>
              <p:nvPicPr>
                <p:cNvPr id="218" name="圆角矩形 14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0480" y="946080"/>
                  <a:ext cx="39456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9" name=""/>
                <p:cNvSpPr/>
                <p:nvPr/>
              </p:nvSpPr>
              <p:spPr>
                <a:xfrm rot="16200000">
                  <a:off x="253440" y="809640"/>
                  <a:ext cx="684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" name="圆角矩形 17"/>
              <p:cNvGrpSpPr/>
              <p:nvPr/>
            </p:nvGrpSpPr>
            <p:grpSpPr>
              <a:xfrm>
                <a:off x="60480" y="866160"/>
                <a:ext cx="394560" cy="51840"/>
                <a:chOff x="60480" y="866160"/>
                <a:chExt cx="394560" cy="51840"/>
              </a:xfrm>
            </p:grpSpPr>
            <p:pic>
              <p:nvPicPr>
                <p:cNvPr id="221" name="圆角矩形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0480" y="866160"/>
                  <a:ext cx="39456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2" name=""/>
                <p:cNvSpPr/>
                <p:nvPr/>
              </p:nvSpPr>
              <p:spPr>
                <a:xfrm rot="16200000">
                  <a:off x="253440" y="728640"/>
                  <a:ext cx="684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圆角矩形 18"/>
              <p:cNvGrpSpPr/>
              <p:nvPr/>
            </p:nvGrpSpPr>
            <p:grpSpPr>
              <a:xfrm>
                <a:off x="60480" y="838440"/>
                <a:ext cx="394560" cy="51840"/>
                <a:chOff x="60480" y="838440"/>
                <a:chExt cx="394560" cy="51840"/>
              </a:xfrm>
            </p:grpSpPr>
            <p:pic>
              <p:nvPicPr>
                <p:cNvPr id="224" name="圆角矩形 1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0480" y="838440"/>
                  <a:ext cx="39456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5" name=""/>
                <p:cNvSpPr/>
                <p:nvPr/>
              </p:nvSpPr>
              <p:spPr>
                <a:xfrm rot="16200000">
                  <a:off x="253440" y="702360"/>
                  <a:ext cx="684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3"/>
          <p:cNvSpPr/>
          <p:nvPr/>
        </p:nvSpPr>
        <p:spPr>
          <a:xfrm>
            <a:off x="920880" y="1616040"/>
            <a:ext cx="597672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Calibri"/>
              </a:rPr>
              <a:t>比较大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24598 </a:t>
            </a:r>
            <a:r>
              <a:rPr b="1" i="1" lang="zh-CN" sz="4400" spc="-1" strike="noStrike">
                <a:solidFill>
                  <a:srgbClr val="000000"/>
                </a:solidFill>
                <a:latin typeface="Calibri"/>
              </a:rPr>
              <a:t>○3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597820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502368 </a:t>
            </a:r>
            <a:r>
              <a:rPr b="1" i="1" lang="zh-CN" sz="4400" spc="-1" strike="noStrike">
                <a:solidFill>
                  <a:srgbClr val="000000"/>
                </a:solidFill>
                <a:latin typeface="Calibri"/>
              </a:rPr>
              <a:t>○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 3269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1405 </a:t>
            </a:r>
            <a:r>
              <a:rPr b="1" i="1" lang="zh-CN" sz="4400" spc="-1" strike="noStrike">
                <a:solidFill>
                  <a:srgbClr val="000000"/>
                </a:solidFill>
                <a:latin typeface="Calibri"/>
              </a:rPr>
              <a:t>○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 21505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39876 </a:t>
            </a:r>
            <a:r>
              <a:rPr b="1" i="1" lang="zh-CN" sz="4400" spc="-1" strike="noStrike">
                <a:solidFill>
                  <a:srgbClr val="000000"/>
                </a:solidFill>
                <a:latin typeface="Calibri"/>
              </a:rPr>
              <a:t>○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 9658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3"/>
          <p:cNvSpPr/>
          <p:nvPr/>
        </p:nvSpPr>
        <p:spPr>
          <a:xfrm flipV="1">
            <a:off x="3078000" y="3332160"/>
            <a:ext cx="451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2"/>
          <p:cNvSpPr/>
          <p:nvPr/>
        </p:nvSpPr>
        <p:spPr>
          <a:xfrm>
            <a:off x="3005280" y="2546280"/>
            <a:ext cx="4507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2"/>
          <p:cNvSpPr/>
          <p:nvPr/>
        </p:nvSpPr>
        <p:spPr>
          <a:xfrm>
            <a:off x="2717640" y="4154400"/>
            <a:ext cx="451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2"/>
          <p:cNvSpPr/>
          <p:nvPr/>
        </p:nvSpPr>
        <p:spPr>
          <a:xfrm>
            <a:off x="2689200" y="4984920"/>
            <a:ext cx="4507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组合 2"/>
          <p:cNvGrpSpPr/>
          <p:nvPr/>
        </p:nvGrpSpPr>
        <p:grpSpPr>
          <a:xfrm>
            <a:off x="60480" y="720720"/>
            <a:ext cx="3244680" cy="525600"/>
            <a:chOff x="60480" y="720720"/>
            <a:chExt cx="3244680" cy="525600"/>
          </a:xfrm>
        </p:grpSpPr>
        <p:grpSp>
          <p:nvGrpSpPr>
            <p:cNvPr id="232" name="圆角矩形 4"/>
            <p:cNvGrpSpPr/>
            <p:nvPr/>
          </p:nvGrpSpPr>
          <p:grpSpPr>
            <a:xfrm>
              <a:off x="203400" y="720720"/>
              <a:ext cx="3101760" cy="525600"/>
              <a:chOff x="203400" y="720720"/>
              <a:chExt cx="3101760" cy="525600"/>
            </a:xfrm>
          </p:grpSpPr>
          <p:pic>
            <p:nvPicPr>
              <p:cNvPr id="233" name="圆角矩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203400" y="720720"/>
                <a:ext cx="310176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"/>
              <p:cNvSpPr/>
              <p:nvPr/>
            </p:nvSpPr>
            <p:spPr>
              <a:xfrm>
                <a:off x="250200" y="796320"/>
                <a:ext cx="295236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练一练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组合 4"/>
            <p:cNvGrpSpPr/>
            <p:nvPr/>
          </p:nvGrpSpPr>
          <p:grpSpPr>
            <a:xfrm>
              <a:off x="60480" y="838080"/>
              <a:ext cx="428760" cy="187560"/>
              <a:chOff x="60480" y="838080"/>
              <a:chExt cx="428760" cy="187560"/>
            </a:xfrm>
          </p:grpSpPr>
          <p:sp>
            <p:nvSpPr>
              <p:cNvPr id="236" name="椭圆 7"/>
              <p:cNvSpPr/>
              <p:nvPr/>
            </p:nvSpPr>
            <p:spPr>
              <a:xfrm rot="16200000">
                <a:off x="375480" y="911160"/>
                <a:ext cx="820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7" name="椭圆 8"/>
              <p:cNvGrpSpPr/>
              <p:nvPr/>
            </p:nvGrpSpPr>
            <p:grpSpPr>
              <a:xfrm>
                <a:off x="356400" y="949680"/>
                <a:ext cx="120240" cy="65880"/>
                <a:chOff x="356400" y="949680"/>
                <a:chExt cx="120240" cy="65880"/>
              </a:xfrm>
            </p:grpSpPr>
            <p:pic>
              <p:nvPicPr>
                <p:cNvPr id="238" name="椭圆 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56400" y="949680"/>
                  <a:ext cx="12024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9" name=""/>
                <p:cNvSpPr/>
                <p:nvPr/>
              </p:nvSpPr>
              <p:spPr>
                <a:xfrm rot="16200000">
                  <a:off x="392040" y="941400"/>
                  <a:ext cx="475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0" name="椭圆 9"/>
              <p:cNvSpPr/>
              <p:nvPr/>
            </p:nvSpPr>
            <p:spPr>
              <a:xfrm rot="16200000">
                <a:off x="375480" y="806400"/>
                <a:ext cx="820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1" name="椭圆 10"/>
              <p:cNvGrpSpPr/>
              <p:nvPr/>
            </p:nvGrpSpPr>
            <p:grpSpPr>
              <a:xfrm>
                <a:off x="356400" y="845640"/>
                <a:ext cx="120240" cy="65880"/>
                <a:chOff x="356400" y="845640"/>
                <a:chExt cx="120240" cy="65880"/>
              </a:xfrm>
            </p:grpSpPr>
            <p:pic>
              <p:nvPicPr>
                <p:cNvPr id="242" name="椭圆 1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56400" y="845640"/>
                  <a:ext cx="12024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3" name=""/>
                <p:cNvSpPr/>
                <p:nvPr/>
              </p:nvSpPr>
              <p:spPr>
                <a:xfrm rot="16200000">
                  <a:off x="392040" y="836640"/>
                  <a:ext cx="475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" name="圆角矩形 12"/>
              <p:cNvGrpSpPr/>
              <p:nvPr/>
            </p:nvGrpSpPr>
            <p:grpSpPr>
              <a:xfrm>
                <a:off x="60480" y="973800"/>
                <a:ext cx="394560" cy="51840"/>
                <a:chOff x="60480" y="973800"/>
                <a:chExt cx="394560" cy="51840"/>
              </a:xfrm>
            </p:grpSpPr>
            <p:pic>
              <p:nvPicPr>
                <p:cNvPr id="245" name="圆角矩形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0480" y="973800"/>
                  <a:ext cx="39456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6" name=""/>
                <p:cNvSpPr/>
                <p:nvPr/>
              </p:nvSpPr>
              <p:spPr>
                <a:xfrm rot="16200000">
                  <a:off x="253440" y="835920"/>
                  <a:ext cx="684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圆角矩形 14"/>
              <p:cNvGrpSpPr/>
              <p:nvPr/>
            </p:nvGrpSpPr>
            <p:grpSpPr>
              <a:xfrm>
                <a:off x="60480" y="946080"/>
                <a:ext cx="394560" cy="51840"/>
                <a:chOff x="60480" y="946080"/>
                <a:chExt cx="394560" cy="51840"/>
              </a:xfrm>
            </p:grpSpPr>
            <p:pic>
              <p:nvPicPr>
                <p:cNvPr id="248" name="圆角矩形 1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0480" y="946080"/>
                  <a:ext cx="39456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9" name=""/>
                <p:cNvSpPr/>
                <p:nvPr/>
              </p:nvSpPr>
              <p:spPr>
                <a:xfrm rot="16200000">
                  <a:off x="253440" y="809640"/>
                  <a:ext cx="684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" name="圆角矩形 17"/>
              <p:cNvGrpSpPr/>
              <p:nvPr/>
            </p:nvGrpSpPr>
            <p:grpSpPr>
              <a:xfrm>
                <a:off x="60480" y="866160"/>
                <a:ext cx="394560" cy="51840"/>
                <a:chOff x="60480" y="866160"/>
                <a:chExt cx="394560" cy="51840"/>
              </a:xfrm>
            </p:grpSpPr>
            <p:pic>
              <p:nvPicPr>
                <p:cNvPr id="251" name="圆角矩形 1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0480" y="866160"/>
                  <a:ext cx="39456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2" name=""/>
                <p:cNvSpPr/>
                <p:nvPr/>
              </p:nvSpPr>
              <p:spPr>
                <a:xfrm rot="16200000">
                  <a:off x="253440" y="728640"/>
                  <a:ext cx="684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" name="圆角矩形 18"/>
              <p:cNvGrpSpPr/>
              <p:nvPr/>
            </p:nvGrpSpPr>
            <p:grpSpPr>
              <a:xfrm>
                <a:off x="60480" y="838440"/>
                <a:ext cx="394560" cy="51840"/>
                <a:chOff x="60480" y="838440"/>
                <a:chExt cx="394560" cy="51840"/>
              </a:xfrm>
            </p:grpSpPr>
            <p:pic>
              <p:nvPicPr>
                <p:cNvPr id="254" name="圆角矩形 18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0480" y="838440"/>
                  <a:ext cx="39456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5" name=""/>
                <p:cNvSpPr/>
                <p:nvPr/>
              </p:nvSpPr>
              <p:spPr>
                <a:xfrm rot="16200000">
                  <a:off x="253440" y="702360"/>
                  <a:ext cx="684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给小金鱼排排队吧！（按照从小到大的顺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8"/>
          <p:cNvGrpSpPr/>
          <p:nvPr/>
        </p:nvGrpSpPr>
        <p:grpSpPr>
          <a:xfrm>
            <a:off x="4807080" y="3166920"/>
            <a:ext cx="2187000" cy="1452600"/>
            <a:chOff x="4807080" y="3166920"/>
            <a:chExt cx="2187000" cy="1452600"/>
          </a:xfrm>
        </p:grpSpPr>
        <p:pic>
          <p:nvPicPr>
            <p:cNvPr id="258" name="Picture 9" descr="fish19"/>
            <p:cNvPicPr/>
            <p:nvPr/>
          </p:nvPicPr>
          <p:blipFill>
            <a:blip r:embed="rId1"/>
            <a:stretch/>
          </p:blipFill>
          <p:spPr>
            <a:xfrm>
              <a:off x="5500440" y="3487680"/>
              <a:ext cx="1493640" cy="11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Text Box 10"/>
            <p:cNvSpPr/>
            <p:nvPr/>
          </p:nvSpPr>
          <p:spPr>
            <a:xfrm>
              <a:off x="4807080" y="3166920"/>
              <a:ext cx="125964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32040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11"/>
          <p:cNvGrpSpPr/>
          <p:nvPr/>
        </p:nvGrpSpPr>
        <p:grpSpPr>
          <a:xfrm>
            <a:off x="519480" y="1844640"/>
            <a:ext cx="2190240" cy="1452600"/>
            <a:chOff x="519480" y="1844640"/>
            <a:chExt cx="2190240" cy="1452600"/>
          </a:xfrm>
        </p:grpSpPr>
        <p:pic>
          <p:nvPicPr>
            <p:cNvPr id="261" name="Picture 12" descr="fish19"/>
            <p:cNvPicPr/>
            <p:nvPr/>
          </p:nvPicPr>
          <p:blipFill>
            <a:blip r:embed="rId2"/>
            <a:stretch/>
          </p:blipFill>
          <p:spPr>
            <a:xfrm>
              <a:off x="1216080" y="2165400"/>
              <a:ext cx="1493640" cy="11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Text Box 13"/>
            <p:cNvSpPr/>
            <p:nvPr/>
          </p:nvSpPr>
          <p:spPr>
            <a:xfrm>
              <a:off x="519480" y="1844640"/>
              <a:ext cx="125964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30204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14"/>
          <p:cNvGrpSpPr/>
          <p:nvPr/>
        </p:nvGrpSpPr>
        <p:grpSpPr>
          <a:xfrm>
            <a:off x="522360" y="2971800"/>
            <a:ext cx="2187000" cy="1452600"/>
            <a:chOff x="522360" y="2971800"/>
            <a:chExt cx="2187000" cy="1452600"/>
          </a:xfrm>
        </p:grpSpPr>
        <p:pic>
          <p:nvPicPr>
            <p:cNvPr id="264" name="Picture 15" descr="fish19"/>
            <p:cNvPicPr/>
            <p:nvPr/>
          </p:nvPicPr>
          <p:blipFill>
            <a:blip r:embed="rId3"/>
            <a:stretch/>
          </p:blipFill>
          <p:spPr>
            <a:xfrm>
              <a:off x="1215720" y="3292560"/>
              <a:ext cx="1493640" cy="11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Text Box 16"/>
            <p:cNvSpPr/>
            <p:nvPr/>
          </p:nvSpPr>
          <p:spPr>
            <a:xfrm>
              <a:off x="522360" y="2971800"/>
              <a:ext cx="125964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20304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17"/>
          <p:cNvGrpSpPr/>
          <p:nvPr/>
        </p:nvGrpSpPr>
        <p:grpSpPr>
          <a:xfrm>
            <a:off x="2589480" y="1839960"/>
            <a:ext cx="2187360" cy="1452600"/>
            <a:chOff x="2589480" y="1839960"/>
            <a:chExt cx="2187360" cy="1452600"/>
          </a:xfrm>
        </p:grpSpPr>
        <p:pic>
          <p:nvPicPr>
            <p:cNvPr id="267" name="Picture 18" descr="fish19"/>
            <p:cNvPicPr/>
            <p:nvPr/>
          </p:nvPicPr>
          <p:blipFill>
            <a:blip r:embed="rId4"/>
            <a:stretch/>
          </p:blipFill>
          <p:spPr>
            <a:xfrm>
              <a:off x="3282840" y="2160720"/>
              <a:ext cx="1494000" cy="11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Text Box 19"/>
            <p:cNvSpPr/>
            <p:nvPr/>
          </p:nvSpPr>
          <p:spPr>
            <a:xfrm>
              <a:off x="2589480" y="1839960"/>
              <a:ext cx="125964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20304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20"/>
          <p:cNvGrpSpPr/>
          <p:nvPr/>
        </p:nvGrpSpPr>
        <p:grpSpPr>
          <a:xfrm>
            <a:off x="2586240" y="3292560"/>
            <a:ext cx="2190240" cy="1452600"/>
            <a:chOff x="2586240" y="3292560"/>
            <a:chExt cx="2190240" cy="1452600"/>
          </a:xfrm>
        </p:grpSpPr>
        <p:pic>
          <p:nvPicPr>
            <p:cNvPr id="270" name="Picture 21" descr="fish19"/>
            <p:cNvPicPr/>
            <p:nvPr/>
          </p:nvPicPr>
          <p:blipFill>
            <a:blip r:embed="rId5"/>
            <a:stretch/>
          </p:blipFill>
          <p:spPr>
            <a:xfrm>
              <a:off x="3282840" y="3613320"/>
              <a:ext cx="1493640" cy="11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Text Box 22"/>
            <p:cNvSpPr/>
            <p:nvPr/>
          </p:nvSpPr>
          <p:spPr>
            <a:xfrm>
              <a:off x="2586240" y="3292560"/>
              <a:ext cx="125964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30204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23"/>
          <p:cNvGrpSpPr/>
          <p:nvPr/>
        </p:nvGrpSpPr>
        <p:grpSpPr>
          <a:xfrm>
            <a:off x="519480" y="4213080"/>
            <a:ext cx="2187360" cy="1452600"/>
            <a:chOff x="519480" y="4213080"/>
            <a:chExt cx="2187360" cy="1452600"/>
          </a:xfrm>
        </p:grpSpPr>
        <p:pic>
          <p:nvPicPr>
            <p:cNvPr id="273" name="Picture 24" descr="fish19"/>
            <p:cNvPicPr/>
            <p:nvPr/>
          </p:nvPicPr>
          <p:blipFill>
            <a:blip r:embed="rId6"/>
            <a:stretch/>
          </p:blipFill>
          <p:spPr>
            <a:xfrm>
              <a:off x="1212840" y="4533840"/>
              <a:ext cx="1494000" cy="11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 Box 25"/>
            <p:cNvSpPr/>
            <p:nvPr/>
          </p:nvSpPr>
          <p:spPr>
            <a:xfrm>
              <a:off x="519480" y="4213080"/>
              <a:ext cx="125964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32040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26"/>
          <p:cNvGrpSpPr/>
          <p:nvPr/>
        </p:nvGrpSpPr>
        <p:grpSpPr>
          <a:xfrm>
            <a:off x="3157920" y="4619520"/>
            <a:ext cx="2187360" cy="1452600"/>
            <a:chOff x="3157920" y="4619520"/>
            <a:chExt cx="2187360" cy="1452600"/>
          </a:xfrm>
        </p:grpSpPr>
        <p:pic>
          <p:nvPicPr>
            <p:cNvPr id="276" name="Picture 27" descr="fish19"/>
            <p:cNvPicPr/>
            <p:nvPr/>
          </p:nvPicPr>
          <p:blipFill>
            <a:blip r:embed="rId7"/>
            <a:stretch/>
          </p:blipFill>
          <p:spPr>
            <a:xfrm>
              <a:off x="3851280" y="4940280"/>
              <a:ext cx="1494000" cy="11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Text Box 28"/>
            <p:cNvSpPr/>
            <p:nvPr/>
          </p:nvSpPr>
          <p:spPr>
            <a:xfrm>
              <a:off x="3157920" y="4619520"/>
              <a:ext cx="125964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32040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29"/>
          <p:cNvGrpSpPr/>
          <p:nvPr/>
        </p:nvGrpSpPr>
        <p:grpSpPr>
          <a:xfrm>
            <a:off x="5624640" y="4424400"/>
            <a:ext cx="2187000" cy="1452600"/>
            <a:chOff x="5624640" y="4424400"/>
            <a:chExt cx="2187000" cy="1452600"/>
          </a:xfrm>
        </p:grpSpPr>
        <p:pic>
          <p:nvPicPr>
            <p:cNvPr id="279" name="Picture 30" descr="fish19"/>
            <p:cNvPicPr/>
            <p:nvPr/>
          </p:nvPicPr>
          <p:blipFill>
            <a:blip r:embed="rId8"/>
            <a:stretch/>
          </p:blipFill>
          <p:spPr>
            <a:xfrm>
              <a:off x="6318000" y="4745160"/>
              <a:ext cx="1493640" cy="11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 Box 31"/>
            <p:cNvSpPr/>
            <p:nvPr/>
          </p:nvSpPr>
          <p:spPr>
            <a:xfrm>
              <a:off x="5624640" y="4424400"/>
              <a:ext cx="125964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40208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32"/>
          <p:cNvGrpSpPr/>
          <p:nvPr/>
        </p:nvGrpSpPr>
        <p:grpSpPr>
          <a:xfrm>
            <a:off x="5065920" y="1844640"/>
            <a:ext cx="2187360" cy="1452600"/>
            <a:chOff x="5065920" y="1844640"/>
            <a:chExt cx="2187360" cy="1452600"/>
          </a:xfrm>
        </p:grpSpPr>
        <p:pic>
          <p:nvPicPr>
            <p:cNvPr id="282" name="Picture 33" descr="fish19"/>
            <p:cNvPicPr/>
            <p:nvPr/>
          </p:nvPicPr>
          <p:blipFill>
            <a:blip r:embed="rId9"/>
            <a:stretch/>
          </p:blipFill>
          <p:spPr>
            <a:xfrm>
              <a:off x="5759280" y="2165400"/>
              <a:ext cx="1494000" cy="11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Text Box 34"/>
            <p:cNvSpPr/>
            <p:nvPr/>
          </p:nvSpPr>
          <p:spPr>
            <a:xfrm>
              <a:off x="5065920" y="1844640"/>
              <a:ext cx="125964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8402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35"/>
          <p:cNvGrpSpPr/>
          <p:nvPr/>
        </p:nvGrpSpPr>
        <p:grpSpPr>
          <a:xfrm>
            <a:off x="7056720" y="2120760"/>
            <a:ext cx="2187360" cy="1452600"/>
            <a:chOff x="7056720" y="2120760"/>
            <a:chExt cx="2187360" cy="1452600"/>
          </a:xfrm>
        </p:grpSpPr>
        <p:pic>
          <p:nvPicPr>
            <p:cNvPr id="285" name="Picture 36" descr="fish19"/>
            <p:cNvPicPr/>
            <p:nvPr/>
          </p:nvPicPr>
          <p:blipFill>
            <a:blip r:embed="rId10"/>
            <a:stretch/>
          </p:blipFill>
          <p:spPr>
            <a:xfrm>
              <a:off x="7750080" y="2441520"/>
              <a:ext cx="1494000" cy="11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Text Box 37"/>
            <p:cNvSpPr/>
            <p:nvPr/>
          </p:nvSpPr>
          <p:spPr>
            <a:xfrm>
              <a:off x="7056720" y="2120760"/>
              <a:ext cx="125964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8402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8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1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4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7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4"/>
          <p:cNvSpPr/>
          <p:nvPr/>
        </p:nvSpPr>
        <p:spPr>
          <a:xfrm>
            <a:off x="1382760" y="981000"/>
            <a:ext cx="240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宋体"/>
              </a:rPr>
              <a:t>小窗后面躲着谁</a:t>
            </a:r>
            <a:r>
              <a:rPr b="0" lang="en-US" sz="3600" spc="-1" strike="noStrike">
                <a:solidFill>
                  <a:srgbClr val="333399"/>
                </a:solidFill>
                <a:latin typeface="宋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1871640" y="1665360"/>
            <a:ext cx="38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 Black"/>
              </a:rPr>
              <a:t>&l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667080" y="1665360"/>
            <a:ext cx="114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215ca"/>
                </a:solidFill>
                <a:latin typeface="Arial Black"/>
              </a:rPr>
              <a:t>52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2394720" y="1700280"/>
            <a:ext cx="8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215ca"/>
                </a:solidFill>
                <a:latin typeface="Arial Black"/>
              </a:rPr>
              <a:t>5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8"/>
          <p:cNvSpPr/>
          <p:nvPr/>
        </p:nvSpPr>
        <p:spPr>
          <a:xfrm>
            <a:off x="4583880" y="1706400"/>
            <a:ext cx="178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215ca"/>
                </a:solidFill>
                <a:latin typeface="Arial Black"/>
              </a:rPr>
              <a:t>10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9"/>
          <p:cNvSpPr/>
          <p:nvPr/>
        </p:nvSpPr>
        <p:spPr>
          <a:xfrm>
            <a:off x="6350400" y="173664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 Black"/>
              </a:rPr>
              <a:t>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"/>
          <p:cNvSpPr/>
          <p:nvPr/>
        </p:nvSpPr>
        <p:spPr>
          <a:xfrm>
            <a:off x="6823080" y="1881360"/>
            <a:ext cx="449280" cy="46512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1"/>
          <p:cNvSpPr/>
          <p:nvPr/>
        </p:nvSpPr>
        <p:spPr>
          <a:xfrm>
            <a:off x="3222720" y="1808280"/>
            <a:ext cx="449280" cy="46512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2"/>
          <p:cNvSpPr/>
          <p:nvPr/>
        </p:nvSpPr>
        <p:spPr>
          <a:xfrm>
            <a:off x="6956280" y="1773360"/>
            <a:ext cx="175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215ca"/>
                </a:solidFill>
                <a:latin typeface="Arial Black"/>
              </a:rPr>
              <a:t>99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3"/>
          <p:cNvSpPr/>
          <p:nvPr/>
        </p:nvSpPr>
        <p:spPr>
          <a:xfrm>
            <a:off x="3195000" y="2529000"/>
            <a:ext cx="500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 Black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 Black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 Black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4"/>
          <p:cNvSpPr/>
          <p:nvPr/>
        </p:nvSpPr>
        <p:spPr>
          <a:xfrm>
            <a:off x="6779880" y="403200"/>
            <a:ext cx="50076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 Black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 Black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 Black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 Black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矩形 3"/>
          <p:cNvSpPr/>
          <p:nvPr/>
        </p:nvSpPr>
        <p:spPr>
          <a:xfrm>
            <a:off x="3892680" y="119700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多位数比较大小的方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4"/>
          <p:cNvSpPr/>
          <p:nvPr/>
        </p:nvSpPr>
        <p:spPr>
          <a:xfrm>
            <a:off x="324000" y="1844640"/>
            <a:ext cx="856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位数不同的两个数，位数多的数大，位数少的数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位数相同的两个数，左起第一位上的的数大的那个数就大；如果左起第一位上的数相同，就比较左起第二位上的数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组合 2"/>
          <p:cNvGrpSpPr/>
          <p:nvPr/>
        </p:nvGrpSpPr>
        <p:grpSpPr>
          <a:xfrm>
            <a:off x="60480" y="720720"/>
            <a:ext cx="3244680" cy="525600"/>
            <a:chOff x="60480" y="720720"/>
            <a:chExt cx="3244680" cy="525600"/>
          </a:xfrm>
        </p:grpSpPr>
        <p:grpSp>
          <p:nvGrpSpPr>
            <p:cNvPr id="301" name="圆角矩形 4"/>
            <p:cNvGrpSpPr/>
            <p:nvPr/>
          </p:nvGrpSpPr>
          <p:grpSpPr>
            <a:xfrm>
              <a:off x="203400" y="720720"/>
              <a:ext cx="3101760" cy="525600"/>
              <a:chOff x="203400" y="720720"/>
              <a:chExt cx="3101760" cy="525600"/>
            </a:xfrm>
          </p:grpSpPr>
          <p:pic>
            <p:nvPicPr>
              <p:cNvPr id="302" name="圆角矩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203400" y="720720"/>
                <a:ext cx="310176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>
                <a:off x="250200" y="796320"/>
                <a:ext cx="295236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课堂小结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组合 4"/>
            <p:cNvGrpSpPr/>
            <p:nvPr/>
          </p:nvGrpSpPr>
          <p:grpSpPr>
            <a:xfrm>
              <a:off x="60480" y="838080"/>
              <a:ext cx="428760" cy="187560"/>
              <a:chOff x="60480" y="838080"/>
              <a:chExt cx="428760" cy="187560"/>
            </a:xfrm>
          </p:grpSpPr>
          <p:sp>
            <p:nvSpPr>
              <p:cNvPr id="305" name="椭圆 7"/>
              <p:cNvSpPr/>
              <p:nvPr/>
            </p:nvSpPr>
            <p:spPr>
              <a:xfrm rot="16200000">
                <a:off x="375480" y="911160"/>
                <a:ext cx="820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6" name="椭圆 8"/>
              <p:cNvGrpSpPr/>
              <p:nvPr/>
            </p:nvGrpSpPr>
            <p:grpSpPr>
              <a:xfrm>
                <a:off x="356400" y="949680"/>
                <a:ext cx="120240" cy="65880"/>
                <a:chOff x="356400" y="949680"/>
                <a:chExt cx="120240" cy="65880"/>
              </a:xfrm>
            </p:grpSpPr>
            <p:pic>
              <p:nvPicPr>
                <p:cNvPr id="307" name="椭圆 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56400" y="949680"/>
                  <a:ext cx="12024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8" name=""/>
                <p:cNvSpPr/>
                <p:nvPr/>
              </p:nvSpPr>
              <p:spPr>
                <a:xfrm rot="16200000">
                  <a:off x="392040" y="941400"/>
                  <a:ext cx="475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9" name="椭圆 9"/>
              <p:cNvSpPr/>
              <p:nvPr/>
            </p:nvSpPr>
            <p:spPr>
              <a:xfrm rot="16200000">
                <a:off x="375480" y="806400"/>
                <a:ext cx="820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0" name="椭圆 10"/>
              <p:cNvGrpSpPr/>
              <p:nvPr/>
            </p:nvGrpSpPr>
            <p:grpSpPr>
              <a:xfrm>
                <a:off x="356400" y="845640"/>
                <a:ext cx="120240" cy="65880"/>
                <a:chOff x="356400" y="845640"/>
                <a:chExt cx="120240" cy="65880"/>
              </a:xfrm>
            </p:grpSpPr>
            <p:pic>
              <p:nvPicPr>
                <p:cNvPr id="311" name="椭圆 1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56400" y="845640"/>
                  <a:ext cx="12024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2" name=""/>
                <p:cNvSpPr/>
                <p:nvPr/>
              </p:nvSpPr>
              <p:spPr>
                <a:xfrm rot="16200000">
                  <a:off x="392040" y="836640"/>
                  <a:ext cx="475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3" name="圆角矩形 12"/>
              <p:cNvGrpSpPr/>
              <p:nvPr/>
            </p:nvGrpSpPr>
            <p:grpSpPr>
              <a:xfrm>
                <a:off x="60480" y="973800"/>
                <a:ext cx="394560" cy="51840"/>
                <a:chOff x="60480" y="973800"/>
                <a:chExt cx="394560" cy="51840"/>
              </a:xfrm>
            </p:grpSpPr>
            <p:pic>
              <p:nvPicPr>
                <p:cNvPr id="314" name="圆角矩形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0480" y="973800"/>
                  <a:ext cx="39456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5" name=""/>
                <p:cNvSpPr/>
                <p:nvPr/>
              </p:nvSpPr>
              <p:spPr>
                <a:xfrm rot="16200000">
                  <a:off x="253440" y="835920"/>
                  <a:ext cx="684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圆角矩形 14"/>
              <p:cNvGrpSpPr/>
              <p:nvPr/>
            </p:nvGrpSpPr>
            <p:grpSpPr>
              <a:xfrm>
                <a:off x="60480" y="946080"/>
                <a:ext cx="394560" cy="51840"/>
                <a:chOff x="60480" y="946080"/>
                <a:chExt cx="394560" cy="51840"/>
              </a:xfrm>
            </p:grpSpPr>
            <p:pic>
              <p:nvPicPr>
                <p:cNvPr id="317" name="圆角矩形 1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0480" y="946080"/>
                  <a:ext cx="39456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8" name=""/>
                <p:cNvSpPr/>
                <p:nvPr/>
              </p:nvSpPr>
              <p:spPr>
                <a:xfrm rot="16200000">
                  <a:off x="253440" y="809640"/>
                  <a:ext cx="684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圆角矩形 17"/>
              <p:cNvGrpSpPr/>
              <p:nvPr/>
            </p:nvGrpSpPr>
            <p:grpSpPr>
              <a:xfrm>
                <a:off x="60480" y="866160"/>
                <a:ext cx="394560" cy="51840"/>
                <a:chOff x="60480" y="866160"/>
                <a:chExt cx="394560" cy="51840"/>
              </a:xfrm>
            </p:grpSpPr>
            <p:pic>
              <p:nvPicPr>
                <p:cNvPr id="320" name="圆角矩形 1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0480" y="866160"/>
                  <a:ext cx="39456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1" name=""/>
                <p:cNvSpPr/>
                <p:nvPr/>
              </p:nvSpPr>
              <p:spPr>
                <a:xfrm rot="16200000">
                  <a:off x="253440" y="728640"/>
                  <a:ext cx="684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圆角矩形 18"/>
              <p:cNvGrpSpPr/>
              <p:nvPr/>
            </p:nvGrpSpPr>
            <p:grpSpPr>
              <a:xfrm>
                <a:off x="60480" y="838440"/>
                <a:ext cx="394560" cy="51840"/>
                <a:chOff x="60480" y="838440"/>
                <a:chExt cx="394560" cy="51840"/>
              </a:xfrm>
            </p:grpSpPr>
            <p:pic>
              <p:nvPicPr>
                <p:cNvPr id="323" name="圆角矩形 18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0480" y="838440"/>
                  <a:ext cx="39456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4" name=""/>
                <p:cNvSpPr/>
                <p:nvPr/>
              </p:nvSpPr>
              <p:spPr>
                <a:xfrm rot="16200000">
                  <a:off x="253440" y="702360"/>
                  <a:ext cx="684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179280" y="3026160"/>
            <a:ext cx="7921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掌握多位数的大小比较方法，能正确比较多位数的大小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掌握整万数和整亿数改写成用“万”或“亿”作单位的方法，能正确地进行改写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培养学生知识迁移的能力，渗透优化的数学思想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2"/>
          <p:cNvGrpSpPr/>
          <p:nvPr/>
        </p:nvGrpSpPr>
        <p:grpSpPr>
          <a:xfrm>
            <a:off x="60480" y="720720"/>
            <a:ext cx="3244680" cy="525600"/>
            <a:chOff x="60480" y="720720"/>
            <a:chExt cx="3244680" cy="525600"/>
          </a:xfrm>
        </p:grpSpPr>
        <p:grpSp>
          <p:nvGrpSpPr>
            <p:cNvPr id="50" name="圆角矩形 4"/>
            <p:cNvGrpSpPr/>
            <p:nvPr/>
          </p:nvGrpSpPr>
          <p:grpSpPr>
            <a:xfrm>
              <a:off x="203400" y="720720"/>
              <a:ext cx="3101760" cy="525600"/>
              <a:chOff x="203400" y="720720"/>
              <a:chExt cx="3101760" cy="525600"/>
            </a:xfrm>
          </p:grpSpPr>
          <p:pic>
            <p:nvPicPr>
              <p:cNvPr id="51" name="圆角矩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203400" y="720720"/>
                <a:ext cx="310176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"/>
              <p:cNvSpPr/>
              <p:nvPr/>
            </p:nvSpPr>
            <p:spPr>
              <a:xfrm>
                <a:off x="250200" y="796320"/>
                <a:ext cx="295236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学习目标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组合 4"/>
            <p:cNvGrpSpPr/>
            <p:nvPr/>
          </p:nvGrpSpPr>
          <p:grpSpPr>
            <a:xfrm>
              <a:off x="60480" y="838080"/>
              <a:ext cx="428760" cy="187560"/>
              <a:chOff x="60480" y="838080"/>
              <a:chExt cx="428760" cy="187560"/>
            </a:xfrm>
          </p:grpSpPr>
          <p:sp>
            <p:nvSpPr>
              <p:cNvPr id="54" name="椭圆 7"/>
              <p:cNvSpPr/>
              <p:nvPr/>
            </p:nvSpPr>
            <p:spPr>
              <a:xfrm rot="16200000">
                <a:off x="375480" y="911160"/>
                <a:ext cx="820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" name="椭圆 8"/>
              <p:cNvGrpSpPr/>
              <p:nvPr/>
            </p:nvGrpSpPr>
            <p:grpSpPr>
              <a:xfrm>
                <a:off x="356400" y="949680"/>
                <a:ext cx="120240" cy="65880"/>
                <a:chOff x="356400" y="949680"/>
                <a:chExt cx="120240" cy="65880"/>
              </a:xfrm>
            </p:grpSpPr>
            <p:pic>
              <p:nvPicPr>
                <p:cNvPr id="56" name="椭圆 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56400" y="949680"/>
                  <a:ext cx="12024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" name=""/>
                <p:cNvSpPr/>
                <p:nvPr/>
              </p:nvSpPr>
              <p:spPr>
                <a:xfrm rot="16200000">
                  <a:off x="392040" y="941400"/>
                  <a:ext cx="475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椭圆 9"/>
              <p:cNvSpPr/>
              <p:nvPr/>
            </p:nvSpPr>
            <p:spPr>
              <a:xfrm rot="16200000">
                <a:off x="375480" y="806400"/>
                <a:ext cx="820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" name="椭圆 10"/>
              <p:cNvGrpSpPr/>
              <p:nvPr/>
            </p:nvGrpSpPr>
            <p:grpSpPr>
              <a:xfrm>
                <a:off x="356400" y="845640"/>
                <a:ext cx="120240" cy="65880"/>
                <a:chOff x="356400" y="845640"/>
                <a:chExt cx="120240" cy="65880"/>
              </a:xfrm>
            </p:grpSpPr>
            <p:pic>
              <p:nvPicPr>
                <p:cNvPr id="60" name="椭圆 1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56400" y="845640"/>
                  <a:ext cx="12024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" name=""/>
                <p:cNvSpPr/>
                <p:nvPr/>
              </p:nvSpPr>
              <p:spPr>
                <a:xfrm rot="16200000">
                  <a:off x="392040" y="836640"/>
                  <a:ext cx="475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" name="圆角矩形 12"/>
              <p:cNvGrpSpPr/>
              <p:nvPr/>
            </p:nvGrpSpPr>
            <p:grpSpPr>
              <a:xfrm>
                <a:off x="60480" y="973800"/>
                <a:ext cx="394560" cy="51840"/>
                <a:chOff x="60480" y="973800"/>
                <a:chExt cx="394560" cy="51840"/>
              </a:xfrm>
            </p:grpSpPr>
            <p:pic>
              <p:nvPicPr>
                <p:cNvPr id="63" name="圆角矩形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0480" y="973800"/>
                  <a:ext cx="39456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" name=""/>
                <p:cNvSpPr/>
                <p:nvPr/>
              </p:nvSpPr>
              <p:spPr>
                <a:xfrm rot="16200000">
                  <a:off x="253440" y="835920"/>
                  <a:ext cx="684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" name="圆角矩形 14"/>
              <p:cNvGrpSpPr/>
              <p:nvPr/>
            </p:nvGrpSpPr>
            <p:grpSpPr>
              <a:xfrm>
                <a:off x="60480" y="946080"/>
                <a:ext cx="394560" cy="51840"/>
                <a:chOff x="60480" y="946080"/>
                <a:chExt cx="394560" cy="51840"/>
              </a:xfrm>
            </p:grpSpPr>
            <p:pic>
              <p:nvPicPr>
                <p:cNvPr id="66" name="圆角矩形 1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0480" y="946080"/>
                  <a:ext cx="39456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 rot="16200000">
                  <a:off x="253440" y="809640"/>
                  <a:ext cx="684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" name="圆角矩形 17"/>
              <p:cNvGrpSpPr/>
              <p:nvPr/>
            </p:nvGrpSpPr>
            <p:grpSpPr>
              <a:xfrm>
                <a:off x="60480" y="866160"/>
                <a:ext cx="394560" cy="51840"/>
                <a:chOff x="60480" y="866160"/>
                <a:chExt cx="394560" cy="51840"/>
              </a:xfrm>
            </p:grpSpPr>
            <p:pic>
              <p:nvPicPr>
                <p:cNvPr id="69" name="圆角矩形 1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0480" y="866160"/>
                  <a:ext cx="39456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0" name=""/>
                <p:cNvSpPr/>
                <p:nvPr/>
              </p:nvSpPr>
              <p:spPr>
                <a:xfrm rot="16200000">
                  <a:off x="253440" y="728640"/>
                  <a:ext cx="684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圆角矩形 18"/>
              <p:cNvGrpSpPr/>
              <p:nvPr/>
            </p:nvGrpSpPr>
            <p:grpSpPr>
              <a:xfrm>
                <a:off x="60480" y="838440"/>
                <a:ext cx="394560" cy="51840"/>
                <a:chOff x="60480" y="838440"/>
                <a:chExt cx="394560" cy="51840"/>
              </a:xfrm>
            </p:grpSpPr>
            <p:pic>
              <p:nvPicPr>
                <p:cNvPr id="72" name="圆角矩形 18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0480" y="838440"/>
                  <a:ext cx="39456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3" name=""/>
                <p:cNvSpPr/>
                <p:nvPr/>
              </p:nvSpPr>
              <p:spPr>
                <a:xfrm rot="16200000">
                  <a:off x="253440" y="702360"/>
                  <a:ext cx="684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000" y="1774800"/>
            <a:ext cx="79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填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10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（   　）位数，最高位是（　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位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560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左起第二位是（　）位，表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　）个（　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2760840" y="234936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6865920" y="2349360"/>
            <a:ext cx="114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5353200" y="35766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1041480" y="41511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2552760" y="41511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组合 2"/>
          <p:cNvGrpSpPr/>
          <p:nvPr/>
        </p:nvGrpSpPr>
        <p:grpSpPr>
          <a:xfrm>
            <a:off x="60480" y="720720"/>
            <a:ext cx="3244680" cy="525600"/>
            <a:chOff x="60480" y="720720"/>
            <a:chExt cx="3244680" cy="525600"/>
          </a:xfrm>
        </p:grpSpPr>
        <p:grpSp>
          <p:nvGrpSpPr>
            <p:cNvPr id="81" name="圆角矩形 4"/>
            <p:cNvGrpSpPr/>
            <p:nvPr/>
          </p:nvGrpSpPr>
          <p:grpSpPr>
            <a:xfrm>
              <a:off x="203400" y="720720"/>
              <a:ext cx="3101760" cy="525600"/>
              <a:chOff x="203400" y="720720"/>
              <a:chExt cx="3101760" cy="525600"/>
            </a:xfrm>
          </p:grpSpPr>
          <p:pic>
            <p:nvPicPr>
              <p:cNvPr id="82" name="圆角矩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203400" y="720720"/>
                <a:ext cx="310176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"/>
              <p:cNvSpPr/>
              <p:nvPr/>
            </p:nvSpPr>
            <p:spPr>
              <a:xfrm>
                <a:off x="250200" y="796320"/>
                <a:ext cx="295236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复习导入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组合 4"/>
            <p:cNvGrpSpPr/>
            <p:nvPr/>
          </p:nvGrpSpPr>
          <p:grpSpPr>
            <a:xfrm>
              <a:off x="60480" y="838080"/>
              <a:ext cx="428760" cy="187560"/>
              <a:chOff x="60480" y="838080"/>
              <a:chExt cx="428760" cy="187560"/>
            </a:xfrm>
          </p:grpSpPr>
          <p:sp>
            <p:nvSpPr>
              <p:cNvPr id="85" name="椭圆 7"/>
              <p:cNvSpPr/>
              <p:nvPr/>
            </p:nvSpPr>
            <p:spPr>
              <a:xfrm rot="16200000">
                <a:off x="375480" y="911160"/>
                <a:ext cx="820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" name="椭圆 8"/>
              <p:cNvGrpSpPr/>
              <p:nvPr/>
            </p:nvGrpSpPr>
            <p:grpSpPr>
              <a:xfrm>
                <a:off x="356400" y="949680"/>
                <a:ext cx="120240" cy="65880"/>
                <a:chOff x="356400" y="949680"/>
                <a:chExt cx="120240" cy="65880"/>
              </a:xfrm>
            </p:grpSpPr>
            <p:pic>
              <p:nvPicPr>
                <p:cNvPr id="87" name="椭圆 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56400" y="949680"/>
                  <a:ext cx="12024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" name=""/>
                <p:cNvSpPr/>
                <p:nvPr/>
              </p:nvSpPr>
              <p:spPr>
                <a:xfrm rot="16200000">
                  <a:off x="392040" y="941400"/>
                  <a:ext cx="475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" name="椭圆 9"/>
              <p:cNvSpPr/>
              <p:nvPr/>
            </p:nvSpPr>
            <p:spPr>
              <a:xfrm rot="16200000">
                <a:off x="375480" y="806400"/>
                <a:ext cx="820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" name="椭圆 10"/>
              <p:cNvGrpSpPr/>
              <p:nvPr/>
            </p:nvGrpSpPr>
            <p:grpSpPr>
              <a:xfrm>
                <a:off x="356400" y="845640"/>
                <a:ext cx="120240" cy="65880"/>
                <a:chOff x="356400" y="845640"/>
                <a:chExt cx="120240" cy="65880"/>
              </a:xfrm>
            </p:grpSpPr>
            <p:pic>
              <p:nvPicPr>
                <p:cNvPr id="91" name="椭圆 1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56400" y="845640"/>
                  <a:ext cx="12024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" name=""/>
                <p:cNvSpPr/>
                <p:nvPr/>
              </p:nvSpPr>
              <p:spPr>
                <a:xfrm rot="16200000">
                  <a:off x="392040" y="836640"/>
                  <a:ext cx="475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圆角矩形 12"/>
              <p:cNvGrpSpPr/>
              <p:nvPr/>
            </p:nvGrpSpPr>
            <p:grpSpPr>
              <a:xfrm>
                <a:off x="60480" y="973800"/>
                <a:ext cx="394560" cy="51840"/>
                <a:chOff x="60480" y="973800"/>
                <a:chExt cx="394560" cy="51840"/>
              </a:xfrm>
            </p:grpSpPr>
            <p:pic>
              <p:nvPicPr>
                <p:cNvPr id="94" name="圆角矩形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0480" y="973800"/>
                  <a:ext cx="39456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" name=""/>
                <p:cNvSpPr/>
                <p:nvPr/>
              </p:nvSpPr>
              <p:spPr>
                <a:xfrm rot="16200000">
                  <a:off x="253440" y="835920"/>
                  <a:ext cx="684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圆角矩形 14"/>
              <p:cNvGrpSpPr/>
              <p:nvPr/>
            </p:nvGrpSpPr>
            <p:grpSpPr>
              <a:xfrm>
                <a:off x="60480" y="946080"/>
                <a:ext cx="394560" cy="51840"/>
                <a:chOff x="60480" y="946080"/>
                <a:chExt cx="394560" cy="51840"/>
              </a:xfrm>
            </p:grpSpPr>
            <p:pic>
              <p:nvPicPr>
                <p:cNvPr id="97" name="圆角矩形 1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0480" y="946080"/>
                  <a:ext cx="39456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" name=""/>
                <p:cNvSpPr/>
                <p:nvPr/>
              </p:nvSpPr>
              <p:spPr>
                <a:xfrm rot="16200000">
                  <a:off x="253440" y="809640"/>
                  <a:ext cx="684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圆角矩形 17"/>
              <p:cNvGrpSpPr/>
              <p:nvPr/>
            </p:nvGrpSpPr>
            <p:grpSpPr>
              <a:xfrm>
                <a:off x="60480" y="866160"/>
                <a:ext cx="394560" cy="51840"/>
                <a:chOff x="60480" y="866160"/>
                <a:chExt cx="394560" cy="51840"/>
              </a:xfrm>
            </p:grpSpPr>
            <p:pic>
              <p:nvPicPr>
                <p:cNvPr id="100" name="圆角矩形 1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0480" y="866160"/>
                  <a:ext cx="39456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" name=""/>
                <p:cNvSpPr/>
                <p:nvPr/>
              </p:nvSpPr>
              <p:spPr>
                <a:xfrm rot="16200000">
                  <a:off x="253440" y="728640"/>
                  <a:ext cx="684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圆角矩形 18"/>
              <p:cNvGrpSpPr/>
              <p:nvPr/>
            </p:nvGrpSpPr>
            <p:grpSpPr>
              <a:xfrm>
                <a:off x="60480" y="838440"/>
                <a:ext cx="394560" cy="51840"/>
                <a:chOff x="60480" y="838440"/>
                <a:chExt cx="394560" cy="51840"/>
              </a:xfrm>
            </p:grpSpPr>
            <p:pic>
              <p:nvPicPr>
                <p:cNvPr id="103" name="圆角矩形 18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0480" y="838440"/>
                  <a:ext cx="39456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" name=""/>
                <p:cNvSpPr/>
                <p:nvPr/>
              </p:nvSpPr>
              <p:spPr>
                <a:xfrm rot="16200000">
                  <a:off x="253440" y="702360"/>
                  <a:ext cx="684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2876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在○里填上“＞”“＜”或“＝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611280" y="1341720"/>
            <a:ext cx="720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99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1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　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01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64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87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7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303440" y="2361960"/>
            <a:ext cx="692640" cy="581400"/>
          </a:xfrm>
          <a:prstGeom prst="rect">
            <a:avLst/>
          </a:prstGeom>
          <a:solidFill>
            <a:srgbClr val="00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说一说万以内数的比较两个数的大小的方法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042920" y="313992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位数多的数大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1042920" y="393372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、位数相同的数，先比较左起第一位，第一位上的数大的那个数就大；如果左起第一位也相同，再比较左起第二位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1620720" y="1341360"/>
            <a:ext cx="4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4067280" y="1341360"/>
            <a:ext cx="41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6372720" y="1341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5"/>
          <p:cNvSpPr/>
          <p:nvPr/>
        </p:nvSpPr>
        <p:spPr>
          <a:xfrm>
            <a:off x="395280" y="1989000"/>
            <a:ext cx="770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我国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200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2007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201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年出版图书的情况如下表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95280" y="3357720"/>
          <a:ext cx="8496360" cy="1750680"/>
        </p:xfrm>
        <a:graphic>
          <a:graphicData uri="http://schemas.openxmlformats.org/drawingml/2006/table">
            <a:tbl>
              <a:tblPr/>
              <a:tblGrid>
                <a:gridCol w="2124000"/>
                <a:gridCol w="2124000"/>
                <a:gridCol w="2124360"/>
                <a:gridCol w="2124000"/>
              </a:tblGrid>
              <a:tr h="54936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c0c0c"/>
                          </a:solidFill>
                          <a:latin typeface="宋体"/>
                        </a:rPr>
                        <a:t>年份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c0c0c"/>
                          </a:solidFill>
                          <a:latin typeface="宋体"/>
                        </a:rPr>
                        <a:t>200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c0c0c"/>
                          </a:solidFill>
                          <a:latin typeface="宋体"/>
                        </a:rPr>
                        <a:t>200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c0c0c"/>
                          </a:solidFill>
                          <a:latin typeface="宋体"/>
                        </a:rPr>
                        <a:t>201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36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000" spc="-1" strike="noStrike">
                          <a:solidFill>
                            <a:srgbClr val="0c0c0c"/>
                          </a:solidFill>
                          <a:latin typeface="宋体"/>
                        </a:rPr>
                        <a:t>种类</a:t>
                      </a:r>
                      <a:r>
                        <a:rPr b="0" lang="en-US" sz="3000" spc="-1" strike="noStrike">
                          <a:solidFill>
                            <a:srgbClr val="0c0c0c"/>
                          </a:solidFill>
                          <a:latin typeface="宋体"/>
                        </a:rPr>
                        <a:t>/</a:t>
                      </a:r>
                      <a:r>
                        <a:rPr b="0" lang="zh-CN" sz="3000" spc="-1" strike="noStrike">
                          <a:solidFill>
                            <a:srgbClr val="0c0c0c"/>
                          </a:solidFill>
                          <a:latin typeface="宋体"/>
                        </a:rPr>
                        <a:t>种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c0c0c"/>
                          </a:solidFill>
                          <a:latin typeface="宋体"/>
                        </a:rPr>
                        <a:t>19000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c0c0c"/>
                          </a:solidFill>
                          <a:latin typeface="宋体"/>
                        </a:rPr>
                        <a:t>25000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c0c0c"/>
                          </a:solidFill>
                          <a:latin typeface="宋体"/>
                        </a:rPr>
                        <a:t>37000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20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000" spc="-1" strike="noStrike">
                          <a:solidFill>
                            <a:srgbClr val="0c0c0c"/>
                          </a:solidFill>
                          <a:latin typeface="宋体"/>
                        </a:rPr>
                        <a:t>总印数</a:t>
                      </a:r>
                      <a:r>
                        <a:rPr b="0" lang="en-US" sz="3000" spc="-1" strike="noStrike">
                          <a:solidFill>
                            <a:srgbClr val="0c0c0c"/>
                          </a:solidFill>
                          <a:latin typeface="宋体"/>
                        </a:rPr>
                        <a:t>/</a:t>
                      </a:r>
                      <a:r>
                        <a:rPr b="0" lang="zh-CN" sz="3000" spc="-1" strike="noStrike">
                          <a:solidFill>
                            <a:srgbClr val="0c0c0c"/>
                          </a:solidFill>
                          <a:latin typeface="宋体"/>
                        </a:rPr>
                        <a:t>册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c0c0c"/>
                          </a:solidFill>
                          <a:latin typeface="宋体"/>
                        </a:rPr>
                        <a:t>670000000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c0c0c"/>
                          </a:solidFill>
                          <a:latin typeface="宋体"/>
                        </a:rPr>
                        <a:t>630000000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c0c0c"/>
                          </a:solidFill>
                          <a:latin typeface="宋体"/>
                        </a:rPr>
                        <a:t>770000000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5" name="TextBox 7"/>
          <p:cNvSpPr/>
          <p:nvPr/>
        </p:nvSpPr>
        <p:spPr>
          <a:xfrm>
            <a:off x="466560" y="5373720"/>
            <a:ext cx="705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从这幅图中你了解了哪些信息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2"/>
          <p:cNvGrpSpPr/>
          <p:nvPr/>
        </p:nvGrpSpPr>
        <p:grpSpPr>
          <a:xfrm>
            <a:off x="60480" y="720720"/>
            <a:ext cx="3244680" cy="525600"/>
            <a:chOff x="60480" y="720720"/>
            <a:chExt cx="3244680" cy="525600"/>
          </a:xfrm>
        </p:grpSpPr>
        <p:grpSp>
          <p:nvGrpSpPr>
            <p:cNvPr id="117" name="圆角矩形 4"/>
            <p:cNvGrpSpPr/>
            <p:nvPr/>
          </p:nvGrpSpPr>
          <p:grpSpPr>
            <a:xfrm>
              <a:off x="203400" y="720720"/>
              <a:ext cx="3101760" cy="525600"/>
              <a:chOff x="203400" y="720720"/>
              <a:chExt cx="3101760" cy="525600"/>
            </a:xfrm>
          </p:grpSpPr>
          <p:pic>
            <p:nvPicPr>
              <p:cNvPr id="118" name="圆角矩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203400" y="720720"/>
                <a:ext cx="310176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250200" y="796320"/>
                <a:ext cx="295236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探索新知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组合 4"/>
            <p:cNvGrpSpPr/>
            <p:nvPr/>
          </p:nvGrpSpPr>
          <p:grpSpPr>
            <a:xfrm>
              <a:off x="60480" y="838080"/>
              <a:ext cx="428760" cy="187560"/>
              <a:chOff x="60480" y="838080"/>
              <a:chExt cx="428760" cy="187560"/>
            </a:xfrm>
          </p:grpSpPr>
          <p:sp>
            <p:nvSpPr>
              <p:cNvPr id="121" name="椭圆 7"/>
              <p:cNvSpPr/>
              <p:nvPr/>
            </p:nvSpPr>
            <p:spPr>
              <a:xfrm rot="16200000">
                <a:off x="375480" y="911160"/>
                <a:ext cx="820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" name="椭圆 8"/>
              <p:cNvGrpSpPr/>
              <p:nvPr/>
            </p:nvGrpSpPr>
            <p:grpSpPr>
              <a:xfrm>
                <a:off x="356400" y="949680"/>
                <a:ext cx="120240" cy="65880"/>
                <a:chOff x="356400" y="949680"/>
                <a:chExt cx="120240" cy="65880"/>
              </a:xfrm>
            </p:grpSpPr>
            <p:pic>
              <p:nvPicPr>
                <p:cNvPr id="123" name="椭圆 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56400" y="949680"/>
                  <a:ext cx="12024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" name=""/>
                <p:cNvSpPr/>
                <p:nvPr/>
              </p:nvSpPr>
              <p:spPr>
                <a:xfrm rot="16200000">
                  <a:off x="392040" y="941400"/>
                  <a:ext cx="475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" name="椭圆 9"/>
              <p:cNvSpPr/>
              <p:nvPr/>
            </p:nvSpPr>
            <p:spPr>
              <a:xfrm rot="16200000">
                <a:off x="375480" y="806400"/>
                <a:ext cx="820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椭圆 10"/>
              <p:cNvGrpSpPr/>
              <p:nvPr/>
            </p:nvGrpSpPr>
            <p:grpSpPr>
              <a:xfrm>
                <a:off x="356400" y="845640"/>
                <a:ext cx="120240" cy="65880"/>
                <a:chOff x="356400" y="845640"/>
                <a:chExt cx="120240" cy="65880"/>
              </a:xfrm>
            </p:grpSpPr>
            <p:pic>
              <p:nvPicPr>
                <p:cNvPr id="127" name="椭圆 1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56400" y="845640"/>
                  <a:ext cx="12024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" name=""/>
                <p:cNvSpPr/>
                <p:nvPr/>
              </p:nvSpPr>
              <p:spPr>
                <a:xfrm rot="16200000">
                  <a:off x="392040" y="836640"/>
                  <a:ext cx="475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圆角矩形 12"/>
              <p:cNvGrpSpPr/>
              <p:nvPr/>
            </p:nvGrpSpPr>
            <p:grpSpPr>
              <a:xfrm>
                <a:off x="60480" y="973800"/>
                <a:ext cx="394560" cy="51840"/>
                <a:chOff x="60480" y="973800"/>
                <a:chExt cx="394560" cy="51840"/>
              </a:xfrm>
            </p:grpSpPr>
            <p:pic>
              <p:nvPicPr>
                <p:cNvPr id="130" name="圆角矩形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0480" y="973800"/>
                  <a:ext cx="39456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" name=""/>
                <p:cNvSpPr/>
                <p:nvPr/>
              </p:nvSpPr>
              <p:spPr>
                <a:xfrm rot="16200000">
                  <a:off x="253440" y="835920"/>
                  <a:ext cx="684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圆角矩形 14"/>
              <p:cNvGrpSpPr/>
              <p:nvPr/>
            </p:nvGrpSpPr>
            <p:grpSpPr>
              <a:xfrm>
                <a:off x="60480" y="946080"/>
                <a:ext cx="394560" cy="51840"/>
                <a:chOff x="60480" y="946080"/>
                <a:chExt cx="394560" cy="51840"/>
              </a:xfrm>
            </p:grpSpPr>
            <p:pic>
              <p:nvPicPr>
                <p:cNvPr id="133" name="圆角矩形 1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0480" y="946080"/>
                  <a:ext cx="39456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" name=""/>
                <p:cNvSpPr/>
                <p:nvPr/>
              </p:nvSpPr>
              <p:spPr>
                <a:xfrm rot="16200000">
                  <a:off x="253440" y="809640"/>
                  <a:ext cx="684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圆角矩形 17"/>
              <p:cNvGrpSpPr/>
              <p:nvPr/>
            </p:nvGrpSpPr>
            <p:grpSpPr>
              <a:xfrm>
                <a:off x="60480" y="866160"/>
                <a:ext cx="394560" cy="51840"/>
                <a:chOff x="60480" y="866160"/>
                <a:chExt cx="394560" cy="51840"/>
              </a:xfrm>
            </p:grpSpPr>
            <p:pic>
              <p:nvPicPr>
                <p:cNvPr id="136" name="圆角矩形 1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0480" y="866160"/>
                  <a:ext cx="39456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" name=""/>
                <p:cNvSpPr/>
                <p:nvPr/>
              </p:nvSpPr>
              <p:spPr>
                <a:xfrm rot="16200000">
                  <a:off x="253440" y="728640"/>
                  <a:ext cx="684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圆角矩形 18"/>
              <p:cNvGrpSpPr/>
              <p:nvPr/>
            </p:nvGrpSpPr>
            <p:grpSpPr>
              <a:xfrm>
                <a:off x="60480" y="838440"/>
                <a:ext cx="394560" cy="51840"/>
                <a:chOff x="60480" y="838440"/>
                <a:chExt cx="394560" cy="51840"/>
              </a:xfrm>
            </p:grpSpPr>
            <p:pic>
              <p:nvPicPr>
                <p:cNvPr id="139" name="圆角矩形 18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0480" y="838440"/>
                  <a:ext cx="39456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" name=""/>
                <p:cNvSpPr/>
                <p:nvPr/>
              </p:nvSpPr>
              <p:spPr>
                <a:xfrm rot="16200000">
                  <a:off x="253440" y="702360"/>
                  <a:ext cx="6840" cy="3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2"/>
          <p:cNvSpPr/>
          <p:nvPr/>
        </p:nvSpPr>
        <p:spPr>
          <a:xfrm>
            <a:off x="466560" y="1052640"/>
            <a:ext cx="83534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先读一读这些数，再按照从小到大的顺序排列。说说怎样比较这些数的大小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和万以内的数比较方法相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042920" y="3139920"/>
            <a:ext cx="568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0" lang="zh-CN" sz="30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位数多的数大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1042920" y="3933720"/>
            <a:ext cx="7056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、位数相同的数，先比较左起第一位，第一位数大的数就大；如果左起第一位也相同，再比较左起第二位</a:t>
            </a:r>
            <a:r>
              <a:rPr b="1" lang="en-US" sz="3000" spc="-1" strike="noStrike">
                <a:solidFill>
                  <a:srgbClr val="0000ff"/>
                </a:solidFill>
                <a:latin typeface="宋体"/>
              </a:rPr>
              <a:t>…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2"/>
          <p:cNvSpPr/>
          <p:nvPr/>
        </p:nvSpPr>
        <p:spPr>
          <a:xfrm>
            <a:off x="318960" y="892080"/>
            <a:ext cx="8066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三个数都是六位数，先比较最高位，最高位上数大的那个数就大，如果最高位相同，再比较下一位所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370000 ﹥250000 ﹥1900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534960" y="3341520"/>
            <a:ext cx="76327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190000=19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万</a:t>
            </a: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           </a:t>
            </a: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250000=25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370000=37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万        </a:t>
            </a: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37 ﹥25 ﹥1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37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万</a:t>
            </a: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﹥</a:t>
            </a: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25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万</a:t>
            </a: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﹥</a:t>
            </a: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19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390600" y="5068800"/>
            <a:ext cx="8137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两种比较的方法相同吗？哪一种更简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不相同，第二种更简单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2"/>
          <p:cNvSpPr/>
          <p:nvPr/>
        </p:nvSpPr>
        <p:spPr>
          <a:xfrm>
            <a:off x="250920" y="907920"/>
            <a:ext cx="8893080" cy="50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你能把这三年各类图书的总印数改写成用“亿”作单位的数，再按从大到小的顺序排列吗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6700000000=67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6300000000=6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7700000000=77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77 ﹥ 67﹥6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所以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77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亿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﹥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67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亿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﹥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6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2765880" y="884880"/>
            <a:ext cx="660960" cy="550800"/>
          </a:xfrm>
          <a:prstGeom prst="rect">
            <a:avLst/>
          </a:prstGeom>
          <a:solidFill>
            <a:srgbClr val="00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说一说多位数的比较的方法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、位数多的数大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、位数相同的数，先比较左起第一位，第一位数上的数大的那个数就大；如果左起第一位相同，再比较左起第二位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2:30:31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