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6FF-75D3-4EE0-A5D2-2F93E439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A53-8C53-497C-BA3F-4A6815DD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A8F-99A0-416B-BABC-99AACE87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CD3-EF0B-4BD0-B2FE-8EA35DEF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C7F-B1F4-4F20-AAAD-5348D37D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A70-3BD2-4E01-BEBF-6A67D649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FF7-1C34-4CDE-9674-B54FB6A2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0AF-F7B6-4EE5-ADA5-451D2CB3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B85-FFA2-4854-AC57-B6E0701A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A76-A41D-4F3F-AB30-7790BC43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BAD-641A-4F12-8976-F707A36F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B31-5217-4087-84E8-AFD62B32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4FF9-782A-4C79-94CE-F5B4BC7A9B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154944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23800" y="3333600"/>
            <a:ext cx="84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法交换律和加法结合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1752480"/>
            <a:ext cx="757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六 单元  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算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2514600" cy="62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7772400" cy="106524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1"/>
          <p:cNvSpPr/>
          <p:nvPr/>
        </p:nvSpPr>
        <p:spPr>
          <a:xfrm>
            <a:off x="846000" y="31194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=8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"/>
          <p:cNvSpPr/>
          <p:nvPr/>
        </p:nvSpPr>
        <p:spPr>
          <a:xfrm>
            <a:off x="3776760" y="308628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=6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"/>
          <p:cNvSpPr/>
          <p:nvPr/>
        </p:nvSpPr>
        <p:spPr>
          <a:xfrm>
            <a:off x="6485040" y="311940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=11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"/>
          <p:cNvSpPr/>
          <p:nvPr/>
        </p:nvSpPr>
        <p:spPr>
          <a:xfrm>
            <a:off x="3513240" y="429732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验算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2514600" cy="62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6115320" cy="1057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570320" y="33526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、猜猜看，这两个算式的结果会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609640" y="4114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、算算看，你的猜测正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222720" y="4876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、想想看，你认为哪个算式比较简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1022760" y="1522440"/>
            <a:ext cx="43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巧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+2+3+4+5+6+7+8+9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1277640" y="2438280"/>
            <a:ext cx="65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+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+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+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5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390680" y="304812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0+5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372680" y="373392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4262400" y="3733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里运用了哪个运算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"/>
          <p:cNvSpPr/>
          <p:nvPr/>
        </p:nvSpPr>
        <p:spPr>
          <a:xfrm>
            <a:off x="2146320" y="4807080"/>
            <a:ext cx="44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法交换律和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内容占位符 166913" descr="照片 035"/>
          <p:cNvPicPr/>
          <p:nvPr/>
        </p:nvPicPr>
        <p:blipFill>
          <a:blip r:embed="rId1"/>
          <a:stretch/>
        </p:blipFill>
        <p:spPr>
          <a:xfrm>
            <a:off x="34920" y="476280"/>
            <a:ext cx="4321080" cy="2232000"/>
          </a:xfrm>
          <a:prstGeom prst="rect">
            <a:avLst/>
          </a:prstGeom>
          <a:ln w="0">
            <a:noFill/>
          </a:ln>
        </p:spPr>
      </p:pic>
      <p:pic>
        <p:nvPicPr>
          <p:cNvPr id="87" name="内容占位符 166914" descr="照片 036"/>
          <p:cNvPicPr/>
          <p:nvPr/>
        </p:nvPicPr>
        <p:blipFill>
          <a:blip r:embed="rId2"/>
          <a:stretch/>
        </p:blipFill>
        <p:spPr>
          <a:xfrm>
            <a:off x="4356000" y="2781360"/>
            <a:ext cx="4753080" cy="35463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6915" descr="照片 076"/>
          <p:cNvPicPr/>
          <p:nvPr/>
        </p:nvPicPr>
        <p:blipFill>
          <a:blip r:embed="rId3"/>
          <a:stretch/>
        </p:blipFill>
        <p:spPr>
          <a:xfrm>
            <a:off x="34920" y="2782800"/>
            <a:ext cx="4321080" cy="35449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66916" descr="照片 131"/>
          <p:cNvPicPr/>
          <p:nvPr/>
        </p:nvPicPr>
        <p:blipFill>
          <a:blip r:embed="rId4"/>
          <a:stretch/>
        </p:blipFill>
        <p:spPr>
          <a:xfrm>
            <a:off x="4429080" y="477720"/>
            <a:ext cx="4680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533520" y="2590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个男生跳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124080" y="259092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个女生跳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752480" y="32004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、跳绳的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752480" y="3733920"/>
            <a:ext cx="34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（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648320" y="3733920"/>
            <a:ext cx="34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（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09480" y="441972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面两道算式的得数相同，可以写成等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+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000689_0"/>
          <p:cNvPicPr/>
          <p:nvPr/>
        </p:nvPicPr>
        <p:blipFill>
          <a:blip r:embed="rId1"/>
          <a:srcRect l="18820" t="13894" r="14070" b="71616"/>
          <a:stretch/>
        </p:blipFill>
        <p:spPr>
          <a:xfrm>
            <a:off x="838080" y="914400"/>
            <a:ext cx="6985080" cy="1727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5867280" y="2590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个女生踢毽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838080" y="14479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再写几个这样的等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83808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用字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表示两个加数，上面的规律可以写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362320" y="3886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+b= b+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762120" y="4800600"/>
            <a:ext cx="7162560" cy="58140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个加数相加，交换两个加数的位置，和不变，这就是加法交换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8"/>
          <p:cNvSpPr/>
          <p:nvPr/>
        </p:nvSpPr>
        <p:spPr>
          <a:xfrm>
            <a:off x="380880" y="198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个男生跳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971800" y="1981080"/>
            <a:ext cx="25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个女生跳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09480" y="25909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、跳绳和踢毽子的一共有多少人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000689_0"/>
          <p:cNvPicPr/>
          <p:nvPr/>
        </p:nvPicPr>
        <p:blipFill>
          <a:blip r:embed="rId1"/>
          <a:srcRect l="18820" t="13894" r="14070" b="71616"/>
          <a:stretch/>
        </p:blipFill>
        <p:spPr>
          <a:xfrm>
            <a:off x="915840" y="254160"/>
            <a:ext cx="6985080" cy="1726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2"/>
          <p:cNvSpPr/>
          <p:nvPr/>
        </p:nvSpPr>
        <p:spPr>
          <a:xfrm>
            <a:off x="5715000" y="1981080"/>
            <a:ext cx="28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个女生踢毽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85800" y="312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＋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572000" y="31240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8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＋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7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85800" y="3505320"/>
            <a:ext cx="187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5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4495680" y="358128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8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506520" y="4952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．观察这两道算式，他们有什么相同点和不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．猜想一下，换成其他数是不是也有这样的规律？自己举例验证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490760" y="34797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+25)+16         45+(25+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638360" y="42354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+18)+22        39+(18+2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471680" y="119556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面两道算式可以写成等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+17)+23        28+(17+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4214880" y="203364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4233960" y="43876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4233960" y="36259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4233960" y="28638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243080" y="271944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算一算，下面的       里能填等号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838080" y="52578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比较上面的三组算式，和同学说说有什么发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914400" y="3809880"/>
            <a:ext cx="6696000" cy="5205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个数相加，可以先把前两个数相加，再和第三个数相加；也可以先把后两个数相加，再和第一个数相加，它们的和不变。这就是加法结合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480" y="1523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用字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表示三个加数，上面的规律可以写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057400" y="2743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+b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 c = a 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+ c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2895840" cy="803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6324840" cy="51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3276720" cy="604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838080" y="3733920"/>
            <a:ext cx="5486400" cy="44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5257800" cy="644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497480" y="2895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加法交换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6859440" y="3809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加法结合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859440" y="472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加法交换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859440" y="5181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加法结合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2514600" cy="62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655308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4344840" y="2362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加法交换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478560" y="2895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加法结合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685944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加法结合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792760" y="4419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加法交换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7545240" y="4419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加法结合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30:4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