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C4D-0E07-4C92-A4C2-8185581F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691-A7E6-433D-B077-52C5A7AD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7FA-578C-4437-A0F8-3851A586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C94-0B3E-4BAF-99AE-A9EA95C3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8BB-FD73-4312-8423-FD43FE98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D74-3F25-4D5C-B6C5-5D285E64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D882-483B-498F-BD20-DFB56F29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EBB7-7679-4D59-B4DE-6ABD23B2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F38-2FD6-49C6-9EE9-44ABD8A7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B2C3-C7AA-4FFC-A41C-97109358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AE93-CD81-4D54-9D25-5EC23147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295D-8DDC-4D21-9B65-BF3390E0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FC9F-724A-4ADC-8174-2AF8895E6B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3162240" y="1962000"/>
            <a:ext cx="1954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3438360" y="33400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23800" y="3333600"/>
            <a:ext cx="84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习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2957400" y="1600200"/>
            <a:ext cx="40032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1752480"/>
            <a:ext cx="7570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六 单元         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算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2560" cy="259056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2214720" y="287352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2214720" y="335268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2214720" y="380988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2081160" y="48769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怎样可以算得很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8"/>
          <p:cNvSpPr/>
          <p:nvPr/>
        </p:nvSpPr>
        <p:spPr>
          <a:xfrm>
            <a:off x="3163680" y="419112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一个加数不变，另一个加数增加（或减少）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和也随着增加（或减少）几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1676520"/>
            <a:ext cx="8880480" cy="2514600"/>
          </a:xfrm>
          <a:prstGeom prst="rect">
            <a:avLst/>
          </a:prstGeom>
          <a:ln w="0">
            <a:noFill/>
          </a:ln>
        </p:spPr>
      </p:pic>
      <p:sp>
        <p:nvSpPr>
          <p:cNvPr id="83" name="TextBox 9"/>
          <p:cNvSpPr/>
          <p:nvPr/>
        </p:nvSpPr>
        <p:spPr>
          <a:xfrm>
            <a:off x="2215080" y="31240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2215080" y="35812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3510360" y="31240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3510360" y="35812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4881960" y="31240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4881960" y="35812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6329880" y="31240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6"/>
          <p:cNvSpPr/>
          <p:nvPr/>
        </p:nvSpPr>
        <p:spPr>
          <a:xfrm>
            <a:off x="6329880" y="35812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7"/>
          <p:cNvSpPr/>
          <p:nvPr/>
        </p:nvSpPr>
        <p:spPr>
          <a:xfrm>
            <a:off x="7625160" y="31240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8"/>
          <p:cNvSpPr/>
          <p:nvPr/>
        </p:nvSpPr>
        <p:spPr>
          <a:xfrm>
            <a:off x="7625160" y="35812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9"/>
          <p:cNvSpPr/>
          <p:nvPr/>
        </p:nvSpPr>
        <p:spPr>
          <a:xfrm>
            <a:off x="1892160" y="5105520"/>
            <a:ext cx="570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在减法运算中，被减数不变，减数增加（或减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几，差反而会减少（或增加）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1298160" y="1219320"/>
            <a:ext cx="3472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回顾：前两节课我们学习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什么内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762120" y="3048120"/>
            <a:ext cx="441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+b= b+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04920" y="416556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+b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+ c = a +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b+ c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698640" y="5410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运用加法运算律，可以进行简便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15184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1905120" y="2209680"/>
            <a:ext cx="7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4196520" y="22096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3739320" y="27972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6329880" y="281952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4426920" y="34290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7092000" y="3429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04920" y="1341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55+36+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76320" y="2205000"/>
            <a:ext cx="411480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=55+</a:t>
            </a:r>
            <a:r>
              <a:rPr b="0" lang="zh-CN" sz="4000" spc="-1" strike="noStrike">
                <a:solidFill>
                  <a:srgbClr val="0000ff"/>
                </a:solidFill>
                <a:latin typeface="Verdana"/>
              </a:rPr>
              <a:t>（</a:t>
            </a: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36 +64</a:t>
            </a:r>
            <a:r>
              <a:rPr b="0" lang="zh-CN" sz="4000" spc="-1" strike="noStrike">
                <a:solidFill>
                  <a:srgbClr val="0000ff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=55 +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=1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394240" y="134136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38+4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056200" y="2133720"/>
            <a:ext cx="439272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=238+400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=638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=6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905120" y="404496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37+48+23+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463760" y="4711680"/>
            <a:ext cx="678168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=</a:t>
            </a:r>
            <a:r>
              <a:rPr b="0" lang="zh-CN" sz="4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zh-CN" sz="4000" spc="-1" strike="noStrike">
                <a:solidFill>
                  <a:srgbClr val="0000ff"/>
                </a:solidFill>
                <a:latin typeface="Verdana"/>
              </a:rPr>
              <a:t>（</a:t>
            </a: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37 +23</a:t>
            </a:r>
            <a:r>
              <a:rPr b="0" lang="zh-CN" sz="4000" spc="-1" strike="noStrike">
                <a:solidFill>
                  <a:srgbClr val="0000ff"/>
                </a:solidFill>
                <a:latin typeface="Verdana"/>
              </a:rPr>
              <a:t>） </a:t>
            </a: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0" lang="zh-CN" sz="4000" spc="-1" strike="noStrike">
                <a:solidFill>
                  <a:srgbClr val="0000ff"/>
                </a:solidFill>
                <a:latin typeface="Verdana"/>
              </a:rPr>
              <a:t>（</a:t>
            </a: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48 +52</a:t>
            </a:r>
            <a:r>
              <a:rPr b="0" lang="zh-CN" sz="4000" spc="-1" strike="noStrike">
                <a:solidFill>
                  <a:srgbClr val="0000ff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=60 +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=1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762120" y="1762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+3+5+7+9+11+13+15+17+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92160" y="2363760"/>
            <a:ext cx="896292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=</a:t>
            </a:r>
            <a:r>
              <a:rPr b="0" lang="zh-CN" sz="2400" spc="-1" strike="noStrike">
                <a:solidFill>
                  <a:srgbClr val="0000ff"/>
                </a:solidFill>
                <a:latin typeface="Verdana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1 +19</a:t>
            </a:r>
            <a:r>
              <a:rPr b="0" lang="zh-CN" sz="2400" spc="-1" strike="noStrike">
                <a:solidFill>
                  <a:srgbClr val="0000ff"/>
                </a:solidFill>
                <a:latin typeface="Verdana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Verdana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3 +17</a:t>
            </a:r>
            <a:r>
              <a:rPr b="0" lang="zh-CN" sz="2400" spc="-1" strike="noStrike">
                <a:solidFill>
                  <a:srgbClr val="0000ff"/>
                </a:solidFill>
                <a:latin typeface="Verdana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+ </a:t>
            </a:r>
            <a:r>
              <a:rPr b="0" lang="zh-CN" sz="2400" spc="-1" strike="noStrike">
                <a:solidFill>
                  <a:srgbClr val="0000ff"/>
                </a:solidFill>
                <a:latin typeface="Verdana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5+15</a:t>
            </a:r>
            <a:r>
              <a:rPr b="0" lang="zh-CN" sz="2400" spc="-1" strike="noStrike">
                <a:solidFill>
                  <a:srgbClr val="0000ff"/>
                </a:solidFill>
                <a:latin typeface="Verdana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Verdana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7 +13 +</a:t>
            </a:r>
            <a:r>
              <a:rPr b="0" lang="zh-CN" sz="2400" spc="-1" strike="noStrike">
                <a:solidFill>
                  <a:srgbClr val="0000ff"/>
                </a:solidFill>
                <a:latin typeface="Verdana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9 +11</a:t>
            </a:r>
            <a:r>
              <a:rPr b="0" lang="zh-CN" sz="2800" spc="-1" strike="noStrike">
                <a:solidFill>
                  <a:srgbClr val="0000ff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=20 +20 +20 +20 +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=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42360" cy="1828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3759840" y="3809880"/>
            <a:ext cx="892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从一个数里连续减去两个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等于从这个数里减去这两个数的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8866080" cy="1828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4900680" y="4809960"/>
            <a:ext cx="94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灵活运用运算律或一些规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可以使计算简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文本框 1"/>
          <p:cNvSpPr/>
          <p:nvPr/>
        </p:nvSpPr>
        <p:spPr>
          <a:xfrm>
            <a:off x="341280" y="673200"/>
            <a:ext cx="78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下面各题，怎样算比较简便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222120" y="1562040"/>
            <a:ext cx="4411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639-128-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=639-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128+7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=639-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=4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4484520" y="1308240"/>
            <a:ext cx="4286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523-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23+4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=523-23-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=500-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=4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1"/>
          <p:cNvSpPr/>
          <p:nvPr/>
        </p:nvSpPr>
        <p:spPr>
          <a:xfrm>
            <a:off x="174600" y="784080"/>
            <a:ext cx="3373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156-56-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=156-56-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=100-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=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"/>
          <p:cNvSpPr/>
          <p:nvPr/>
        </p:nvSpPr>
        <p:spPr>
          <a:xfrm>
            <a:off x="4572000" y="571680"/>
            <a:ext cx="3309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347-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68+4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=347-47-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=100-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=3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30:5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