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097-93BD-49C7-8098-EDEE14BE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54A-5AA5-484F-9CEE-5E02B5E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A08-1B7F-43B7-BA60-9C812175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AA1-AC1A-42B5-8FE1-0BF4DDED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97A-2EBD-4619-89FC-7017B60C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9F3-0DA3-4C0A-9EE0-0B639DF2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88E-81B0-4DD6-8F28-E90E3FE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BDB-680D-4029-BAEF-8CFC50FD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4B9-2FD6-47A0-B17B-E3DFFA3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612-EB88-4C74-A42D-7A42D23B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069-5C89-4E9E-9CE1-B66E6DE4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628-88E0-44BA-ADA2-BCBE5423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DD0C-4F3C-482C-93DE-1A23F8DF0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282888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3340080"/>
            <a:ext cx="93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乘法分配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752480"/>
            <a:ext cx="7570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六 单元       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算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00040"/>
            <a:ext cx="8929800" cy="5130720"/>
          </a:xfrm>
          <a:prstGeom prst="rect">
            <a:avLst/>
          </a:prstGeom>
          <a:ln w="0">
            <a:noFill/>
          </a:ln>
        </p:spPr>
      </p:pic>
      <p:sp>
        <p:nvSpPr>
          <p:cNvPr id="99" name="矩形 3"/>
          <p:cNvSpPr/>
          <p:nvPr/>
        </p:nvSpPr>
        <p:spPr>
          <a:xfrm>
            <a:off x="5214960" y="2714760"/>
            <a:ext cx="314316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1428840" y="4929120"/>
            <a:ext cx="600084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1285920" y="207288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5×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0-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×7-20×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318320" y="636480"/>
            <a:ext cx="383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你能写出与下面算式相等的式子吗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计算检验，你有什么发现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642640" y="47138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乘法分配律也适用于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减法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214200" y="2954160"/>
            <a:ext cx="336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=2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0-25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=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4059360" y="2962440"/>
            <a:ext cx="336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50-2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=2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395280" y="5079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回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4920" y="1844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乘法交换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700360" y="17733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×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4920" y="351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乘法结合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771640" y="3500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×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×c = a×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b × c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929360" cy="3100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785880" y="4229640"/>
            <a:ext cx="72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根据问题情境，用两种方法，列综合算式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．联系实际问题想一想，这两个算式表示的意义有什么联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你能写出与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30+1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×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相等的算式吗？（口算验证是否正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仿照着再写几组这样的算式，算一算，每组两道能不能组成等式，你有什么发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联系之前学习乘法运算律的经验，你能用字母式子表示出上面算式反映的规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632680" y="3582000"/>
            <a:ext cx="331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小组交流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说说列出的两道综合算式，它们有什么相同和不同的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与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0+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×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相等的算式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观察写出的等式，你有什么发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写出的字母式子是怎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9293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286840" cy="244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28760" y="3357720"/>
            <a:ext cx="80722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715240" cy="2354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3"/>
          <p:cNvSpPr/>
          <p:nvPr/>
        </p:nvSpPr>
        <p:spPr>
          <a:xfrm>
            <a:off x="2000160" y="47862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这就是乘法分配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2"/>
          <p:cNvGrpSpPr/>
          <p:nvPr/>
        </p:nvGrpSpPr>
        <p:grpSpPr>
          <a:xfrm>
            <a:off x="-285840" y="3500280"/>
            <a:ext cx="8610840" cy="1987200"/>
            <a:chOff x="-285840" y="3500280"/>
            <a:chExt cx="8610840" cy="1987200"/>
          </a:xfrm>
        </p:grpSpPr>
        <p:sp>
          <p:nvSpPr>
            <p:cNvPr id="62" name="Rectangle 13"/>
            <p:cNvSpPr/>
            <p:nvPr/>
          </p:nvSpPr>
          <p:spPr>
            <a:xfrm>
              <a:off x="-285840" y="3500280"/>
              <a:ext cx="8458200" cy="19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-56880" y="3610800"/>
              <a:ext cx="8381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a + b)×</a:t>
              </a:r>
              <a:r>
                <a:rPr b="1" lang="en-US" sz="6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r>
                <a:rPr b="1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5"/>
          <p:cNvSpPr/>
          <p:nvPr/>
        </p:nvSpPr>
        <p:spPr>
          <a:xfrm>
            <a:off x="4826160" y="357336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a×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7346880" y="357192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b×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6500880" y="3357720"/>
            <a:ext cx="7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69696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里填数，在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里填运算符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×2 = 42×□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5×□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7×1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3×12=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＋□）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×□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③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5×26+15×14= □ 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□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+□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2×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0+6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= □○□○□○□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560920" y="13082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597800" y="13003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62840" y="252900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684920" y="258120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630680" y="37908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5467320" y="3776760"/>
            <a:ext cx="9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431040" y="379260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7215120" y="380052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429080" y="501480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4976640" y="4986360"/>
            <a:ext cx="7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5438880" y="501480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043680" y="5014800"/>
            <a:ext cx="5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459480" y="501480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6993000" y="5000760"/>
            <a:ext cx="7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7585200" y="50148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564960" y="357120"/>
            <a:ext cx="11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页练一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7600" y="1262160"/>
            <a:ext cx="8643960" cy="3738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920000" y="20559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920000" y="27147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920000" y="3357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03280" y="457200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×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572000" y="457200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0×50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0×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2760" y="831960"/>
            <a:ext cx="8718480" cy="495288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1214280" y="2143080"/>
            <a:ext cx="2714760" cy="1285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"/>
          <p:cNvSpPr/>
          <p:nvPr/>
        </p:nvSpPr>
        <p:spPr>
          <a:xfrm>
            <a:off x="1285920" y="4000680"/>
            <a:ext cx="2714760" cy="12855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143680" y="2214720"/>
            <a:ext cx="2714400" cy="12855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214960" y="3929040"/>
            <a:ext cx="2714760" cy="1285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"/>
          <p:cNvSpPr/>
          <p:nvPr/>
        </p:nvSpPr>
        <p:spPr>
          <a:xfrm>
            <a:off x="1447920" y="3276720"/>
            <a:ext cx="281916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5499000" y="3186000"/>
            <a:ext cx="281952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7:2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