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396-88A4-48E4-9089-CFD92029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75B9-FC70-44A9-A146-626226CE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F651-00AC-4B62-B370-4A466BFA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EAF0-BE1F-4906-A201-373AA843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C40E-A2F9-4459-A998-C1B817F5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37F6-1E8D-451E-A8E0-2CC950E1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5257-9966-40BD-8CD8-936C0865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1AE8-5CAF-494A-8E57-13637016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59AC-D710-44C3-9521-5B8418BC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F48B-46A5-41D0-824F-1F16E7E0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D058-B5BC-4A66-8E77-1D902E96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DF7A-3870-4E45-B2EF-194855D6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D31C-E87A-4F10-9806-C494B4B0AB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1"/>
          <p:cNvSpPr/>
          <p:nvPr/>
        </p:nvSpPr>
        <p:spPr>
          <a:xfrm>
            <a:off x="3162240" y="1962000"/>
            <a:ext cx="195480" cy="60984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5"/>
          <p:cNvSpPr/>
          <p:nvPr/>
        </p:nvSpPr>
        <p:spPr>
          <a:xfrm>
            <a:off x="1015920" y="334008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3340080"/>
            <a:ext cx="93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应用乘法分配律进行简便计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1600200"/>
            <a:ext cx="3162240" cy="99072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8"/>
          <p:cNvSpPr/>
          <p:nvPr/>
        </p:nvSpPr>
        <p:spPr>
          <a:xfrm>
            <a:off x="2957400" y="1600200"/>
            <a:ext cx="400320" cy="74304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1752480"/>
            <a:ext cx="7570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六 单元             </a:t>
            </a:r>
            <a:r>
              <a:rPr b="1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算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3162240" y="2562120"/>
            <a:ext cx="59086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1"/>
          <p:cNvSpPr/>
          <p:nvPr/>
        </p:nvSpPr>
        <p:spPr>
          <a:xfrm>
            <a:off x="1719720" y="42876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页试一试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"/>
          <p:cNvSpPr/>
          <p:nvPr/>
        </p:nvSpPr>
        <p:spPr>
          <a:xfrm>
            <a:off x="4444920" y="10717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用简便方法计算，并说说应用了什么运算规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"/>
          <p:cNvSpPr/>
          <p:nvPr/>
        </p:nvSpPr>
        <p:spPr>
          <a:xfrm>
            <a:off x="2998440" y="178596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×12 + 54 ×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42920" y="1000080"/>
            <a:ext cx="8715240" cy="4470480"/>
          </a:xfrm>
          <a:prstGeom prst="rect">
            <a:avLst/>
          </a:prstGeom>
          <a:ln w="0">
            <a:noFill/>
          </a:ln>
        </p:spPr>
      </p:pic>
      <p:sp>
        <p:nvSpPr>
          <p:cNvPr id="96" name="矩形 2"/>
          <p:cNvSpPr/>
          <p:nvPr/>
        </p:nvSpPr>
        <p:spPr>
          <a:xfrm>
            <a:off x="500040" y="2071800"/>
            <a:ext cx="228600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"/>
          <p:cNvSpPr/>
          <p:nvPr/>
        </p:nvSpPr>
        <p:spPr>
          <a:xfrm>
            <a:off x="3429000" y="2071800"/>
            <a:ext cx="228600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4"/>
          <p:cNvSpPr/>
          <p:nvPr/>
        </p:nvSpPr>
        <p:spPr>
          <a:xfrm>
            <a:off x="6286680" y="2071800"/>
            <a:ext cx="242856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"/>
          <p:cNvSpPr/>
          <p:nvPr/>
        </p:nvSpPr>
        <p:spPr>
          <a:xfrm>
            <a:off x="357120" y="4143240"/>
            <a:ext cx="264312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3286080" y="4143240"/>
            <a:ext cx="264312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6286680" y="4214880"/>
            <a:ext cx="242856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/>
          <p:cNvSpPr/>
          <p:nvPr/>
        </p:nvSpPr>
        <p:spPr>
          <a:xfrm>
            <a:off x="1025640" y="500040"/>
            <a:ext cx="14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页练一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842940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4732200"/>
          </a:xfrm>
          <a:prstGeom prst="rect">
            <a:avLst/>
          </a:prstGeom>
          <a:ln w="0">
            <a:noFill/>
          </a:ln>
        </p:spPr>
      </p:pic>
      <p:sp>
        <p:nvSpPr>
          <p:cNvPr id="105" name="矩形 2"/>
          <p:cNvSpPr/>
          <p:nvPr/>
        </p:nvSpPr>
        <p:spPr>
          <a:xfrm>
            <a:off x="3071880" y="3000240"/>
            <a:ext cx="392904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6000840" y="3071880"/>
            <a:ext cx="331128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或： 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56×16+24×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=(56+24)×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=80×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=1280(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元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答：共用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280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"/>
          <p:cNvSpPr/>
          <p:nvPr/>
        </p:nvSpPr>
        <p:spPr>
          <a:xfrm>
            <a:off x="866520" y="357120"/>
            <a:ext cx="186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页练习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642960"/>
            <a:ext cx="8858160" cy="1819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428760" y="2500200"/>
            <a:ext cx="6500520" cy="569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3"/>
          <a:stretch/>
        </p:blipFill>
        <p:spPr>
          <a:xfrm>
            <a:off x="357120" y="3571920"/>
            <a:ext cx="5572080" cy="620640"/>
          </a:xfrm>
          <a:prstGeom prst="rect">
            <a:avLst/>
          </a:prstGeom>
          <a:ln w="0">
            <a:noFill/>
          </a:ln>
        </p:spPr>
      </p:pic>
      <p:sp>
        <p:nvSpPr>
          <p:cNvPr id="111" name="矩形 4"/>
          <p:cNvSpPr/>
          <p:nvPr/>
        </p:nvSpPr>
        <p:spPr>
          <a:xfrm>
            <a:off x="857520" y="357120"/>
            <a:ext cx="186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页练习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714240" y="2500200"/>
            <a:ext cx="7929720" cy="3286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0" y="642960"/>
            <a:ext cx="885816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642960"/>
            <a:ext cx="8858160" cy="1819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357120" y="2428920"/>
            <a:ext cx="5572080" cy="620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3"/>
          <a:stretch/>
        </p:blipFill>
        <p:spPr>
          <a:xfrm>
            <a:off x="785880" y="3286080"/>
            <a:ext cx="700092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96760" y="3773520"/>
            <a:ext cx="8028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9×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56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+ 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56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×31=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□</a:t>
            </a:r>
            <a:r>
              <a:rPr b="0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○</a:t>
            </a:r>
            <a:r>
              <a:rPr b="0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□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○</a:t>
            </a:r>
            <a:r>
              <a:rPr b="0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85880" y="240516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40+7)×12=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□</a:t>
            </a:r>
            <a:r>
              <a:rPr b="0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○</a:t>
            </a:r>
            <a:r>
              <a:rPr b="0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□</a:t>
            </a:r>
            <a:r>
              <a:rPr b="0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○</a:t>
            </a:r>
            <a:r>
              <a:rPr b="0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□</a:t>
            </a:r>
            <a:r>
              <a:rPr b="0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○</a:t>
            </a:r>
            <a:r>
              <a:rPr b="0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379600" y="1285920"/>
            <a:ext cx="47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里填数，在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里填运算符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。（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6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页练一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381480" y="259560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114080" y="25239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6562080" y="25239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6801840" y="39290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5335200" y="2527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5227200" y="39290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4603680" y="259560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5973840" y="259560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7051680" y="259560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4500720" y="392904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5786280" y="392904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7286760" y="3929040"/>
            <a:ext cx="163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684360" y="2925720"/>
            <a:ext cx="84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个数的和与一个数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相乘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等于这两个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别与这个数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相乘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再把两个乘积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相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85840" y="571680"/>
            <a:ext cx="41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乘法分配律</a:t>
            </a:r>
            <a:r>
              <a:rPr b="1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2280960" y="1857240"/>
            <a:ext cx="40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+b)×c=a×c+b×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2888280" y="7858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观察下列每组里哪一题计算比较简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"/>
          <p:cNvSpPr/>
          <p:nvPr/>
        </p:nvSpPr>
        <p:spPr>
          <a:xfrm>
            <a:off x="500040" y="1607400"/>
            <a:ext cx="74296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×8+76×8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3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+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+7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8         73×100+73×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五角星 5"/>
          <p:cNvSpPr/>
          <p:nvPr/>
        </p:nvSpPr>
        <p:spPr>
          <a:xfrm>
            <a:off x="1071720" y="2428920"/>
            <a:ext cx="357120" cy="357120"/>
          </a:xfrm>
          <a:custGeom>
            <a:avLst/>
            <a:gdLst/>
            <a:ahLst/>
            <a:rect l="l" t="t" r="r" b="b"/>
            <a:pathLst>
              <a:path w="357187" h="357188">
                <a:moveTo>
                  <a:pt x="0" y="136433"/>
                </a:moveTo>
                <a:lnTo>
                  <a:pt x="136434" y="136434"/>
                </a:lnTo>
                <a:lnTo>
                  <a:pt x="178594" y="0"/>
                </a:lnTo>
                <a:lnTo>
                  <a:pt x="220753" y="136434"/>
                </a:lnTo>
                <a:lnTo>
                  <a:pt x="357187" y="136433"/>
                </a:lnTo>
                <a:lnTo>
                  <a:pt x="246809" y="220753"/>
                </a:lnTo>
                <a:lnTo>
                  <a:pt x="288970" y="357187"/>
                </a:lnTo>
                <a:lnTo>
                  <a:pt x="178594" y="272865"/>
                </a:lnTo>
                <a:lnTo>
                  <a:pt x="68217" y="357187"/>
                </a:lnTo>
                <a:lnTo>
                  <a:pt x="110378" y="220753"/>
                </a:lnTo>
                <a:lnTo>
                  <a:pt x="0" y="13643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五角星 6"/>
          <p:cNvSpPr/>
          <p:nvPr/>
        </p:nvSpPr>
        <p:spPr>
          <a:xfrm>
            <a:off x="4643280" y="2428920"/>
            <a:ext cx="357480" cy="357120"/>
          </a:xfrm>
          <a:custGeom>
            <a:avLst/>
            <a:gdLst/>
            <a:ahLst/>
            <a:rect l="l" t="t" r="r" b="b"/>
            <a:pathLst>
              <a:path w="357187" h="357188">
                <a:moveTo>
                  <a:pt x="0" y="136433"/>
                </a:moveTo>
                <a:lnTo>
                  <a:pt x="136434" y="136434"/>
                </a:lnTo>
                <a:lnTo>
                  <a:pt x="178594" y="0"/>
                </a:lnTo>
                <a:lnTo>
                  <a:pt x="220753" y="136434"/>
                </a:lnTo>
                <a:lnTo>
                  <a:pt x="357187" y="136433"/>
                </a:lnTo>
                <a:lnTo>
                  <a:pt x="246809" y="220753"/>
                </a:lnTo>
                <a:lnTo>
                  <a:pt x="288970" y="357187"/>
                </a:lnTo>
                <a:lnTo>
                  <a:pt x="178594" y="272865"/>
                </a:lnTo>
                <a:lnTo>
                  <a:pt x="68217" y="357187"/>
                </a:lnTo>
                <a:lnTo>
                  <a:pt x="110378" y="220753"/>
                </a:lnTo>
                <a:lnTo>
                  <a:pt x="0" y="13643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71680" y="357120"/>
            <a:ext cx="7929360" cy="29527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714240" y="3771720"/>
            <a:ext cx="75009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导学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问题情境，列出算式，想一想可以怎样计算得数？（有困难可以翻看书本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页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口算时是把哪个数分成两个部分计算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完成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页填空，想一想这样算简便吗，应用了什么运算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71680" y="357120"/>
            <a:ext cx="7929360" cy="2952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"/>
          <p:cNvSpPr/>
          <p:nvPr/>
        </p:nvSpPr>
        <p:spPr>
          <a:xfrm>
            <a:off x="1945800" y="3367440"/>
            <a:ext cx="4720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组交流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说说你是怎样口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2×10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看成是哪两个数的和来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样算简便吗？为什么会简便，应用了什么运算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10"/>
          <p:cNvGrpSpPr/>
          <p:nvPr/>
        </p:nvGrpSpPr>
        <p:grpSpPr>
          <a:xfrm>
            <a:off x="5219640" y="1571760"/>
            <a:ext cx="4103640" cy="2755440"/>
            <a:chOff x="5219640" y="1571760"/>
            <a:chExt cx="4103640" cy="2755440"/>
          </a:xfrm>
        </p:grpSpPr>
        <p:sp>
          <p:nvSpPr>
            <p:cNvPr id="75" name="Text Box 2"/>
            <p:cNvSpPr/>
            <p:nvPr/>
          </p:nvSpPr>
          <p:spPr>
            <a:xfrm>
              <a:off x="5219640" y="1571760"/>
              <a:ext cx="4103640" cy="27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用竖式计算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 0 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  3 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 0 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 0 6</a:t>
              </a: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黑体"/>
                  <a:ea typeface="黑体"/>
                </a:rPr>
                <a:t>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 2 6 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3"/>
            <p:cNvSpPr/>
            <p:nvPr/>
          </p:nvSpPr>
          <p:spPr>
            <a:xfrm>
              <a:off x="5290920" y="3861000"/>
              <a:ext cx="201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4"/>
            <p:cNvSpPr/>
            <p:nvPr/>
          </p:nvSpPr>
          <p:spPr>
            <a:xfrm>
              <a:off x="5290920" y="2995920"/>
              <a:ext cx="1944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5"/>
          <p:cNvSpPr/>
          <p:nvPr/>
        </p:nvSpPr>
        <p:spPr>
          <a:xfrm>
            <a:off x="1258920" y="1773360"/>
            <a:ext cx="40323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用口算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副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2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元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副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元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共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26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052720" y="76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×10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140360" y="76500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26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4859280" y="3068640"/>
            <a:ext cx="49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为什么可以这样计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040360" y="4221000"/>
            <a:ext cx="49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应用乘法分配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763640" y="1527120"/>
            <a:ext cx="4753080" cy="8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2×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1763640" y="2421000"/>
            <a:ext cx="456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=32×100+32×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=3200+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=32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1712880" y="1892160"/>
            <a:ext cx="31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=32×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00+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0" t="0" r="0" b="30909"/>
          <a:stretch/>
        </p:blipFill>
        <p:spPr>
          <a:xfrm>
            <a:off x="357120" y="928800"/>
            <a:ext cx="8429760" cy="1382760"/>
          </a:xfrm>
          <a:prstGeom prst="rect">
            <a:avLst/>
          </a:prstGeom>
          <a:ln w="0">
            <a:noFill/>
          </a:ln>
        </p:spPr>
      </p:pic>
      <p:sp>
        <p:nvSpPr>
          <p:cNvPr id="87" name="矩形 2"/>
          <p:cNvSpPr/>
          <p:nvPr/>
        </p:nvSpPr>
        <p:spPr>
          <a:xfrm>
            <a:off x="302400" y="244332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×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= 20×3+3×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= 60+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= 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2495520" y="2443320"/>
            <a:ext cx="182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4×</a:t>
            </a: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= 4×10+4×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= 40+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= 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4731480" y="242892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×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= 10×5+6×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= 50+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=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6710400" y="2500200"/>
            <a:ext cx="182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2×</a:t>
            </a: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= 2×40+2×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= 80+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= 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1436760" y="428760"/>
            <a:ext cx="17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页练习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2:27:31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