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108-39CF-4589-A251-DBA56257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B8A-78D9-4EC6-A2F4-E12EC069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59D-3544-4BEA-9BBA-2643FE54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1C7-8247-4D0E-B887-EFD785A5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DBA-A65F-401F-A1E0-FE9EC02E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AD4-6FEC-4AAB-BB21-2D5FF2EE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6D1-AF66-4A05-85B2-115FD30B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F67-B1C6-494C-9538-D5D6AC01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0D9-A3BC-4777-8B2D-C779682F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43C-7D1D-4529-9181-4A8AC89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698-B366-46B9-ACEA-4588B070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D0C-AC21-4DB7-943A-87A80FFE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BD52-4343-46E9-A8E8-213711F36B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343836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23800" y="3333600"/>
            <a:ext cx="84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752480"/>
            <a:ext cx="757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六 单元  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算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200" y="520560"/>
            <a:ext cx="8129880" cy="8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你会简便方法计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7"/>
          <p:cNvPicPr/>
          <p:nvPr/>
        </p:nvPicPr>
        <p:blipFill>
          <a:blip r:embed="rId1"/>
          <a:stretch/>
        </p:blipFill>
        <p:spPr>
          <a:xfrm>
            <a:off x="928800" y="1778040"/>
            <a:ext cx="7000920" cy="3714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1071720" y="2286000"/>
            <a:ext cx="2714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286160" y="2286000"/>
            <a:ext cx="3214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000080" y="4071960"/>
            <a:ext cx="307188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857840" y="4071960"/>
            <a:ext cx="2857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18"/>
          <p:cNvPicPr/>
          <p:nvPr/>
        </p:nvPicPr>
        <p:blipFill>
          <a:blip r:embed="rId1"/>
          <a:stretch/>
        </p:blipFill>
        <p:spPr>
          <a:xfrm>
            <a:off x="565200" y="878040"/>
            <a:ext cx="8423280" cy="114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19"/>
          <p:cNvPicPr/>
          <p:nvPr/>
        </p:nvPicPr>
        <p:blipFill>
          <a:blip r:embed="rId2"/>
          <a:stretch/>
        </p:blipFill>
        <p:spPr>
          <a:xfrm>
            <a:off x="452520" y="4255920"/>
            <a:ext cx="8604000" cy="97956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1"/>
          <p:cNvSpPr/>
          <p:nvPr/>
        </p:nvSpPr>
        <p:spPr>
          <a:xfrm>
            <a:off x="1484280" y="1870200"/>
            <a:ext cx="693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0+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1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8+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8=1800+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187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平方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这些草坪的面积一共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87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"/>
          <p:cNvSpPr/>
          <p:nvPr/>
        </p:nvSpPr>
        <p:spPr>
          <a:xfrm>
            <a:off x="1111320" y="5448240"/>
            <a:ext cx="733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4=2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4=48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一共需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8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张课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0"/>
          <p:cNvPicPr/>
          <p:nvPr/>
        </p:nvPicPr>
        <p:blipFill>
          <a:blip r:embed="rId1"/>
          <a:stretch/>
        </p:blipFill>
        <p:spPr>
          <a:xfrm>
            <a:off x="755640" y="765000"/>
            <a:ext cx="8240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WordArt 3" descr=""/>
          <p:cNvPicPr/>
          <p:nvPr/>
        </p:nvPicPr>
        <p:blipFill>
          <a:blip r:embed="rId1"/>
          <a:stretch/>
        </p:blipFill>
        <p:spPr>
          <a:xfrm>
            <a:off x="317520" y="55440"/>
            <a:ext cx="2133720" cy="143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思考"/>
          <p:cNvPicPr/>
          <p:nvPr/>
        </p:nvPicPr>
        <p:blipFill>
          <a:blip r:embed="rId2"/>
          <a:stretch/>
        </p:blipFill>
        <p:spPr>
          <a:xfrm>
            <a:off x="2735280" y="2454120"/>
            <a:ext cx="3646440" cy="351504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1143000" y="1197000"/>
            <a:ext cx="685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你会用简便方法计算下面各题吗？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571840" y="2857680"/>
            <a:ext cx="41767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00200" y="4643280"/>
            <a:ext cx="417672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268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下列等式，想想各应用了什么运算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2"/>
          <p:cNvPicPr/>
          <p:nvPr/>
        </p:nvPicPr>
        <p:blipFill>
          <a:blip r:embed="rId1"/>
          <a:stretch/>
        </p:blipFill>
        <p:spPr>
          <a:xfrm>
            <a:off x="1000080" y="1643040"/>
            <a:ext cx="6578640" cy="382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714680" y="4929120"/>
            <a:ext cx="4214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500120" y="2071800"/>
            <a:ext cx="2952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357200" y="3000240"/>
            <a:ext cx="2952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285920" y="4000680"/>
            <a:ext cx="4753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4452840" y="164304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5835600" y="2576520"/>
            <a:ext cx="21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乘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7062840" y="3478320"/>
            <a:ext cx="21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3929040" y="500220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乘法交换和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757260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辨一辨：判断下面的简便计算对不对，不对的怎样改正？需应用哪个运算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5×3+25×4=75+100=1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+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35×2×8=70×8=5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786800" y="15001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0000"/>
                </a:solidFill>
                <a:latin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00000" y="1125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乘法交换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85880" y="21430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5×(3×4)=25×4×3=100×3=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116000" y="342900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乘法分配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4437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5×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8+2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=35×8+35×2=3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57160" y="50720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也可以直接计算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5×10=3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929280" y="39290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0000"/>
                </a:solidFill>
                <a:latin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练一练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简便方法计算，独立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12"/>
          <p:cNvPicPr/>
          <p:nvPr/>
        </p:nvPicPr>
        <p:blipFill>
          <a:blip r:embed="rId1"/>
          <a:srcRect l="0" t="49986" r="0" b="0"/>
          <a:stretch/>
        </p:blipFill>
        <p:spPr>
          <a:xfrm>
            <a:off x="312840" y="1643040"/>
            <a:ext cx="8231040" cy="2160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57120" y="2214720"/>
            <a:ext cx="2786040" cy="13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14800" y="2214720"/>
            <a:ext cx="2214360" cy="13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715000" y="2286000"/>
            <a:ext cx="2643120" cy="13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944640" y="3577680"/>
            <a:ext cx="66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简便计算就是应用运算律或计算规律，把能凑成整百、整十，整千，的数先算出来，再接着计算最后的得数。</a:t>
            </a:r>
            <a:r>
              <a:rPr b="0" lang="zh-CN" sz="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三、比一比：每组两题，说说有什么联系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00" y="1800360"/>
            <a:ext cx="91152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+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12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9+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×29+15×1          12×59+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1959120" y="4203720"/>
            <a:ext cx="41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每组两题结果相同。主要是乘法分配律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531360"/>
            <a:ext cx="7837560" cy="7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）算一算，比一比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14"/>
          <p:cNvPicPr/>
          <p:nvPr/>
        </p:nvPicPr>
        <p:blipFill>
          <a:blip r:embed="rId1"/>
          <a:stretch/>
        </p:blipFill>
        <p:spPr>
          <a:xfrm>
            <a:off x="428760" y="1357200"/>
            <a:ext cx="8288280" cy="4175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071720" y="1857240"/>
            <a:ext cx="2643120" cy="1643040"/>
          </a:xfrm>
          <a:prstGeom prst="rect">
            <a:avLst/>
          </a:prstGeom>
          <a:solidFill>
            <a:srgbClr val="f0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071880" y="1357200"/>
            <a:ext cx="1000080" cy="571680"/>
          </a:xfrm>
          <a:prstGeom prst="rect">
            <a:avLst/>
          </a:prstGeom>
          <a:solidFill>
            <a:srgbClr val="f0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00080" y="3857760"/>
            <a:ext cx="2643120" cy="1643040"/>
          </a:xfrm>
          <a:prstGeom prst="rect">
            <a:avLst/>
          </a:prstGeom>
          <a:solidFill>
            <a:srgbClr val="f0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5572080" y="1857240"/>
            <a:ext cx="2643120" cy="1643040"/>
          </a:xfrm>
          <a:prstGeom prst="rect">
            <a:avLst/>
          </a:prstGeom>
          <a:solidFill>
            <a:srgbClr val="f0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7286760" y="1357200"/>
            <a:ext cx="1000080" cy="571680"/>
          </a:xfrm>
          <a:prstGeom prst="rect">
            <a:avLst/>
          </a:prstGeom>
          <a:solidFill>
            <a:srgbClr val="f0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072040" y="3857760"/>
            <a:ext cx="2643120" cy="1643040"/>
          </a:xfrm>
          <a:prstGeom prst="rect">
            <a:avLst/>
          </a:prstGeom>
          <a:solidFill>
            <a:srgbClr val="f0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501120"/>
            <a:ext cx="86263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5"/>
          <p:cNvPicPr/>
          <p:nvPr/>
        </p:nvPicPr>
        <p:blipFill>
          <a:blip r:embed="rId1"/>
          <a:stretch/>
        </p:blipFill>
        <p:spPr>
          <a:xfrm>
            <a:off x="571680" y="1714680"/>
            <a:ext cx="7893000" cy="1785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546200" y="600120"/>
            <a:ext cx="5553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下面各题怎样算简便就怎样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14240" y="2286000"/>
            <a:ext cx="235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349800" y="2286000"/>
            <a:ext cx="2357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000840" y="2254320"/>
            <a:ext cx="2428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16"/>
          <p:cNvPicPr/>
          <p:nvPr/>
        </p:nvPicPr>
        <p:blipFill>
          <a:blip r:embed="rId1"/>
          <a:stretch/>
        </p:blipFill>
        <p:spPr>
          <a:xfrm>
            <a:off x="1049400" y="1951200"/>
            <a:ext cx="7016760" cy="14443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/>
          <p:cNvSpPr/>
          <p:nvPr/>
        </p:nvSpPr>
        <p:spPr>
          <a:xfrm>
            <a:off x="4211640" y="1844640"/>
            <a:ext cx="28908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4214880" y="2308320"/>
            <a:ext cx="285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642960"/>
            <a:ext cx="8240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）算算下面每组的两道算式是否相等，再说说你有什么发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214880" y="2928960"/>
            <a:ext cx="285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7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