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076-E0D3-4341-BD13-0FDCA7B7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29A-EE66-410D-A625-6FD20A62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3F2-CC28-4AF0-9B2E-143C5D13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CC8-F55C-4C0A-9422-9C5D3568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930-7418-4865-82CF-F448464B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20E-C22A-4781-BF5C-2FB92CEF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DDC-78DF-4195-A92E-C995208B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031-3BCC-4749-9BCF-096BDB5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2B2-FE7B-4834-8885-2D00E6E2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F31-407E-4FD3-A71F-B5601A9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53C-641E-4408-A7EE-D5F2DA0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E9A-7BC9-437C-B50F-0F17455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30E-F6FC-4D4E-A3A8-BAD14C8F1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17340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相遇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20600" y="584280"/>
            <a:ext cx="8091720" cy="3363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39680" y="3786120"/>
            <a:ext cx="72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想一想：“同时”“相遇”“相距”三个词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试一试：用以前画图或列表的方法整理题目中的条件和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做一做：尝试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议一议：小组交流后全班汇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rcRect l="0" t="0" r="0" b="313"/>
          <a:stretch/>
        </p:blipFill>
        <p:spPr>
          <a:xfrm>
            <a:off x="500040" y="1357200"/>
            <a:ext cx="8586720" cy="491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65080" y="2500200"/>
            <a:ext cx="8001000" cy="17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85880" y="4214880"/>
            <a:ext cx="7704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"/>
          <p:cNvGrpSpPr/>
          <p:nvPr/>
        </p:nvGrpSpPr>
        <p:grpSpPr>
          <a:xfrm>
            <a:off x="25560" y="663480"/>
            <a:ext cx="3252600" cy="525600"/>
            <a:chOff x="25560" y="663480"/>
            <a:chExt cx="3252600" cy="525600"/>
          </a:xfrm>
        </p:grpSpPr>
        <p:grpSp>
          <p:nvGrpSpPr>
            <p:cNvPr id="54" name="圆角矩形 77"/>
            <p:cNvGrpSpPr/>
            <p:nvPr/>
          </p:nvGrpSpPr>
          <p:grpSpPr>
            <a:xfrm>
              <a:off x="178560" y="663480"/>
              <a:ext cx="3099600" cy="525600"/>
              <a:chOff x="178560" y="663480"/>
              <a:chExt cx="3099600" cy="525600"/>
            </a:xfrm>
          </p:grpSpPr>
          <p:pic>
            <p:nvPicPr>
              <p:cNvPr id="55" name="圆角矩形 7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" y="663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22840" y="737640"/>
                <a:ext cx="29498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4"/>
            <p:cNvGrpSpPr/>
            <p:nvPr/>
          </p:nvGrpSpPr>
          <p:grpSpPr>
            <a:xfrm>
              <a:off x="25560" y="779040"/>
              <a:ext cx="428400" cy="187560"/>
              <a:chOff x="25560" y="779040"/>
              <a:chExt cx="428400" cy="187560"/>
            </a:xfrm>
          </p:grpSpPr>
          <p:sp>
            <p:nvSpPr>
              <p:cNvPr id="58" name="椭圆 79"/>
              <p:cNvSpPr/>
              <p:nvPr/>
            </p:nvSpPr>
            <p:spPr>
              <a:xfrm rot="16200000">
                <a:off x="340200" y="852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80"/>
              <p:cNvGrpSpPr/>
              <p:nvPr/>
            </p:nvGrpSpPr>
            <p:grpSpPr>
              <a:xfrm>
                <a:off x="320040" y="892800"/>
                <a:ext cx="119880" cy="65880"/>
                <a:chOff x="320040" y="892800"/>
                <a:chExt cx="119880" cy="65880"/>
              </a:xfrm>
            </p:grpSpPr>
            <p:pic>
              <p:nvPicPr>
                <p:cNvPr id="60" name="椭圆 8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0040" y="89280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56760" y="88344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椭圆 81"/>
              <p:cNvSpPr/>
              <p:nvPr/>
            </p:nvSpPr>
            <p:spPr>
              <a:xfrm rot="16200000">
                <a:off x="340200" y="747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椭圆 82"/>
              <p:cNvGrpSpPr/>
              <p:nvPr/>
            </p:nvGrpSpPr>
            <p:grpSpPr>
              <a:xfrm>
                <a:off x="320040" y="788040"/>
                <a:ext cx="119880" cy="65880"/>
                <a:chOff x="320040" y="788040"/>
                <a:chExt cx="119880" cy="65880"/>
              </a:xfrm>
            </p:grpSpPr>
            <p:pic>
              <p:nvPicPr>
                <p:cNvPr id="64" name="椭圆 8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0040" y="78804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356760" y="7776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83"/>
              <p:cNvGrpSpPr/>
              <p:nvPr/>
            </p:nvGrpSpPr>
            <p:grpSpPr>
              <a:xfrm>
                <a:off x="25560" y="913680"/>
                <a:ext cx="392760" cy="52200"/>
                <a:chOff x="25560" y="913680"/>
                <a:chExt cx="392760" cy="52200"/>
              </a:xfrm>
            </p:grpSpPr>
            <p:pic>
              <p:nvPicPr>
                <p:cNvPr id="67" name="圆角矩形 8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560" y="913680"/>
                  <a:ext cx="39276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18880" y="779040"/>
                  <a:ext cx="684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84"/>
              <p:cNvGrpSpPr/>
              <p:nvPr/>
            </p:nvGrpSpPr>
            <p:grpSpPr>
              <a:xfrm>
                <a:off x="25560" y="889200"/>
                <a:ext cx="392760" cy="52200"/>
                <a:chOff x="25560" y="889200"/>
                <a:chExt cx="392760" cy="52200"/>
              </a:xfrm>
            </p:grpSpPr>
            <p:pic>
              <p:nvPicPr>
                <p:cNvPr id="70" name="圆角矩形 8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889200"/>
                  <a:ext cx="39276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18880" y="752400"/>
                  <a:ext cx="684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圆角矩形 85"/>
              <p:cNvGrpSpPr/>
              <p:nvPr/>
            </p:nvGrpSpPr>
            <p:grpSpPr>
              <a:xfrm>
                <a:off x="25560" y="805680"/>
                <a:ext cx="392760" cy="52200"/>
                <a:chOff x="25560" y="805680"/>
                <a:chExt cx="392760" cy="52200"/>
              </a:xfrm>
            </p:grpSpPr>
            <p:pic>
              <p:nvPicPr>
                <p:cNvPr id="73" name="圆角矩形 8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" y="805680"/>
                  <a:ext cx="39276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218880" y="671040"/>
                  <a:ext cx="684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圆角矩形 86"/>
              <p:cNvGrpSpPr/>
              <p:nvPr/>
            </p:nvGrpSpPr>
            <p:grpSpPr>
              <a:xfrm>
                <a:off x="25560" y="781200"/>
                <a:ext cx="392760" cy="52200"/>
                <a:chOff x="25560" y="781200"/>
                <a:chExt cx="392760" cy="52200"/>
              </a:xfrm>
            </p:grpSpPr>
            <p:pic>
              <p:nvPicPr>
                <p:cNvPr id="76" name="圆角矩形 8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560" y="781200"/>
                  <a:ext cx="39276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16200000">
                  <a:off x="218880" y="644400"/>
                  <a:ext cx="684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19040" y="1220760"/>
            <a:ext cx="8291520" cy="4608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071720" y="3857760"/>
            <a:ext cx="7488000" cy="20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714240" y="2357280"/>
            <a:ext cx="79218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71680" y="5429160"/>
            <a:ext cx="8208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与前两题比一比，他们之间有什么区别与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46288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785880" y="3571920"/>
            <a:ext cx="748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24220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928800" y="2714760"/>
            <a:ext cx="7429320" cy="26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19120" y="8730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总结</a:t>
            </a:r>
            <a:r>
              <a:rPr b="0" sz="4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   </a:t>
            </a:r>
            <a:r>
              <a:rPr b="0" sz="4000" spc="-1" strike="noStrike">
                <a:solidFill>
                  <a:srgbClr val="bbe0e3"/>
                </a:solidFill>
                <a:latin typeface="宋体-方正超大字符集"/>
                <a:ea typeface="宋体-方正超大字符集"/>
              </a:rPr>
              <a:t>        </a:t>
            </a: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行程策略有个宝，请你画图或列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两点之间一条线，明确方向最重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整理信息是关键，理清思路要记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掌握方法列式好， 学习就会变轻巧。</a:t>
            </a:r>
            <a:r>
              <a:rPr b="1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4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