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F51-C29F-4915-BF37-01844400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449-1DE5-41DD-A5AE-2746B360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65A-6B79-452E-B8F2-D17DD6B4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E39-8E98-4CE3-887E-F8C6736B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718-9554-41B6-9BB4-8699EBD9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6D0-CD7E-4A9E-9D5C-A9FE8463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97C-8DDB-46D5-A1B3-A6607CD2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343-F74B-4104-BA9D-CF1E7406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46A-3887-4DF3-B115-B3AF1316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261-F533-42A2-959C-F9667B5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966-6049-4615-A5CA-9F531E80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284-046E-409A-A6F5-375998A4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5A36-8FB4-48E6-BEC9-95B4F839F1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340056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23800" y="3333600"/>
            <a:ext cx="84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752480"/>
            <a:ext cx="7570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六 单元    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算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551937" descr=""/>
          <p:cNvPicPr/>
          <p:nvPr/>
        </p:nvPicPr>
        <p:blipFill>
          <a:blip r:embed="rId1"/>
          <a:srcRect l="4504" t="9347" r="10883" b="10336"/>
          <a:stretch/>
        </p:blipFill>
        <p:spPr>
          <a:xfrm>
            <a:off x="0" y="1474920"/>
            <a:ext cx="91440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文本占位符 552961" descr=""/>
          <p:cNvPicPr/>
          <p:nvPr/>
        </p:nvPicPr>
        <p:blipFill>
          <a:blip r:embed="rId1"/>
          <a:srcRect l="4496" t="10174" r="12385" b="16626"/>
          <a:stretch/>
        </p:blipFill>
        <p:spPr>
          <a:xfrm>
            <a:off x="0" y="1341360"/>
            <a:ext cx="91440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文本占位符 553985" descr=""/>
          <p:cNvPicPr/>
          <p:nvPr/>
        </p:nvPicPr>
        <p:blipFill>
          <a:blip r:embed="rId1"/>
          <a:srcRect l="4496" t="10174" r="10406" b="20840"/>
          <a:stretch/>
        </p:blipFill>
        <p:spPr>
          <a:xfrm>
            <a:off x="0" y="1585800"/>
            <a:ext cx="91440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文本占位符 555009" descr=""/>
          <p:cNvPicPr/>
          <p:nvPr/>
        </p:nvPicPr>
        <p:blipFill>
          <a:blip r:embed="rId1"/>
          <a:srcRect l="4496" t="10174" r="4496" b="24590"/>
          <a:stretch/>
        </p:blipFill>
        <p:spPr>
          <a:xfrm>
            <a:off x="0" y="1701720"/>
            <a:ext cx="91440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文本占位符 556033" descr=""/>
          <p:cNvPicPr/>
          <p:nvPr/>
        </p:nvPicPr>
        <p:blipFill>
          <a:blip r:embed="rId1"/>
          <a:srcRect l="3492" t="9544" r="3762" b="20451"/>
          <a:stretch/>
        </p:blipFill>
        <p:spPr>
          <a:xfrm>
            <a:off x="0" y="1484280"/>
            <a:ext cx="91440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文本占位符 557057" descr=""/>
          <p:cNvPicPr/>
          <p:nvPr/>
        </p:nvPicPr>
        <p:blipFill>
          <a:blip r:embed="rId1"/>
          <a:srcRect l="4496" t="10174" r="3629" b="11857"/>
          <a:stretch/>
        </p:blipFill>
        <p:spPr>
          <a:xfrm>
            <a:off x="0" y="105264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文本占位符 558081" descr=""/>
          <p:cNvPicPr/>
          <p:nvPr/>
        </p:nvPicPr>
        <p:blipFill>
          <a:blip r:embed="rId1"/>
          <a:srcRect l="4552" t="9042" r="3437" b="30674"/>
          <a:stretch/>
        </p:blipFill>
        <p:spPr>
          <a:xfrm>
            <a:off x="0" y="1630440"/>
            <a:ext cx="91440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文本占位符 559105" descr=""/>
          <p:cNvPicPr/>
          <p:nvPr/>
        </p:nvPicPr>
        <p:blipFill>
          <a:blip r:embed="rId1"/>
          <a:srcRect l="4496" t="10174" r="3629" b="34976"/>
          <a:stretch/>
        </p:blipFill>
        <p:spPr>
          <a:xfrm>
            <a:off x="0" y="1722600"/>
            <a:ext cx="914400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文本占位符 560129" descr=""/>
          <p:cNvPicPr/>
          <p:nvPr/>
        </p:nvPicPr>
        <p:blipFill>
          <a:blip r:embed="rId1"/>
          <a:srcRect l="4496" t="10174" r="4496" b="21396"/>
          <a:stretch/>
        </p:blipFill>
        <p:spPr>
          <a:xfrm>
            <a:off x="0" y="1719360"/>
            <a:ext cx="914400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文本占位符 561153" descr=""/>
          <p:cNvPicPr/>
          <p:nvPr/>
        </p:nvPicPr>
        <p:blipFill>
          <a:blip r:embed="rId1"/>
          <a:srcRect l="3629" t="10174" r="3629" b="21396"/>
          <a:stretch/>
        </p:blipFill>
        <p:spPr>
          <a:xfrm>
            <a:off x="0" y="1754280"/>
            <a:ext cx="91440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" y="2109960"/>
            <a:ext cx="904860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508720" y="5013360"/>
            <a:ext cx="117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17325" t="33592" r="16013" b="26874"/>
          <a:stretch/>
        </p:blipFill>
        <p:spPr>
          <a:xfrm>
            <a:off x="95400" y="976320"/>
            <a:ext cx="8988120" cy="3389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428480" y="4365720"/>
            <a:ext cx="147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0×5+64×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300+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620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（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093120" y="4437000"/>
            <a:ext cx="16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0+64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×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124×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620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（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04292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955520" y="5300640"/>
            <a:ext cx="22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答：小星家和小明家相距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20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5100120" y="4365720"/>
            <a:ext cx="160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4×5-60×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320-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2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6792120" y="4365720"/>
            <a:ext cx="14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4-6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×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4×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2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617080" y="5438880"/>
            <a:ext cx="23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答：这时小星离少年宫还有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文本占位符 562177" descr=""/>
          <p:cNvPicPr/>
          <p:nvPr/>
        </p:nvPicPr>
        <p:blipFill>
          <a:blip r:embed="rId1"/>
          <a:srcRect l="3629" t="8594" r="9742" b="11857"/>
          <a:stretch/>
        </p:blipFill>
        <p:spPr>
          <a:xfrm>
            <a:off x="0" y="38736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文本占位符 563201" descr=""/>
          <p:cNvPicPr/>
          <p:nvPr/>
        </p:nvPicPr>
        <p:blipFill>
          <a:blip r:embed="rId1"/>
          <a:srcRect l="3629" t="10174" r="4496" b="21396"/>
          <a:stretch/>
        </p:blipFill>
        <p:spPr>
          <a:xfrm>
            <a:off x="0" y="1268280"/>
            <a:ext cx="9144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文本占位符 564225" descr=""/>
          <p:cNvPicPr/>
          <p:nvPr/>
        </p:nvPicPr>
        <p:blipFill>
          <a:blip r:embed="rId1"/>
          <a:srcRect l="4496" t="10174" r="18007" b="18989"/>
          <a:stretch/>
        </p:blipFill>
        <p:spPr>
          <a:xfrm>
            <a:off x="0" y="1262160"/>
            <a:ext cx="874872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文本占位符 565249" descr=""/>
          <p:cNvPicPr/>
          <p:nvPr/>
        </p:nvPicPr>
        <p:blipFill>
          <a:blip r:embed="rId1"/>
          <a:srcRect l="3629" t="8594" r="15877" b="13471"/>
          <a:stretch/>
        </p:blipFill>
        <p:spPr>
          <a:xfrm>
            <a:off x="0" y="126828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25200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487840" y="5018040"/>
            <a:ext cx="11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21000" t="43670" r="21788" b="35272"/>
          <a:stretch/>
        </p:blipFill>
        <p:spPr>
          <a:xfrm>
            <a:off x="611280" y="1052640"/>
            <a:ext cx="7848360" cy="1805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239840" y="350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911960" y="3089160"/>
            <a:ext cx="173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90×3-75×3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270-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4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千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126680" y="3141720"/>
            <a:ext cx="14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90-7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×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15×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4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千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406520" y="4600440"/>
            <a:ext cx="17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90×3+75×3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270+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49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千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178520" y="4673520"/>
            <a:ext cx="15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90+7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×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165×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49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（千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050560" y="4097160"/>
            <a:ext cx="20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答：两辆卡车相距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330280" y="5805360"/>
            <a:ext cx="22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答：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小时后相距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95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640" y="2060640"/>
            <a:ext cx="907092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487840" y="5018040"/>
            <a:ext cx="11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rcRect l="16013" t="33172" r="16538" b="27294"/>
          <a:stretch/>
        </p:blipFill>
        <p:spPr>
          <a:xfrm>
            <a:off x="108000" y="907920"/>
            <a:ext cx="9070920" cy="3391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2644200" y="4365720"/>
            <a:ext cx="179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80÷7=1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个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+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安排刘师傅和赵师傅比较合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542721" descr=""/>
          <p:cNvPicPr/>
          <p:nvPr/>
        </p:nvPicPr>
        <p:blipFill>
          <a:blip r:embed="rId1"/>
          <a:srcRect l="14767" t="10095" r="14723" b="32273"/>
          <a:stretch/>
        </p:blipFill>
        <p:spPr>
          <a:xfrm>
            <a:off x="125280" y="376200"/>
            <a:ext cx="8893440" cy="4105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196720" y="2417760"/>
            <a:ext cx="33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+18+12=15+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+1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752800" y="24256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+b+c=a+(b+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680560" y="2838600"/>
            <a:ext cx="17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=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752800" y="24354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+b+c=a+(b+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680560" y="2846520"/>
            <a:ext cx="17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=1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753880" y="28386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=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329200" y="3354480"/>
            <a:ext cx="33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=1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342840" y="3914640"/>
            <a:ext cx="24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+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=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+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343600" y="3865680"/>
            <a:ext cx="35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+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=10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+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=4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305400" y="3354480"/>
            <a:ext cx="186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=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16800" t="47449" r="17588" b="34012"/>
          <a:stretch/>
        </p:blipFill>
        <p:spPr>
          <a:xfrm>
            <a:off x="146160" y="1305000"/>
            <a:ext cx="8997840" cy="1590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064600" y="3108240"/>
            <a:ext cx="269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65+70) x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=135 x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=675(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75÷3=225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答：这座桥长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25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545793" descr=""/>
          <p:cNvPicPr/>
          <p:nvPr/>
        </p:nvPicPr>
        <p:blipFill>
          <a:blip r:embed="rId1"/>
          <a:srcRect l="14178" t="9810" r="15234" b="18339"/>
          <a:stretch/>
        </p:blipFill>
        <p:spPr>
          <a:xfrm>
            <a:off x="0" y="26028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87" name="矩形 545794"/>
          <p:cNvSpPr/>
          <p:nvPr/>
        </p:nvSpPr>
        <p:spPr>
          <a:xfrm>
            <a:off x="0" y="1413000"/>
            <a:ext cx="27003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45795"/>
          <p:cNvSpPr/>
          <p:nvPr/>
        </p:nvSpPr>
        <p:spPr>
          <a:xfrm>
            <a:off x="3059280" y="1413000"/>
            <a:ext cx="270000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45796"/>
          <p:cNvSpPr/>
          <p:nvPr/>
        </p:nvSpPr>
        <p:spPr>
          <a:xfrm>
            <a:off x="6012000" y="1484280"/>
            <a:ext cx="313200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45797"/>
          <p:cNvSpPr/>
          <p:nvPr/>
        </p:nvSpPr>
        <p:spPr>
          <a:xfrm>
            <a:off x="250920" y="4076640"/>
            <a:ext cx="446544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45798"/>
          <p:cNvSpPr/>
          <p:nvPr/>
        </p:nvSpPr>
        <p:spPr>
          <a:xfrm>
            <a:off x="6012000" y="4076640"/>
            <a:ext cx="313200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546817" descr=""/>
          <p:cNvPicPr/>
          <p:nvPr/>
        </p:nvPicPr>
        <p:blipFill>
          <a:blip r:embed="rId1"/>
          <a:srcRect l="13628" t="9854" r="15785" b="19314"/>
          <a:stretch/>
        </p:blipFill>
        <p:spPr>
          <a:xfrm>
            <a:off x="0" y="62064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93" name="矩形 546818"/>
          <p:cNvSpPr/>
          <p:nvPr/>
        </p:nvSpPr>
        <p:spPr>
          <a:xfrm>
            <a:off x="250920" y="1773360"/>
            <a:ext cx="2881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46819"/>
          <p:cNvSpPr/>
          <p:nvPr/>
        </p:nvSpPr>
        <p:spPr>
          <a:xfrm>
            <a:off x="250920" y="3860640"/>
            <a:ext cx="2881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46820"/>
          <p:cNvSpPr/>
          <p:nvPr/>
        </p:nvSpPr>
        <p:spPr>
          <a:xfrm>
            <a:off x="3348000" y="1773360"/>
            <a:ext cx="288144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46821"/>
          <p:cNvSpPr/>
          <p:nvPr/>
        </p:nvSpPr>
        <p:spPr>
          <a:xfrm>
            <a:off x="3203640" y="3789360"/>
            <a:ext cx="2881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46822"/>
          <p:cNvSpPr/>
          <p:nvPr/>
        </p:nvSpPr>
        <p:spPr>
          <a:xfrm>
            <a:off x="6262560" y="1773360"/>
            <a:ext cx="288144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46823"/>
          <p:cNvSpPr/>
          <p:nvPr/>
        </p:nvSpPr>
        <p:spPr>
          <a:xfrm>
            <a:off x="6262560" y="3860640"/>
            <a:ext cx="28814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547841" descr=""/>
          <p:cNvPicPr/>
          <p:nvPr/>
        </p:nvPicPr>
        <p:blipFill>
          <a:blip r:embed="rId1"/>
          <a:srcRect l="13628" t="8486" r="14387" b="10459"/>
          <a:stretch/>
        </p:blipFill>
        <p:spPr>
          <a:xfrm>
            <a:off x="0" y="620640"/>
            <a:ext cx="9144000" cy="5929560"/>
          </a:xfrm>
          <a:prstGeom prst="rect">
            <a:avLst/>
          </a:prstGeom>
          <a:ln w="0">
            <a:noFill/>
          </a:ln>
        </p:spPr>
      </p:pic>
      <p:sp>
        <p:nvSpPr>
          <p:cNvPr id="100" name="矩形 547842"/>
          <p:cNvSpPr/>
          <p:nvPr/>
        </p:nvSpPr>
        <p:spPr>
          <a:xfrm>
            <a:off x="7236000" y="4292640"/>
            <a:ext cx="6490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47843"/>
          <p:cNvSpPr/>
          <p:nvPr/>
        </p:nvSpPr>
        <p:spPr>
          <a:xfrm>
            <a:off x="1835280" y="3357720"/>
            <a:ext cx="50418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7:4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