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37D5-2E68-4982-84BE-4F45B816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1D37-80DD-4EC4-95FA-52A52AE3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E0AB-AA19-4EB7-B98B-5A06A7BF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ECA5-F58A-49D3-8F1D-E87BE017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1C57-9593-4E00-8AD5-843AB361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C60-CCD4-49B4-9774-762C717D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2E1-4AB4-49E9-8AA7-A82E4ED9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D26-4304-48F6-AE4C-4B081872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2C1D-A388-433C-801C-70745D45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01B-68CE-42AE-BC7B-409D3A11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B891-A666-4F2E-9C56-D832A4BA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ACBB-C858-4AD5-B6AA-9DB605A7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E3A0-D4BA-400C-AD10-EA8E94CC0E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2921040" y="356868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917640" y="3575160"/>
            <a:ext cx="79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三角形的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600200"/>
            <a:ext cx="316224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957400" y="1600200"/>
            <a:ext cx="40032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1752480"/>
            <a:ext cx="929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七 单元  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形、平行四边形和梯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3162240" y="2562120"/>
            <a:ext cx="59086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3162240" y="1962000"/>
            <a:ext cx="1954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文本框 651265"/>
          <p:cNvSpPr/>
          <p:nvPr/>
        </p:nvSpPr>
        <p:spPr>
          <a:xfrm>
            <a:off x="735120" y="1273320"/>
            <a:ext cx="78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你能在下面的三角形中分别画一条线段，把它分成两个直角三角形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等腰三角形 651266"/>
          <p:cNvSpPr/>
          <p:nvPr/>
        </p:nvSpPr>
        <p:spPr>
          <a:xfrm>
            <a:off x="5292720" y="3645000"/>
            <a:ext cx="2374920" cy="1512720"/>
          </a:xfrm>
          <a:prstGeom prst="triangle">
            <a:avLst>
              <a:gd name="adj" fmla="val 6958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等腰三角形 651267"/>
          <p:cNvSpPr/>
          <p:nvPr/>
        </p:nvSpPr>
        <p:spPr>
          <a:xfrm rot="60000">
            <a:off x="1042920" y="3715920"/>
            <a:ext cx="3384720" cy="1441440"/>
          </a:xfrm>
          <a:prstGeom prst="triangle">
            <a:avLst>
              <a:gd name="adj" fmla="val 75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651268" descr="dengyao"/>
          <p:cNvPicPr/>
          <p:nvPr/>
        </p:nvPicPr>
        <p:blipFill>
          <a:blip r:embed="rId1"/>
          <a:stretch/>
        </p:blipFill>
        <p:spPr>
          <a:xfrm>
            <a:off x="755640" y="3213000"/>
            <a:ext cx="1949400" cy="19494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651269" descr="pencel"/>
          <p:cNvPicPr/>
          <p:nvPr/>
        </p:nvPicPr>
        <p:blipFill>
          <a:blip r:embed="rId2"/>
          <a:stretch/>
        </p:blipFill>
        <p:spPr>
          <a:xfrm>
            <a:off x="3564000" y="2673360"/>
            <a:ext cx="1380960" cy="1042920"/>
          </a:xfrm>
          <a:prstGeom prst="rect">
            <a:avLst/>
          </a:prstGeom>
          <a:ln w="0">
            <a:noFill/>
          </a:ln>
        </p:spPr>
      </p:pic>
      <p:grpSp>
        <p:nvGrpSpPr>
          <p:cNvPr id="181" name="组合 651270"/>
          <p:cNvGrpSpPr/>
          <p:nvPr/>
        </p:nvGrpSpPr>
        <p:grpSpPr>
          <a:xfrm>
            <a:off x="3348000" y="3708360"/>
            <a:ext cx="488880" cy="1521000"/>
            <a:chOff x="3348000" y="3708360"/>
            <a:chExt cx="488880" cy="1521000"/>
          </a:xfrm>
        </p:grpSpPr>
        <p:sp>
          <p:nvSpPr>
            <p:cNvPr id="182" name="直接连接符 651271"/>
            <p:cNvSpPr/>
            <p:nvPr/>
          </p:nvSpPr>
          <p:spPr>
            <a:xfrm>
              <a:off x="3594240" y="3708360"/>
              <a:ext cx="0" cy="152100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直接连接符 651272"/>
            <p:cNvSpPr/>
            <p:nvPr/>
          </p:nvSpPr>
          <p:spPr>
            <a:xfrm>
              <a:off x="3594240" y="494172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接连接符 651273"/>
            <p:cNvSpPr/>
            <p:nvPr/>
          </p:nvSpPr>
          <p:spPr>
            <a:xfrm>
              <a:off x="3836880" y="4941720"/>
              <a:ext cx="0" cy="239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651274"/>
            <p:cNvSpPr/>
            <p:nvPr/>
          </p:nvSpPr>
          <p:spPr>
            <a:xfrm>
              <a:off x="3348000" y="4941720"/>
              <a:ext cx="243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直接连接符 651275"/>
            <p:cNvSpPr/>
            <p:nvPr/>
          </p:nvSpPr>
          <p:spPr>
            <a:xfrm>
              <a:off x="3348000" y="4941720"/>
              <a:ext cx="0" cy="239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图片 651276" descr="dengyao"/>
          <p:cNvPicPr/>
          <p:nvPr/>
        </p:nvPicPr>
        <p:blipFill>
          <a:blip r:embed="rId3"/>
          <a:stretch/>
        </p:blipFill>
        <p:spPr>
          <a:xfrm>
            <a:off x="4095720" y="3208320"/>
            <a:ext cx="1949400" cy="194940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651277" descr="pencel"/>
          <p:cNvPicPr/>
          <p:nvPr/>
        </p:nvPicPr>
        <p:blipFill>
          <a:blip r:embed="rId4"/>
          <a:stretch/>
        </p:blipFill>
        <p:spPr>
          <a:xfrm>
            <a:off x="6948360" y="2565360"/>
            <a:ext cx="1381320" cy="1042920"/>
          </a:xfrm>
          <a:prstGeom prst="rect">
            <a:avLst/>
          </a:prstGeom>
          <a:ln w="0">
            <a:noFill/>
          </a:ln>
        </p:spPr>
      </p:pic>
      <p:grpSp>
        <p:nvGrpSpPr>
          <p:cNvPr id="189" name="组合 651278"/>
          <p:cNvGrpSpPr/>
          <p:nvPr/>
        </p:nvGrpSpPr>
        <p:grpSpPr>
          <a:xfrm>
            <a:off x="6692760" y="3708360"/>
            <a:ext cx="488880" cy="1521000"/>
            <a:chOff x="6692760" y="3708360"/>
            <a:chExt cx="488880" cy="1521000"/>
          </a:xfrm>
        </p:grpSpPr>
        <p:sp>
          <p:nvSpPr>
            <p:cNvPr id="190" name="直接连接符 651279"/>
            <p:cNvSpPr/>
            <p:nvPr/>
          </p:nvSpPr>
          <p:spPr>
            <a:xfrm>
              <a:off x="6939000" y="3708360"/>
              <a:ext cx="0" cy="152100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651280"/>
            <p:cNvSpPr/>
            <p:nvPr/>
          </p:nvSpPr>
          <p:spPr>
            <a:xfrm>
              <a:off x="6939000" y="494172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651281"/>
            <p:cNvSpPr/>
            <p:nvPr/>
          </p:nvSpPr>
          <p:spPr>
            <a:xfrm>
              <a:off x="7181640" y="4941720"/>
              <a:ext cx="0" cy="239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直接连接符 651282"/>
            <p:cNvSpPr/>
            <p:nvPr/>
          </p:nvSpPr>
          <p:spPr>
            <a:xfrm>
              <a:off x="6692760" y="4941720"/>
              <a:ext cx="243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直接连接符 651283"/>
            <p:cNvSpPr/>
            <p:nvPr/>
          </p:nvSpPr>
          <p:spPr>
            <a:xfrm>
              <a:off x="6692760" y="4941720"/>
              <a:ext cx="0" cy="239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文本框 651284"/>
          <p:cNvSpPr/>
          <p:nvPr/>
        </p:nvSpPr>
        <p:spPr>
          <a:xfrm>
            <a:off x="684360" y="4762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画一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9.24855E-007 L 0.1 9.24855E-007 E">
                                      <p:cBhvr>
                                        <p:cTn id="169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31214E-006 L 0.00018 0.22289 E">
                                      <p:cBhvr>
                                        <p:cTn id="176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9.24855E-007 L 0.1 9.24855E-007 E">
                                      <p:cBhvr>
                                        <p:cTn id="192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31214E-006 L 0.00018 0.22289 E">
                                      <p:cBhvr>
                                        <p:cTn id="199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文本框 652289"/>
          <p:cNvSpPr/>
          <p:nvPr/>
        </p:nvSpPr>
        <p:spPr>
          <a:xfrm>
            <a:off x="468360" y="1268280"/>
            <a:ext cx="81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直角三角形中画一条线段，把它分成两个三角形。你分成了两个什么样的三角形？还可以怎么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652290"/>
          <p:cNvGrpSpPr/>
          <p:nvPr/>
        </p:nvGrpSpPr>
        <p:grpSpPr>
          <a:xfrm>
            <a:off x="3492360" y="3213000"/>
            <a:ext cx="2808360" cy="1452600"/>
            <a:chOff x="3492360" y="3213000"/>
            <a:chExt cx="2808360" cy="1452600"/>
          </a:xfrm>
        </p:grpSpPr>
        <p:sp>
          <p:nvSpPr>
            <p:cNvPr id="198" name="直角三角形 652291"/>
            <p:cNvSpPr/>
            <p:nvPr/>
          </p:nvSpPr>
          <p:spPr>
            <a:xfrm>
              <a:off x="3492360" y="3213000"/>
              <a:ext cx="2808360" cy="144144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652292"/>
            <p:cNvSpPr/>
            <p:nvPr/>
          </p:nvSpPr>
          <p:spPr>
            <a:xfrm>
              <a:off x="3506760" y="4294080"/>
              <a:ext cx="341280" cy="371520"/>
            </a:xfrm>
            <a:custGeom>
              <a:avLst/>
              <a:gdLst/>
              <a:ahLst/>
              <a:rect l="l" t="t" r="r" b="b"/>
              <a:pathLst>
                <a:path w="136" h="181">
                  <a:moveTo>
                    <a:pt x="0" y="0"/>
                  </a:moveTo>
                  <a:lnTo>
                    <a:pt x="136" y="0"/>
                  </a:lnTo>
                  <a:lnTo>
                    <a:pt x="136" y="18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652293"/>
          <p:cNvGrpSpPr/>
          <p:nvPr/>
        </p:nvGrpSpPr>
        <p:grpSpPr>
          <a:xfrm>
            <a:off x="3492360" y="3213000"/>
            <a:ext cx="2808360" cy="1452600"/>
            <a:chOff x="3492360" y="3213000"/>
            <a:chExt cx="2808360" cy="1452600"/>
          </a:xfrm>
        </p:grpSpPr>
        <p:sp>
          <p:nvSpPr>
            <p:cNvPr id="201" name="矩形 652294"/>
            <p:cNvSpPr/>
            <p:nvPr/>
          </p:nvSpPr>
          <p:spPr>
            <a:xfrm rot="1516800">
              <a:off x="3839760" y="3495240"/>
              <a:ext cx="360360" cy="1569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组合 652295"/>
            <p:cNvGrpSpPr/>
            <p:nvPr/>
          </p:nvGrpSpPr>
          <p:grpSpPr>
            <a:xfrm>
              <a:off x="3492360" y="3213000"/>
              <a:ext cx="2808360" cy="1452600"/>
              <a:chOff x="3492360" y="3213000"/>
              <a:chExt cx="2808360" cy="1452600"/>
            </a:xfrm>
          </p:grpSpPr>
          <p:sp>
            <p:nvSpPr>
              <p:cNvPr id="203" name="直角三角形 652296"/>
              <p:cNvSpPr/>
              <p:nvPr/>
            </p:nvSpPr>
            <p:spPr>
              <a:xfrm>
                <a:off x="3492360" y="3213000"/>
                <a:ext cx="2808360" cy="1441440"/>
              </a:xfrm>
              <a:prstGeom prst="rtTriangl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任意多边形 652297"/>
              <p:cNvSpPr/>
              <p:nvPr/>
            </p:nvSpPr>
            <p:spPr>
              <a:xfrm>
                <a:off x="3506760" y="4294080"/>
                <a:ext cx="341280" cy="371520"/>
              </a:xfrm>
              <a:custGeom>
                <a:avLst/>
                <a:gdLst/>
                <a:ahLst/>
                <a:rect l="l" t="t" r="r" b="b"/>
                <a:pathLst>
                  <a:path w="136" h="181">
                    <a:moveTo>
                      <a:pt x="0" y="0"/>
                    </a:moveTo>
                    <a:lnTo>
                      <a:pt x="136" y="0"/>
                    </a:lnTo>
                    <a:lnTo>
                      <a:pt x="136" y="181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直接连接符 652298"/>
            <p:cNvSpPr/>
            <p:nvPr/>
          </p:nvSpPr>
          <p:spPr>
            <a:xfrm flipV="1">
              <a:off x="3492360" y="3501720"/>
              <a:ext cx="576360" cy="115236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652299"/>
          <p:cNvGrpSpPr/>
          <p:nvPr/>
        </p:nvGrpSpPr>
        <p:grpSpPr>
          <a:xfrm>
            <a:off x="3492360" y="3213000"/>
            <a:ext cx="2808360" cy="1452600"/>
            <a:chOff x="3492360" y="3213000"/>
            <a:chExt cx="2808360" cy="1452600"/>
          </a:xfrm>
        </p:grpSpPr>
        <p:grpSp>
          <p:nvGrpSpPr>
            <p:cNvPr id="207" name="组合 652300"/>
            <p:cNvGrpSpPr/>
            <p:nvPr/>
          </p:nvGrpSpPr>
          <p:grpSpPr>
            <a:xfrm>
              <a:off x="3492360" y="3213000"/>
              <a:ext cx="2808360" cy="1452600"/>
              <a:chOff x="3492360" y="3213000"/>
              <a:chExt cx="2808360" cy="1452600"/>
            </a:xfrm>
          </p:grpSpPr>
          <p:sp>
            <p:nvSpPr>
              <p:cNvPr id="208" name="直角三角形 652301"/>
              <p:cNvSpPr/>
              <p:nvPr/>
            </p:nvSpPr>
            <p:spPr>
              <a:xfrm>
                <a:off x="3492360" y="3213000"/>
                <a:ext cx="2808360" cy="1441440"/>
              </a:xfrm>
              <a:prstGeom prst="rtTriangl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任意多边形 652302"/>
              <p:cNvSpPr/>
              <p:nvPr/>
            </p:nvSpPr>
            <p:spPr>
              <a:xfrm>
                <a:off x="3506760" y="4294080"/>
                <a:ext cx="341280" cy="371520"/>
              </a:xfrm>
              <a:custGeom>
                <a:avLst/>
                <a:gdLst/>
                <a:ahLst/>
                <a:rect l="l" t="t" r="r" b="b"/>
                <a:pathLst>
                  <a:path w="136" h="181">
                    <a:moveTo>
                      <a:pt x="0" y="0"/>
                    </a:moveTo>
                    <a:lnTo>
                      <a:pt x="136" y="0"/>
                    </a:lnTo>
                    <a:lnTo>
                      <a:pt x="136" y="181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直接连接符 652303"/>
            <p:cNvSpPr/>
            <p:nvPr/>
          </p:nvSpPr>
          <p:spPr>
            <a:xfrm flipV="1">
              <a:off x="3563640" y="4078080"/>
              <a:ext cx="1584360" cy="5032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652304"/>
          <p:cNvGrpSpPr/>
          <p:nvPr/>
        </p:nvGrpSpPr>
        <p:grpSpPr>
          <a:xfrm>
            <a:off x="3492360" y="3213000"/>
            <a:ext cx="2808360" cy="1452600"/>
            <a:chOff x="3492360" y="3213000"/>
            <a:chExt cx="2808360" cy="1452600"/>
          </a:xfrm>
        </p:grpSpPr>
        <p:grpSp>
          <p:nvGrpSpPr>
            <p:cNvPr id="212" name="组合 652305"/>
            <p:cNvGrpSpPr/>
            <p:nvPr/>
          </p:nvGrpSpPr>
          <p:grpSpPr>
            <a:xfrm>
              <a:off x="3492360" y="3213000"/>
              <a:ext cx="2808360" cy="1452600"/>
              <a:chOff x="3492360" y="3213000"/>
              <a:chExt cx="2808360" cy="1452600"/>
            </a:xfrm>
          </p:grpSpPr>
          <p:sp>
            <p:nvSpPr>
              <p:cNvPr id="213" name="直角三角形 652306"/>
              <p:cNvSpPr/>
              <p:nvPr/>
            </p:nvSpPr>
            <p:spPr>
              <a:xfrm>
                <a:off x="3492360" y="3213000"/>
                <a:ext cx="2808360" cy="1441440"/>
              </a:xfrm>
              <a:prstGeom prst="rtTriangl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任意多边形 652307"/>
              <p:cNvSpPr/>
              <p:nvPr/>
            </p:nvSpPr>
            <p:spPr>
              <a:xfrm>
                <a:off x="3506760" y="4294080"/>
                <a:ext cx="341280" cy="371520"/>
              </a:xfrm>
              <a:custGeom>
                <a:avLst/>
                <a:gdLst/>
                <a:ahLst/>
                <a:rect l="l" t="t" r="r" b="b"/>
                <a:pathLst>
                  <a:path w="136" h="181">
                    <a:moveTo>
                      <a:pt x="0" y="0"/>
                    </a:moveTo>
                    <a:lnTo>
                      <a:pt x="136" y="0"/>
                    </a:lnTo>
                    <a:lnTo>
                      <a:pt x="136" y="181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直接连接符 652308"/>
            <p:cNvSpPr/>
            <p:nvPr/>
          </p:nvSpPr>
          <p:spPr>
            <a:xfrm>
              <a:off x="3492360" y="3213000"/>
              <a:ext cx="934920" cy="136836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93642E-007 L -0.32673 0.2615 E">
                                      <p:cBhvr>
                                        <p:cTn id="217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0" dur="500" fill="hold"/>
                                        <p:tgtEl>
                                          <p:spTgt spid="20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93642E-007 L -0.04323 0.2615 E">
                                      <p:cBhvr>
                                        <p:cTn id="228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1" dur="500" fill="hold"/>
                                        <p:tgtEl>
                                          <p:spTgt spid="20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93642E-007 L 0.24028 0.2615 E">
                                      <p:cBhvr>
                                        <p:cTn id="23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500" fill="hold"/>
                                        <p:tgtEl>
                                          <p:spTgt spid="211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653313"/>
          <p:cNvSpPr/>
          <p:nvPr/>
        </p:nvSpPr>
        <p:spPr>
          <a:xfrm>
            <a:off x="684360" y="48553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有一个角是锐角的三角形是锐角三角形。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…………………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53314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下面的说法对吗？说明理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653315"/>
          <p:cNvSpPr/>
          <p:nvPr/>
        </p:nvSpPr>
        <p:spPr>
          <a:xfrm>
            <a:off x="755640" y="1628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个角都是钝角的三角形是钝角三角形。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…………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653316"/>
          <p:cNvSpPr/>
          <p:nvPr/>
        </p:nvSpPr>
        <p:spPr>
          <a:xfrm>
            <a:off x="755640" y="314172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直角三角形中只有一个直角。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…………………………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653317"/>
          <p:cNvSpPr/>
          <p:nvPr/>
        </p:nvSpPr>
        <p:spPr>
          <a:xfrm>
            <a:off x="6111360" y="22096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53318"/>
          <p:cNvSpPr/>
          <p:nvPr/>
        </p:nvSpPr>
        <p:spPr>
          <a:xfrm>
            <a:off x="6019920" y="3648240"/>
            <a:ext cx="5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653319"/>
          <p:cNvSpPr/>
          <p:nvPr/>
        </p:nvSpPr>
        <p:spPr>
          <a:xfrm>
            <a:off x="6779880" y="50846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653320"/>
          <p:cNvSpPr/>
          <p:nvPr/>
        </p:nvSpPr>
        <p:spPr>
          <a:xfrm>
            <a:off x="684360" y="48553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最大的角是锐角的三角形是锐角三角形。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…………………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653321"/>
          <p:cNvSpPr/>
          <p:nvPr/>
        </p:nvSpPr>
        <p:spPr>
          <a:xfrm>
            <a:off x="6737760" y="5114880"/>
            <a:ext cx="5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任意多边形 637953"/>
          <p:cNvSpPr/>
          <p:nvPr/>
        </p:nvSpPr>
        <p:spPr>
          <a:xfrm>
            <a:off x="1260360" y="1990800"/>
            <a:ext cx="1656000" cy="1295280"/>
          </a:xfrm>
          <a:custGeom>
            <a:avLst/>
            <a:gdLst/>
            <a:ahLst/>
            <a:rect l="l" t="t" r="r" b="b"/>
            <a:pathLst>
              <a:path w="1043" h="816">
                <a:moveTo>
                  <a:pt x="590" y="0"/>
                </a:moveTo>
                <a:lnTo>
                  <a:pt x="0" y="816"/>
                </a:lnTo>
                <a:lnTo>
                  <a:pt x="1043" y="544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637954"/>
          <p:cNvSpPr/>
          <p:nvPr/>
        </p:nvSpPr>
        <p:spPr>
          <a:xfrm>
            <a:off x="3564000" y="1989000"/>
            <a:ext cx="2089080" cy="1295640"/>
          </a:xfrm>
          <a:custGeom>
            <a:avLst/>
            <a:gdLst/>
            <a:ahLst/>
            <a:rect l="l" t="t" r="r" b="b"/>
            <a:pathLst>
              <a:path w="1814" h="771">
                <a:moveTo>
                  <a:pt x="0" y="0"/>
                </a:moveTo>
                <a:lnTo>
                  <a:pt x="680" y="771"/>
                </a:lnTo>
                <a:lnTo>
                  <a:pt x="1814" y="635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任意多边形 637955"/>
          <p:cNvSpPr/>
          <p:nvPr/>
        </p:nvSpPr>
        <p:spPr>
          <a:xfrm>
            <a:off x="6372360" y="2205000"/>
            <a:ext cx="1368360" cy="1368360"/>
          </a:xfrm>
          <a:custGeom>
            <a:avLst/>
            <a:gdLst/>
            <a:ahLst/>
            <a:rect l="l" t="t" r="r" b="b"/>
            <a:pathLst>
              <a:path w="862" h="862">
                <a:moveTo>
                  <a:pt x="0" y="0"/>
                </a:moveTo>
                <a:lnTo>
                  <a:pt x="862" y="0"/>
                </a:lnTo>
                <a:lnTo>
                  <a:pt x="862" y="862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637956"/>
          <p:cNvSpPr/>
          <p:nvPr/>
        </p:nvSpPr>
        <p:spPr>
          <a:xfrm>
            <a:off x="6300720" y="4365720"/>
            <a:ext cx="1873440" cy="1008000"/>
          </a:xfrm>
          <a:custGeom>
            <a:avLst/>
            <a:gdLst/>
            <a:ahLst/>
            <a:rect l="l" t="t" r="r" b="b"/>
            <a:pathLst>
              <a:path w="998" h="317">
                <a:moveTo>
                  <a:pt x="317" y="0"/>
                </a:moveTo>
                <a:lnTo>
                  <a:pt x="998" y="272"/>
                </a:lnTo>
                <a:lnTo>
                  <a:pt x="0" y="317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637957"/>
          <p:cNvSpPr/>
          <p:nvPr/>
        </p:nvSpPr>
        <p:spPr>
          <a:xfrm>
            <a:off x="3635280" y="4508640"/>
            <a:ext cx="1944720" cy="1008000"/>
          </a:xfrm>
          <a:custGeom>
            <a:avLst/>
            <a:gdLst/>
            <a:ahLst/>
            <a:rect l="l" t="t" r="r" b="b"/>
            <a:pathLst>
              <a:path w="1542" h="363">
                <a:moveTo>
                  <a:pt x="0" y="0"/>
                </a:moveTo>
                <a:lnTo>
                  <a:pt x="862" y="0"/>
                </a:lnTo>
                <a:lnTo>
                  <a:pt x="1542" y="363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637958"/>
          <p:cNvSpPr/>
          <p:nvPr/>
        </p:nvSpPr>
        <p:spPr>
          <a:xfrm>
            <a:off x="1474920" y="2998800"/>
            <a:ext cx="141120" cy="216000"/>
          </a:xfrm>
          <a:custGeom>
            <a:avLst/>
            <a:gdLst/>
            <a:ahLst/>
            <a:rect l="l" t="t" r="r" b="b"/>
            <a:pathLst>
              <a:path fill="none" w="21008" h="21600">
                <a:moveTo>
                  <a:pt x="0" y="0"/>
                </a:moveTo>
                <a:cubicBezTo>
                  <a:pt x="10199" y="0"/>
                  <a:pt x="18746" y="7068"/>
                  <a:pt x="21011" y="16567"/>
                </a:cubicBezTo>
              </a:path>
              <a:path stroke="0" w="21008" h="21600">
                <a:moveTo>
                  <a:pt x="0" y="0"/>
                </a:moveTo>
                <a:cubicBezTo>
                  <a:pt x="10199" y="0"/>
                  <a:pt x="18746" y="7068"/>
                  <a:pt x="21011" y="16567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637959"/>
          <p:cNvSpPr/>
          <p:nvPr/>
        </p:nvSpPr>
        <p:spPr>
          <a:xfrm>
            <a:off x="4211640" y="2997360"/>
            <a:ext cx="431640" cy="215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637960"/>
          <p:cNvSpPr/>
          <p:nvPr/>
        </p:nvSpPr>
        <p:spPr>
          <a:xfrm flipH="1">
            <a:off x="7741440" y="5013360"/>
            <a:ext cx="7164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637961"/>
          <p:cNvSpPr/>
          <p:nvPr/>
        </p:nvSpPr>
        <p:spPr>
          <a:xfrm>
            <a:off x="4465800" y="4508640"/>
            <a:ext cx="558720" cy="361800"/>
          </a:xfrm>
          <a:custGeom>
            <a:avLst/>
            <a:gdLst/>
            <a:ahLst/>
            <a:rect l="l" t="t" r="r" b="b"/>
            <a:pathLst>
              <a:path fill="none" w="27919" h="21600">
                <a:moveTo>
                  <a:pt x="27919" y="20647"/>
                </a:moveTo>
                <a:cubicBezTo>
                  <a:pt x="25917" y="21267"/>
                  <a:pt x="23786" y="21599"/>
                  <a:pt x="21577" y="21599"/>
                </a:cubicBezTo>
                <a:cubicBezTo>
                  <a:pt x="9984" y="21599"/>
                  <a:pt x="524" y="12466"/>
                  <a:pt x="0" y="1007"/>
                </a:cubicBezTo>
              </a:path>
              <a:path stroke="0" w="27919" h="21600">
                <a:moveTo>
                  <a:pt x="27919" y="20647"/>
                </a:moveTo>
                <a:cubicBezTo>
                  <a:pt x="25917" y="21267"/>
                  <a:pt x="23786" y="21599"/>
                  <a:pt x="21577" y="21599"/>
                </a:cubicBezTo>
                <a:cubicBezTo>
                  <a:pt x="9984" y="21599"/>
                  <a:pt x="524" y="12466"/>
                  <a:pt x="0" y="1007"/>
                </a:cubicBezTo>
                <a:lnTo>
                  <a:pt x="21577" y="0"/>
                </a:lnTo>
                <a:lnTo>
                  <a:pt x="27919" y="2064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637962"/>
          <p:cNvSpPr/>
          <p:nvPr/>
        </p:nvSpPr>
        <p:spPr>
          <a:xfrm>
            <a:off x="7454880" y="2211480"/>
            <a:ext cx="289080" cy="288720"/>
          </a:xfrm>
          <a:custGeom>
            <a:avLst/>
            <a:gdLst/>
            <a:ahLst/>
            <a:rect l="l" t="t" r="r" b="b"/>
            <a:pathLst>
              <a:path fill="none" w="21600" h="25633">
                <a:moveTo>
                  <a:pt x="21092" y="25633"/>
                </a:moveTo>
                <a:cubicBezTo>
                  <a:pt x="9396" y="25362"/>
                  <a:pt x="0" y="15798"/>
                  <a:pt x="0" y="4039"/>
                </a:cubicBezTo>
                <a:cubicBezTo>
                  <a:pt x="0" y="2655"/>
                  <a:pt x="130" y="1301"/>
                  <a:pt x="378" y="-4"/>
                </a:cubicBezTo>
              </a:path>
              <a:path stroke="0" w="21600" h="25633">
                <a:moveTo>
                  <a:pt x="21092" y="25633"/>
                </a:moveTo>
                <a:cubicBezTo>
                  <a:pt x="9396" y="25362"/>
                  <a:pt x="0" y="15798"/>
                  <a:pt x="0" y="4039"/>
                </a:cubicBezTo>
                <a:cubicBezTo>
                  <a:pt x="0" y="2655"/>
                  <a:pt x="130" y="1301"/>
                  <a:pt x="378" y="-4"/>
                </a:cubicBezTo>
                <a:lnTo>
                  <a:pt x="21600" y="4039"/>
                </a:lnTo>
                <a:lnTo>
                  <a:pt x="21092" y="2563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637963"/>
          <p:cNvSpPr/>
          <p:nvPr/>
        </p:nvSpPr>
        <p:spPr>
          <a:xfrm>
            <a:off x="3194280" y="12351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判断它们各是什么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637964"/>
          <p:cNvSpPr/>
          <p:nvPr/>
        </p:nvSpPr>
        <p:spPr>
          <a:xfrm>
            <a:off x="971640" y="4365720"/>
            <a:ext cx="2016000" cy="1079280"/>
          </a:xfrm>
          <a:custGeom>
            <a:avLst/>
            <a:gdLst/>
            <a:ahLst/>
            <a:rect l="l" t="t" r="r" b="b"/>
            <a:pathLst>
              <a:path w="1270" h="680">
                <a:moveTo>
                  <a:pt x="0" y="680"/>
                </a:moveTo>
                <a:lnTo>
                  <a:pt x="680" y="0"/>
                </a:lnTo>
                <a:lnTo>
                  <a:pt x="1270" y="59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637965"/>
          <p:cNvSpPr/>
          <p:nvPr/>
        </p:nvSpPr>
        <p:spPr>
          <a:xfrm flipH="1" flipV="1">
            <a:off x="1866960" y="4438800"/>
            <a:ext cx="403200" cy="287280"/>
          </a:xfrm>
          <a:custGeom>
            <a:avLst/>
            <a:gdLst/>
            <a:ahLst/>
            <a:rect l="l" t="t" r="r" b="b"/>
            <a:pathLst>
              <a:path fill="none" w="38069" h="21600">
                <a:moveTo>
                  <a:pt x="0" y="12236"/>
                </a:moveTo>
                <a:cubicBezTo>
                  <a:pt x="3487" y="4993"/>
                  <a:pt x="10893" y="0"/>
                  <a:pt x="19465" y="0"/>
                </a:cubicBezTo>
                <a:cubicBezTo>
                  <a:pt x="27386" y="0"/>
                  <a:pt x="-31225" y="4264"/>
                  <a:pt x="-27466" y="10620"/>
                </a:cubicBezTo>
              </a:path>
              <a:path stroke="0" w="38069" h="21600">
                <a:moveTo>
                  <a:pt x="0" y="12236"/>
                </a:moveTo>
                <a:cubicBezTo>
                  <a:pt x="3487" y="4993"/>
                  <a:pt x="10893" y="0"/>
                  <a:pt x="19465" y="0"/>
                </a:cubicBezTo>
                <a:cubicBezTo>
                  <a:pt x="27386" y="0"/>
                  <a:pt x="-31225" y="4264"/>
                  <a:pt x="-27466" y="10620"/>
                </a:cubicBezTo>
                <a:lnTo>
                  <a:pt x="19465" y="21600"/>
                </a:lnTo>
                <a:lnTo>
                  <a:pt x="0" y="1223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37966"/>
          <p:cNvSpPr/>
          <p:nvPr/>
        </p:nvSpPr>
        <p:spPr>
          <a:xfrm>
            <a:off x="1611000" y="2684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37967"/>
          <p:cNvSpPr/>
          <p:nvPr/>
        </p:nvSpPr>
        <p:spPr>
          <a:xfrm>
            <a:off x="4348080" y="2611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37968"/>
          <p:cNvSpPr/>
          <p:nvPr/>
        </p:nvSpPr>
        <p:spPr>
          <a:xfrm>
            <a:off x="7245360" y="2324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637969"/>
          <p:cNvSpPr/>
          <p:nvPr/>
        </p:nvSpPr>
        <p:spPr>
          <a:xfrm>
            <a:off x="18270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637970"/>
          <p:cNvSpPr/>
          <p:nvPr/>
        </p:nvSpPr>
        <p:spPr>
          <a:xfrm>
            <a:off x="4346280" y="4772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637971"/>
          <p:cNvSpPr/>
          <p:nvPr/>
        </p:nvSpPr>
        <p:spPr>
          <a:xfrm>
            <a:off x="7315200" y="4797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2"/>
          <p:cNvGrpSpPr/>
          <p:nvPr/>
        </p:nvGrpSpPr>
        <p:grpSpPr>
          <a:xfrm>
            <a:off x="81000" y="647640"/>
            <a:ext cx="3244680" cy="525600"/>
            <a:chOff x="81000" y="647640"/>
            <a:chExt cx="3244680" cy="525600"/>
          </a:xfrm>
        </p:grpSpPr>
        <p:grpSp>
          <p:nvGrpSpPr>
            <p:cNvPr id="68" name="圆角矩形 4"/>
            <p:cNvGrpSpPr/>
            <p:nvPr/>
          </p:nvGrpSpPr>
          <p:grpSpPr>
            <a:xfrm>
              <a:off x="227160" y="647640"/>
              <a:ext cx="3098520" cy="525600"/>
              <a:chOff x="227160" y="647640"/>
              <a:chExt cx="3098520" cy="525600"/>
            </a:xfrm>
          </p:grpSpPr>
          <p:pic>
            <p:nvPicPr>
              <p:cNvPr id="69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27160" y="647640"/>
                <a:ext cx="309852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270360" y="723240"/>
                <a:ext cx="29491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复习导入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组合 4"/>
            <p:cNvGrpSpPr/>
            <p:nvPr/>
          </p:nvGrpSpPr>
          <p:grpSpPr>
            <a:xfrm>
              <a:off x="81000" y="765000"/>
              <a:ext cx="428040" cy="187560"/>
              <a:chOff x="81000" y="765000"/>
              <a:chExt cx="428040" cy="187560"/>
            </a:xfrm>
          </p:grpSpPr>
          <p:sp>
            <p:nvSpPr>
              <p:cNvPr id="72" name="椭圆 7"/>
              <p:cNvSpPr/>
              <p:nvPr/>
            </p:nvSpPr>
            <p:spPr>
              <a:xfrm rot="16200000">
                <a:off x="395640" y="83844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" name="椭圆 8"/>
              <p:cNvGrpSpPr/>
              <p:nvPr/>
            </p:nvGrpSpPr>
            <p:grpSpPr>
              <a:xfrm>
                <a:off x="374760" y="876240"/>
                <a:ext cx="119520" cy="65880"/>
                <a:chOff x="374760" y="876240"/>
                <a:chExt cx="119520" cy="65880"/>
              </a:xfrm>
            </p:grpSpPr>
            <p:pic>
              <p:nvPicPr>
                <p:cNvPr id="74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74760" y="876240"/>
                  <a:ext cx="11952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" name=""/>
                <p:cNvSpPr/>
                <p:nvPr/>
              </p:nvSpPr>
              <p:spPr>
                <a:xfrm rot="16200000">
                  <a:off x="412200" y="86832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椭圆 9"/>
              <p:cNvSpPr/>
              <p:nvPr/>
            </p:nvSpPr>
            <p:spPr>
              <a:xfrm rot="16200000">
                <a:off x="395640" y="7336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椭圆 10"/>
              <p:cNvGrpSpPr/>
              <p:nvPr/>
            </p:nvGrpSpPr>
            <p:grpSpPr>
              <a:xfrm>
                <a:off x="374760" y="772200"/>
                <a:ext cx="119520" cy="65880"/>
                <a:chOff x="374760" y="772200"/>
                <a:chExt cx="119520" cy="65880"/>
              </a:xfrm>
            </p:grpSpPr>
            <p:pic>
              <p:nvPicPr>
                <p:cNvPr id="78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74760" y="772200"/>
                  <a:ext cx="11952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" name=""/>
                <p:cNvSpPr/>
                <p:nvPr/>
              </p:nvSpPr>
              <p:spPr>
                <a:xfrm rot="16200000">
                  <a:off x="412200" y="76356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圆角矩形 12"/>
              <p:cNvGrpSpPr/>
              <p:nvPr/>
            </p:nvGrpSpPr>
            <p:grpSpPr>
              <a:xfrm>
                <a:off x="81000" y="900720"/>
                <a:ext cx="392040" cy="51840"/>
                <a:chOff x="81000" y="900720"/>
                <a:chExt cx="392040" cy="51840"/>
              </a:xfrm>
            </p:grpSpPr>
            <p:pic>
              <p:nvPicPr>
                <p:cNvPr id="81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1000" y="900720"/>
                  <a:ext cx="3920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"/>
                <p:cNvSpPr/>
                <p:nvPr/>
              </p:nvSpPr>
              <p:spPr>
                <a:xfrm rot="16200000">
                  <a:off x="274680" y="76392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圆角矩形 14"/>
              <p:cNvGrpSpPr/>
              <p:nvPr/>
            </p:nvGrpSpPr>
            <p:grpSpPr>
              <a:xfrm>
                <a:off x="81000" y="873000"/>
                <a:ext cx="392040" cy="51840"/>
                <a:chOff x="81000" y="873000"/>
                <a:chExt cx="392040" cy="51840"/>
              </a:xfrm>
            </p:grpSpPr>
            <p:pic>
              <p:nvPicPr>
                <p:cNvPr id="84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1000" y="873000"/>
                  <a:ext cx="3920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"/>
                <p:cNvSpPr/>
                <p:nvPr/>
              </p:nvSpPr>
              <p:spPr>
                <a:xfrm rot="16200000">
                  <a:off x="274680" y="73764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圆角矩形 17"/>
              <p:cNvGrpSpPr/>
              <p:nvPr/>
            </p:nvGrpSpPr>
            <p:grpSpPr>
              <a:xfrm>
                <a:off x="81000" y="793080"/>
                <a:ext cx="392040" cy="51840"/>
                <a:chOff x="81000" y="793080"/>
                <a:chExt cx="392040" cy="51840"/>
              </a:xfrm>
            </p:grpSpPr>
            <p:pic>
              <p:nvPicPr>
                <p:cNvPr id="87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1000" y="793080"/>
                  <a:ext cx="3920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6200000">
                  <a:off x="274680" y="65664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圆角矩形 18"/>
              <p:cNvGrpSpPr/>
              <p:nvPr/>
            </p:nvGrpSpPr>
            <p:grpSpPr>
              <a:xfrm>
                <a:off x="81000" y="765360"/>
                <a:ext cx="392040" cy="51840"/>
                <a:chOff x="81000" y="765360"/>
                <a:chExt cx="392040" cy="51840"/>
              </a:xfrm>
            </p:grpSpPr>
            <p:pic>
              <p:nvPicPr>
                <p:cNvPr id="90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1000" y="765360"/>
                  <a:ext cx="39204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6200000">
                  <a:off x="274680" y="63036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638977"/>
          <p:cNvSpPr/>
          <p:nvPr/>
        </p:nvSpPr>
        <p:spPr>
          <a:xfrm>
            <a:off x="1632960" y="687240"/>
            <a:ext cx="474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下面每个三角形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个角分别是什么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你能根据角的特点把这些三角形分类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638978" descr="1"/>
          <p:cNvPicPr/>
          <p:nvPr/>
        </p:nvPicPr>
        <p:blipFill>
          <a:blip r:embed="rId1"/>
          <a:stretch/>
        </p:blipFill>
        <p:spPr>
          <a:xfrm>
            <a:off x="900000" y="2133720"/>
            <a:ext cx="7504200" cy="33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641025"/>
          <p:cNvSpPr/>
          <p:nvPr/>
        </p:nvSpPr>
        <p:spPr>
          <a:xfrm>
            <a:off x="4524480" y="620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下面的三角形各有几个锐角、直角和钝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641026" descr="1"/>
          <p:cNvPicPr/>
          <p:nvPr/>
        </p:nvPicPr>
        <p:blipFill>
          <a:blip r:embed="rId1"/>
          <a:stretch/>
        </p:blipFill>
        <p:spPr>
          <a:xfrm>
            <a:off x="900000" y="1197000"/>
            <a:ext cx="7504200" cy="33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1693800" y="4508640"/>
          <a:ext cx="5614920" cy="1644480"/>
        </p:xfrm>
        <a:graphic>
          <a:graphicData uri="http://schemas.openxmlformats.org/drawingml/2006/table">
            <a:tbl>
              <a:tblPr/>
              <a:tblGrid>
                <a:gridCol w="1728720"/>
                <a:gridCol w="648000"/>
                <a:gridCol w="647640"/>
                <a:gridCol w="647640"/>
                <a:gridCol w="647640"/>
                <a:gridCol w="647640"/>
                <a:gridCol w="647640"/>
              </a:tblGrid>
              <a:tr h="41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锐角个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直角个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钝角个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97" name="文本框 641073"/>
          <p:cNvSpPr/>
          <p:nvPr/>
        </p:nvSpPr>
        <p:spPr>
          <a:xfrm>
            <a:off x="4216320" y="4853160"/>
            <a:ext cx="322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641074"/>
          <p:cNvSpPr/>
          <p:nvPr/>
        </p:nvSpPr>
        <p:spPr>
          <a:xfrm>
            <a:off x="4863960" y="4869000"/>
            <a:ext cx="322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641075"/>
          <p:cNvSpPr/>
          <p:nvPr/>
        </p:nvSpPr>
        <p:spPr>
          <a:xfrm>
            <a:off x="5511600" y="4869000"/>
            <a:ext cx="322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641076"/>
          <p:cNvSpPr/>
          <p:nvPr/>
        </p:nvSpPr>
        <p:spPr>
          <a:xfrm>
            <a:off x="6161040" y="4869000"/>
            <a:ext cx="322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641077"/>
          <p:cNvSpPr/>
          <p:nvPr/>
        </p:nvSpPr>
        <p:spPr>
          <a:xfrm>
            <a:off x="6808680" y="4869000"/>
            <a:ext cx="322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042920" y="879480"/>
          <a:ext cx="7129440" cy="2079720"/>
        </p:xfrm>
        <a:graphic>
          <a:graphicData uri="http://schemas.openxmlformats.org/drawingml/2006/table">
            <a:tbl>
              <a:tblPr/>
              <a:tblGrid>
                <a:gridCol w="2195640"/>
                <a:gridCol w="822240"/>
                <a:gridCol w="822240"/>
                <a:gridCol w="822600"/>
                <a:gridCol w="811080"/>
                <a:gridCol w="833400"/>
                <a:gridCol w="82224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锐角个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直角个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20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钝角个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03" name="文本框 642095"/>
          <p:cNvSpPr/>
          <p:nvPr/>
        </p:nvSpPr>
        <p:spPr>
          <a:xfrm>
            <a:off x="1042920" y="3357720"/>
            <a:ext cx="5759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个角都是锐角的三角形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锐角三角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642096"/>
          <p:cNvSpPr/>
          <p:nvPr/>
        </p:nvSpPr>
        <p:spPr>
          <a:xfrm>
            <a:off x="1042920" y="4292640"/>
            <a:ext cx="5759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有一个角是直角的三角形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直角三角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642097"/>
          <p:cNvSpPr/>
          <p:nvPr/>
        </p:nvSpPr>
        <p:spPr>
          <a:xfrm>
            <a:off x="1042920" y="5229360"/>
            <a:ext cx="5792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有一个角是钝角的三角形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钝角三角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642098"/>
          <p:cNvGrpSpPr/>
          <p:nvPr/>
        </p:nvGrpSpPr>
        <p:grpSpPr>
          <a:xfrm>
            <a:off x="7325640" y="3089160"/>
            <a:ext cx="845280" cy="871200"/>
            <a:chOff x="7325640" y="3089160"/>
            <a:chExt cx="845280" cy="871200"/>
          </a:xfrm>
        </p:grpSpPr>
        <p:sp>
          <p:nvSpPr>
            <p:cNvPr id="107" name="任意多边形 642099"/>
            <p:cNvSpPr/>
            <p:nvPr/>
          </p:nvSpPr>
          <p:spPr>
            <a:xfrm flipH="1">
              <a:off x="7837920" y="3764520"/>
              <a:ext cx="113040" cy="169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任意多边形 642100"/>
            <p:cNvSpPr/>
            <p:nvPr/>
          </p:nvSpPr>
          <p:spPr>
            <a:xfrm>
              <a:off x="7380360" y="3675240"/>
              <a:ext cx="108000" cy="181080"/>
            </a:xfrm>
            <a:custGeom>
              <a:avLst/>
              <a:gdLst/>
              <a:ahLst/>
              <a:rect l="l" t="t" r="r" b="b"/>
              <a:pathLst>
                <a:path fill="none" w="21600" h="36718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7486"/>
                    <a:pt x="19246" y="-32714"/>
                    <a:pt x="15428" y="-28818"/>
                  </a:cubicBezTo>
                </a:path>
                <a:path stroke="0" w="21600" h="36718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7486"/>
                    <a:pt x="19246" y="-32714"/>
                    <a:pt x="15428" y="-28818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任意多边形 642101"/>
            <p:cNvSpPr/>
            <p:nvPr/>
          </p:nvSpPr>
          <p:spPr>
            <a:xfrm flipV="1" rot="1427400">
              <a:off x="7565400" y="3143160"/>
              <a:ext cx="177120" cy="224640"/>
            </a:xfrm>
            <a:custGeom>
              <a:avLst/>
              <a:gdLst/>
              <a:ahLst/>
              <a:rect l="l" t="t" r="r" b="b"/>
              <a:pathLst>
                <a:path fill="none" w="26837" h="21600">
                  <a:moveTo>
                    <a:pt x="0" y="1870"/>
                  </a:moveTo>
                  <a:cubicBezTo>
                    <a:pt x="2683" y="666"/>
                    <a:pt x="5660" y="-1"/>
                    <a:pt x="8793" y="-1"/>
                  </a:cubicBezTo>
                  <a:cubicBezTo>
                    <a:pt x="16336" y="-1"/>
                    <a:pt x="22976" y="3865"/>
                    <a:pt x="26838" y="9724"/>
                  </a:cubicBezTo>
                </a:path>
                <a:path stroke="0" w="26837" h="21600">
                  <a:moveTo>
                    <a:pt x="0" y="1870"/>
                  </a:moveTo>
                  <a:cubicBezTo>
                    <a:pt x="2683" y="666"/>
                    <a:pt x="5660" y="-1"/>
                    <a:pt x="8793" y="-1"/>
                  </a:cubicBezTo>
                  <a:cubicBezTo>
                    <a:pt x="16336" y="-1"/>
                    <a:pt x="22976" y="3865"/>
                    <a:pt x="26838" y="9724"/>
                  </a:cubicBezTo>
                  <a:lnTo>
                    <a:pt x="8793" y="21600"/>
                  </a:lnTo>
                  <a:lnTo>
                    <a:pt x="0" y="187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等腰三角形 642102"/>
            <p:cNvSpPr/>
            <p:nvPr/>
          </p:nvSpPr>
          <p:spPr>
            <a:xfrm rot="540000">
              <a:off x="7381080" y="3141720"/>
              <a:ext cx="734400" cy="765720"/>
            </a:xfrm>
            <a:prstGeom prst="triangle">
              <a:avLst>
                <a:gd name="adj" fmla="val 23463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642103"/>
          <p:cNvGrpSpPr/>
          <p:nvPr/>
        </p:nvGrpSpPr>
        <p:grpSpPr>
          <a:xfrm>
            <a:off x="7251840" y="4189320"/>
            <a:ext cx="952200" cy="679680"/>
            <a:chOff x="7251840" y="4189320"/>
            <a:chExt cx="952200" cy="679680"/>
          </a:xfrm>
        </p:grpSpPr>
        <p:sp>
          <p:nvSpPr>
            <p:cNvPr id="112" name="直角三角形 642104"/>
            <p:cNvSpPr/>
            <p:nvPr/>
          </p:nvSpPr>
          <p:spPr>
            <a:xfrm>
              <a:off x="7251840" y="4189320"/>
              <a:ext cx="952200" cy="67968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任意多边形 642105"/>
            <p:cNvSpPr/>
            <p:nvPr/>
          </p:nvSpPr>
          <p:spPr>
            <a:xfrm>
              <a:off x="7259400" y="4706640"/>
              <a:ext cx="115200" cy="146160"/>
            </a:xfrm>
            <a:custGeom>
              <a:avLst/>
              <a:gdLst/>
              <a:ahLst/>
              <a:rect l="l" t="t" r="r" b="b"/>
              <a:pathLst>
                <a:path w="136" h="181">
                  <a:moveTo>
                    <a:pt x="0" y="0"/>
                  </a:moveTo>
                  <a:lnTo>
                    <a:pt x="136" y="0"/>
                  </a:lnTo>
                  <a:lnTo>
                    <a:pt x="136" y="18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642106"/>
          <p:cNvGrpSpPr/>
          <p:nvPr/>
        </p:nvGrpSpPr>
        <p:grpSpPr>
          <a:xfrm>
            <a:off x="7123680" y="5117760"/>
            <a:ext cx="1390680" cy="948960"/>
            <a:chOff x="7123680" y="5117760"/>
            <a:chExt cx="1390680" cy="948960"/>
          </a:xfrm>
        </p:grpSpPr>
        <p:sp>
          <p:nvSpPr>
            <p:cNvPr id="115" name="等腰三角形 642107"/>
            <p:cNvSpPr/>
            <p:nvPr/>
          </p:nvSpPr>
          <p:spPr>
            <a:xfrm rot="9066000">
              <a:off x="7106760" y="5443200"/>
              <a:ext cx="1424160" cy="297720"/>
            </a:xfrm>
            <a:prstGeom prst="triangle">
              <a:avLst>
                <a:gd name="adj" fmla="val 6265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任意多边形 642108"/>
            <p:cNvSpPr/>
            <p:nvPr/>
          </p:nvSpPr>
          <p:spPr>
            <a:xfrm flipH="1" rot="378000">
              <a:off x="7637760" y="5672160"/>
              <a:ext cx="181080" cy="133200"/>
            </a:xfrm>
            <a:custGeom>
              <a:avLst/>
              <a:gdLst/>
              <a:ahLst/>
              <a:rect l="l" t="t" r="r" b="b"/>
              <a:pathLst>
                <a:path fill="none" w="29504" h="21600">
                  <a:moveTo>
                    <a:pt x="0" y="1497"/>
                  </a:moveTo>
                  <a:cubicBezTo>
                    <a:pt x="2445" y="529"/>
                    <a:pt x="5113" y="-1"/>
                    <a:pt x="7904" y="-1"/>
                  </a:cubicBezTo>
                  <a:cubicBezTo>
                    <a:pt x="19833" y="-1"/>
                    <a:pt x="29504" y="9670"/>
                    <a:pt x="29504" y="21599"/>
                  </a:cubicBezTo>
                </a:path>
                <a:path stroke="0" w="29504" h="21600">
                  <a:moveTo>
                    <a:pt x="0" y="1497"/>
                  </a:moveTo>
                  <a:cubicBezTo>
                    <a:pt x="2445" y="529"/>
                    <a:pt x="5113" y="-1"/>
                    <a:pt x="7904" y="-1"/>
                  </a:cubicBezTo>
                  <a:cubicBezTo>
                    <a:pt x="19833" y="-1"/>
                    <a:pt x="29504" y="9670"/>
                    <a:pt x="29504" y="21599"/>
                  </a:cubicBezTo>
                  <a:lnTo>
                    <a:pt x="7904" y="21600"/>
                  </a:lnTo>
                  <a:lnTo>
                    <a:pt x="0" y="1497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5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7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8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042920" y="879480"/>
          <a:ext cx="7129440" cy="2079720"/>
        </p:xfrm>
        <a:graphic>
          <a:graphicData uri="http://schemas.openxmlformats.org/drawingml/2006/table">
            <a:tbl>
              <a:tblPr/>
              <a:tblGrid>
                <a:gridCol w="2195640"/>
                <a:gridCol w="822240"/>
                <a:gridCol w="822240"/>
                <a:gridCol w="822600"/>
                <a:gridCol w="811080"/>
                <a:gridCol w="833400"/>
                <a:gridCol w="82224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锐角个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直角个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20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钝角个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pSp>
        <p:nvGrpSpPr>
          <p:cNvPr id="118" name="组合 644143"/>
          <p:cNvGrpSpPr/>
          <p:nvPr/>
        </p:nvGrpSpPr>
        <p:grpSpPr>
          <a:xfrm>
            <a:off x="1941480" y="4232160"/>
            <a:ext cx="272880" cy="1709640"/>
            <a:chOff x="1941480" y="4232160"/>
            <a:chExt cx="272880" cy="1709640"/>
          </a:xfrm>
        </p:grpSpPr>
        <p:sp>
          <p:nvSpPr>
            <p:cNvPr id="119" name="任意多边形 644144"/>
            <p:cNvSpPr/>
            <p:nvPr/>
          </p:nvSpPr>
          <p:spPr>
            <a:xfrm flipH="1">
              <a:off x="2003400" y="4232160"/>
              <a:ext cx="210960" cy="316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任意多边形 644145"/>
            <p:cNvSpPr/>
            <p:nvPr/>
          </p:nvSpPr>
          <p:spPr>
            <a:xfrm flipH="1">
              <a:off x="1941480" y="5626080"/>
              <a:ext cx="210960" cy="315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644146"/>
          <p:cNvGrpSpPr/>
          <p:nvPr/>
        </p:nvGrpSpPr>
        <p:grpSpPr>
          <a:xfrm>
            <a:off x="1187280" y="3058200"/>
            <a:ext cx="6641640" cy="2963160"/>
            <a:chOff x="1187280" y="3058200"/>
            <a:chExt cx="6641640" cy="2963160"/>
          </a:xfrm>
        </p:grpSpPr>
        <p:sp>
          <p:nvSpPr>
            <p:cNvPr id="122" name="任意多边形 644147"/>
            <p:cNvSpPr/>
            <p:nvPr/>
          </p:nvSpPr>
          <p:spPr>
            <a:xfrm>
              <a:off x="1187280" y="4100400"/>
              <a:ext cx="201600" cy="338400"/>
            </a:xfrm>
            <a:custGeom>
              <a:avLst/>
              <a:gdLst/>
              <a:ahLst/>
              <a:rect l="l" t="t" r="r" b="b"/>
              <a:pathLst>
                <a:path fill="none" w="21600" h="36718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7486"/>
                    <a:pt x="19246" y="-32714"/>
                    <a:pt x="15428" y="-28818"/>
                  </a:cubicBezTo>
                </a:path>
                <a:path stroke="0" w="21600" h="36718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7486"/>
                    <a:pt x="19246" y="-32714"/>
                    <a:pt x="15428" y="-28818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644148"/>
            <p:cNvSpPr/>
            <p:nvPr/>
          </p:nvSpPr>
          <p:spPr>
            <a:xfrm flipV="1" rot="1427400">
              <a:off x="1532880" y="3106800"/>
              <a:ext cx="330480" cy="420840"/>
            </a:xfrm>
            <a:custGeom>
              <a:avLst/>
              <a:gdLst/>
              <a:ahLst/>
              <a:rect l="l" t="t" r="r" b="b"/>
              <a:pathLst>
                <a:path fill="none" w="26837" h="21600">
                  <a:moveTo>
                    <a:pt x="0" y="1870"/>
                  </a:moveTo>
                  <a:cubicBezTo>
                    <a:pt x="2683" y="666"/>
                    <a:pt x="5660" y="-1"/>
                    <a:pt x="8793" y="-1"/>
                  </a:cubicBezTo>
                  <a:cubicBezTo>
                    <a:pt x="16336" y="-1"/>
                    <a:pt x="22976" y="3865"/>
                    <a:pt x="26838" y="9724"/>
                  </a:cubicBezTo>
                </a:path>
                <a:path stroke="0" w="26837" h="21600">
                  <a:moveTo>
                    <a:pt x="0" y="1870"/>
                  </a:moveTo>
                  <a:cubicBezTo>
                    <a:pt x="2683" y="666"/>
                    <a:pt x="5660" y="-1"/>
                    <a:pt x="8793" y="-1"/>
                  </a:cubicBezTo>
                  <a:cubicBezTo>
                    <a:pt x="16336" y="-1"/>
                    <a:pt x="22976" y="3865"/>
                    <a:pt x="26838" y="9724"/>
                  </a:cubicBezTo>
                  <a:lnTo>
                    <a:pt x="8793" y="21600"/>
                  </a:lnTo>
                  <a:lnTo>
                    <a:pt x="0" y="187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任意多边形 644149"/>
            <p:cNvSpPr/>
            <p:nvPr/>
          </p:nvSpPr>
          <p:spPr>
            <a:xfrm flipV="1" rot="1774800">
              <a:off x="1618920" y="4967280"/>
              <a:ext cx="331920" cy="420840"/>
            </a:xfrm>
            <a:custGeom>
              <a:avLst/>
              <a:gdLst/>
              <a:ahLst/>
              <a:rect l="l" t="t" r="r" b="b"/>
              <a:pathLst>
                <a:path fill="none" w="26956" h="21600">
                  <a:moveTo>
                    <a:pt x="0" y="1870"/>
                  </a:moveTo>
                  <a:cubicBezTo>
                    <a:pt x="2683" y="666"/>
                    <a:pt x="5660" y="-1"/>
                    <a:pt x="8793" y="-1"/>
                  </a:cubicBezTo>
                  <a:cubicBezTo>
                    <a:pt x="16414" y="-1"/>
                    <a:pt x="23113" y="3946"/>
                    <a:pt x="26958" y="9906"/>
                  </a:cubicBezTo>
                </a:path>
                <a:path stroke="0" w="26956" h="21600">
                  <a:moveTo>
                    <a:pt x="0" y="1870"/>
                  </a:moveTo>
                  <a:cubicBezTo>
                    <a:pt x="2683" y="666"/>
                    <a:pt x="5660" y="-1"/>
                    <a:pt x="8793" y="-1"/>
                  </a:cubicBezTo>
                  <a:cubicBezTo>
                    <a:pt x="16414" y="-1"/>
                    <a:pt x="23113" y="3946"/>
                    <a:pt x="26958" y="9906"/>
                  </a:cubicBezTo>
                  <a:lnTo>
                    <a:pt x="8793" y="21600"/>
                  </a:lnTo>
                  <a:lnTo>
                    <a:pt x="0" y="187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644150"/>
            <p:cNvSpPr/>
            <p:nvPr/>
          </p:nvSpPr>
          <p:spPr>
            <a:xfrm>
              <a:off x="1231560" y="5683320"/>
              <a:ext cx="171720" cy="338040"/>
            </a:xfrm>
            <a:custGeom>
              <a:avLst/>
              <a:gdLst/>
              <a:ahLst/>
              <a:rect l="l" t="t" r="r" b="b"/>
              <a:pathLst>
                <a:path fill="none" w="21600" h="36718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7486"/>
                    <a:pt x="19246" y="-32714"/>
                    <a:pt x="15428" y="-28818"/>
                  </a:cubicBezTo>
                </a:path>
                <a:path stroke="0" w="21600" h="36718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7486"/>
                    <a:pt x="19246" y="-32714"/>
                    <a:pt x="15428" y="-28818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644151"/>
            <p:cNvSpPr/>
            <p:nvPr/>
          </p:nvSpPr>
          <p:spPr>
            <a:xfrm flipH="1">
              <a:off x="4639320" y="5513400"/>
              <a:ext cx="236520" cy="287280"/>
            </a:xfrm>
            <a:custGeom>
              <a:avLst/>
              <a:gdLst/>
              <a:ahLst/>
              <a:rect l="l" t="t" r="r" b="b"/>
              <a:pathLst>
                <a:path fill="none" w="21600" h="25171">
                  <a:moveTo>
                    <a:pt x="11421" y="0"/>
                  </a:moveTo>
                  <a:cubicBezTo>
                    <a:pt x="17535" y="3813"/>
                    <a:pt x="21600" y="10598"/>
                    <a:pt x="21600" y="18333"/>
                  </a:cubicBezTo>
                  <a:cubicBezTo>
                    <a:pt x="21600" y="20726"/>
                    <a:pt x="21211" y="23028"/>
                    <a:pt x="20494" y="25175"/>
                  </a:cubicBezTo>
                </a:path>
                <a:path stroke="0" w="21600" h="25171">
                  <a:moveTo>
                    <a:pt x="11421" y="0"/>
                  </a:moveTo>
                  <a:cubicBezTo>
                    <a:pt x="17535" y="3813"/>
                    <a:pt x="21600" y="10598"/>
                    <a:pt x="21600" y="18333"/>
                  </a:cubicBezTo>
                  <a:cubicBezTo>
                    <a:pt x="21600" y="20726"/>
                    <a:pt x="21211" y="23028"/>
                    <a:pt x="20494" y="25175"/>
                  </a:cubicBezTo>
                  <a:lnTo>
                    <a:pt x="0" y="18333"/>
                  </a:lnTo>
                  <a:lnTo>
                    <a:pt x="11421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644152"/>
            <p:cNvSpPr/>
            <p:nvPr/>
          </p:nvSpPr>
          <p:spPr>
            <a:xfrm>
              <a:off x="3387600" y="5542200"/>
              <a:ext cx="120600" cy="284040"/>
            </a:xfrm>
            <a:custGeom>
              <a:avLst/>
              <a:gdLst/>
              <a:ahLst/>
              <a:rect l="l" t="t" r="r" b="b"/>
              <a:pathLst>
                <a:path fill="none" w="21600" h="36718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7486"/>
                    <a:pt x="19246" y="-32714"/>
                    <a:pt x="15428" y="-28818"/>
                  </a:cubicBezTo>
                </a:path>
                <a:path stroke="0" w="21600" h="36718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7486"/>
                    <a:pt x="19246" y="-32714"/>
                    <a:pt x="15428" y="-28818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644153"/>
            <p:cNvSpPr/>
            <p:nvPr/>
          </p:nvSpPr>
          <p:spPr>
            <a:xfrm flipH="1">
              <a:off x="4443120" y="3911760"/>
              <a:ext cx="201600" cy="312480"/>
            </a:xfrm>
            <a:custGeom>
              <a:avLst/>
              <a:gdLst/>
              <a:ahLst/>
              <a:rect l="l" t="t" r="r" b="b"/>
              <a:pathLst>
                <a:path fill="none" w="21600" h="29994">
                  <a:moveTo>
                    <a:pt x="10293" y="0"/>
                  </a:moveTo>
                  <a:cubicBezTo>
                    <a:pt x="17030" y="3656"/>
                    <a:pt x="21600" y="10789"/>
                    <a:pt x="21600" y="18990"/>
                  </a:cubicBezTo>
                  <a:cubicBezTo>
                    <a:pt x="21600" y="23010"/>
                    <a:pt x="20502" y="26774"/>
                    <a:pt x="18590" y="29996"/>
                  </a:cubicBezTo>
                </a:path>
                <a:path stroke="0" w="21600" h="29994">
                  <a:moveTo>
                    <a:pt x="10293" y="0"/>
                  </a:moveTo>
                  <a:cubicBezTo>
                    <a:pt x="17030" y="3656"/>
                    <a:pt x="21600" y="10789"/>
                    <a:pt x="21600" y="18990"/>
                  </a:cubicBezTo>
                  <a:cubicBezTo>
                    <a:pt x="21600" y="23010"/>
                    <a:pt x="20502" y="26774"/>
                    <a:pt x="18590" y="29996"/>
                  </a:cubicBezTo>
                  <a:lnTo>
                    <a:pt x="0" y="18990"/>
                  </a:lnTo>
                  <a:lnTo>
                    <a:pt x="10293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644154"/>
            <p:cNvSpPr/>
            <p:nvPr/>
          </p:nvSpPr>
          <p:spPr>
            <a:xfrm flipV="1" rot="21173400">
              <a:off x="3347640" y="3216240"/>
              <a:ext cx="342720" cy="435240"/>
            </a:xfrm>
            <a:custGeom>
              <a:avLst/>
              <a:gdLst/>
              <a:ahLst/>
              <a:rect l="l" t="t" r="r" b="b"/>
              <a:pathLst>
                <a:path fill="none" w="26956" h="21600">
                  <a:moveTo>
                    <a:pt x="0" y="1870"/>
                  </a:moveTo>
                  <a:cubicBezTo>
                    <a:pt x="2683" y="666"/>
                    <a:pt x="5660" y="-1"/>
                    <a:pt x="8793" y="-1"/>
                  </a:cubicBezTo>
                  <a:cubicBezTo>
                    <a:pt x="16414" y="-1"/>
                    <a:pt x="23113" y="3946"/>
                    <a:pt x="26958" y="9906"/>
                  </a:cubicBezTo>
                </a:path>
                <a:path stroke="0" w="26956" h="21600">
                  <a:moveTo>
                    <a:pt x="0" y="1870"/>
                  </a:moveTo>
                  <a:cubicBezTo>
                    <a:pt x="2683" y="666"/>
                    <a:pt x="5660" y="-1"/>
                    <a:pt x="8793" y="-1"/>
                  </a:cubicBezTo>
                  <a:cubicBezTo>
                    <a:pt x="16414" y="-1"/>
                    <a:pt x="23113" y="3946"/>
                    <a:pt x="26958" y="9906"/>
                  </a:cubicBezTo>
                  <a:lnTo>
                    <a:pt x="8793" y="21600"/>
                  </a:lnTo>
                  <a:lnTo>
                    <a:pt x="0" y="187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644155"/>
            <p:cNvSpPr/>
            <p:nvPr/>
          </p:nvSpPr>
          <p:spPr>
            <a:xfrm>
              <a:off x="5921280" y="5587920"/>
              <a:ext cx="108000" cy="219240"/>
            </a:xfrm>
            <a:custGeom>
              <a:avLst/>
              <a:gdLst/>
              <a:ahLst/>
              <a:rect l="l" t="t" r="r" b="b"/>
              <a:pathLst>
                <a:path fill="none" w="21600" h="36718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7486"/>
                    <a:pt x="19246" y="-32714"/>
                    <a:pt x="15428" y="-28818"/>
                  </a:cubicBezTo>
                </a:path>
                <a:path stroke="0" w="21600" h="36718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7486"/>
                    <a:pt x="19246" y="-32714"/>
                    <a:pt x="15428" y="-28818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644156"/>
            <p:cNvSpPr/>
            <p:nvPr/>
          </p:nvSpPr>
          <p:spPr>
            <a:xfrm>
              <a:off x="6008400" y="3214800"/>
              <a:ext cx="219240" cy="218880"/>
            </a:xfrm>
            <a:custGeom>
              <a:avLst/>
              <a:gdLst/>
              <a:ahLst/>
              <a:rect l="l" t="t" r="r" b="b"/>
              <a:pathLst>
                <a:path fill="none" w="21600" h="32985">
                  <a:moveTo>
                    <a:pt x="17842" y="0"/>
                  </a:moveTo>
                  <a:cubicBezTo>
                    <a:pt x="20213" y="3466"/>
                    <a:pt x="21599" y="7658"/>
                    <a:pt x="21599" y="12174"/>
                  </a:cubicBezTo>
                  <a:cubicBezTo>
                    <a:pt x="21599" y="22099"/>
                    <a:pt x="14905" y="30461"/>
                    <a:pt x="5791" y="-32547"/>
                  </a:cubicBezTo>
                </a:path>
                <a:path stroke="0" w="21600" h="32985">
                  <a:moveTo>
                    <a:pt x="17842" y="0"/>
                  </a:moveTo>
                  <a:cubicBezTo>
                    <a:pt x="20213" y="3466"/>
                    <a:pt x="21599" y="7658"/>
                    <a:pt x="21599" y="12174"/>
                  </a:cubicBezTo>
                  <a:cubicBezTo>
                    <a:pt x="21599" y="22099"/>
                    <a:pt x="14905" y="30461"/>
                    <a:pt x="5791" y="-32547"/>
                  </a:cubicBezTo>
                  <a:lnTo>
                    <a:pt x="0" y="12173"/>
                  </a:lnTo>
                  <a:lnTo>
                    <a:pt x="17842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 644157"/>
            <p:cNvSpPr/>
            <p:nvPr/>
          </p:nvSpPr>
          <p:spPr>
            <a:xfrm flipH="1">
              <a:off x="7700040" y="3241800"/>
              <a:ext cx="111240" cy="236520"/>
            </a:xfrm>
            <a:custGeom>
              <a:avLst/>
              <a:gdLst/>
              <a:ahLst/>
              <a:rect l="l" t="t" r="r" b="b"/>
              <a:pathLst>
                <a:path fill="none" w="21600" h="30959">
                  <a:moveTo>
                    <a:pt x="19467" y="0"/>
                  </a:moveTo>
                  <a:cubicBezTo>
                    <a:pt x="20835" y="2829"/>
                    <a:pt x="21600" y="6004"/>
                    <a:pt x="21600" y="9359"/>
                  </a:cubicBezTo>
                  <a:cubicBezTo>
                    <a:pt x="21600" y="21288"/>
                    <a:pt x="11929" y="30959"/>
                    <a:pt x="0" y="30959"/>
                  </a:cubicBezTo>
                </a:path>
                <a:path stroke="0" w="21600" h="30959">
                  <a:moveTo>
                    <a:pt x="19467" y="0"/>
                  </a:moveTo>
                  <a:cubicBezTo>
                    <a:pt x="20835" y="2829"/>
                    <a:pt x="21600" y="6004"/>
                    <a:pt x="21600" y="9359"/>
                  </a:cubicBezTo>
                  <a:cubicBezTo>
                    <a:pt x="21600" y="21288"/>
                    <a:pt x="11929" y="30959"/>
                    <a:pt x="0" y="30959"/>
                  </a:cubicBezTo>
                  <a:lnTo>
                    <a:pt x="0" y="9359"/>
                  </a:lnTo>
                  <a:lnTo>
                    <a:pt x="19467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 644158"/>
            <p:cNvSpPr/>
            <p:nvPr/>
          </p:nvSpPr>
          <p:spPr>
            <a:xfrm flipH="1">
              <a:off x="7682760" y="4651560"/>
              <a:ext cx="145800" cy="149040"/>
            </a:xfrm>
            <a:custGeom>
              <a:avLst/>
              <a:gdLst/>
              <a:ahLst/>
              <a:rect l="l" t="t" r="r" b="b"/>
              <a:pathLst>
                <a:path fill="none" w="32283" h="27745">
                  <a:moveTo>
                    <a:pt x="31390" y="0"/>
                  </a:moveTo>
                  <a:cubicBezTo>
                    <a:pt x="31973" y="1944"/>
                    <a:pt x="32283" y="4008"/>
                    <a:pt x="32283" y="6145"/>
                  </a:cubicBezTo>
                  <a:cubicBezTo>
                    <a:pt x="32283" y="18074"/>
                    <a:pt x="22612" y="27745"/>
                    <a:pt x="10683" y="27745"/>
                  </a:cubicBezTo>
                  <a:cubicBezTo>
                    <a:pt x="6795" y="27745"/>
                    <a:pt x="3147" y="26718"/>
                    <a:pt x="-3" y="24921"/>
                  </a:cubicBezTo>
                </a:path>
                <a:path stroke="0" w="32283" h="27745">
                  <a:moveTo>
                    <a:pt x="31390" y="0"/>
                  </a:moveTo>
                  <a:cubicBezTo>
                    <a:pt x="31973" y="1944"/>
                    <a:pt x="32283" y="4008"/>
                    <a:pt x="32283" y="6145"/>
                  </a:cubicBezTo>
                  <a:cubicBezTo>
                    <a:pt x="32283" y="18074"/>
                    <a:pt x="22612" y="27745"/>
                    <a:pt x="10683" y="27745"/>
                  </a:cubicBezTo>
                  <a:cubicBezTo>
                    <a:pt x="6795" y="27745"/>
                    <a:pt x="3147" y="26718"/>
                    <a:pt x="-3" y="24921"/>
                  </a:cubicBezTo>
                  <a:lnTo>
                    <a:pt x="10683" y="6145"/>
                  </a:lnTo>
                  <a:lnTo>
                    <a:pt x="31390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644159"/>
          <p:cNvGrpSpPr/>
          <p:nvPr/>
        </p:nvGrpSpPr>
        <p:grpSpPr>
          <a:xfrm>
            <a:off x="1042920" y="3003840"/>
            <a:ext cx="7507440" cy="3827880"/>
            <a:chOff x="1042920" y="3003840"/>
            <a:chExt cx="7507440" cy="3827880"/>
          </a:xfrm>
        </p:grpSpPr>
        <p:sp>
          <p:nvSpPr>
            <p:cNvPr id="135" name="直角三角形 644160"/>
            <p:cNvSpPr/>
            <p:nvPr/>
          </p:nvSpPr>
          <p:spPr>
            <a:xfrm>
              <a:off x="3348000" y="3213000"/>
              <a:ext cx="1779480" cy="100332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等腰三角形 644161"/>
            <p:cNvSpPr/>
            <p:nvPr/>
          </p:nvSpPr>
          <p:spPr>
            <a:xfrm>
              <a:off x="1042920" y="4941720"/>
              <a:ext cx="1368360" cy="1052640"/>
            </a:xfrm>
            <a:prstGeom prst="triangle">
              <a:avLst>
                <a:gd name="adj" fmla="val 5203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等腰三角形 644162"/>
            <p:cNvSpPr/>
            <p:nvPr/>
          </p:nvSpPr>
          <p:spPr>
            <a:xfrm rot="9066000">
              <a:off x="5508360" y="5038560"/>
              <a:ext cx="3078000" cy="642960"/>
            </a:xfrm>
            <a:prstGeom prst="triangle">
              <a:avLst>
                <a:gd name="adj" fmla="val 6265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等腰三角形 644163"/>
            <p:cNvSpPr/>
            <p:nvPr/>
          </p:nvSpPr>
          <p:spPr>
            <a:xfrm rot="540000">
              <a:off x="1188720" y="3102120"/>
              <a:ext cx="1369800" cy="1430280"/>
            </a:xfrm>
            <a:prstGeom prst="triangle">
              <a:avLst>
                <a:gd name="adj" fmla="val 23463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等腰三角形 644164"/>
            <p:cNvSpPr/>
            <p:nvPr/>
          </p:nvSpPr>
          <p:spPr>
            <a:xfrm rot="10800000">
              <a:off x="5580000" y="3239640"/>
              <a:ext cx="2511360" cy="768600"/>
            </a:xfrm>
            <a:prstGeom prst="triangle">
              <a:avLst>
                <a:gd name="adj" fmla="val 3043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等腰三角形 644165"/>
            <p:cNvSpPr/>
            <p:nvPr/>
          </p:nvSpPr>
          <p:spPr>
            <a:xfrm rot="8100000">
              <a:off x="3347640" y="5151600"/>
              <a:ext cx="1436760" cy="1373040"/>
            </a:xfrm>
            <a:prstGeom prst="triangle">
              <a:avLst>
                <a:gd name="adj" fmla="val 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644166"/>
            <p:cNvSpPr/>
            <p:nvPr/>
          </p:nvSpPr>
          <p:spPr>
            <a:xfrm>
              <a:off x="2700360" y="3141720"/>
              <a:ext cx="0" cy="2951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644167"/>
            <p:cNvSpPr/>
            <p:nvPr/>
          </p:nvSpPr>
          <p:spPr>
            <a:xfrm>
              <a:off x="5364000" y="3068640"/>
              <a:ext cx="0" cy="2951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644168"/>
          <p:cNvGrpSpPr/>
          <p:nvPr/>
        </p:nvGrpSpPr>
        <p:grpSpPr>
          <a:xfrm>
            <a:off x="3362400" y="3976560"/>
            <a:ext cx="922320" cy="1217520"/>
            <a:chOff x="3362400" y="3976560"/>
            <a:chExt cx="922320" cy="1217520"/>
          </a:xfrm>
        </p:grpSpPr>
        <p:sp>
          <p:nvSpPr>
            <p:cNvPr id="144" name="任意多边形 644169"/>
            <p:cNvSpPr/>
            <p:nvPr/>
          </p:nvSpPr>
          <p:spPr>
            <a:xfrm>
              <a:off x="3362400" y="3976560"/>
              <a:ext cx="216000" cy="216000"/>
            </a:xfrm>
            <a:custGeom>
              <a:avLst/>
              <a:gdLst/>
              <a:ahLst/>
              <a:rect l="l" t="t" r="r" b="b"/>
              <a:pathLst>
                <a:path w="136" h="181">
                  <a:moveTo>
                    <a:pt x="0" y="0"/>
                  </a:moveTo>
                  <a:lnTo>
                    <a:pt x="136" y="0"/>
                  </a:lnTo>
                  <a:lnTo>
                    <a:pt x="136" y="18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644170"/>
            <p:cNvSpPr/>
            <p:nvPr/>
          </p:nvSpPr>
          <p:spPr>
            <a:xfrm>
              <a:off x="3924360" y="5013360"/>
              <a:ext cx="360360" cy="180720"/>
            </a:xfrm>
            <a:custGeom>
              <a:avLst/>
              <a:gdLst/>
              <a:ahLst/>
              <a:rect l="l" t="t" r="r" b="b"/>
              <a:pathLst>
                <a:path w="273" h="137">
                  <a:moveTo>
                    <a:pt x="0" y="1"/>
                  </a:moveTo>
                  <a:lnTo>
                    <a:pt x="136" y="137"/>
                  </a:lnTo>
                  <a:lnTo>
                    <a:pt x="273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644171"/>
          <p:cNvGrpSpPr/>
          <p:nvPr/>
        </p:nvGrpSpPr>
        <p:grpSpPr>
          <a:xfrm>
            <a:off x="6642000" y="3766320"/>
            <a:ext cx="875520" cy="2074320"/>
            <a:chOff x="6642000" y="3766320"/>
            <a:chExt cx="875520" cy="2074320"/>
          </a:xfrm>
        </p:grpSpPr>
        <p:sp>
          <p:nvSpPr>
            <p:cNvPr id="147" name="任意多边形 644172"/>
            <p:cNvSpPr/>
            <p:nvPr/>
          </p:nvSpPr>
          <p:spPr>
            <a:xfrm flipH="1" rot="378000">
              <a:off x="6656400" y="5532120"/>
              <a:ext cx="392040" cy="287640"/>
            </a:xfrm>
            <a:custGeom>
              <a:avLst/>
              <a:gdLst/>
              <a:ahLst/>
              <a:rect l="l" t="t" r="r" b="b"/>
              <a:pathLst>
                <a:path fill="none" w="29504" h="21600">
                  <a:moveTo>
                    <a:pt x="0" y="1497"/>
                  </a:moveTo>
                  <a:cubicBezTo>
                    <a:pt x="2445" y="529"/>
                    <a:pt x="5113" y="-1"/>
                    <a:pt x="7904" y="-1"/>
                  </a:cubicBezTo>
                  <a:cubicBezTo>
                    <a:pt x="19833" y="-1"/>
                    <a:pt x="29504" y="9670"/>
                    <a:pt x="29504" y="21599"/>
                  </a:cubicBezTo>
                </a:path>
                <a:path stroke="0" w="29504" h="21600">
                  <a:moveTo>
                    <a:pt x="0" y="1497"/>
                  </a:moveTo>
                  <a:cubicBezTo>
                    <a:pt x="2445" y="529"/>
                    <a:pt x="5113" y="-1"/>
                    <a:pt x="7904" y="-1"/>
                  </a:cubicBezTo>
                  <a:cubicBezTo>
                    <a:pt x="19833" y="-1"/>
                    <a:pt x="29504" y="9670"/>
                    <a:pt x="29504" y="21599"/>
                  </a:cubicBezTo>
                  <a:lnTo>
                    <a:pt x="7904" y="21600"/>
                  </a:lnTo>
                  <a:lnTo>
                    <a:pt x="0" y="1497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任意多边形 644173"/>
            <p:cNvSpPr/>
            <p:nvPr/>
          </p:nvSpPr>
          <p:spPr>
            <a:xfrm flipH="1" rot="21452400">
              <a:off x="7178040" y="3773160"/>
              <a:ext cx="334800" cy="203040"/>
            </a:xfrm>
            <a:custGeom>
              <a:avLst/>
              <a:gdLst/>
              <a:ahLst/>
              <a:rect l="l" t="t" r="r" b="b"/>
              <a:pathLst>
                <a:path fill="none" w="34224" h="21600">
                  <a:moveTo>
                    <a:pt x="0" y="5211"/>
                  </a:moveTo>
                  <a:cubicBezTo>
                    <a:pt x="3780" y="1962"/>
                    <a:pt x="8696" y="-1"/>
                    <a:pt x="14071" y="-1"/>
                  </a:cubicBezTo>
                  <a:cubicBezTo>
                    <a:pt x="23258" y="-1"/>
                    <a:pt x="31105" y="5734"/>
                    <a:pt x="34227" y="13817"/>
                  </a:cubicBezTo>
                </a:path>
                <a:path stroke="0" w="34224" h="21600">
                  <a:moveTo>
                    <a:pt x="0" y="5211"/>
                  </a:moveTo>
                  <a:cubicBezTo>
                    <a:pt x="3780" y="1962"/>
                    <a:pt x="8696" y="-1"/>
                    <a:pt x="14071" y="-1"/>
                  </a:cubicBezTo>
                  <a:cubicBezTo>
                    <a:pt x="23258" y="-1"/>
                    <a:pt x="31105" y="5734"/>
                    <a:pt x="34227" y="13817"/>
                  </a:cubicBezTo>
                  <a:lnTo>
                    <a:pt x="14071" y="21600"/>
                  </a:lnTo>
                  <a:lnTo>
                    <a:pt x="0" y="5211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文本占位符 645121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645122"/>
          <p:cNvSpPr/>
          <p:nvPr/>
        </p:nvSpPr>
        <p:spPr>
          <a:xfrm>
            <a:off x="971640" y="4149720"/>
            <a:ext cx="756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645123"/>
          <p:cNvSpPr/>
          <p:nvPr/>
        </p:nvSpPr>
        <p:spPr>
          <a:xfrm>
            <a:off x="539640" y="170028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在三角形中最大的角是锐角（直角、钝角），那么这个三角形就是锐角（直角、钝角）三角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文本框 646145"/>
          <p:cNvSpPr/>
          <p:nvPr/>
        </p:nvSpPr>
        <p:spPr>
          <a:xfrm>
            <a:off x="611280" y="1413000"/>
            <a:ext cx="763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把所有的三角形看作一个整体，锐角三角形、直角三角形和钝角三角形都是这个整体的一部分。它们之间的关系，可以用下图表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646146"/>
          <p:cNvGrpSpPr/>
          <p:nvPr/>
        </p:nvGrpSpPr>
        <p:grpSpPr>
          <a:xfrm>
            <a:off x="2195640" y="3357720"/>
            <a:ext cx="4897440" cy="2376000"/>
            <a:chOff x="2195640" y="3357720"/>
            <a:chExt cx="4897440" cy="2376000"/>
          </a:xfrm>
        </p:grpSpPr>
        <p:sp>
          <p:nvSpPr>
            <p:cNvPr id="154" name="椭圆 646147"/>
            <p:cNvSpPr/>
            <p:nvPr/>
          </p:nvSpPr>
          <p:spPr>
            <a:xfrm>
              <a:off x="2195640" y="3399480"/>
              <a:ext cx="4807080" cy="22276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ubPieSlice"/>
            <p:cNvSpPr/>
            <p:nvPr/>
          </p:nvSpPr>
          <p:spPr>
            <a:xfrm>
              <a:off x="2195640" y="3357720"/>
              <a:ext cx="4807080" cy="236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09" y="6697"/>
                  </a:moveTo>
                  <a:cubicBezTo>
                    <a:pt x="286" y="7961"/>
                    <a:pt x="-1" y="9347"/>
                    <a:pt x="-1" y="10800"/>
                  </a:cubicBezTo>
                  <a:cubicBezTo>
                    <a:pt x="-1" y="16765"/>
                    <a:pt x="4834" y="21600"/>
                    <a:pt x="10799" y="21600"/>
                  </a:cubicBezTo>
                  <a:cubicBezTo>
                    <a:pt x="16764" y="21600"/>
                    <a:pt x="21599" y="16765"/>
                    <a:pt x="21599" y="10800"/>
                  </a:cubicBezTo>
                  <a:cubicBezTo>
                    <a:pt x="21599" y="9588"/>
                    <a:pt x="21400" y="8424"/>
                    <a:pt x="21032" y="7336"/>
                  </a:cubicBezTo>
                  <a:lnTo>
                    <a:pt x="10800" y="10800"/>
                  </a:lnTo>
                  <a:lnTo>
                    <a:pt x="809" y="6697"/>
                  </a:lnTo>
                  <a:close/>
                </a:path>
              </a:pathLst>
            </a:custGeom>
            <a:solidFill>
              <a:srgbClr val="ffffcc"/>
            </a:solidFill>
            <a:ln w="2556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PubPieSlice"/>
            <p:cNvSpPr/>
            <p:nvPr/>
          </p:nvSpPr>
          <p:spPr>
            <a:xfrm>
              <a:off x="2213280" y="3364560"/>
              <a:ext cx="4806720" cy="236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687" y="21599"/>
                  </a:moveTo>
                  <a:cubicBezTo>
                    <a:pt x="10725" y="21600"/>
                    <a:pt x="10762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9535"/>
                    <a:pt x="21383" y="8321"/>
                    <a:pt x="20983" y="7193"/>
                  </a:cubicBezTo>
                  <a:lnTo>
                    <a:pt x="10800" y="10800"/>
                  </a:lnTo>
                  <a:lnTo>
                    <a:pt x="10687" y="21599"/>
                  </a:lnTo>
                  <a:close/>
                </a:path>
              </a:pathLst>
            </a:custGeom>
            <a:solidFill>
              <a:srgbClr val="ccffff"/>
            </a:solidFill>
            <a:ln w="2556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646150"/>
            <p:cNvSpPr/>
            <p:nvPr/>
          </p:nvSpPr>
          <p:spPr>
            <a:xfrm>
              <a:off x="4680000" y="4677480"/>
              <a:ext cx="241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直角三角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646151"/>
            <p:cNvSpPr/>
            <p:nvPr/>
          </p:nvSpPr>
          <p:spPr>
            <a:xfrm>
              <a:off x="2476800" y="4565880"/>
              <a:ext cx="223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钝角三角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646152"/>
            <p:cNvSpPr/>
            <p:nvPr/>
          </p:nvSpPr>
          <p:spPr>
            <a:xfrm>
              <a:off x="3762360" y="3657600"/>
              <a:ext cx="217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锐角三角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文本框 648193"/>
          <p:cNvSpPr/>
          <p:nvPr/>
        </p:nvSpPr>
        <p:spPr>
          <a:xfrm>
            <a:off x="1165680" y="8874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连一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角三角形 648194"/>
          <p:cNvSpPr/>
          <p:nvPr/>
        </p:nvSpPr>
        <p:spPr>
          <a:xfrm rot="8961600">
            <a:off x="4356000" y="2781360"/>
            <a:ext cx="1511280" cy="792000"/>
          </a:xfrm>
          <a:prstGeom prst="rtTriangl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等腰三角形 648195"/>
          <p:cNvSpPr/>
          <p:nvPr/>
        </p:nvSpPr>
        <p:spPr>
          <a:xfrm rot="21171000">
            <a:off x="6156360" y="2421000"/>
            <a:ext cx="1008000" cy="792000"/>
          </a:xfrm>
          <a:prstGeom prst="triangle">
            <a:avLst>
              <a:gd name="adj" fmla="val 1870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等腰三角形 648196"/>
          <p:cNvSpPr/>
          <p:nvPr/>
        </p:nvSpPr>
        <p:spPr>
          <a:xfrm rot="558000">
            <a:off x="1908000" y="2491920"/>
            <a:ext cx="1722600" cy="647640"/>
          </a:xfrm>
          <a:prstGeom prst="triangle">
            <a:avLst>
              <a:gd name="adj" fmla="val 4519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等腰三角形 648197"/>
          <p:cNvSpPr/>
          <p:nvPr/>
        </p:nvSpPr>
        <p:spPr>
          <a:xfrm>
            <a:off x="900000" y="2060640"/>
            <a:ext cx="720720" cy="1224000"/>
          </a:xfrm>
          <a:prstGeom prst="triangle">
            <a:avLst>
              <a:gd name="adj" fmla="val 10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等腰三角形 648198"/>
          <p:cNvSpPr/>
          <p:nvPr/>
        </p:nvSpPr>
        <p:spPr>
          <a:xfrm rot="12935400">
            <a:off x="6516720" y="2693520"/>
            <a:ext cx="2016000" cy="374760"/>
          </a:xfrm>
          <a:prstGeom prst="triangle">
            <a:avLst>
              <a:gd name="adj" fmla="val 3240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等腰三角形 648199"/>
          <p:cNvSpPr/>
          <p:nvPr/>
        </p:nvSpPr>
        <p:spPr>
          <a:xfrm rot="10800000">
            <a:off x="3346560" y="1989000"/>
            <a:ext cx="1009440" cy="1229040"/>
          </a:xfrm>
          <a:prstGeom prst="triangle">
            <a:avLst>
              <a:gd name="adj" fmla="val 42699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648200"/>
          <p:cNvSpPr/>
          <p:nvPr/>
        </p:nvSpPr>
        <p:spPr>
          <a:xfrm>
            <a:off x="1173240" y="5300640"/>
            <a:ext cx="1400040" cy="581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直角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648201"/>
          <p:cNvSpPr/>
          <p:nvPr/>
        </p:nvSpPr>
        <p:spPr>
          <a:xfrm>
            <a:off x="3906720" y="5300640"/>
            <a:ext cx="1400040" cy="581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锐角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648202"/>
          <p:cNvSpPr/>
          <p:nvPr/>
        </p:nvSpPr>
        <p:spPr>
          <a:xfrm>
            <a:off x="6572160" y="5300640"/>
            <a:ext cx="1400040" cy="581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钝角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648203"/>
          <p:cNvSpPr/>
          <p:nvPr/>
        </p:nvSpPr>
        <p:spPr>
          <a:xfrm>
            <a:off x="1187280" y="3429000"/>
            <a:ext cx="360360" cy="180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648204"/>
          <p:cNvSpPr/>
          <p:nvPr/>
        </p:nvSpPr>
        <p:spPr>
          <a:xfrm>
            <a:off x="3203640" y="3357720"/>
            <a:ext cx="3456000" cy="18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648205"/>
          <p:cNvSpPr/>
          <p:nvPr/>
        </p:nvSpPr>
        <p:spPr>
          <a:xfrm>
            <a:off x="3924360" y="3357720"/>
            <a:ext cx="71280" cy="18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648206"/>
          <p:cNvSpPr/>
          <p:nvPr/>
        </p:nvSpPr>
        <p:spPr>
          <a:xfrm flipH="1">
            <a:off x="2268000" y="3357720"/>
            <a:ext cx="3095640" cy="18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648207"/>
          <p:cNvSpPr/>
          <p:nvPr/>
        </p:nvSpPr>
        <p:spPr>
          <a:xfrm flipH="1">
            <a:off x="5292360" y="3357720"/>
            <a:ext cx="1150920" cy="18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648208"/>
          <p:cNvSpPr/>
          <p:nvPr/>
        </p:nvSpPr>
        <p:spPr>
          <a:xfrm flipH="1">
            <a:off x="7308360" y="3429000"/>
            <a:ext cx="576360" cy="172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2:28:0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