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55B-E901-4331-8CE0-CCCC1A19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94B-82E4-4184-AED5-414C441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84D-4260-4652-B8F8-6A6F9D21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61A-99A1-4E68-BE2E-91BEDF1C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D66-58C2-4F2A-9131-E8076091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536-60C0-4101-834A-351D5E37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495-EBCB-40DC-866D-16B310C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FDE-5D24-4CDE-A9FE-35AE9697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FEB-BC4B-4398-BDA2-9A92A580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A74-DB59-4311-B2CF-32621F8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6DF-0DF0-4624-BC5C-617913FD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3E8-5FFC-4843-A7D1-8FC59AD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8E5F-CB78-4CE5-B56C-6ACC4E65E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3073320" y="35686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79480" y="357516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梯形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929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七 单元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形、平行四边形和梯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 rot="10800000">
            <a:off x="1907640" y="1483920"/>
            <a:ext cx="475308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3132000" y="1484280"/>
            <a:ext cx="287280" cy="2735280"/>
            <a:chOff x="3132000" y="1484280"/>
            <a:chExt cx="287280" cy="2735280"/>
          </a:xfrm>
        </p:grpSpPr>
        <p:sp>
          <p:nvSpPr>
            <p:cNvPr id="106" name="Line 5"/>
            <p:cNvSpPr/>
            <p:nvPr/>
          </p:nvSpPr>
          <p:spPr>
            <a:xfrm>
              <a:off x="3132000" y="1484280"/>
              <a:ext cx="0" cy="2735280"/>
            </a:xfrm>
            <a:prstGeom prst="line">
              <a:avLst/>
            </a:prstGeom>
            <a:ln w="63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3132000" y="400356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3419280" y="400356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9"/>
          <p:cNvSpPr/>
          <p:nvPr/>
        </p:nvSpPr>
        <p:spPr>
          <a:xfrm>
            <a:off x="3276720" y="47628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上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132000" y="4221000"/>
            <a:ext cx="172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619280" y="1989000"/>
            <a:ext cx="93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300720" y="2060640"/>
            <a:ext cx="9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3203640" y="2276640"/>
            <a:ext cx="1008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4"/>
          <p:cNvGrpSpPr/>
          <p:nvPr/>
        </p:nvGrpSpPr>
        <p:grpSpPr>
          <a:xfrm>
            <a:off x="2195640" y="1844640"/>
            <a:ext cx="5400360" cy="2162160"/>
            <a:chOff x="2195640" y="1844640"/>
            <a:chExt cx="5400360" cy="2162160"/>
          </a:xfrm>
        </p:grpSpPr>
        <p:grpSp>
          <p:nvGrpSpPr>
            <p:cNvPr id="115" name="Group 4"/>
            <p:cNvGrpSpPr/>
            <p:nvPr/>
          </p:nvGrpSpPr>
          <p:grpSpPr>
            <a:xfrm>
              <a:off x="2195640" y="1844640"/>
              <a:ext cx="5400360" cy="2160360"/>
              <a:chOff x="2195640" y="1844640"/>
              <a:chExt cx="5400360" cy="2160360"/>
            </a:xfrm>
          </p:grpSpPr>
          <p:grpSp>
            <p:nvGrpSpPr>
              <p:cNvPr id="116" name="Group 5"/>
              <p:cNvGrpSpPr/>
              <p:nvPr/>
            </p:nvGrpSpPr>
            <p:grpSpPr>
              <a:xfrm>
                <a:off x="2195640" y="1844640"/>
                <a:ext cx="5399640" cy="2160000"/>
                <a:chOff x="2195640" y="1844640"/>
                <a:chExt cx="5399640" cy="2160000"/>
              </a:xfrm>
            </p:grpSpPr>
            <p:sp>
              <p:nvSpPr>
                <p:cNvPr id="117" name="Rectangle 6"/>
                <p:cNvSpPr/>
                <p:nvPr/>
              </p:nvSpPr>
              <p:spPr>
                <a:xfrm>
                  <a:off x="2195640" y="1844640"/>
                  <a:ext cx="3560760" cy="2160000"/>
                </a:xfrm>
                <a:prstGeom prst="rect">
                  <a:avLst/>
                </a:prstGeom>
                <a:solidFill>
                  <a:srgbClr val="00ffff"/>
                </a:solidFill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AutoShape 7"/>
                <p:cNvSpPr/>
                <p:nvPr/>
              </p:nvSpPr>
              <p:spPr>
                <a:xfrm>
                  <a:off x="5756400" y="1844640"/>
                  <a:ext cx="1838880" cy="2160000"/>
                </a:xfrm>
                <a:prstGeom prst="rtTriangle">
                  <a:avLst/>
                </a:prstGeom>
                <a:solidFill>
                  <a:srgbClr val="00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Line 8"/>
              <p:cNvSpPr/>
              <p:nvPr/>
            </p:nvSpPr>
            <p:spPr>
              <a:xfrm>
                <a:off x="2195640" y="1844640"/>
                <a:ext cx="3561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9"/>
              <p:cNvSpPr/>
              <p:nvPr/>
            </p:nvSpPr>
            <p:spPr>
              <a:xfrm>
                <a:off x="2195640" y="4005000"/>
                <a:ext cx="54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0"/>
              <p:cNvSpPr/>
              <p:nvPr/>
            </p:nvSpPr>
            <p:spPr>
              <a:xfrm>
                <a:off x="2195640" y="1844640"/>
                <a:ext cx="0" cy="21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1"/>
              <p:cNvSpPr/>
              <p:nvPr/>
            </p:nvSpPr>
            <p:spPr>
              <a:xfrm>
                <a:off x="5756760" y="1844640"/>
                <a:ext cx="1838880" cy="21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12"/>
            <p:cNvSpPr/>
            <p:nvPr/>
          </p:nvSpPr>
          <p:spPr>
            <a:xfrm>
              <a:off x="2195640" y="3736440"/>
              <a:ext cx="2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2457720" y="3736440"/>
              <a:ext cx="0" cy="27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5"/>
          <p:cNvSpPr/>
          <p:nvPr/>
        </p:nvSpPr>
        <p:spPr>
          <a:xfrm>
            <a:off x="3276720" y="692280"/>
            <a:ext cx="1728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上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3492360" y="3933720"/>
            <a:ext cx="172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2268360" y="2349360"/>
            <a:ext cx="10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6732720" y="2060640"/>
            <a:ext cx="93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 rot="16200000">
            <a:off x="2664720" y="1303920"/>
            <a:ext cx="388764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2916000" y="2205000"/>
            <a:ext cx="3384720" cy="216000"/>
            <a:chOff x="2916000" y="2205000"/>
            <a:chExt cx="3384720" cy="216000"/>
          </a:xfrm>
        </p:grpSpPr>
        <p:sp>
          <p:nvSpPr>
            <p:cNvPr id="131" name="Line 5"/>
            <p:cNvSpPr/>
            <p:nvPr/>
          </p:nvSpPr>
          <p:spPr>
            <a:xfrm>
              <a:off x="2916360" y="2205000"/>
              <a:ext cx="3384360" cy="0"/>
            </a:xfrm>
            <a:prstGeom prst="line">
              <a:avLst/>
            </a:prstGeom>
            <a:ln w="507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3203280" y="2205000"/>
              <a:ext cx="0" cy="216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 flipH="1">
              <a:off x="2916000" y="2421000"/>
              <a:ext cx="2869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9"/>
          <p:cNvSpPr/>
          <p:nvPr/>
        </p:nvSpPr>
        <p:spPr>
          <a:xfrm>
            <a:off x="6443640" y="249228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上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258920" y="2276640"/>
            <a:ext cx="1728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4284720" y="476280"/>
            <a:ext cx="93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4427640" y="4508640"/>
            <a:ext cx="934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211640" y="2205000"/>
            <a:ext cx="100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未标题-1"/>
          <p:cNvPicPr/>
          <p:nvPr/>
        </p:nvPicPr>
        <p:blipFill>
          <a:blip r:embed="rId1"/>
          <a:stretch/>
        </p:blipFill>
        <p:spPr>
          <a:xfrm>
            <a:off x="2286000" y="259236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87280" y="692280"/>
            <a:ext cx="8856720" cy="224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0" t="3712" r="0" b="0"/>
          <a:stretch/>
        </p:blipFill>
        <p:spPr>
          <a:xfrm>
            <a:off x="250920" y="3573360"/>
            <a:ext cx="85690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437920" y="2847240"/>
            <a:ext cx="4257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先各自在方格纸上画一个梯形，再观察平行四边形有哪些特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再在小组内交流梯形的特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小组讨论：梯形与我们前面学的平行四边形有什么区别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978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97800" cy="21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817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9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16720" cy="271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rcRect l="0" t="2290" r="0" b="0"/>
          <a:stretch/>
        </p:blipFill>
        <p:spPr>
          <a:xfrm>
            <a:off x="900000" y="3068640"/>
            <a:ext cx="73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091360" cy="20066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 rot="10800000">
            <a:off x="1907640" y="1915560"/>
            <a:ext cx="4753080" cy="27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619280" y="2421000"/>
            <a:ext cx="93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300720" y="2492280"/>
            <a:ext cx="9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908000" y="1916280"/>
            <a:ext cx="1224000" cy="27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5435640" y="1916280"/>
            <a:ext cx="1224000" cy="27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9640" y="5300640"/>
            <a:ext cx="7274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两腰相等的梯形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等腰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>
            <a:off x="4859280" y="549360"/>
            <a:ext cx="3241800" cy="1873080"/>
          </a:xfrm>
          <a:prstGeom prst="parallelogram">
            <a:avLst>
              <a:gd name="adj" fmla="val 43268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3"/>
          <p:cNvGrpSpPr/>
          <p:nvPr/>
        </p:nvGrpSpPr>
        <p:grpSpPr>
          <a:xfrm>
            <a:off x="539280" y="691920"/>
            <a:ext cx="3745080" cy="1729080"/>
            <a:chOff x="539280" y="691920"/>
            <a:chExt cx="3745080" cy="1729080"/>
          </a:xfrm>
        </p:grpSpPr>
        <p:grpSp>
          <p:nvGrpSpPr>
            <p:cNvPr id="66" name="Group 7"/>
            <p:cNvGrpSpPr/>
            <p:nvPr/>
          </p:nvGrpSpPr>
          <p:grpSpPr>
            <a:xfrm>
              <a:off x="539640" y="691920"/>
              <a:ext cx="3744720" cy="1729080"/>
              <a:chOff x="539640" y="691920"/>
              <a:chExt cx="3744720" cy="1729080"/>
            </a:xfrm>
          </p:grpSpPr>
          <p:sp>
            <p:nvSpPr>
              <p:cNvPr id="67" name="AutoShape 4"/>
              <p:cNvSpPr/>
              <p:nvPr/>
            </p:nvSpPr>
            <p:spPr>
              <a:xfrm>
                <a:off x="2786760" y="708480"/>
                <a:ext cx="1497600" cy="1712520"/>
              </a:xfrm>
              <a:prstGeom prst="rtTriangl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5"/>
              <p:cNvSpPr/>
              <p:nvPr/>
            </p:nvSpPr>
            <p:spPr>
              <a:xfrm>
                <a:off x="1403280" y="708480"/>
                <a:ext cx="1383120" cy="17110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6"/>
              <p:cNvSpPr/>
              <p:nvPr/>
            </p:nvSpPr>
            <p:spPr>
              <a:xfrm rot="16200000">
                <a:off x="116640" y="1114920"/>
                <a:ext cx="1711080" cy="865080"/>
              </a:xfrm>
              <a:prstGeom prst="rtTriangl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9"/>
            <p:cNvSpPr/>
            <p:nvPr/>
          </p:nvSpPr>
          <p:spPr>
            <a:xfrm>
              <a:off x="1403280" y="69228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39640" y="2421000"/>
              <a:ext cx="374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2771640" y="692280"/>
              <a:ext cx="151128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 flipH="1">
              <a:off x="539280" y="692280"/>
              <a:ext cx="86364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4"/>
          <p:cNvSpPr/>
          <p:nvPr/>
        </p:nvSpPr>
        <p:spPr>
          <a:xfrm>
            <a:off x="468360" y="2924280"/>
            <a:ext cx="777240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梯形只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组对边平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395280" y="4292640"/>
            <a:ext cx="820908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平行四边形两组对边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分别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平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而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相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1403280" y="692280"/>
            <a:ext cx="1368360" cy="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539640" y="2421000"/>
            <a:ext cx="3745080" cy="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5651640" y="549360"/>
            <a:ext cx="244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4859280" y="2421000"/>
            <a:ext cx="244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4858920" y="549360"/>
            <a:ext cx="792360" cy="1871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H="1">
            <a:off x="7308360" y="549360"/>
            <a:ext cx="792360" cy="1871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"/>
          <p:cNvGrpSpPr/>
          <p:nvPr/>
        </p:nvGrpSpPr>
        <p:grpSpPr>
          <a:xfrm>
            <a:off x="2626920" y="1483920"/>
            <a:ext cx="3745080" cy="1729080"/>
            <a:chOff x="2626920" y="1483920"/>
            <a:chExt cx="3745080" cy="1729080"/>
          </a:xfrm>
        </p:grpSpPr>
        <p:grpSp>
          <p:nvGrpSpPr>
            <p:cNvPr id="83" name="Group 5"/>
            <p:cNvGrpSpPr/>
            <p:nvPr/>
          </p:nvGrpSpPr>
          <p:grpSpPr>
            <a:xfrm>
              <a:off x="2627280" y="1483920"/>
              <a:ext cx="3744720" cy="1729080"/>
              <a:chOff x="2627280" y="1483920"/>
              <a:chExt cx="3744720" cy="1729080"/>
            </a:xfrm>
          </p:grpSpPr>
          <p:sp>
            <p:nvSpPr>
              <p:cNvPr id="84" name="AutoShape 6"/>
              <p:cNvSpPr/>
              <p:nvPr/>
            </p:nvSpPr>
            <p:spPr>
              <a:xfrm>
                <a:off x="4874400" y="1500480"/>
                <a:ext cx="1497600" cy="1712520"/>
              </a:xfrm>
              <a:prstGeom prst="rtTriangl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7"/>
              <p:cNvSpPr/>
              <p:nvPr/>
            </p:nvSpPr>
            <p:spPr>
              <a:xfrm>
                <a:off x="3490920" y="1500480"/>
                <a:ext cx="1383120" cy="17110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8"/>
              <p:cNvSpPr/>
              <p:nvPr/>
            </p:nvSpPr>
            <p:spPr>
              <a:xfrm rot="16200000">
                <a:off x="2204280" y="1906920"/>
                <a:ext cx="1711080" cy="865080"/>
              </a:xfrm>
              <a:prstGeom prst="rtTriangl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3490920" y="148428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>
              <a:off x="2627280" y="3213000"/>
              <a:ext cx="374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4859280" y="1484280"/>
              <a:ext cx="151128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2626920" y="1484280"/>
              <a:ext cx="86364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13"/>
          <p:cNvSpPr/>
          <p:nvPr/>
        </p:nvSpPr>
        <p:spPr>
          <a:xfrm>
            <a:off x="3492360" y="1484280"/>
            <a:ext cx="1368720" cy="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2627280" y="3213000"/>
            <a:ext cx="3745080" cy="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3276720" y="47628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上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3419640" y="306864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2626920" y="1484280"/>
            <a:ext cx="865080" cy="172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4861080" y="1484280"/>
            <a:ext cx="1511280" cy="172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2124000" y="1628640"/>
            <a:ext cx="9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5724360" y="1557360"/>
            <a:ext cx="172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4211640" y="1916280"/>
            <a:ext cx="1008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5"/>
          <p:cNvGrpSpPr/>
          <p:nvPr/>
        </p:nvGrpSpPr>
        <p:grpSpPr>
          <a:xfrm>
            <a:off x="4067280" y="1484280"/>
            <a:ext cx="218520" cy="1728720"/>
            <a:chOff x="4067280" y="1484280"/>
            <a:chExt cx="218520" cy="1728720"/>
          </a:xfrm>
        </p:grpSpPr>
        <p:sp>
          <p:nvSpPr>
            <p:cNvPr id="101" name="Line 22"/>
            <p:cNvSpPr/>
            <p:nvPr/>
          </p:nvSpPr>
          <p:spPr>
            <a:xfrm>
              <a:off x="4067280" y="1484280"/>
              <a:ext cx="0" cy="1728720"/>
            </a:xfrm>
            <a:prstGeom prst="line">
              <a:avLst/>
            </a:prstGeom>
            <a:ln w="63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3"/>
            <p:cNvSpPr/>
            <p:nvPr/>
          </p:nvSpPr>
          <p:spPr>
            <a:xfrm>
              <a:off x="4067280" y="2997000"/>
              <a:ext cx="217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4284360" y="2997000"/>
              <a:ext cx="1440" cy="144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2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