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6110-72D7-43C9-8B9E-7FA703B22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0A55-A1CE-4045-BD48-FC251BE4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832E-160F-47A2-87BA-3D948E9AF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9612-F139-49E1-A092-8D67C1B01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0531-401B-438C-A71B-AACD0AA2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735B-D8C9-4B58-809A-41CC9543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2F89-B11D-491E-AC32-62EFE4F1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EF35-75E3-45EB-B22B-657180D3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89E5-7C5D-46C7-8353-CD81A63E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CD1D-312D-4A35-9FBD-17A3005E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5DBC-B64F-436E-BD20-3B004397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E82C-40AA-47F8-9629-CC4B7661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A968-AE8A-431B-91E0-BC7E8D8749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Oval 5"/>
          <p:cNvSpPr/>
          <p:nvPr/>
        </p:nvSpPr>
        <p:spPr>
          <a:xfrm>
            <a:off x="2693880" y="334008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896760" y="3340080"/>
            <a:ext cx="79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常见的数量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0" y="1600200"/>
            <a:ext cx="3162240" cy="99072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8"/>
          <p:cNvSpPr/>
          <p:nvPr/>
        </p:nvSpPr>
        <p:spPr>
          <a:xfrm>
            <a:off x="2957400" y="1600200"/>
            <a:ext cx="400320" cy="74304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0" y="1752480"/>
            <a:ext cx="9070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三 单元      </a:t>
            </a:r>
            <a:r>
              <a:rPr b="1" sz="5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位数乘两位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0"/>
          <p:cNvSpPr/>
          <p:nvPr/>
        </p:nvSpPr>
        <p:spPr>
          <a:xfrm>
            <a:off x="3162240" y="2562120"/>
            <a:ext cx="5908680" cy="972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3162240" y="1962000"/>
            <a:ext cx="195480" cy="60984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70000" y="1600200"/>
            <a:ext cx="8416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口答列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每个文具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元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文具盒多少元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元买文具盒，每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元，一共可以     买多少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元买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同样的文具盒，每个多少钱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组合 2"/>
          <p:cNvGrpSpPr/>
          <p:nvPr/>
        </p:nvGrpSpPr>
        <p:grpSpPr>
          <a:xfrm>
            <a:off x="-7920" y="677880"/>
            <a:ext cx="3244680" cy="525600"/>
            <a:chOff x="-7920" y="677880"/>
            <a:chExt cx="3244680" cy="525600"/>
          </a:xfrm>
        </p:grpSpPr>
        <p:grpSp>
          <p:nvGrpSpPr>
            <p:cNvPr id="88" name="圆角矩形 5"/>
            <p:cNvGrpSpPr/>
            <p:nvPr/>
          </p:nvGrpSpPr>
          <p:grpSpPr>
            <a:xfrm>
              <a:off x="136080" y="677880"/>
              <a:ext cx="3100680" cy="525600"/>
              <a:chOff x="136080" y="677880"/>
              <a:chExt cx="3100680" cy="525600"/>
            </a:xfrm>
          </p:grpSpPr>
          <p:pic>
            <p:nvPicPr>
              <p:cNvPr id="89" name="圆角矩形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6080" y="677880"/>
                <a:ext cx="310068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"/>
              <p:cNvSpPr/>
              <p:nvPr/>
            </p:nvSpPr>
            <p:spPr>
              <a:xfrm>
                <a:off x="181440" y="763920"/>
                <a:ext cx="29512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Arial"/>
                  </a:rPr>
                  <a:t>复习导入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组合 4"/>
            <p:cNvGrpSpPr/>
            <p:nvPr/>
          </p:nvGrpSpPr>
          <p:grpSpPr>
            <a:xfrm>
              <a:off x="-7920" y="805680"/>
              <a:ext cx="428400" cy="187560"/>
              <a:chOff x="-7920" y="805680"/>
              <a:chExt cx="428400" cy="187560"/>
            </a:xfrm>
          </p:grpSpPr>
          <p:sp>
            <p:nvSpPr>
              <p:cNvPr id="92" name="椭圆 11"/>
              <p:cNvSpPr/>
              <p:nvPr/>
            </p:nvSpPr>
            <p:spPr>
              <a:xfrm rot="16200000">
                <a:off x="306360" y="878040"/>
                <a:ext cx="82080" cy="145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" name="椭圆 13"/>
              <p:cNvGrpSpPr/>
              <p:nvPr/>
            </p:nvGrpSpPr>
            <p:grpSpPr>
              <a:xfrm>
                <a:off x="288360" y="917280"/>
                <a:ext cx="120600" cy="65520"/>
                <a:chOff x="288360" y="917280"/>
                <a:chExt cx="120600" cy="65520"/>
              </a:xfrm>
            </p:grpSpPr>
            <p:pic>
              <p:nvPicPr>
                <p:cNvPr id="94" name="椭圆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88360" y="917280"/>
                  <a:ext cx="12060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" name=""/>
                <p:cNvSpPr/>
                <p:nvPr/>
              </p:nvSpPr>
              <p:spPr>
                <a:xfrm rot="16200000">
                  <a:off x="322920" y="908280"/>
                  <a:ext cx="4716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" name="椭圆 29"/>
              <p:cNvSpPr/>
              <p:nvPr/>
            </p:nvSpPr>
            <p:spPr>
              <a:xfrm rot="16200000">
                <a:off x="306360" y="773640"/>
                <a:ext cx="82080" cy="145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" name="椭圆 30"/>
              <p:cNvGrpSpPr/>
              <p:nvPr/>
            </p:nvGrpSpPr>
            <p:grpSpPr>
              <a:xfrm>
                <a:off x="288360" y="813240"/>
                <a:ext cx="120600" cy="65520"/>
                <a:chOff x="288360" y="813240"/>
                <a:chExt cx="120600" cy="65520"/>
              </a:xfrm>
            </p:grpSpPr>
            <p:pic>
              <p:nvPicPr>
                <p:cNvPr id="98" name="椭圆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88360" y="813240"/>
                  <a:ext cx="12060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" name=""/>
                <p:cNvSpPr/>
                <p:nvPr/>
              </p:nvSpPr>
              <p:spPr>
                <a:xfrm rot="16200000">
                  <a:off x="322920" y="803520"/>
                  <a:ext cx="4716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圆角矩形 31"/>
              <p:cNvGrpSpPr/>
              <p:nvPr/>
            </p:nvGrpSpPr>
            <p:grpSpPr>
              <a:xfrm>
                <a:off x="-7920" y="941400"/>
                <a:ext cx="395280" cy="51840"/>
                <a:chOff x="-7920" y="941400"/>
                <a:chExt cx="395280" cy="51840"/>
              </a:xfrm>
            </p:grpSpPr>
            <p:pic>
              <p:nvPicPr>
                <p:cNvPr id="101" name="圆角矩形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-7920" y="941400"/>
                  <a:ext cx="3952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" name=""/>
                <p:cNvSpPr/>
                <p:nvPr/>
              </p:nvSpPr>
              <p:spPr>
                <a:xfrm rot="16200000">
                  <a:off x="184320" y="803160"/>
                  <a:ext cx="6840" cy="32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圆角矩形 32"/>
              <p:cNvGrpSpPr/>
              <p:nvPr/>
            </p:nvGrpSpPr>
            <p:grpSpPr>
              <a:xfrm>
                <a:off x="-7920" y="913680"/>
                <a:ext cx="395280" cy="51840"/>
                <a:chOff x="-7920" y="913680"/>
                <a:chExt cx="395280" cy="51840"/>
              </a:xfrm>
            </p:grpSpPr>
            <p:pic>
              <p:nvPicPr>
                <p:cNvPr id="104" name="圆角矩形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-7920" y="913680"/>
                  <a:ext cx="3952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" name=""/>
                <p:cNvSpPr/>
                <p:nvPr/>
              </p:nvSpPr>
              <p:spPr>
                <a:xfrm rot="16200000">
                  <a:off x="184320" y="776880"/>
                  <a:ext cx="6840" cy="32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" name="圆角矩形 33"/>
              <p:cNvGrpSpPr/>
              <p:nvPr/>
            </p:nvGrpSpPr>
            <p:grpSpPr>
              <a:xfrm>
                <a:off x="-7920" y="834120"/>
                <a:ext cx="395280" cy="51840"/>
                <a:chOff x="-7920" y="834120"/>
                <a:chExt cx="395280" cy="51840"/>
              </a:xfrm>
            </p:grpSpPr>
            <p:pic>
              <p:nvPicPr>
                <p:cNvPr id="107" name="圆角矩形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-7920" y="834120"/>
                  <a:ext cx="3952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" name=""/>
                <p:cNvSpPr/>
                <p:nvPr/>
              </p:nvSpPr>
              <p:spPr>
                <a:xfrm rot="16200000">
                  <a:off x="184320" y="695880"/>
                  <a:ext cx="6840" cy="32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圆角矩形 34"/>
              <p:cNvGrpSpPr/>
              <p:nvPr/>
            </p:nvGrpSpPr>
            <p:grpSpPr>
              <a:xfrm>
                <a:off x="-7920" y="806400"/>
                <a:ext cx="395280" cy="51840"/>
                <a:chOff x="-7920" y="806400"/>
                <a:chExt cx="395280" cy="51840"/>
              </a:xfrm>
            </p:grpSpPr>
            <p:pic>
              <p:nvPicPr>
                <p:cNvPr id="110" name="圆角矩形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-7920" y="806400"/>
                  <a:ext cx="3952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" name=""/>
                <p:cNvSpPr/>
                <p:nvPr/>
              </p:nvSpPr>
              <p:spPr>
                <a:xfrm rot="16200000">
                  <a:off x="184320" y="669600"/>
                  <a:ext cx="6840" cy="32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文本框 279553"/>
          <p:cNvSpPr/>
          <p:nvPr/>
        </p:nvSpPr>
        <p:spPr>
          <a:xfrm>
            <a:off x="1403280" y="1255680"/>
            <a:ext cx="6121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读一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支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根据问题情境，完成书本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页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表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组讨论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总价与单价、数量之间有什么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组合 2"/>
          <p:cNvGrpSpPr/>
          <p:nvPr/>
        </p:nvGrpSpPr>
        <p:grpSpPr>
          <a:xfrm>
            <a:off x="-7920" y="677880"/>
            <a:ext cx="3244680" cy="525600"/>
            <a:chOff x="-7920" y="677880"/>
            <a:chExt cx="3244680" cy="525600"/>
          </a:xfrm>
        </p:grpSpPr>
        <p:grpSp>
          <p:nvGrpSpPr>
            <p:cNvPr id="114" name="圆角矩形 5"/>
            <p:cNvGrpSpPr/>
            <p:nvPr/>
          </p:nvGrpSpPr>
          <p:grpSpPr>
            <a:xfrm>
              <a:off x="136080" y="677880"/>
              <a:ext cx="3100680" cy="525600"/>
              <a:chOff x="136080" y="677880"/>
              <a:chExt cx="3100680" cy="525600"/>
            </a:xfrm>
          </p:grpSpPr>
          <p:pic>
            <p:nvPicPr>
              <p:cNvPr id="115" name="圆角矩形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6080" y="677880"/>
                <a:ext cx="310068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81440" y="763920"/>
                <a:ext cx="29512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Arial"/>
                  </a:rPr>
                  <a:t>提出问题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组合 4"/>
            <p:cNvGrpSpPr/>
            <p:nvPr/>
          </p:nvGrpSpPr>
          <p:grpSpPr>
            <a:xfrm>
              <a:off x="-7920" y="805680"/>
              <a:ext cx="428400" cy="187560"/>
              <a:chOff x="-7920" y="805680"/>
              <a:chExt cx="428400" cy="187560"/>
            </a:xfrm>
          </p:grpSpPr>
          <p:sp>
            <p:nvSpPr>
              <p:cNvPr id="118" name="椭圆 11"/>
              <p:cNvSpPr/>
              <p:nvPr/>
            </p:nvSpPr>
            <p:spPr>
              <a:xfrm rot="16200000">
                <a:off x="306360" y="878040"/>
                <a:ext cx="82080" cy="145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椭圆 13"/>
              <p:cNvGrpSpPr/>
              <p:nvPr/>
            </p:nvGrpSpPr>
            <p:grpSpPr>
              <a:xfrm>
                <a:off x="288360" y="917280"/>
                <a:ext cx="120600" cy="65520"/>
                <a:chOff x="288360" y="917280"/>
                <a:chExt cx="120600" cy="65520"/>
              </a:xfrm>
            </p:grpSpPr>
            <p:pic>
              <p:nvPicPr>
                <p:cNvPr id="120" name="椭圆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88360" y="917280"/>
                  <a:ext cx="12060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" name=""/>
                <p:cNvSpPr/>
                <p:nvPr/>
              </p:nvSpPr>
              <p:spPr>
                <a:xfrm rot="16200000">
                  <a:off x="322920" y="908280"/>
                  <a:ext cx="4716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椭圆 29"/>
              <p:cNvSpPr/>
              <p:nvPr/>
            </p:nvSpPr>
            <p:spPr>
              <a:xfrm rot="16200000">
                <a:off x="306360" y="773640"/>
                <a:ext cx="82080" cy="145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" name="椭圆 30"/>
              <p:cNvGrpSpPr/>
              <p:nvPr/>
            </p:nvGrpSpPr>
            <p:grpSpPr>
              <a:xfrm>
                <a:off x="288360" y="813240"/>
                <a:ext cx="120600" cy="65520"/>
                <a:chOff x="288360" y="813240"/>
                <a:chExt cx="120600" cy="65520"/>
              </a:xfrm>
            </p:grpSpPr>
            <p:pic>
              <p:nvPicPr>
                <p:cNvPr id="124" name="椭圆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88360" y="813240"/>
                  <a:ext cx="12060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" name=""/>
                <p:cNvSpPr/>
                <p:nvPr/>
              </p:nvSpPr>
              <p:spPr>
                <a:xfrm rot="16200000">
                  <a:off x="322920" y="803520"/>
                  <a:ext cx="4716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圆角矩形 31"/>
              <p:cNvGrpSpPr/>
              <p:nvPr/>
            </p:nvGrpSpPr>
            <p:grpSpPr>
              <a:xfrm>
                <a:off x="-7920" y="941400"/>
                <a:ext cx="395280" cy="51840"/>
                <a:chOff x="-7920" y="941400"/>
                <a:chExt cx="395280" cy="51840"/>
              </a:xfrm>
            </p:grpSpPr>
            <p:pic>
              <p:nvPicPr>
                <p:cNvPr id="127" name="圆角矩形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-7920" y="941400"/>
                  <a:ext cx="3952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" name=""/>
                <p:cNvSpPr/>
                <p:nvPr/>
              </p:nvSpPr>
              <p:spPr>
                <a:xfrm rot="16200000">
                  <a:off x="184320" y="803160"/>
                  <a:ext cx="6840" cy="32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圆角矩形 32"/>
              <p:cNvGrpSpPr/>
              <p:nvPr/>
            </p:nvGrpSpPr>
            <p:grpSpPr>
              <a:xfrm>
                <a:off x="-7920" y="913680"/>
                <a:ext cx="395280" cy="51840"/>
                <a:chOff x="-7920" y="913680"/>
                <a:chExt cx="395280" cy="51840"/>
              </a:xfrm>
            </p:grpSpPr>
            <p:pic>
              <p:nvPicPr>
                <p:cNvPr id="130" name="圆角矩形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-7920" y="913680"/>
                  <a:ext cx="3952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" name=""/>
                <p:cNvSpPr/>
                <p:nvPr/>
              </p:nvSpPr>
              <p:spPr>
                <a:xfrm rot="16200000">
                  <a:off x="184320" y="776880"/>
                  <a:ext cx="6840" cy="32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圆角矩形 33"/>
              <p:cNvGrpSpPr/>
              <p:nvPr/>
            </p:nvGrpSpPr>
            <p:grpSpPr>
              <a:xfrm>
                <a:off x="-7920" y="834120"/>
                <a:ext cx="395280" cy="51840"/>
                <a:chOff x="-7920" y="834120"/>
                <a:chExt cx="395280" cy="51840"/>
              </a:xfrm>
            </p:grpSpPr>
            <p:pic>
              <p:nvPicPr>
                <p:cNvPr id="133" name="圆角矩形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-7920" y="834120"/>
                  <a:ext cx="3952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" name=""/>
                <p:cNvSpPr/>
                <p:nvPr/>
              </p:nvSpPr>
              <p:spPr>
                <a:xfrm rot="16200000">
                  <a:off x="184320" y="695880"/>
                  <a:ext cx="6840" cy="32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圆角矩形 34"/>
              <p:cNvGrpSpPr/>
              <p:nvPr/>
            </p:nvGrpSpPr>
            <p:grpSpPr>
              <a:xfrm>
                <a:off x="-7920" y="806400"/>
                <a:ext cx="395280" cy="51840"/>
                <a:chOff x="-7920" y="806400"/>
                <a:chExt cx="395280" cy="51840"/>
              </a:xfrm>
            </p:grpSpPr>
            <p:pic>
              <p:nvPicPr>
                <p:cNvPr id="136" name="圆角矩形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-7920" y="806400"/>
                  <a:ext cx="3952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" name=""/>
                <p:cNvSpPr/>
                <p:nvPr/>
              </p:nvSpPr>
              <p:spPr>
                <a:xfrm rot="16200000">
                  <a:off x="184320" y="669600"/>
                  <a:ext cx="6840" cy="32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文本框 280577"/>
          <p:cNvSpPr/>
          <p:nvPr/>
        </p:nvSpPr>
        <p:spPr>
          <a:xfrm>
            <a:off x="1763640" y="213372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523880" y="1397160"/>
          <a:ext cx="6096240" cy="2247840"/>
        </p:xfrm>
        <a:graphic>
          <a:graphicData uri="http://schemas.openxmlformats.org/drawingml/2006/table">
            <a:tbl>
              <a:tblPr/>
              <a:tblGrid>
                <a:gridCol w="1392480"/>
                <a:gridCol w="1800000"/>
                <a:gridCol w="1379520"/>
                <a:gridCol w="1524240"/>
              </a:tblGrid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单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数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总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钢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     )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元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     )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     )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练习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     )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元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     )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     )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文本框 280600"/>
          <p:cNvSpPr/>
          <p:nvPr/>
        </p:nvSpPr>
        <p:spPr>
          <a:xfrm>
            <a:off x="1258920" y="4941720"/>
            <a:ext cx="72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总价与单价、数量之间有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1"/>
          <p:cNvSpPr/>
          <p:nvPr/>
        </p:nvSpPr>
        <p:spPr>
          <a:xfrm>
            <a:off x="1933560" y="5630760"/>
            <a:ext cx="438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总价</a:t>
            </a:r>
            <a:r>
              <a:rPr b="1" lang="en-US" sz="3000" spc="-1" strike="noStrike">
                <a:solidFill>
                  <a:srgbClr val="ff0000"/>
                </a:solidFill>
                <a:latin typeface="黑体"/>
                <a:ea typeface="黑体"/>
              </a:rPr>
              <a:t>=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单价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×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数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文本框 281601"/>
          <p:cNvSpPr/>
          <p:nvPr/>
        </p:nvSpPr>
        <p:spPr>
          <a:xfrm>
            <a:off x="1187280" y="2133720"/>
            <a:ext cx="640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组交流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交流内容：已知总价和单价，可以求什么，怎样求？ 已知总价和数量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293400" y="1600200"/>
            <a:ext cx="863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74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根据问题情境，完成书本第</a:t>
            </a:r>
            <a:r>
              <a:rPr b="0" lang="en-US" sz="3100" spc="-1" strike="noStrike">
                <a:solidFill>
                  <a:srgbClr val="000000"/>
                </a:solidFill>
                <a:latin typeface="宋体"/>
              </a:rPr>
              <a:t>29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页例</a:t>
            </a:r>
            <a:r>
              <a:rPr b="0" lang="en-US" sz="31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的表格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74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思考：路程与速度、时间之间有什么关系？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74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小组讨论：已知路程和速度，可以求什么，怎样求？已知路程和时间呢？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组合 2"/>
          <p:cNvGrpSpPr/>
          <p:nvPr/>
        </p:nvGrpSpPr>
        <p:grpSpPr>
          <a:xfrm>
            <a:off x="-7920" y="677880"/>
            <a:ext cx="3244680" cy="525600"/>
            <a:chOff x="-7920" y="677880"/>
            <a:chExt cx="3244680" cy="525600"/>
          </a:xfrm>
        </p:grpSpPr>
        <p:grpSp>
          <p:nvGrpSpPr>
            <p:cNvPr id="145" name="圆角矩形 5"/>
            <p:cNvGrpSpPr/>
            <p:nvPr/>
          </p:nvGrpSpPr>
          <p:grpSpPr>
            <a:xfrm>
              <a:off x="136080" y="677880"/>
              <a:ext cx="3100680" cy="525600"/>
              <a:chOff x="136080" y="677880"/>
              <a:chExt cx="3100680" cy="525600"/>
            </a:xfrm>
          </p:grpSpPr>
          <p:pic>
            <p:nvPicPr>
              <p:cNvPr id="146" name="圆角矩形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6080" y="677880"/>
                <a:ext cx="310068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"/>
              <p:cNvSpPr/>
              <p:nvPr/>
            </p:nvSpPr>
            <p:spPr>
              <a:xfrm>
                <a:off x="181440" y="763920"/>
                <a:ext cx="29512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Arial"/>
                  </a:rPr>
                  <a:t>提出问题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组合 4"/>
            <p:cNvGrpSpPr/>
            <p:nvPr/>
          </p:nvGrpSpPr>
          <p:grpSpPr>
            <a:xfrm>
              <a:off x="-7920" y="805680"/>
              <a:ext cx="428400" cy="187560"/>
              <a:chOff x="-7920" y="805680"/>
              <a:chExt cx="428400" cy="187560"/>
            </a:xfrm>
          </p:grpSpPr>
          <p:sp>
            <p:nvSpPr>
              <p:cNvPr id="149" name="椭圆 11"/>
              <p:cNvSpPr/>
              <p:nvPr/>
            </p:nvSpPr>
            <p:spPr>
              <a:xfrm rot="16200000">
                <a:off x="306360" y="878040"/>
                <a:ext cx="82080" cy="145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" name="椭圆 13"/>
              <p:cNvGrpSpPr/>
              <p:nvPr/>
            </p:nvGrpSpPr>
            <p:grpSpPr>
              <a:xfrm>
                <a:off x="288360" y="917280"/>
                <a:ext cx="120600" cy="65520"/>
                <a:chOff x="288360" y="917280"/>
                <a:chExt cx="120600" cy="65520"/>
              </a:xfrm>
            </p:grpSpPr>
            <p:pic>
              <p:nvPicPr>
                <p:cNvPr id="151" name="椭圆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88360" y="917280"/>
                  <a:ext cx="12060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" name=""/>
                <p:cNvSpPr/>
                <p:nvPr/>
              </p:nvSpPr>
              <p:spPr>
                <a:xfrm rot="16200000">
                  <a:off x="322920" y="908280"/>
                  <a:ext cx="4716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椭圆 29"/>
              <p:cNvSpPr/>
              <p:nvPr/>
            </p:nvSpPr>
            <p:spPr>
              <a:xfrm rot="16200000">
                <a:off x="306360" y="773640"/>
                <a:ext cx="82080" cy="145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" name="椭圆 30"/>
              <p:cNvGrpSpPr/>
              <p:nvPr/>
            </p:nvGrpSpPr>
            <p:grpSpPr>
              <a:xfrm>
                <a:off x="288360" y="813240"/>
                <a:ext cx="120600" cy="65520"/>
                <a:chOff x="288360" y="813240"/>
                <a:chExt cx="120600" cy="65520"/>
              </a:xfrm>
            </p:grpSpPr>
            <p:pic>
              <p:nvPicPr>
                <p:cNvPr id="155" name="椭圆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88360" y="813240"/>
                  <a:ext cx="12060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" name=""/>
                <p:cNvSpPr/>
                <p:nvPr/>
              </p:nvSpPr>
              <p:spPr>
                <a:xfrm rot="16200000">
                  <a:off x="322920" y="803520"/>
                  <a:ext cx="4716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圆角矩形 31"/>
              <p:cNvGrpSpPr/>
              <p:nvPr/>
            </p:nvGrpSpPr>
            <p:grpSpPr>
              <a:xfrm>
                <a:off x="-7920" y="941400"/>
                <a:ext cx="395280" cy="51840"/>
                <a:chOff x="-7920" y="941400"/>
                <a:chExt cx="395280" cy="51840"/>
              </a:xfrm>
            </p:grpSpPr>
            <p:pic>
              <p:nvPicPr>
                <p:cNvPr id="158" name="圆角矩形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-7920" y="941400"/>
                  <a:ext cx="3952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" name=""/>
                <p:cNvSpPr/>
                <p:nvPr/>
              </p:nvSpPr>
              <p:spPr>
                <a:xfrm rot="16200000">
                  <a:off x="184320" y="803160"/>
                  <a:ext cx="6840" cy="32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" name="圆角矩形 32"/>
              <p:cNvGrpSpPr/>
              <p:nvPr/>
            </p:nvGrpSpPr>
            <p:grpSpPr>
              <a:xfrm>
                <a:off x="-7920" y="913680"/>
                <a:ext cx="395280" cy="51840"/>
                <a:chOff x="-7920" y="913680"/>
                <a:chExt cx="395280" cy="51840"/>
              </a:xfrm>
            </p:grpSpPr>
            <p:pic>
              <p:nvPicPr>
                <p:cNvPr id="161" name="圆角矩形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-7920" y="913680"/>
                  <a:ext cx="3952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2" name=""/>
                <p:cNvSpPr/>
                <p:nvPr/>
              </p:nvSpPr>
              <p:spPr>
                <a:xfrm rot="16200000">
                  <a:off x="184320" y="776880"/>
                  <a:ext cx="6840" cy="32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" name="圆角矩形 33"/>
              <p:cNvGrpSpPr/>
              <p:nvPr/>
            </p:nvGrpSpPr>
            <p:grpSpPr>
              <a:xfrm>
                <a:off x="-7920" y="834120"/>
                <a:ext cx="395280" cy="51840"/>
                <a:chOff x="-7920" y="834120"/>
                <a:chExt cx="395280" cy="51840"/>
              </a:xfrm>
            </p:grpSpPr>
            <p:pic>
              <p:nvPicPr>
                <p:cNvPr id="164" name="圆角矩形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-7920" y="834120"/>
                  <a:ext cx="3952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5" name=""/>
                <p:cNvSpPr/>
                <p:nvPr/>
              </p:nvSpPr>
              <p:spPr>
                <a:xfrm rot="16200000">
                  <a:off x="184320" y="695880"/>
                  <a:ext cx="6840" cy="32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圆角矩形 34"/>
              <p:cNvGrpSpPr/>
              <p:nvPr/>
            </p:nvGrpSpPr>
            <p:grpSpPr>
              <a:xfrm>
                <a:off x="-7920" y="806400"/>
                <a:ext cx="395280" cy="51840"/>
                <a:chOff x="-7920" y="806400"/>
                <a:chExt cx="395280" cy="51840"/>
              </a:xfrm>
            </p:grpSpPr>
            <p:pic>
              <p:nvPicPr>
                <p:cNvPr id="167" name="圆角矩形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-7920" y="806400"/>
                  <a:ext cx="3952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8" name=""/>
                <p:cNvSpPr/>
                <p:nvPr/>
              </p:nvSpPr>
              <p:spPr>
                <a:xfrm rot="16200000">
                  <a:off x="184320" y="669600"/>
                  <a:ext cx="6840" cy="32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文本框 283649"/>
          <p:cNvSpPr/>
          <p:nvPr/>
        </p:nvSpPr>
        <p:spPr>
          <a:xfrm>
            <a:off x="1763640" y="213372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523880" y="1397160"/>
          <a:ext cx="6577200" cy="2247840"/>
        </p:xfrm>
        <a:graphic>
          <a:graphicData uri="http://schemas.openxmlformats.org/drawingml/2006/table">
            <a:tbl>
              <a:tblPr/>
              <a:tblGrid>
                <a:gridCol w="1501920"/>
                <a:gridCol w="2122560"/>
                <a:gridCol w="1307880"/>
                <a:gridCol w="1644840"/>
              </a:tblGrid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速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时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路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列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     )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千米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     )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千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自行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     )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米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     )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文本框 283672"/>
          <p:cNvSpPr/>
          <p:nvPr/>
        </p:nvSpPr>
        <p:spPr>
          <a:xfrm>
            <a:off x="1258920" y="4941720"/>
            <a:ext cx="72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路程与速度、时间之间有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1"/>
          <p:cNvSpPr/>
          <p:nvPr/>
        </p:nvSpPr>
        <p:spPr>
          <a:xfrm>
            <a:off x="3315960" y="5599080"/>
            <a:ext cx="237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路程</a:t>
            </a:r>
            <a:r>
              <a:rPr b="1" lang="en-US" sz="3000" spc="-1" strike="noStrike">
                <a:solidFill>
                  <a:srgbClr val="ff0000"/>
                </a:solidFill>
                <a:latin typeface="黑体"/>
                <a:ea typeface="黑体"/>
              </a:rPr>
              <a:t>=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速度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×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时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文本框 284673"/>
          <p:cNvSpPr/>
          <p:nvPr/>
        </p:nvSpPr>
        <p:spPr>
          <a:xfrm>
            <a:off x="539640" y="206064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思考：通过上面的学习，你有什么收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组合 2"/>
          <p:cNvGrpSpPr/>
          <p:nvPr/>
        </p:nvGrpSpPr>
        <p:grpSpPr>
          <a:xfrm>
            <a:off x="-7920" y="677880"/>
            <a:ext cx="3244680" cy="525600"/>
            <a:chOff x="-7920" y="677880"/>
            <a:chExt cx="3244680" cy="525600"/>
          </a:xfrm>
        </p:grpSpPr>
        <p:grpSp>
          <p:nvGrpSpPr>
            <p:cNvPr id="175" name="圆角矩形 5"/>
            <p:cNvGrpSpPr/>
            <p:nvPr/>
          </p:nvGrpSpPr>
          <p:grpSpPr>
            <a:xfrm>
              <a:off x="136080" y="677880"/>
              <a:ext cx="3100680" cy="525600"/>
              <a:chOff x="136080" y="677880"/>
              <a:chExt cx="3100680" cy="525600"/>
            </a:xfrm>
          </p:grpSpPr>
          <p:pic>
            <p:nvPicPr>
              <p:cNvPr id="176" name="圆角矩形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6080" y="677880"/>
                <a:ext cx="310068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" name=""/>
              <p:cNvSpPr/>
              <p:nvPr/>
            </p:nvSpPr>
            <p:spPr>
              <a:xfrm>
                <a:off x="181440" y="763920"/>
                <a:ext cx="29512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Arial"/>
                  </a:rPr>
                  <a:t>复习思考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组合 4"/>
            <p:cNvGrpSpPr/>
            <p:nvPr/>
          </p:nvGrpSpPr>
          <p:grpSpPr>
            <a:xfrm>
              <a:off x="-7920" y="805680"/>
              <a:ext cx="428400" cy="187560"/>
              <a:chOff x="-7920" y="805680"/>
              <a:chExt cx="428400" cy="187560"/>
            </a:xfrm>
          </p:grpSpPr>
          <p:sp>
            <p:nvSpPr>
              <p:cNvPr id="179" name="椭圆 11"/>
              <p:cNvSpPr/>
              <p:nvPr/>
            </p:nvSpPr>
            <p:spPr>
              <a:xfrm rot="16200000">
                <a:off x="306360" y="878040"/>
                <a:ext cx="82080" cy="145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椭圆 13"/>
              <p:cNvGrpSpPr/>
              <p:nvPr/>
            </p:nvGrpSpPr>
            <p:grpSpPr>
              <a:xfrm>
                <a:off x="288360" y="917280"/>
                <a:ext cx="120600" cy="65520"/>
                <a:chOff x="288360" y="917280"/>
                <a:chExt cx="120600" cy="65520"/>
              </a:xfrm>
            </p:grpSpPr>
            <p:pic>
              <p:nvPicPr>
                <p:cNvPr id="181" name="椭圆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88360" y="917280"/>
                  <a:ext cx="12060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 rot="16200000">
                  <a:off x="322920" y="908280"/>
                  <a:ext cx="4716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椭圆 29"/>
              <p:cNvSpPr/>
              <p:nvPr/>
            </p:nvSpPr>
            <p:spPr>
              <a:xfrm rot="16200000">
                <a:off x="306360" y="773640"/>
                <a:ext cx="82080" cy="145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" name="椭圆 30"/>
              <p:cNvGrpSpPr/>
              <p:nvPr/>
            </p:nvGrpSpPr>
            <p:grpSpPr>
              <a:xfrm>
                <a:off x="288360" y="813240"/>
                <a:ext cx="120600" cy="65520"/>
                <a:chOff x="288360" y="813240"/>
                <a:chExt cx="120600" cy="65520"/>
              </a:xfrm>
            </p:grpSpPr>
            <p:pic>
              <p:nvPicPr>
                <p:cNvPr id="185" name="椭圆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88360" y="813240"/>
                  <a:ext cx="12060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" name=""/>
                <p:cNvSpPr/>
                <p:nvPr/>
              </p:nvSpPr>
              <p:spPr>
                <a:xfrm rot="16200000">
                  <a:off x="322920" y="803520"/>
                  <a:ext cx="4716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圆角矩形 31"/>
              <p:cNvGrpSpPr/>
              <p:nvPr/>
            </p:nvGrpSpPr>
            <p:grpSpPr>
              <a:xfrm>
                <a:off x="-7920" y="941400"/>
                <a:ext cx="395280" cy="51840"/>
                <a:chOff x="-7920" y="941400"/>
                <a:chExt cx="395280" cy="51840"/>
              </a:xfrm>
            </p:grpSpPr>
            <p:pic>
              <p:nvPicPr>
                <p:cNvPr id="188" name="圆角矩形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-7920" y="941400"/>
                  <a:ext cx="3952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9" name=""/>
                <p:cNvSpPr/>
                <p:nvPr/>
              </p:nvSpPr>
              <p:spPr>
                <a:xfrm rot="16200000">
                  <a:off x="184320" y="803160"/>
                  <a:ext cx="6840" cy="32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圆角矩形 32"/>
              <p:cNvGrpSpPr/>
              <p:nvPr/>
            </p:nvGrpSpPr>
            <p:grpSpPr>
              <a:xfrm>
                <a:off x="-7920" y="913680"/>
                <a:ext cx="395280" cy="51840"/>
                <a:chOff x="-7920" y="913680"/>
                <a:chExt cx="395280" cy="51840"/>
              </a:xfrm>
            </p:grpSpPr>
            <p:pic>
              <p:nvPicPr>
                <p:cNvPr id="191" name="圆角矩形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-7920" y="913680"/>
                  <a:ext cx="3952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2" name=""/>
                <p:cNvSpPr/>
                <p:nvPr/>
              </p:nvSpPr>
              <p:spPr>
                <a:xfrm rot="16200000">
                  <a:off x="184320" y="776880"/>
                  <a:ext cx="6840" cy="32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圆角矩形 33"/>
              <p:cNvGrpSpPr/>
              <p:nvPr/>
            </p:nvGrpSpPr>
            <p:grpSpPr>
              <a:xfrm>
                <a:off x="-7920" y="834120"/>
                <a:ext cx="395280" cy="51840"/>
                <a:chOff x="-7920" y="834120"/>
                <a:chExt cx="395280" cy="51840"/>
              </a:xfrm>
            </p:grpSpPr>
            <p:pic>
              <p:nvPicPr>
                <p:cNvPr id="194" name="圆角矩形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-7920" y="834120"/>
                  <a:ext cx="3952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" name=""/>
                <p:cNvSpPr/>
                <p:nvPr/>
              </p:nvSpPr>
              <p:spPr>
                <a:xfrm rot="16200000">
                  <a:off x="184320" y="695880"/>
                  <a:ext cx="6840" cy="32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圆角矩形 34"/>
              <p:cNvGrpSpPr/>
              <p:nvPr/>
            </p:nvGrpSpPr>
            <p:grpSpPr>
              <a:xfrm>
                <a:off x="-7920" y="806400"/>
                <a:ext cx="395280" cy="51840"/>
                <a:chOff x="-7920" y="806400"/>
                <a:chExt cx="395280" cy="51840"/>
              </a:xfrm>
            </p:grpSpPr>
            <p:pic>
              <p:nvPicPr>
                <p:cNvPr id="197" name="圆角矩形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-7920" y="806400"/>
                  <a:ext cx="3952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8" name=""/>
                <p:cNvSpPr/>
                <p:nvPr/>
              </p:nvSpPr>
              <p:spPr>
                <a:xfrm rot="16200000">
                  <a:off x="184320" y="669600"/>
                  <a:ext cx="6840" cy="32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2:28:37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