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hammer.wav" ContentType="audio/x-wav"/>
  <Override PartName="/ppt/media/image7.png" ContentType="image/png"/>
  <Override PartName="/ppt/media/image6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A1F5-E48E-4FA0-BB7A-4EFAECB6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CB7C-3182-46EF-A67A-DA349977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7B8-C0B1-4D27-BEBD-C9D2FF8D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053-761F-4282-9FAB-90E449DA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12F4-D8C4-435E-BC31-7044CA08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257-D679-4333-B3AC-613C0D69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A68E-CE6B-4749-A29E-4BEAF36E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0B0-B914-4B08-8E74-993C1D8F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0E98-A695-4742-9AF1-5922E190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0AE3-9375-4E4E-88E4-3963A00B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CF48-BC2F-4207-9E89-EA5AEFD5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8525-96FF-4A7C-BF96-7D82D6D6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959A-9267-4662-BD39-F76AB96A6C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000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6"/>
          <p:cNvSpPr txBox="1"/>
          <p:nvPr/>
        </p:nvSpPr>
        <p:spPr>
          <a:xfrm>
            <a:off x="826920" y="2205000"/>
            <a:ext cx="7562880" cy="20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认识含有亿级和万级的数</a:t>
            </a:r>
            <a:endParaRPr b="1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95280" y="47628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苏教版四年级数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2627280" y="65102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468360" y="1341360"/>
            <a:ext cx="806436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1.2003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年我国种植棉花</a:t>
            </a:r>
            <a:r>
              <a:rPr b="1" lang="zh-CN" sz="3200" spc="-1" strike="noStrike" u="sng">
                <a:solidFill>
                  <a:srgbClr val="003399"/>
                </a:solidFill>
                <a:uFillTx/>
                <a:latin typeface="宋体"/>
              </a:rPr>
              <a:t>五百一十一亿九千万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平方米。</a:t>
            </a: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(               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种植油料</a:t>
            </a:r>
            <a:r>
              <a:rPr b="1" lang="zh-CN" sz="3200" spc="-1" strike="noStrike" u="sng">
                <a:solidFill>
                  <a:srgbClr val="003399"/>
                </a:solidFill>
                <a:uFillTx/>
                <a:latin typeface="宋体"/>
              </a:rPr>
              <a:t>一千四百九十七亿八千万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平方米。（               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种植粮食</a:t>
            </a:r>
            <a:r>
              <a:rPr b="1" lang="zh-CN" sz="3200" spc="-1" strike="noStrike" u="sng">
                <a:solidFill>
                  <a:srgbClr val="003399"/>
                </a:solidFill>
                <a:uFillTx/>
                <a:latin typeface="宋体"/>
              </a:rPr>
              <a:t>九千九百四十一亿六千五百万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平方米。（             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2.2003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年我国电子信息产业销售收入达到了</a:t>
            </a:r>
            <a:r>
              <a:rPr b="1" lang="zh-CN" sz="3200" spc="-1" strike="noStrike" u="sng">
                <a:solidFill>
                  <a:srgbClr val="003399"/>
                </a:solidFill>
                <a:uFillTx/>
                <a:latin typeface="宋体"/>
              </a:rPr>
              <a:t>一亿八千八百万元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。（           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900000" y="404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Arial"/>
              </a:rPr>
              <a:t>阅读感受并写出下面横线上的数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987640" y="1844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5119000000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674720" y="428004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99416500000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985680" y="3068640"/>
            <a:ext cx="29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4978000000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4716360" y="558972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8800000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3059280" y="40464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33"/>
                </a:solidFill>
                <a:latin typeface="Arial"/>
              </a:rPr>
              <a:t>精挑细选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11280" y="1557360"/>
            <a:ext cx="806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539640" y="1197000"/>
            <a:ext cx="7272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</a:rPr>
              <a:t>一个数由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</a:rPr>
              <a:t>个亿和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</a:rPr>
              <a:t>个千万组成，这个数是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500070000    b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50070000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570000000    d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50700000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</a:rPr>
              <a:t>一亿三千八百万写作：（     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13800            b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10000380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130000800    d</a:t>
            </a:r>
            <a:r>
              <a:rPr b="1" lang="zh-CN" sz="3200" spc="-1" strike="noStrike">
                <a:solidFill>
                  <a:srgbClr val="3366cc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13800000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835280" y="162864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5508720" y="3860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826920" y="765000"/>
            <a:ext cx="705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你知道吗？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纳米是一个很小的长度单位，用来表示微小的长度。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米的长度等于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10 0000 0000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纳米，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毫米的长度等于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100 0000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纳米</a:t>
            </a:r>
            <a:r>
              <a:rPr b="1" lang="zh-CN" sz="18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26920" y="422100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你想了解更多的有关纳米技术的问题或微观世界中的有趣问题，课后去查一查相关资料吧！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3"/>
          <p:cNvGraphicFramePr/>
          <p:nvPr/>
        </p:nvGraphicFramePr>
        <p:xfrm>
          <a:off x="324000" y="1197000"/>
          <a:ext cx="3979800" cy="42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3979800" cy="42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4"/>
          <p:cNvGraphicFramePr/>
          <p:nvPr/>
        </p:nvGraphicFramePr>
        <p:xfrm>
          <a:off x="5003640" y="1341360"/>
          <a:ext cx="3422880" cy="388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341360"/>
                    <a:ext cx="342288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 Box 5"/>
          <p:cNvSpPr/>
          <p:nvPr/>
        </p:nvSpPr>
        <p:spPr>
          <a:xfrm>
            <a:off x="250920" y="573408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Comic Sans MS"/>
                <a:ea typeface="华文新魏"/>
              </a:rPr>
              <a:t>你能说出每个数的组成吗？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我国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003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年粮食和钢材的总产量如下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155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1155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115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115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051920" y="115920"/>
            <a:ext cx="651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Comic Sans MS"/>
                <a:ea typeface="隶书"/>
              </a:rPr>
              <a:t>  </a:t>
            </a:r>
            <a:r>
              <a:rPr b="1" lang="zh-CN" sz="5400" spc="-1" strike="noStrike">
                <a:solidFill>
                  <a:srgbClr val="ff3300"/>
                </a:solidFill>
                <a:latin typeface="Comic Sans MS"/>
                <a:ea typeface="隶书"/>
              </a:rPr>
              <a:t>四亿三千万   二亿四千万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0" y="100980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你能在数位顺序表的下面写出这两个数吗？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11280" y="2637000"/>
          <a:ext cx="7632720" cy="2087280"/>
        </p:xfrm>
        <a:graphic>
          <a:graphicData uri="http://schemas.openxmlformats.org/drawingml/2006/table">
            <a:tbl>
              <a:tblPr/>
              <a:tblGrid>
                <a:gridCol w="2665440"/>
                <a:gridCol w="2422440"/>
                <a:gridCol w="25448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亿   级</a:t>
                      </a: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    级</a:t>
                      </a: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   级</a:t>
                      </a:r>
                      <a:endParaRPr b="1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WordArt 65"/>
          <p:cNvSpPr txBox="1"/>
          <p:nvPr/>
        </p:nvSpPr>
        <p:spPr>
          <a:xfrm>
            <a:off x="6948360" y="386064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十</a:t>
            </a:r>
            <a:endParaRPr b="1" lang="en-US" sz="3200" spc="1" strike="noStrike">
              <a:ln w="19080">
                <a:solidFill>
                  <a:srgbClr val="ff66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" name="WordArt 67"/>
          <p:cNvSpPr txBox="1"/>
          <p:nvPr/>
        </p:nvSpPr>
        <p:spPr>
          <a:xfrm>
            <a:off x="7596360" y="386064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个</a:t>
            </a:r>
            <a:endParaRPr b="1" lang="en-US" sz="3200" spc="1" strike="noStrike">
              <a:ln w="19080">
                <a:solidFill>
                  <a:srgbClr val="ff66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WordArt 69"/>
          <p:cNvSpPr txBox="1"/>
          <p:nvPr/>
        </p:nvSpPr>
        <p:spPr>
          <a:xfrm>
            <a:off x="6372360" y="38577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百</a:t>
            </a:r>
            <a:endParaRPr b="1" lang="en-US" sz="3200" spc="1" strike="noStrike">
              <a:ln w="19080">
                <a:solidFill>
                  <a:srgbClr val="ff66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WordArt 70"/>
          <p:cNvSpPr txBox="1"/>
          <p:nvPr/>
        </p:nvSpPr>
        <p:spPr>
          <a:xfrm>
            <a:off x="5796000" y="38577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千</a:t>
            </a:r>
            <a:endParaRPr b="1" lang="en-US" sz="3200" spc="1" strike="noStrike">
              <a:ln w="19080">
                <a:solidFill>
                  <a:srgbClr val="ff66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WordArt 71"/>
          <p:cNvSpPr txBox="1"/>
          <p:nvPr/>
        </p:nvSpPr>
        <p:spPr>
          <a:xfrm>
            <a:off x="5219640" y="386064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万</a:t>
            </a:r>
            <a:endParaRPr b="1" lang="en-US" sz="32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WordArt 73"/>
          <p:cNvSpPr txBox="1"/>
          <p:nvPr/>
        </p:nvSpPr>
        <p:spPr>
          <a:xfrm>
            <a:off x="4678200" y="3573360"/>
            <a:ext cx="457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十</a:t>
            </a:r>
            <a:endParaRPr b="1" lang="en-US" sz="32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万</a:t>
            </a:r>
            <a:endParaRPr b="1" lang="en-US" sz="32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WordArt 75"/>
          <p:cNvSpPr txBox="1"/>
          <p:nvPr/>
        </p:nvSpPr>
        <p:spPr>
          <a:xfrm>
            <a:off x="4114800" y="3594240"/>
            <a:ext cx="457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百</a:t>
            </a:r>
            <a:endParaRPr b="1" lang="en-US" sz="32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万</a:t>
            </a:r>
            <a:endParaRPr b="1" lang="en-US" sz="32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WordArt 77"/>
          <p:cNvSpPr txBox="1"/>
          <p:nvPr/>
        </p:nvSpPr>
        <p:spPr>
          <a:xfrm>
            <a:off x="3551400" y="3573360"/>
            <a:ext cx="457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千</a:t>
            </a:r>
            <a:endParaRPr b="1" lang="en-US" sz="32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万</a:t>
            </a:r>
            <a:endParaRPr b="1" lang="en-US" sz="32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WordArt 80"/>
          <p:cNvSpPr txBox="1"/>
          <p:nvPr/>
        </p:nvSpPr>
        <p:spPr>
          <a:xfrm>
            <a:off x="2712960" y="37972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亿</a:t>
            </a:r>
            <a:endParaRPr b="1" lang="en-US" sz="3200" spc="1" strike="noStrike">
              <a:ln w="19080">
                <a:solidFill>
                  <a:srgbClr val="99cc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WordArt 81"/>
          <p:cNvSpPr txBox="1"/>
          <p:nvPr/>
        </p:nvSpPr>
        <p:spPr>
          <a:xfrm>
            <a:off x="2131920" y="3548160"/>
            <a:ext cx="457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十</a:t>
            </a:r>
            <a:endParaRPr b="1" lang="en-US" sz="3200" spc="1" strike="noStrike">
              <a:ln w="19080">
                <a:solidFill>
                  <a:srgbClr val="99cc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亿</a:t>
            </a:r>
            <a:endParaRPr b="1" lang="en-US" sz="3200" spc="1" strike="noStrike">
              <a:ln w="19080">
                <a:solidFill>
                  <a:srgbClr val="99cc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WordArt 82"/>
          <p:cNvSpPr txBox="1"/>
          <p:nvPr/>
        </p:nvSpPr>
        <p:spPr>
          <a:xfrm>
            <a:off x="1535040" y="3560760"/>
            <a:ext cx="457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百</a:t>
            </a:r>
            <a:endParaRPr b="1" lang="en-US" sz="3200" spc="1" strike="noStrike">
              <a:ln w="19080">
                <a:solidFill>
                  <a:srgbClr val="99cc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亿</a:t>
            </a:r>
            <a:endParaRPr b="1" lang="en-US" sz="3200" spc="1" strike="noStrike">
              <a:ln w="19080">
                <a:solidFill>
                  <a:srgbClr val="99cc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" name="WordArt 83"/>
          <p:cNvSpPr txBox="1"/>
          <p:nvPr/>
        </p:nvSpPr>
        <p:spPr>
          <a:xfrm>
            <a:off x="900000" y="3573360"/>
            <a:ext cx="457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千</a:t>
            </a:r>
            <a:endParaRPr b="1" lang="en-US" sz="3200" spc="1" strike="noStrike">
              <a:ln w="19080">
                <a:solidFill>
                  <a:srgbClr val="99cc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亿</a:t>
            </a:r>
            <a:endParaRPr b="1" lang="en-US" sz="3200" spc="1" strike="noStrike">
              <a:ln w="19080">
                <a:solidFill>
                  <a:srgbClr val="99cc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" name="WordArt 85"/>
          <p:cNvSpPr txBox="1"/>
          <p:nvPr/>
        </p:nvSpPr>
        <p:spPr>
          <a:xfrm>
            <a:off x="2700360" y="4869000"/>
            <a:ext cx="355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4</a:t>
            </a:r>
            <a:endParaRPr b="1" lang="en-US" sz="3200" spc="1" strike="noStrike">
              <a:ln w="19080">
                <a:solidFill>
                  <a:srgbClr val="99cc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" name="WordArt 86"/>
          <p:cNvSpPr txBox="1"/>
          <p:nvPr/>
        </p:nvSpPr>
        <p:spPr>
          <a:xfrm>
            <a:off x="3564000" y="4890960"/>
            <a:ext cx="288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3</a:t>
            </a:r>
            <a:endParaRPr b="1" lang="en-US" sz="32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WordArt 87"/>
          <p:cNvSpPr txBox="1"/>
          <p:nvPr/>
        </p:nvSpPr>
        <p:spPr>
          <a:xfrm>
            <a:off x="4067280" y="4941720"/>
            <a:ext cx="1584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0 0 0</a:t>
            </a:r>
            <a:endParaRPr b="1" lang="en-US" sz="32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" name="WordArt 88"/>
          <p:cNvSpPr txBox="1"/>
          <p:nvPr/>
        </p:nvSpPr>
        <p:spPr>
          <a:xfrm>
            <a:off x="5915160" y="4916520"/>
            <a:ext cx="2016000" cy="4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0 0 0 0</a:t>
            </a:r>
            <a:endParaRPr b="1" lang="en-US" sz="3200" spc="1" strike="noStrike">
              <a:ln w="19080">
                <a:solidFill>
                  <a:srgbClr val="ff66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" name="WordArt 89"/>
          <p:cNvSpPr txBox="1"/>
          <p:nvPr/>
        </p:nvSpPr>
        <p:spPr>
          <a:xfrm>
            <a:off x="2700360" y="5589720"/>
            <a:ext cx="371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2</a:t>
            </a:r>
            <a:endParaRPr b="1" lang="en-US" sz="3200" spc="1" strike="noStrike">
              <a:ln w="19080">
                <a:solidFill>
                  <a:srgbClr val="99cc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WordArt 90"/>
          <p:cNvSpPr txBox="1"/>
          <p:nvPr/>
        </p:nvSpPr>
        <p:spPr>
          <a:xfrm>
            <a:off x="3538440" y="5589720"/>
            <a:ext cx="300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4</a:t>
            </a:r>
            <a:endParaRPr b="1" lang="en-US" sz="32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" name="WordArt 91"/>
          <p:cNvSpPr txBox="1"/>
          <p:nvPr/>
        </p:nvSpPr>
        <p:spPr>
          <a:xfrm>
            <a:off x="4067280" y="5592600"/>
            <a:ext cx="1584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0 0 0</a:t>
            </a:r>
            <a:endParaRPr b="1" lang="en-US" sz="32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" name="WordArt 92"/>
          <p:cNvSpPr txBox="1"/>
          <p:nvPr/>
        </p:nvSpPr>
        <p:spPr>
          <a:xfrm>
            <a:off x="5915160" y="5576760"/>
            <a:ext cx="2016000" cy="4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0 0 0 0</a:t>
            </a:r>
            <a:endParaRPr b="1" lang="en-US" sz="3200" spc="1" strike="noStrike">
              <a:ln w="19080">
                <a:solidFill>
                  <a:srgbClr val="ff66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900000" y="3932640"/>
            <a:ext cx="662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每四位分一级，从高到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一级一级地读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403280" y="177336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360000000     1689000000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476360" y="2781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两个数怎样读？小组讨论交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476360" y="4149720"/>
            <a:ext cx="640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250920" y="404640"/>
            <a:ext cx="8642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试着写出下面各数后，说说自己写数的写法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九百零一亿五千零六万零八  写作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———————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七十亿三千万八千                 写作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———————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50920" y="3357720"/>
            <a:ext cx="8569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试着读出下面各数，说说自己写数的写法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200040006000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读作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_________________________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607820050009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读作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_________________________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012000" y="77328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9015006000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037200" y="138924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703000800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995640" y="39085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二千亿四千万六千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651120" y="4581360"/>
            <a:ext cx="522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六千零七十八亿二千零五万零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250920" y="2205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含有三级的数的写法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cc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先写亿级，再依次写万级和个级；哪一位上一个单位也没有，就在哪一位上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324000" y="5229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含有三级的数读法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先读亿级，再依次读万级和个级；每级末尾的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不读；每级中其它数位有一个或连续几个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，都只读一个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1332000" y="765000"/>
          <a:ext cx="6516720" cy="488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765000"/>
                    <a:ext cx="6516720" cy="48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0" y="0"/>
          <a:ext cx="608472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08472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3"/>
          <p:cNvGraphicFramePr/>
          <p:nvPr/>
        </p:nvGraphicFramePr>
        <p:xfrm>
          <a:off x="2124000" y="1197000"/>
          <a:ext cx="5543640" cy="170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1197000"/>
                    <a:ext cx="55436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4"/>
          <p:cNvGraphicFramePr/>
          <p:nvPr/>
        </p:nvGraphicFramePr>
        <p:xfrm>
          <a:off x="2556000" y="3645000"/>
          <a:ext cx="4716360" cy="16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3645000"/>
                    <a:ext cx="4716360" cy="16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WordArt 5"/>
          <p:cNvSpPr txBox="1"/>
          <p:nvPr/>
        </p:nvSpPr>
        <p:spPr>
          <a:xfrm>
            <a:off x="2700360" y="2781360"/>
            <a:ext cx="3311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三亿一千二百万</a:t>
            </a:r>
            <a:endParaRPr b="1" lang="en-US" sz="3200" spc="1" strike="noStrike">
              <a:ln w="19080">
                <a:solidFill>
                  <a:srgbClr val="8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3419640" y="544500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三亿三千五百万</a:t>
            </a:r>
            <a:endParaRPr b="1" lang="en-US" sz="3200" spc="1" strike="noStrike">
              <a:ln w="19080">
                <a:solidFill>
                  <a:srgbClr val="8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heel spokes="8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1187280" y="549360"/>
          <a:ext cx="6875640" cy="515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549360"/>
                    <a:ext cx="687564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Line 3"/>
          <p:cNvSpPr/>
          <p:nvPr/>
        </p:nvSpPr>
        <p:spPr>
          <a:xfrm>
            <a:off x="1476360" y="2492280"/>
            <a:ext cx="2160720" cy="216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 flipH="1">
            <a:off x="1908000" y="2421000"/>
            <a:ext cx="1872000" cy="223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5435640" y="2421000"/>
            <a:ext cx="2089080" cy="230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 flipH="1">
            <a:off x="5580000" y="2565360"/>
            <a:ext cx="1944720" cy="23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47628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一个数由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79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个亿和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80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个万组成，这个数写作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__________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一个九位数，最高位上是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，百万位上是最大的一位数，千位上是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，其它各位上都是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，这个数写作 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__________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读作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______________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972720" y="1611360"/>
            <a:ext cx="243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90080000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780000" y="3213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9000300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1960" y="37720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六亿零九百万三千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0" y="434988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宋体"/>
              </a:rPr>
              <a:t>3.3460000000</a:t>
            </a:r>
            <a:r>
              <a:rPr b="1" lang="zh-CN" sz="3600" spc="-1" strike="noStrike">
                <a:solidFill>
                  <a:srgbClr val="003399"/>
                </a:solidFill>
                <a:latin typeface="宋体"/>
              </a:rPr>
              <a:t>由</a:t>
            </a:r>
            <a:r>
              <a:rPr b="1" lang="en-US" sz="3600" spc="-1" strike="noStrike">
                <a:solidFill>
                  <a:srgbClr val="003399"/>
                </a:solidFill>
                <a:latin typeface="宋体"/>
              </a:rPr>
              <a:t>___</a:t>
            </a:r>
            <a:r>
              <a:rPr b="1" lang="zh-CN" sz="3600" spc="-1" strike="noStrike">
                <a:solidFill>
                  <a:srgbClr val="003399"/>
                </a:solidFill>
                <a:latin typeface="宋体"/>
              </a:rPr>
              <a:t>个亿和</a:t>
            </a:r>
            <a:r>
              <a:rPr b="1" lang="en-US" sz="3600" spc="-1" strike="noStrike">
                <a:solidFill>
                  <a:srgbClr val="003399"/>
                </a:solidFill>
                <a:latin typeface="宋体"/>
              </a:rPr>
              <a:t>__</a:t>
            </a:r>
            <a:r>
              <a:rPr b="1" lang="zh-CN" sz="3600" spc="-1" strike="noStrike">
                <a:solidFill>
                  <a:srgbClr val="003399"/>
                </a:solidFill>
                <a:latin typeface="宋体"/>
              </a:rPr>
              <a:t>千万组成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419640" y="429264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3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5435640" y="436572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2987640" y="33336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缝缝补补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0" y="5013360"/>
            <a:ext cx="86756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宋体"/>
              </a:rPr>
              <a:t>4.4</a:t>
            </a:r>
            <a:r>
              <a:rPr b="1" lang="zh-CN" sz="3600" spc="-1" strike="noStrike">
                <a:solidFill>
                  <a:srgbClr val="003399"/>
                </a:solidFill>
                <a:latin typeface="宋体"/>
              </a:rPr>
              <a:t>个十亿、</a:t>
            </a:r>
            <a:r>
              <a:rPr b="1" lang="en-US" sz="3600" spc="-1" strike="noStrike">
                <a:solidFill>
                  <a:srgbClr val="003399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3399"/>
                </a:solidFill>
                <a:latin typeface="宋体"/>
              </a:rPr>
              <a:t>个亿、</a:t>
            </a:r>
            <a:r>
              <a:rPr b="1" lang="en-US" sz="3600" spc="-1" strike="noStrike">
                <a:solidFill>
                  <a:srgbClr val="003399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3399"/>
                </a:solidFill>
                <a:latin typeface="宋体"/>
              </a:rPr>
              <a:t>个千万和</a:t>
            </a:r>
            <a:r>
              <a:rPr b="1" lang="en-US" sz="3600" spc="-1" strike="noStrike">
                <a:solidFill>
                  <a:srgbClr val="003399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3399"/>
                </a:solidFill>
                <a:latin typeface="宋体"/>
              </a:rPr>
              <a:t>个百万组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</a:rPr>
              <a:t>成的数是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______________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1860480" y="58849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59200000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03:34:44Z</dcterms:created>
  <dc:creator/>
  <dc:description/>
  <cp:keywords/>
  <dc:language>en-US</dc:language>
  <cp:lastModifiedBy>dreamsummit</cp:lastModifiedBy>
  <dcterms:modified xsi:type="dcterms:W3CDTF">2015-05-12T09:23:02Z</dcterms:modified>
  <cp:revision>166</cp:revision>
  <dc:subject/>
  <dc:title>幻灯片 1</dc:title>
</cp:coreProperties>
</file>