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6511-526B-42F6-B000-209A3CDC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8920" y="358596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B33D-8EAB-4DE1-B05C-390812BD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4775F-B4D9-49C3-AAEC-0123B967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6C6C1-6C2E-481B-B1B7-37AA4DDE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684000" y="-1108080"/>
            <a:ext cx="71276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61283-D62F-47F3-B87D-808DC0B5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91D12-CCC7-40AE-968C-BCFFE59E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09140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0DEBA-B9D6-4636-8E6F-7703CCC7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F751C-D8C6-44D1-8F86-80390FEA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178920" y="358596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0E704-132C-4ACC-9B93-EA96D1DB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09140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BC770-C091-45E8-8BFB-EB57A9B88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76012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34168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17892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276012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34168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8DF61-A685-4C42-8A10-7D6C683C2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3C270-D667-4CEE-A722-44D89DF4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140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7767-D97B-4B43-ABAA-9418EAEE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2B577-72D0-4F37-9E40-D1749DF7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4C3EA-A728-4555-9858-11DF84C4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B4136-DCD2-4256-96A9-D001C6F6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3A988-531F-47C9-8692-6160BE26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4000" y="-1108080"/>
            <a:ext cx="71276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69FAA-AFCD-4C7A-8FE6-F4A1D33C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6E7D07-2C48-41D7-A297-F6438F4A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09140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4D594-16D4-4B93-8C06-2DEDAEC7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A825E-7B9F-47A2-BFE8-19F2BA7E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78920" y="358596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F47BB-D939-4B97-A60D-CEA10970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09140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B5099-D69C-4849-B51C-01CA16F7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6012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4168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892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6012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4168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7784-7E40-434C-8155-B82C588F4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276012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34168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7892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276012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34168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9B452-66D3-4F18-83CD-47D967EF4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3E15C-A88A-4A5C-9054-14027F28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E0184-B9B9-4932-A53D-F6547566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4D6AC-3A85-467B-9893-969E37F9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6C453-C83D-41ED-B591-CF7C4E44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90AE3-51A8-4129-B299-6A415973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684000" y="-1108080"/>
            <a:ext cx="71276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5DF7A-D89F-421C-B1AD-0F65714A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F364E-BA2E-4C86-B9E3-61CC7E14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09140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4B92C-F0F0-4325-A248-5C293F47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4B32A-DB28-4430-B493-B0F4B3B5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79FF-5B6E-4671-8814-68588910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78920" y="358596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2EE50-C4C1-43F7-84DA-52C44661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09140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E36A8-1715-4F8D-94FA-D63F5062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276012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34168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7892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276012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34168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3006D-F322-46C7-AAE3-C0B671568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A0A9D1-1BFC-40C8-A576-C71EA3FD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D4BD2-B096-4732-8A1B-71432B96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33C9ED-022B-4C52-9582-90F77A60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B9981-D843-422C-960D-2D6E97F8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B188A-EA51-4E0B-B873-7760F1B7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684000" y="-1108080"/>
            <a:ext cx="71276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C55F9B-E1A7-47B1-8D0D-D740250B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21F5D6-3EF2-4C55-A7BB-C98DD8C8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9459-58C7-4959-8894-375ADD75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09140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C33FA9-6F41-4552-8351-A52CF2FE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8C79ED-0DC1-4AC1-A2A0-A4383E0C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78920" y="358596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7E50C3-6468-4CEE-BF67-F2CF6873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09140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10C9E-B0C8-4739-84E3-1340AB53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276012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34168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7892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276012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534168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735CA4-A7EA-4887-AEC4-43F15E77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B5141E-F9EC-4724-8B21-9AA8D9EB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2EE6D3-9E63-4119-9C05-342D9F18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3CFC18-1EA4-477C-ACB3-21132C36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585FDD-773D-40C6-A98F-433941F4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7F5CC0-87FA-4137-99E6-4968103D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7299-11B6-4518-9DE3-F1217AB7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684000" y="-1108080"/>
            <a:ext cx="71276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8079B8-9837-4896-BD07-0CA2F7D1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8AC4FF-4FA0-45B5-AD17-3F1B3B32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09140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EC2E63-9D13-4424-AE8B-CF947FDE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D87FB1-CA70-4FA0-9C0E-D4AA036A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178920" y="358596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B0AC47-516C-43E1-B0F2-6A788332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09140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AB8099-767F-4102-8872-75220FA5C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276012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4168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17892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276012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34168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8D8FC2-6C59-4716-8E0D-3D9D24DF1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8F4E-5AB1-4BEC-8162-02AE65CB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0DDF-D0FC-4A57-8E8F-0DD4C2B8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4000" y="-1108080"/>
            <a:ext cx="71276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6E6B-8DC6-40BE-B6A2-B01DB991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D981-4BF2-486F-AF2B-C7C404F9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D2CC-DFF2-43FB-8932-420401E8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140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4319-A559-49CB-B5AF-ED4E04A7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3B4F-8EF3-443D-8C3D-3A8F8475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8920" y="358596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09FB-EF62-4230-A205-7399EA73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140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085D-EB3B-4F32-9CF4-3D115F8C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6012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4168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7892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6012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4168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FF50-DF65-4091-95A2-F7CEAC07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0E79C-8049-4FF4-8A53-E7FB6684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0F0A7-91EF-4AE6-8711-C943A2CA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48CF6-C825-4144-BA3B-0A9C0662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C26EC-022E-4CFC-91ED-D5C00126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568EC-70D2-4E33-99B4-F5A5F0A2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E2EC-2BE1-436C-98A2-FDFBDC91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4000" y="-1108080"/>
            <a:ext cx="71276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6BD16-90A1-4555-A33D-FF2AA6BB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078EB-54CC-4D56-B059-0AC7BB9E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09140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F83B6-E513-427B-B842-FF07A66A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212F1-810E-41E3-BF64-C8336C50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78920" y="358596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AFAD4-75F6-4ED3-985B-AD96E2F4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09140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BCF57-8B3C-46EC-8D25-D7224A3C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76012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34168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7892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76012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34168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4991F-61F4-43BC-A8D3-87ABD4DEF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1DD7D-DD05-4329-A1B6-21464AAFD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E73C9-E866-4BF7-81C4-55175BAD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1CC35-8C4A-452B-B7B9-3D91AF55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1DEF-9D64-42A4-9242-DF572531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317E3-A140-4044-9E08-89691E35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ECEC2-3790-42C1-98A3-33C7041C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4000" y="-1108080"/>
            <a:ext cx="71276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99891-DC01-4732-AE52-CB212F27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E740E-DCB7-4FF2-BB81-2427DD37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09140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F0BE0-9077-40BA-8261-C39039F2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F1806-A857-45D2-BE8D-0FB8ADAE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78920" y="358596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A5CEB-55F0-4C71-B32B-77244759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09140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1BBE9-93A1-4E21-9CC2-4C6584D9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276012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4168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7892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276012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34168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8424B-9376-419D-A98B-0324C7970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17DAC-2541-4A68-8E72-53AD5317E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6B05-B6A1-4D25-878F-03F574F3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1B484-67E6-4941-8E42-1B452432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2B61E-601B-45E4-AE31-7984DA40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86E17-6B52-49C8-AAEA-D1E8D3D9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16C92-C473-4BD3-A656-51AD10FC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84000" y="-1108080"/>
            <a:ext cx="71276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87FA1-0418-4304-A8BF-D4FF67FB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FDF8F-1FE7-4298-9C15-1CB2A253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09140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2A7F6-AA10-4093-9CA2-A7D156A0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207A2-458A-4307-8F8E-D24B33C1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78920" y="358596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7F691-30B2-4FEB-A95F-3636F174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09140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76AAF-6AF7-4E38-A647-552578C0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4000" y="-1108080"/>
            <a:ext cx="71276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400B-E4EE-4EF8-BEA9-5E222483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276012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34168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7892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276012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34168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DE422-81E1-442B-8DCC-0E746E79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9B442-BC21-4B38-B70B-A86C5B84E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87B97-3410-49F9-BC62-A5A1E167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C7A25-E1F8-4FFF-8165-3B9434FA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29827-F747-4C0B-8567-8801919E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C85A3-8233-42FC-AD6D-7F75DD0F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84000" y="-1108080"/>
            <a:ext cx="71276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E7BCF-6C7C-4D30-851D-B7FD6D30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8DEC6-E721-4C14-AD50-67AEECAD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09140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CEFCC-5A2C-466A-836A-7E36EBCD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9F78D-0C9D-4C63-AB36-95D660D5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A07C-C8C6-453E-9191-F666EDED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78920" y="358596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ABF3D-D9DB-4D55-AB50-1F271C3E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09140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120E5-A052-41F9-A3A4-1F55369CD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276012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34168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7892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276012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34168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3F774-8EC7-45B7-807B-3BA259D1B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E0CDF-8B60-4425-AC32-9235C129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9C1F3-3AF0-45F5-BFED-7F0CF6F3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F4536-DF80-4FB0-97A6-FD33B9FC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AD359-3F50-46C3-AF79-9DDA0FF0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7B770-85EA-4C97-88EB-777D3935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684000" y="-1108080"/>
            <a:ext cx="71276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0E26D-8DBC-4122-BF06-57FA6890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F564A-1600-4D61-BF69-E83052C2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140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2659-31C9-499C-A6A7-4B0ABCB6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09140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BE540-86CD-4D1C-8CC6-96A77C05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301FC-35BB-43B5-858A-B84BC235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78920" y="358596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8CE5B-BAA9-4D44-AE6D-73EC09D2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09140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54DBD-F492-43F0-8E0D-8BD122115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276012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4168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17892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276012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34168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631D0-FA70-4FEA-8C8C-26334BC34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058B1-8311-485A-99E8-690BE12A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E623A-C406-4979-AC20-EDC19FD7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C58FE-7DBD-4060-B4AB-53C872C9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221FD-FD13-4F39-98B9-27A5EF3A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42D7D-F5FA-4A2A-9D78-D3A9B473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211E-EF68-480E-A0ED-4A74AA69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84000" y="-1108080"/>
            <a:ext cx="71276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D58C9-3846-47E4-A322-0F0E5E30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78A0F-9A6B-44CF-8DB7-BF2F0BCD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09140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E5697-91F4-4ADA-8097-6F12F01F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19A60-7CCF-40C7-8267-485FD816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78920" y="3585960"/>
            <a:ext cx="7634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2D793-0C07-4DE7-B483-2FB6C91D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091400" y="76500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7892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091400" y="3585960"/>
            <a:ext cx="372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01999-0176-42C5-B826-50FFC53C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276012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341680" y="76500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7892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276012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341680" y="3585960"/>
            <a:ext cx="2458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320E6-E7CF-4390-8538-3DF9D945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FB9EB-FF60-4DC3-9B84-309134ACE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56564-9EFA-4F18-BCE2-1C33BD73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C69D7-00F9-4B49-9004-D8ECB3B4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65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3713-A8D6-405E-A0C5-CE0AF9FFA18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楷体_GB2312"/>
              </a:rPr>
              <a:t>Click to edit the title text format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Click to edit the outline text format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econd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Third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Four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Fif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ix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even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楷体_GB2312"/>
              </a:rPr>
              <a:t>Click to edit the title text format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Click to edit the outline text format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econd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Third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Four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Fif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ix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even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65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50AE-AD13-461A-843E-E52929C96A5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楷体_GB2312"/>
              </a:rPr>
              <a:t>Click to edit the title text format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Click to edit the outline text format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econd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Third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Four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Fif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ix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even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65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FE79-8538-44DB-B0B5-FB5044912D4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楷体_GB2312"/>
              </a:rPr>
              <a:t>Click to edit the title text format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Click to edit the outline text format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econd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Third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Four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Fif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ix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even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65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22CB-0613-4D73-A997-CEB066C5AC6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楷体_GB2312"/>
              </a:rPr>
              <a:t>Click to edit the title text format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Click to edit the outline text format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econd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Third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Four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Fif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ix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even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65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46C9-3BEC-4602-BD3A-7FFEB4B888B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1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楷体_GB2312"/>
              </a:rPr>
              <a:t>Click to edit the title text format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Click to edit the outline text format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econd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Third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Four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Fif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ix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even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1D56-BFDD-40C0-A643-52A1FBE3735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楷体_GB2312"/>
              </a:rPr>
              <a:t>Click to edit the title text format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Click to edit the outline text format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econd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Third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Four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Fif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ix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even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65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A0C9-9E7F-4B51-AA83-E700D9D46B2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楷体_GB2312"/>
              </a:rPr>
              <a:t>Click to edit the title text format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Click to edit the outline text format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econd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Third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Four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Fif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ix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even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65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2CA3-1CCC-4C2B-8B96-03B9C33CAB5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楷体_GB2312"/>
              </a:rPr>
              <a:t>Click to edit the title text format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Click to edit the outline text format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econd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Third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Four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Fif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ix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even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65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144A-2871-4FF2-B320-AA3FAACF318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楷体_GB2312"/>
              </a:rPr>
              <a:t>Click to edit the title text format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Click to edit the outline text format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econd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Third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Four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Fif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ix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even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65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504F-7BB2-40E1-BBF6-050ACD65EF2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楷体_GB2312"/>
              </a:rPr>
              <a:t>Click to edit the title text format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Click to edit the outline text format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econd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Third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Four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Fif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ix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even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65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018D-B5B2-472A-B638-E172F584667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楷体_GB2312"/>
              </a:rPr>
              <a:t>Click to edit the title text format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Click to edit the outline text format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econd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Third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Four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Fif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ix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even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65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54AB-34C3-4E49-94C7-C81C5CA53CB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楷体_GB2312"/>
              </a:rPr>
              <a:t>Click to edit the title text format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178920" y="765000"/>
            <a:ext cx="7634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Click to edit the outline text format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econd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Third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Four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Fif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ix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楷体_GB2312"/>
              </a:rPr>
              <a:t>Seventh Outline Level</a:t>
            </a:r>
            <a:endParaRPr b="0" lang="en-US" sz="3200" spc="-1" strike="noStrike">
              <a:solidFill>
                <a:srgbClr val="200b5b"/>
              </a:solidFill>
              <a:latin typeface="楷体_GB2312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65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B653-2643-45D6-92A7-156409A0EB1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10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8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" Target="slide3.xml"/><Relationship Id="rId8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476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cc"/>
                </a:solidFill>
                <a:latin typeface="楷体_GB2312"/>
              </a:rPr>
              <a:t>认识整亿数</a:t>
            </a:r>
            <a:r>
              <a:rPr b="1" lang="zh-CN" sz="6600" spc="-1" strike="noStrike">
                <a:solidFill>
                  <a:srgbClr val="6600cc"/>
                </a:solidFill>
                <a:latin typeface="楷体_GB2312"/>
              </a:rPr>
              <a:t> </a:t>
            </a:r>
            <a:endParaRPr b="1" lang="en-US" sz="6600" spc="-1" strike="noStrike">
              <a:solidFill>
                <a:srgbClr val="6600cc"/>
              </a:solidFill>
              <a:latin typeface="楷体_GB2312"/>
            </a:endParaRPr>
          </a:p>
        </p:txBody>
      </p:sp>
      <p:sp>
        <p:nvSpPr>
          <p:cNvPr id="536" name="AutoShape 10"/>
          <p:cNvSpPr/>
          <p:nvPr/>
        </p:nvSpPr>
        <p:spPr>
          <a:xfrm>
            <a:off x="395280" y="6165720"/>
            <a:ext cx="1152360" cy="576360"/>
          </a:xfrm>
          <a:custGeom>
            <a:avLst/>
            <a:gdLst>
              <a:gd name="textAreaLeft" fmla="*/ 0 w 1152360"/>
              <a:gd name="textAreaRight" fmla="*/ 1152360 w 1152360"/>
              <a:gd name="textAreaTop" fmla="*/ 74520 h 576360"/>
              <a:gd name="textAreaBottom" fmla="*/ 5018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0000">
              <a:alpha val="80000"/>
            </a:srgbClr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7">
            <a:hlinkClick r:id="rId1" action="ppaction://hlinksldjump"/>
          </p:cNvPr>
          <p:cNvSpPr/>
          <p:nvPr/>
        </p:nvSpPr>
        <p:spPr>
          <a:xfrm>
            <a:off x="611280" y="62118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引 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1"/>
          <p:cNvSpPr/>
          <p:nvPr/>
        </p:nvSpPr>
        <p:spPr>
          <a:xfrm>
            <a:off x="2843280" y="6165720"/>
            <a:ext cx="1152360" cy="576360"/>
          </a:xfrm>
          <a:custGeom>
            <a:avLst/>
            <a:gdLst>
              <a:gd name="textAreaLeft" fmla="*/ 0 w 1152360"/>
              <a:gd name="textAreaRight" fmla="*/ 1152360 w 1152360"/>
              <a:gd name="textAreaTop" fmla="*/ 74520 h 576360"/>
              <a:gd name="textAreaBottom" fmla="*/ 5018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66ff33">
              <a:alpha val="80000"/>
            </a:srgbClr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>
            <a:hlinkClick r:id="rId2" action="ppaction://hlinksldjump"/>
          </p:cNvPr>
          <p:cNvSpPr/>
          <p:nvPr/>
        </p:nvSpPr>
        <p:spPr>
          <a:xfrm>
            <a:off x="3059280" y="62373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新 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2"/>
          <p:cNvSpPr/>
          <p:nvPr/>
        </p:nvSpPr>
        <p:spPr>
          <a:xfrm>
            <a:off x="5148360" y="6165720"/>
            <a:ext cx="1152360" cy="576360"/>
          </a:xfrm>
          <a:custGeom>
            <a:avLst/>
            <a:gdLst>
              <a:gd name="textAreaLeft" fmla="*/ 0 w 1152360"/>
              <a:gd name="textAreaRight" fmla="*/ 1152360 w 1152360"/>
              <a:gd name="textAreaTop" fmla="*/ 74520 h 576360"/>
              <a:gd name="textAreaBottom" fmla="*/ 5018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>
              <a:alpha val="80000"/>
            </a:srgbClr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8">
            <a:hlinkClick r:id="rId3" action="ppaction://hlinksldjump"/>
          </p:cNvPr>
          <p:cNvSpPr/>
          <p:nvPr/>
        </p:nvSpPr>
        <p:spPr>
          <a:xfrm>
            <a:off x="5076720" y="621180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巩固练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3"/>
          <p:cNvSpPr/>
          <p:nvPr/>
        </p:nvSpPr>
        <p:spPr>
          <a:xfrm>
            <a:off x="7380360" y="6165720"/>
            <a:ext cx="1152360" cy="576360"/>
          </a:xfrm>
          <a:custGeom>
            <a:avLst/>
            <a:gdLst>
              <a:gd name="textAreaLeft" fmla="*/ 0 w 1152360"/>
              <a:gd name="textAreaRight" fmla="*/ 1152360 w 1152360"/>
              <a:gd name="textAreaTop" fmla="*/ 74520 h 576360"/>
              <a:gd name="textAreaBottom" fmla="*/ 5018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6600ff">
              <a:alpha val="80000"/>
            </a:srgbClr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9">
            <a:hlinkClick r:id="rId4" action="ppaction://hlinksldjump"/>
          </p:cNvPr>
          <p:cNvSpPr/>
          <p:nvPr/>
        </p:nvSpPr>
        <p:spPr>
          <a:xfrm>
            <a:off x="7308720" y="6237360"/>
            <a:ext cx="144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eaeaea"/>
                </a:solidFill>
                <a:latin typeface="Arial"/>
                <a:ea typeface="黑体"/>
              </a:rPr>
              <a:t>你知道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4"/>
          <p:cNvSpPr/>
          <p:nvPr/>
        </p:nvSpPr>
        <p:spPr>
          <a:xfrm>
            <a:off x="4626000" y="2462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AutoShape 38">
            <a:hlinkClick r:id="" action="ppaction://hlinkshowjump?jump=firstslide"/>
          </p:cNvPr>
          <p:cNvSpPr/>
          <p:nvPr/>
        </p:nvSpPr>
        <p:spPr>
          <a:xfrm>
            <a:off x="179280" y="623736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72" h="21600">
                <a:moveTo>
                  <a:pt x="12636" y="3837"/>
                </a:moveTo>
                <a:lnTo>
                  <a:pt x="15212" y="6448"/>
                </a:lnTo>
                <a:lnTo>
                  <a:pt x="15212" y="4707"/>
                </a:lnTo>
                <a:lnTo>
                  <a:pt x="16988" y="4707"/>
                </a:lnTo>
                <a:lnTo>
                  <a:pt x="16988" y="8224"/>
                </a:lnTo>
                <a:lnTo>
                  <a:pt x="19599" y="10800"/>
                </a:lnTo>
                <a:lnTo>
                  <a:pt x="17945" y="10800"/>
                </a:lnTo>
                <a:lnTo>
                  <a:pt x="17945" y="17989"/>
                </a:lnTo>
                <a:lnTo>
                  <a:pt x="7327" y="17989"/>
                </a:lnTo>
                <a:lnTo>
                  <a:pt x="7327" y="10800"/>
                </a:lnTo>
                <a:lnTo>
                  <a:pt x="5673" y="10800"/>
                </a:lnTo>
                <a:close/>
              </a:path>
              <a:path fill="darkenLess" w="25272" h="21600">
                <a:moveTo>
                  <a:pt x="15212" y="6448"/>
                </a:moveTo>
                <a:lnTo>
                  <a:pt x="15212" y="4707"/>
                </a:lnTo>
                <a:lnTo>
                  <a:pt x="16988" y="4707"/>
                </a:lnTo>
                <a:lnTo>
                  <a:pt x="16988" y="8224"/>
                </a:lnTo>
                <a:close/>
              </a:path>
              <a:path fill="darkenLess" w="25272" h="21600">
                <a:moveTo>
                  <a:pt x="11713" y="14299"/>
                </a:moveTo>
                <a:lnTo>
                  <a:pt x="13559" y="14299"/>
                </a:lnTo>
                <a:lnTo>
                  <a:pt x="13559" y="17989"/>
                </a:lnTo>
                <a:lnTo>
                  <a:pt x="17945" y="17989"/>
                </a:lnTo>
                <a:lnTo>
                  <a:pt x="17945" y="10800"/>
                </a:lnTo>
                <a:lnTo>
                  <a:pt x="7327" y="10800"/>
                </a:lnTo>
                <a:lnTo>
                  <a:pt x="7327" y="17989"/>
                </a:lnTo>
                <a:lnTo>
                  <a:pt x="11713" y="17989"/>
                </a:lnTo>
                <a:close/>
              </a:path>
            </a:pathLst>
          </a:cu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40"/>
          <p:cNvSpPr/>
          <p:nvPr/>
        </p:nvSpPr>
        <p:spPr>
          <a:xfrm>
            <a:off x="826920" y="2637000"/>
            <a:ext cx="7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42" descr=""/>
          <p:cNvPicPr/>
          <p:nvPr/>
        </p:nvPicPr>
        <p:blipFill>
          <a:blip r:embed="rId1"/>
          <a:stretch/>
        </p:blipFill>
        <p:spPr>
          <a:xfrm>
            <a:off x="684360" y="619200"/>
            <a:ext cx="6696000" cy="367344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楷体_GB2312"/>
              </a:rPr>
              <a:t>练习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AutoShape 28">
            <a:hlinkClick r:id="" action="ppaction://hlinkshowjump?jump=firstslide"/>
          </p:cNvPr>
          <p:cNvSpPr/>
          <p:nvPr/>
        </p:nvSpPr>
        <p:spPr>
          <a:xfrm>
            <a:off x="179280" y="623736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72" h="21600">
                <a:moveTo>
                  <a:pt x="12636" y="3837"/>
                </a:moveTo>
                <a:lnTo>
                  <a:pt x="15212" y="6448"/>
                </a:lnTo>
                <a:lnTo>
                  <a:pt x="15212" y="4707"/>
                </a:lnTo>
                <a:lnTo>
                  <a:pt x="16988" y="4707"/>
                </a:lnTo>
                <a:lnTo>
                  <a:pt x="16988" y="8224"/>
                </a:lnTo>
                <a:lnTo>
                  <a:pt x="19599" y="10800"/>
                </a:lnTo>
                <a:lnTo>
                  <a:pt x="17945" y="10800"/>
                </a:lnTo>
                <a:lnTo>
                  <a:pt x="17945" y="17989"/>
                </a:lnTo>
                <a:lnTo>
                  <a:pt x="7327" y="17989"/>
                </a:lnTo>
                <a:lnTo>
                  <a:pt x="7327" y="10800"/>
                </a:lnTo>
                <a:lnTo>
                  <a:pt x="5673" y="10800"/>
                </a:lnTo>
                <a:close/>
              </a:path>
              <a:path fill="darkenLess" w="25272" h="21600">
                <a:moveTo>
                  <a:pt x="15212" y="6448"/>
                </a:moveTo>
                <a:lnTo>
                  <a:pt x="15212" y="4707"/>
                </a:lnTo>
                <a:lnTo>
                  <a:pt x="16988" y="4707"/>
                </a:lnTo>
                <a:lnTo>
                  <a:pt x="16988" y="8224"/>
                </a:lnTo>
                <a:close/>
              </a:path>
              <a:path fill="darkenLess" w="25272" h="21600">
                <a:moveTo>
                  <a:pt x="11713" y="14299"/>
                </a:moveTo>
                <a:lnTo>
                  <a:pt x="13559" y="14299"/>
                </a:lnTo>
                <a:lnTo>
                  <a:pt x="13559" y="17989"/>
                </a:lnTo>
                <a:lnTo>
                  <a:pt x="17945" y="17989"/>
                </a:lnTo>
                <a:lnTo>
                  <a:pt x="17945" y="10800"/>
                </a:lnTo>
                <a:lnTo>
                  <a:pt x="7327" y="10800"/>
                </a:lnTo>
                <a:lnTo>
                  <a:pt x="7327" y="17989"/>
                </a:lnTo>
                <a:lnTo>
                  <a:pt x="11713" y="17989"/>
                </a:lnTo>
                <a:close/>
              </a:path>
            </a:pathLst>
          </a:cu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30" descr=""/>
          <p:cNvPicPr/>
          <p:nvPr/>
        </p:nvPicPr>
        <p:blipFill>
          <a:blip r:embed="rId1"/>
          <a:stretch/>
        </p:blipFill>
        <p:spPr>
          <a:xfrm>
            <a:off x="395280" y="698400"/>
            <a:ext cx="2376360" cy="12906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31" descr=""/>
          <p:cNvPicPr/>
          <p:nvPr/>
        </p:nvPicPr>
        <p:blipFill>
          <a:blip r:embed="rId2"/>
          <a:stretch/>
        </p:blipFill>
        <p:spPr>
          <a:xfrm>
            <a:off x="539640" y="2060640"/>
            <a:ext cx="6769080" cy="22320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32" descr=""/>
          <p:cNvPicPr/>
          <p:nvPr/>
        </p:nvPicPr>
        <p:blipFill>
          <a:blip r:embed="rId3"/>
          <a:stretch/>
        </p:blipFill>
        <p:spPr>
          <a:xfrm>
            <a:off x="468360" y="1916280"/>
            <a:ext cx="6769080" cy="223200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41"/>
          <p:cNvSpPr/>
          <p:nvPr/>
        </p:nvSpPr>
        <p:spPr>
          <a:xfrm>
            <a:off x="1332000" y="414972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6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42"/>
          <p:cNvSpPr/>
          <p:nvPr/>
        </p:nvSpPr>
        <p:spPr>
          <a:xfrm>
            <a:off x="5796000" y="29242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43"/>
          <p:cNvSpPr/>
          <p:nvPr/>
        </p:nvSpPr>
        <p:spPr>
          <a:xfrm>
            <a:off x="4356000" y="414972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0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楷体_GB2312"/>
              </a:rPr>
              <a:t>练习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4" descr="1"/>
          <p:cNvPicPr/>
          <p:nvPr/>
        </p:nvPicPr>
        <p:blipFill>
          <a:blip r:embed="rId1"/>
          <a:stretch/>
        </p:blipFill>
        <p:spPr>
          <a:xfrm>
            <a:off x="539640" y="2349360"/>
            <a:ext cx="6840720" cy="151128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5"/>
          <p:cNvSpPr/>
          <p:nvPr/>
        </p:nvSpPr>
        <p:spPr>
          <a:xfrm>
            <a:off x="3492360" y="2492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20000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5148360" y="2492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40000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8" descr=""/>
          <p:cNvPicPr/>
          <p:nvPr/>
        </p:nvPicPr>
        <p:blipFill>
          <a:blip r:embed="rId2"/>
          <a:stretch/>
        </p:blipFill>
        <p:spPr>
          <a:xfrm>
            <a:off x="2484360" y="3789360"/>
            <a:ext cx="4969080" cy="187308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9" descr=""/>
          <p:cNvPicPr/>
          <p:nvPr/>
        </p:nvPicPr>
        <p:blipFill>
          <a:blip r:embed="rId3"/>
          <a:stretch/>
        </p:blipFill>
        <p:spPr>
          <a:xfrm>
            <a:off x="395280" y="476280"/>
            <a:ext cx="2376360" cy="129060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7"/>
          <p:cNvSpPr/>
          <p:nvPr/>
        </p:nvSpPr>
        <p:spPr>
          <a:xfrm>
            <a:off x="5003640" y="3645000"/>
            <a:ext cx="18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楷体_GB2312"/>
              </a:rPr>
              <a:t>练习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10" descr="1"/>
          <p:cNvPicPr/>
          <p:nvPr/>
        </p:nvPicPr>
        <p:blipFill>
          <a:blip r:embed="rId1"/>
          <a:stretch/>
        </p:blipFill>
        <p:spPr>
          <a:xfrm rot="21540000">
            <a:off x="1042920" y="833040"/>
            <a:ext cx="6193080" cy="435456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楷体_GB2312"/>
              </a:rPr>
              <a:t>练习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4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6985080" cy="262116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5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2376360" cy="12906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6" descr=""/>
          <p:cNvPicPr/>
          <p:nvPr/>
        </p:nvPicPr>
        <p:blipFill>
          <a:blip r:embed="rId3"/>
          <a:stretch/>
        </p:blipFill>
        <p:spPr>
          <a:xfrm>
            <a:off x="6012000" y="3657600"/>
            <a:ext cx="295200" cy="276120"/>
          </a:xfrm>
          <a:prstGeom prst="rect">
            <a:avLst/>
          </a:prstGeom>
          <a:ln w="0">
            <a:noFill/>
          </a:ln>
        </p:spPr>
      </p:pic>
      <p:sp>
        <p:nvSpPr>
          <p:cNvPr id="667" name="AutoShape 8">
            <a:hlinkClick r:id="" action="ppaction://hlinkshowjump?jump=firstslide"/>
          </p:cNvPr>
          <p:cNvSpPr/>
          <p:nvPr/>
        </p:nvSpPr>
        <p:spPr>
          <a:xfrm>
            <a:off x="802800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12616" y="3837"/>
                </a:moveTo>
                <a:lnTo>
                  <a:pt x="15193" y="6448"/>
                </a:ln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lnTo>
                  <a:pt x="19579" y="10800"/>
                </a:lnTo>
                <a:lnTo>
                  <a:pt x="17926" y="10800"/>
                </a:lnTo>
                <a:lnTo>
                  <a:pt x="17926" y="17989"/>
                </a:lnTo>
                <a:lnTo>
                  <a:pt x="7307" y="17989"/>
                </a:lnTo>
                <a:lnTo>
                  <a:pt x="7307" y="10800"/>
                </a:lnTo>
                <a:lnTo>
                  <a:pt x="5654" y="10800"/>
                </a:lnTo>
                <a:close/>
              </a:path>
              <a:path fill="darkenLess" w="25233" h="21600">
                <a:moveTo>
                  <a:pt x="15193" y="6448"/>
                </a:move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close/>
              </a:path>
              <a:path fill="darkenLess" w="25233" h="21600">
                <a:moveTo>
                  <a:pt x="11694" y="14299"/>
                </a:moveTo>
                <a:lnTo>
                  <a:pt x="13539" y="14299"/>
                </a:lnTo>
                <a:lnTo>
                  <a:pt x="13539" y="17989"/>
                </a:lnTo>
                <a:lnTo>
                  <a:pt x="17926" y="17989"/>
                </a:lnTo>
                <a:lnTo>
                  <a:pt x="17926" y="10800"/>
                </a:lnTo>
                <a:lnTo>
                  <a:pt x="7307" y="10800"/>
                </a:lnTo>
                <a:lnTo>
                  <a:pt x="7307" y="17989"/>
                </a:lnTo>
                <a:lnTo>
                  <a:pt x="11694" y="17989"/>
                </a:lnTo>
                <a:close/>
              </a:path>
            </a:pathLst>
          </a:cu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楷体_GB2312"/>
              </a:rPr>
              <a:t>练习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AutoShape 10">
            <a:hlinkClick r:id="" action="ppaction://hlinkshowjump?jump=firstslide"/>
          </p:cNvPr>
          <p:cNvSpPr/>
          <p:nvPr/>
        </p:nvSpPr>
        <p:spPr>
          <a:xfrm>
            <a:off x="802800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12616" y="3837"/>
                </a:moveTo>
                <a:lnTo>
                  <a:pt x="15193" y="6448"/>
                </a:ln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lnTo>
                  <a:pt x="19579" y="10800"/>
                </a:lnTo>
                <a:lnTo>
                  <a:pt x="17926" y="10800"/>
                </a:lnTo>
                <a:lnTo>
                  <a:pt x="17926" y="17989"/>
                </a:lnTo>
                <a:lnTo>
                  <a:pt x="7307" y="17989"/>
                </a:lnTo>
                <a:lnTo>
                  <a:pt x="7307" y="10800"/>
                </a:lnTo>
                <a:lnTo>
                  <a:pt x="5654" y="10800"/>
                </a:lnTo>
                <a:close/>
              </a:path>
              <a:path fill="darkenLess" w="25233" h="21600">
                <a:moveTo>
                  <a:pt x="15193" y="6448"/>
                </a:move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close/>
              </a:path>
              <a:path fill="darkenLess" w="25233" h="21600">
                <a:moveTo>
                  <a:pt x="11694" y="14299"/>
                </a:moveTo>
                <a:lnTo>
                  <a:pt x="13539" y="14299"/>
                </a:lnTo>
                <a:lnTo>
                  <a:pt x="13539" y="17989"/>
                </a:lnTo>
                <a:lnTo>
                  <a:pt x="17926" y="17989"/>
                </a:lnTo>
                <a:lnTo>
                  <a:pt x="17926" y="10800"/>
                </a:lnTo>
                <a:lnTo>
                  <a:pt x="7307" y="10800"/>
                </a:lnTo>
                <a:lnTo>
                  <a:pt x="7307" y="17989"/>
                </a:lnTo>
                <a:lnTo>
                  <a:pt x="11694" y="17989"/>
                </a:lnTo>
                <a:close/>
              </a:path>
            </a:pathLst>
          </a:cu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11" descr=""/>
          <p:cNvPicPr/>
          <p:nvPr/>
        </p:nvPicPr>
        <p:blipFill>
          <a:blip r:embed="rId1"/>
          <a:stretch/>
        </p:blipFill>
        <p:spPr>
          <a:xfrm>
            <a:off x="755640" y="693720"/>
            <a:ext cx="6553080" cy="460692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楷体_GB2312"/>
              </a:rPr>
              <a:t>练习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4"/>
          <p:cNvSpPr/>
          <p:nvPr/>
        </p:nvSpPr>
        <p:spPr>
          <a:xfrm>
            <a:off x="826920" y="69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下面是</a:t>
            </a:r>
            <a:r>
              <a:rPr b="1" lang="en-US" sz="24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2000</a:t>
            </a:r>
            <a:r>
              <a:rPr b="1" lang="zh-CN" sz="24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年第五次全国人口普查的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2" descr="10"/>
          <p:cNvPicPr/>
          <p:nvPr/>
        </p:nvPicPr>
        <p:blipFill>
          <a:blip r:embed="rId1"/>
          <a:stretch/>
        </p:blipFill>
        <p:spPr>
          <a:xfrm>
            <a:off x="304920" y="1600200"/>
            <a:ext cx="2179440" cy="18050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3" descr="11"/>
          <p:cNvPicPr/>
          <p:nvPr/>
        </p:nvPicPr>
        <p:blipFill>
          <a:blip r:embed="rId2"/>
          <a:stretch/>
        </p:blipFill>
        <p:spPr>
          <a:xfrm>
            <a:off x="2771640" y="1628640"/>
            <a:ext cx="2181240" cy="18068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4" descr="6"/>
          <p:cNvPicPr/>
          <p:nvPr/>
        </p:nvPicPr>
        <p:blipFill>
          <a:blip r:embed="rId3"/>
          <a:stretch/>
        </p:blipFill>
        <p:spPr>
          <a:xfrm>
            <a:off x="250920" y="4221000"/>
            <a:ext cx="2279520" cy="18766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5" descr="7"/>
          <p:cNvPicPr/>
          <p:nvPr/>
        </p:nvPicPr>
        <p:blipFill>
          <a:blip r:embed="rId4"/>
          <a:stretch/>
        </p:blipFill>
        <p:spPr>
          <a:xfrm>
            <a:off x="2843280" y="4221000"/>
            <a:ext cx="2233440" cy="19940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6" descr="8"/>
          <p:cNvPicPr/>
          <p:nvPr/>
        </p:nvPicPr>
        <p:blipFill>
          <a:blip r:embed="rId5"/>
          <a:stretch/>
        </p:blipFill>
        <p:spPr>
          <a:xfrm>
            <a:off x="5364000" y="1628640"/>
            <a:ext cx="2181240" cy="18068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7" descr="9"/>
          <p:cNvPicPr/>
          <p:nvPr/>
        </p:nvPicPr>
        <p:blipFill>
          <a:blip r:embed="rId6"/>
          <a:stretch/>
        </p:blipFill>
        <p:spPr>
          <a:xfrm>
            <a:off x="5508720" y="4292640"/>
            <a:ext cx="2190600" cy="1873080"/>
          </a:xfrm>
          <a:prstGeom prst="rect">
            <a:avLst/>
          </a:prstGeom>
          <a:ln w="0">
            <a:noFill/>
          </a:ln>
        </p:spPr>
      </p:pic>
      <p:sp>
        <p:nvSpPr>
          <p:cNvPr id="552" name="AutoShape 19">
            <a:hlinkClick r:id="rId7" action="ppaction://hlinksldjump"/>
          </p:cNvPr>
          <p:cNvSpPr/>
          <p:nvPr/>
        </p:nvSpPr>
        <p:spPr>
          <a:xfrm>
            <a:off x="838836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4000" y="-103500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楷体_GB2312"/>
              </a:rPr>
              <a:t>认识整亿数</a:t>
            </a:r>
            <a:r>
              <a:rPr b="0" lang="en-US" sz="3600" spc="-1" strike="noStrike">
                <a:solidFill>
                  <a:srgbClr val="6600cc"/>
                </a:solidFill>
                <a:latin typeface="楷体_GB2312"/>
              </a:rPr>
              <a:t>_</a:t>
            </a:r>
            <a:r>
              <a:rPr b="0" lang="zh-CN" sz="3600" spc="-1" strike="noStrike">
                <a:solidFill>
                  <a:srgbClr val="6600cc"/>
                </a:solidFill>
                <a:latin typeface="楷体_GB2312"/>
              </a:rPr>
              <a:t>引入</a:t>
            </a:r>
            <a:r>
              <a:rPr b="0" lang="en-US" sz="3600" spc="-1" strike="noStrike">
                <a:solidFill>
                  <a:srgbClr val="6600cc"/>
                </a:solidFill>
                <a:latin typeface="楷体_GB2312"/>
              </a:rPr>
              <a:t>1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AutoShape 4"/>
          <p:cNvSpPr/>
          <p:nvPr/>
        </p:nvSpPr>
        <p:spPr>
          <a:xfrm>
            <a:off x="1136520" y="549360"/>
            <a:ext cx="6172200" cy="3352680"/>
          </a:xfrm>
          <a:prstGeom prst="irregularSeal1">
            <a:avLst/>
          </a:prstGeom>
          <a:solidFill>
            <a:srgbClr val="ffff99"/>
          </a:solidFill>
          <a:ln w="25560">
            <a:solidFill>
              <a:srgbClr val="ca36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方正少儿简体"/>
              </a:rPr>
              <a:t>我国总人口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方正少儿简体"/>
              </a:rPr>
              <a:t>1295330000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方正少儿简体"/>
              </a:rPr>
              <a:t>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1619280" y="42926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彩云"/>
                <a:ea typeface="华文彩云"/>
              </a:rPr>
              <a:t>这个数字你会读吗</a:t>
            </a:r>
            <a:r>
              <a:rPr b="1" lang="en-US" sz="3200" spc="-1" strike="noStrike">
                <a:solidFill>
                  <a:srgbClr val="000000"/>
                </a:solidFill>
                <a:latin typeface="华文彩云"/>
                <a:ea typeface="华文彩云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6">
            <a:hlinkClick r:id="" action="ppaction://hlinkshowjump?jump=firstslide"/>
          </p:cNvPr>
          <p:cNvSpPr/>
          <p:nvPr/>
        </p:nvSpPr>
        <p:spPr>
          <a:xfrm>
            <a:off x="8244000" y="6426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12627" y="3837"/>
                </a:moveTo>
                <a:lnTo>
                  <a:pt x="15203" y="6448"/>
                </a:lnTo>
                <a:lnTo>
                  <a:pt x="15203" y="4707"/>
                </a:lnTo>
                <a:lnTo>
                  <a:pt x="16979" y="4707"/>
                </a:lnTo>
                <a:lnTo>
                  <a:pt x="16979" y="8224"/>
                </a:lnTo>
                <a:lnTo>
                  <a:pt x="19590" y="10800"/>
                </a:lnTo>
                <a:lnTo>
                  <a:pt x="17936" y="10800"/>
                </a:lnTo>
                <a:lnTo>
                  <a:pt x="17936" y="17989"/>
                </a:lnTo>
                <a:lnTo>
                  <a:pt x="7318" y="17989"/>
                </a:lnTo>
                <a:lnTo>
                  <a:pt x="7318" y="10800"/>
                </a:lnTo>
                <a:lnTo>
                  <a:pt x="5664" y="10800"/>
                </a:lnTo>
                <a:close/>
              </a:path>
              <a:path fill="darkenLess" w="25254" h="21600">
                <a:moveTo>
                  <a:pt x="15203" y="6448"/>
                </a:moveTo>
                <a:lnTo>
                  <a:pt x="15203" y="4707"/>
                </a:lnTo>
                <a:lnTo>
                  <a:pt x="16979" y="4707"/>
                </a:lnTo>
                <a:lnTo>
                  <a:pt x="16979" y="8224"/>
                </a:lnTo>
                <a:close/>
              </a:path>
              <a:path fill="darkenLess" w="25254" h="21600">
                <a:moveTo>
                  <a:pt x="11704" y="14299"/>
                </a:moveTo>
                <a:lnTo>
                  <a:pt x="13550" y="14299"/>
                </a:lnTo>
                <a:lnTo>
                  <a:pt x="13550" y="17989"/>
                </a:lnTo>
                <a:lnTo>
                  <a:pt x="17936" y="17989"/>
                </a:lnTo>
                <a:lnTo>
                  <a:pt x="17936" y="10800"/>
                </a:lnTo>
                <a:lnTo>
                  <a:pt x="7318" y="10800"/>
                </a:lnTo>
                <a:lnTo>
                  <a:pt x="7318" y="17989"/>
                </a:lnTo>
                <a:lnTo>
                  <a:pt x="11704" y="17989"/>
                </a:lnTo>
                <a:close/>
              </a:path>
            </a:pathLst>
          </a:cu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-103500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楷体_GB2312"/>
              </a:rPr>
              <a:t>认识整亿数</a:t>
            </a:r>
            <a:r>
              <a:rPr b="0" lang="en-US" sz="3600" spc="-1" strike="noStrike">
                <a:solidFill>
                  <a:srgbClr val="6600cc"/>
                </a:solidFill>
                <a:latin typeface="楷体_GB2312"/>
              </a:rPr>
              <a:t>_</a:t>
            </a:r>
            <a:r>
              <a:rPr b="0" lang="zh-CN" sz="3600" spc="-1" strike="noStrike">
                <a:solidFill>
                  <a:srgbClr val="6600cc"/>
                </a:solidFill>
                <a:latin typeface="楷体_GB2312"/>
              </a:rPr>
              <a:t>引入</a:t>
            </a:r>
            <a:r>
              <a:rPr b="0" lang="en-US" sz="3600" spc="-1" strike="noStrike">
                <a:solidFill>
                  <a:srgbClr val="6600cc"/>
                </a:solidFill>
                <a:latin typeface="楷体_GB2312"/>
              </a:rPr>
              <a:t>2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AutoShape 11">
            <a:hlinkClick r:id="rId1" action="ppaction://hlinksldjump"/>
          </p:cNvPr>
          <p:cNvSpPr/>
          <p:nvPr/>
        </p:nvSpPr>
        <p:spPr>
          <a:xfrm>
            <a:off x="6084720" y="6308640"/>
            <a:ext cx="574920" cy="505080"/>
          </a:xfrm>
          <a:custGeom>
            <a:avLst/>
            <a:gdLst>
              <a:gd name="textAreaLeft" fmla="*/ 32400 w 574920"/>
              <a:gd name="textAreaRight" fmla="*/ 542520 w 574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4585" h="21600">
                <a:moveTo>
                  <a:pt x="0" y="0"/>
                </a:moveTo>
                <a:lnTo>
                  <a:pt x="24585" y="0"/>
                </a:lnTo>
                <a:lnTo>
                  <a:pt x="24585" y="21600"/>
                </a:lnTo>
                <a:lnTo>
                  <a:pt x="0" y="21600"/>
                </a:lnTo>
                <a:close/>
              </a:path>
              <a:path fill="lightenLess" w="24585" h="21600">
                <a:moveTo>
                  <a:pt x="0" y="0"/>
                </a:moveTo>
                <a:lnTo>
                  <a:pt x="24585" y="0"/>
                </a:lnTo>
                <a:lnTo>
                  <a:pt x="23185" y="1400"/>
                </a:lnTo>
                <a:lnTo>
                  <a:pt x="1400" y="1400"/>
                </a:lnTo>
                <a:close/>
              </a:path>
              <a:path fill="darken" w="24585" h="21600">
                <a:moveTo>
                  <a:pt x="24585" y="0"/>
                </a:moveTo>
                <a:lnTo>
                  <a:pt x="24585" y="21600"/>
                </a:lnTo>
                <a:lnTo>
                  <a:pt x="23185" y="20200"/>
                </a:lnTo>
                <a:lnTo>
                  <a:pt x="23185" y="1400"/>
                </a:lnTo>
                <a:close/>
              </a:path>
              <a:path fill="darkenLess" w="24585" h="21600">
                <a:moveTo>
                  <a:pt x="24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85" y="20200"/>
                </a:lnTo>
                <a:close/>
              </a:path>
              <a:path fill="lighten" w="24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12">
            <a:hlinkClick r:id="rId2" action="ppaction://hlinksldjump"/>
          </p:cNvPr>
          <p:cNvSpPr/>
          <p:nvPr/>
        </p:nvSpPr>
        <p:spPr>
          <a:xfrm>
            <a:off x="3924360" y="6297480"/>
            <a:ext cx="574560" cy="476280"/>
          </a:xfrm>
          <a:custGeom>
            <a:avLst/>
            <a:gdLst>
              <a:gd name="textAreaLeft" fmla="*/ 30600 w 574560"/>
              <a:gd name="textAreaRight" fmla="*/ 543960 w 5745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054" h="21600">
                <a:moveTo>
                  <a:pt x="0" y="0"/>
                </a:moveTo>
                <a:lnTo>
                  <a:pt x="26054" y="0"/>
                </a:lnTo>
                <a:lnTo>
                  <a:pt x="26054" y="21600"/>
                </a:lnTo>
                <a:lnTo>
                  <a:pt x="0" y="21600"/>
                </a:lnTo>
                <a:close/>
              </a:path>
              <a:path fill="lightenLess" w="26054" h="21600">
                <a:moveTo>
                  <a:pt x="0" y="0"/>
                </a:moveTo>
                <a:lnTo>
                  <a:pt x="26054" y="0"/>
                </a:lnTo>
                <a:lnTo>
                  <a:pt x="24654" y="1400"/>
                </a:lnTo>
                <a:lnTo>
                  <a:pt x="1400" y="1400"/>
                </a:lnTo>
                <a:close/>
              </a:path>
              <a:path fill="darken" w="26054" h="21600">
                <a:moveTo>
                  <a:pt x="26054" y="0"/>
                </a:moveTo>
                <a:lnTo>
                  <a:pt x="26054" y="21600"/>
                </a:lnTo>
                <a:lnTo>
                  <a:pt x="24654" y="20200"/>
                </a:lnTo>
                <a:lnTo>
                  <a:pt x="24654" y="1400"/>
                </a:lnTo>
                <a:close/>
              </a:path>
              <a:path fill="darkenLess" w="26054" h="21600">
                <a:moveTo>
                  <a:pt x="2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54" y="20200"/>
                </a:lnTo>
                <a:close/>
              </a:path>
              <a:path fill="lighten" w="2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13">
            <a:hlinkClick r:id="rId3" action="ppaction://hlinksldjump"/>
          </p:cNvPr>
          <p:cNvSpPr/>
          <p:nvPr/>
        </p:nvSpPr>
        <p:spPr>
          <a:xfrm>
            <a:off x="1474920" y="6308640"/>
            <a:ext cx="576000" cy="479520"/>
          </a:xfrm>
          <a:custGeom>
            <a:avLst/>
            <a:gdLst>
              <a:gd name="textAreaLeft" fmla="*/ 30960 w 576000"/>
              <a:gd name="textAreaRight" fmla="*/ 545040 w 576000"/>
              <a:gd name="textAreaTop" fmla="*/ 30960 h 479520"/>
              <a:gd name="textAreaBottom" fmla="*/ 448560 h 479520"/>
            </a:gdLst>
            <a:ahLst/>
            <a:rect l="textAreaLeft" t="textAreaTop" r="textAreaRight" b="textAreaBottom"/>
            <a:pathLst>
              <a:path w="25943" h="21600">
                <a:moveTo>
                  <a:pt x="0" y="0"/>
                </a:moveTo>
                <a:lnTo>
                  <a:pt x="25943" y="0"/>
                </a:lnTo>
                <a:lnTo>
                  <a:pt x="25943" y="21600"/>
                </a:lnTo>
                <a:lnTo>
                  <a:pt x="0" y="21600"/>
                </a:lnTo>
                <a:close/>
              </a:path>
              <a:path fill="lightenLess" w="25943" h="21600">
                <a:moveTo>
                  <a:pt x="0" y="0"/>
                </a:moveTo>
                <a:lnTo>
                  <a:pt x="25943" y="0"/>
                </a:lnTo>
                <a:lnTo>
                  <a:pt x="24543" y="1400"/>
                </a:lnTo>
                <a:lnTo>
                  <a:pt x="1400" y="1400"/>
                </a:lnTo>
                <a:close/>
              </a:path>
              <a:path fill="darken" w="25943" h="21600">
                <a:moveTo>
                  <a:pt x="25943" y="0"/>
                </a:moveTo>
                <a:lnTo>
                  <a:pt x="25943" y="21600"/>
                </a:lnTo>
                <a:lnTo>
                  <a:pt x="24543" y="20200"/>
                </a:lnTo>
                <a:lnTo>
                  <a:pt x="24543" y="1400"/>
                </a:lnTo>
                <a:close/>
              </a:path>
              <a:path fill="darkenLess" w="25943" h="21600">
                <a:moveTo>
                  <a:pt x="259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3" y="20200"/>
                </a:lnTo>
                <a:close/>
              </a:path>
              <a:path fill="lighten" w="259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15"/>
          <p:cNvSpPr/>
          <p:nvPr/>
        </p:nvSpPr>
        <p:spPr>
          <a:xfrm>
            <a:off x="826920" y="6021360"/>
            <a:ext cx="576360" cy="360360"/>
          </a:xfrm>
          <a:custGeom>
            <a:avLst/>
            <a:gdLst>
              <a:gd name="textAreaLeft" fmla="*/ 131400 w 576360"/>
              <a:gd name="textAreaRight" fmla="*/ 444960 w 576360"/>
              <a:gd name="textAreaTop" fmla="*/ 82080 h 360360"/>
              <a:gd name="textAreaBottom" fmla="*/ 278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9">
            <a:hlinkClick r:id="rId4" action="ppaction://hlinksldjump"/>
          </p:cNvPr>
          <p:cNvSpPr/>
          <p:nvPr/>
        </p:nvSpPr>
        <p:spPr>
          <a:xfrm>
            <a:off x="1425600" y="62485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21">
            <a:hlinkClick r:id="" action="ppaction://hlinkshowjump?jump=firstslide"/>
          </p:cNvPr>
          <p:cNvSpPr/>
          <p:nvPr/>
        </p:nvSpPr>
        <p:spPr>
          <a:xfrm>
            <a:off x="810108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12616" y="3837"/>
                </a:moveTo>
                <a:lnTo>
                  <a:pt x="15193" y="6448"/>
                </a:ln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lnTo>
                  <a:pt x="19579" y="10800"/>
                </a:lnTo>
                <a:lnTo>
                  <a:pt x="17926" y="10800"/>
                </a:lnTo>
                <a:lnTo>
                  <a:pt x="17926" y="17989"/>
                </a:lnTo>
                <a:lnTo>
                  <a:pt x="7307" y="17989"/>
                </a:lnTo>
                <a:lnTo>
                  <a:pt x="7307" y="10800"/>
                </a:lnTo>
                <a:lnTo>
                  <a:pt x="5654" y="10800"/>
                </a:lnTo>
                <a:close/>
              </a:path>
              <a:path fill="darkenLess" w="25233" h="21600">
                <a:moveTo>
                  <a:pt x="15193" y="6448"/>
                </a:move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close/>
              </a:path>
              <a:path fill="darkenLess" w="25233" h="21600">
                <a:moveTo>
                  <a:pt x="11694" y="14299"/>
                </a:moveTo>
                <a:lnTo>
                  <a:pt x="13539" y="14299"/>
                </a:lnTo>
                <a:lnTo>
                  <a:pt x="13539" y="17989"/>
                </a:lnTo>
                <a:lnTo>
                  <a:pt x="17926" y="17989"/>
                </a:lnTo>
                <a:lnTo>
                  <a:pt x="17926" y="10800"/>
                </a:lnTo>
                <a:lnTo>
                  <a:pt x="7307" y="10800"/>
                </a:lnTo>
                <a:lnTo>
                  <a:pt x="7307" y="17989"/>
                </a:lnTo>
                <a:lnTo>
                  <a:pt x="11694" y="17989"/>
                </a:lnTo>
                <a:close/>
              </a:path>
            </a:pathLst>
          </a:cu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22">
            <a:hlinkClick r:id="rId5" action="ppaction://hlinksldjump"/>
          </p:cNvPr>
          <p:cNvSpPr/>
          <p:nvPr/>
        </p:nvSpPr>
        <p:spPr>
          <a:xfrm>
            <a:off x="3862440" y="6272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23">
            <a:hlinkClick r:id="rId6" action="ppaction://hlinksldjump"/>
          </p:cNvPr>
          <p:cNvSpPr/>
          <p:nvPr/>
        </p:nvSpPr>
        <p:spPr>
          <a:xfrm>
            <a:off x="6051600" y="62485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24" descr=""/>
          <p:cNvPicPr/>
          <p:nvPr/>
        </p:nvPicPr>
        <p:blipFill>
          <a:blip r:embed="rId7"/>
          <a:stretch/>
        </p:blipFill>
        <p:spPr>
          <a:xfrm>
            <a:off x="34920" y="333360"/>
            <a:ext cx="7416720" cy="254952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25"/>
          <p:cNvSpPr/>
          <p:nvPr/>
        </p:nvSpPr>
        <p:spPr>
          <a:xfrm>
            <a:off x="3203640" y="314172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华文新魏"/>
              </a:rPr>
              <a:t>亿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9640" y="-96372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楷体_GB2312"/>
              </a:rPr>
              <a:t>长示例题引出</a:t>
            </a:r>
            <a:r>
              <a:rPr b="0" lang="zh-CN" sz="3600" spc="-1" strike="noStrike">
                <a:solidFill>
                  <a:srgbClr val="6600cc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6600cc"/>
                </a:solidFill>
                <a:latin typeface="楷体_GB2312"/>
              </a:rPr>
              <a:t>亿</a:t>
            </a:r>
            <a:r>
              <a:rPr b="0" lang="zh-CN" sz="3600" spc="-1" strike="noStrike">
                <a:solidFill>
                  <a:srgbClr val="6600cc"/>
                </a:solidFill>
                <a:latin typeface="Times New Roman"/>
              </a:rPr>
              <a:t>”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AutoShape 2050"/>
          <p:cNvSpPr/>
          <p:nvPr/>
        </p:nvSpPr>
        <p:spPr>
          <a:xfrm>
            <a:off x="6084720" y="6308640"/>
            <a:ext cx="574920" cy="505080"/>
          </a:xfrm>
          <a:custGeom>
            <a:avLst/>
            <a:gdLst>
              <a:gd name="textAreaLeft" fmla="*/ 32400 w 574920"/>
              <a:gd name="textAreaRight" fmla="*/ 542520 w 574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4585" h="21600">
                <a:moveTo>
                  <a:pt x="0" y="0"/>
                </a:moveTo>
                <a:lnTo>
                  <a:pt x="24585" y="0"/>
                </a:lnTo>
                <a:lnTo>
                  <a:pt x="24585" y="21600"/>
                </a:lnTo>
                <a:lnTo>
                  <a:pt x="0" y="21600"/>
                </a:lnTo>
                <a:close/>
              </a:path>
              <a:path fill="lightenLess" w="24585" h="21600">
                <a:moveTo>
                  <a:pt x="0" y="0"/>
                </a:moveTo>
                <a:lnTo>
                  <a:pt x="24585" y="0"/>
                </a:lnTo>
                <a:lnTo>
                  <a:pt x="23185" y="1400"/>
                </a:lnTo>
                <a:lnTo>
                  <a:pt x="1400" y="1400"/>
                </a:lnTo>
                <a:close/>
              </a:path>
              <a:path fill="darken" w="24585" h="21600">
                <a:moveTo>
                  <a:pt x="24585" y="0"/>
                </a:moveTo>
                <a:lnTo>
                  <a:pt x="24585" y="21600"/>
                </a:lnTo>
                <a:lnTo>
                  <a:pt x="23185" y="20200"/>
                </a:lnTo>
                <a:lnTo>
                  <a:pt x="23185" y="1400"/>
                </a:lnTo>
                <a:close/>
              </a:path>
              <a:path fill="darkenLess" w="24585" h="21600">
                <a:moveTo>
                  <a:pt x="24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85" y="20200"/>
                </a:lnTo>
                <a:close/>
              </a:path>
              <a:path fill="lighten" w="24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2051"/>
          <p:cNvSpPr/>
          <p:nvPr/>
        </p:nvSpPr>
        <p:spPr>
          <a:xfrm>
            <a:off x="3924360" y="6297480"/>
            <a:ext cx="574560" cy="476280"/>
          </a:xfrm>
          <a:custGeom>
            <a:avLst/>
            <a:gdLst>
              <a:gd name="textAreaLeft" fmla="*/ 30600 w 574560"/>
              <a:gd name="textAreaRight" fmla="*/ 543960 w 5745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054" h="21600">
                <a:moveTo>
                  <a:pt x="0" y="0"/>
                </a:moveTo>
                <a:lnTo>
                  <a:pt x="26054" y="0"/>
                </a:lnTo>
                <a:lnTo>
                  <a:pt x="26054" y="21600"/>
                </a:lnTo>
                <a:lnTo>
                  <a:pt x="0" y="21600"/>
                </a:lnTo>
                <a:close/>
              </a:path>
              <a:path fill="lightenLess" w="26054" h="21600">
                <a:moveTo>
                  <a:pt x="0" y="0"/>
                </a:moveTo>
                <a:lnTo>
                  <a:pt x="26054" y="0"/>
                </a:lnTo>
                <a:lnTo>
                  <a:pt x="24654" y="1400"/>
                </a:lnTo>
                <a:lnTo>
                  <a:pt x="1400" y="1400"/>
                </a:lnTo>
                <a:close/>
              </a:path>
              <a:path fill="darken" w="26054" h="21600">
                <a:moveTo>
                  <a:pt x="26054" y="0"/>
                </a:moveTo>
                <a:lnTo>
                  <a:pt x="26054" y="21600"/>
                </a:lnTo>
                <a:lnTo>
                  <a:pt x="24654" y="20200"/>
                </a:lnTo>
                <a:lnTo>
                  <a:pt x="24654" y="1400"/>
                </a:lnTo>
                <a:close/>
              </a:path>
              <a:path fill="darkenLess" w="26054" h="21600">
                <a:moveTo>
                  <a:pt x="2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54" y="20200"/>
                </a:lnTo>
                <a:close/>
              </a:path>
              <a:path fill="lighten" w="2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2052"/>
          <p:cNvSpPr/>
          <p:nvPr/>
        </p:nvSpPr>
        <p:spPr>
          <a:xfrm>
            <a:off x="1474920" y="6308640"/>
            <a:ext cx="576000" cy="479520"/>
          </a:xfrm>
          <a:custGeom>
            <a:avLst/>
            <a:gdLst>
              <a:gd name="textAreaLeft" fmla="*/ 30960 w 576000"/>
              <a:gd name="textAreaRight" fmla="*/ 545040 w 576000"/>
              <a:gd name="textAreaTop" fmla="*/ 30960 h 479520"/>
              <a:gd name="textAreaBottom" fmla="*/ 448560 h 479520"/>
            </a:gdLst>
            <a:ahLst/>
            <a:rect l="textAreaLeft" t="textAreaTop" r="textAreaRight" b="textAreaBottom"/>
            <a:pathLst>
              <a:path w="25943" h="21600">
                <a:moveTo>
                  <a:pt x="0" y="0"/>
                </a:moveTo>
                <a:lnTo>
                  <a:pt x="25943" y="0"/>
                </a:lnTo>
                <a:lnTo>
                  <a:pt x="25943" y="21600"/>
                </a:lnTo>
                <a:lnTo>
                  <a:pt x="0" y="21600"/>
                </a:lnTo>
                <a:close/>
              </a:path>
              <a:path fill="lightenLess" w="25943" h="21600">
                <a:moveTo>
                  <a:pt x="0" y="0"/>
                </a:moveTo>
                <a:lnTo>
                  <a:pt x="25943" y="0"/>
                </a:lnTo>
                <a:lnTo>
                  <a:pt x="24543" y="1400"/>
                </a:lnTo>
                <a:lnTo>
                  <a:pt x="1400" y="1400"/>
                </a:lnTo>
                <a:close/>
              </a:path>
              <a:path fill="darken" w="25943" h="21600">
                <a:moveTo>
                  <a:pt x="25943" y="0"/>
                </a:moveTo>
                <a:lnTo>
                  <a:pt x="25943" y="21600"/>
                </a:lnTo>
                <a:lnTo>
                  <a:pt x="24543" y="20200"/>
                </a:lnTo>
                <a:lnTo>
                  <a:pt x="24543" y="1400"/>
                </a:lnTo>
                <a:close/>
              </a:path>
              <a:path fill="darkenLess" w="25943" h="21600">
                <a:moveTo>
                  <a:pt x="259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3" y="20200"/>
                </a:lnTo>
                <a:close/>
              </a:path>
              <a:path fill="lighten" w="259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2053"/>
          <p:cNvSpPr/>
          <p:nvPr/>
        </p:nvSpPr>
        <p:spPr>
          <a:xfrm>
            <a:off x="826920" y="6021360"/>
            <a:ext cx="576360" cy="360360"/>
          </a:xfrm>
          <a:custGeom>
            <a:avLst/>
            <a:gdLst>
              <a:gd name="textAreaLeft" fmla="*/ 131400 w 576360"/>
              <a:gd name="textAreaRight" fmla="*/ 444960 w 576360"/>
              <a:gd name="textAreaTop" fmla="*/ 82080 h 360360"/>
              <a:gd name="textAreaBottom" fmla="*/ 278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054"/>
          <p:cNvSpPr/>
          <p:nvPr/>
        </p:nvSpPr>
        <p:spPr>
          <a:xfrm>
            <a:off x="1425600" y="62485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2055">
            <a:hlinkClick r:id="" action="ppaction://hlinkshowjump?jump=firstslide"/>
          </p:cNvPr>
          <p:cNvSpPr/>
          <p:nvPr/>
        </p:nvSpPr>
        <p:spPr>
          <a:xfrm>
            <a:off x="810108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12616" y="3837"/>
                </a:moveTo>
                <a:lnTo>
                  <a:pt x="15193" y="6448"/>
                </a:ln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lnTo>
                  <a:pt x="19579" y="10800"/>
                </a:lnTo>
                <a:lnTo>
                  <a:pt x="17926" y="10800"/>
                </a:lnTo>
                <a:lnTo>
                  <a:pt x="17926" y="17989"/>
                </a:lnTo>
                <a:lnTo>
                  <a:pt x="7307" y="17989"/>
                </a:lnTo>
                <a:lnTo>
                  <a:pt x="7307" y="10800"/>
                </a:lnTo>
                <a:lnTo>
                  <a:pt x="5654" y="10800"/>
                </a:lnTo>
                <a:close/>
              </a:path>
              <a:path fill="darkenLess" w="25233" h="21600">
                <a:moveTo>
                  <a:pt x="15193" y="6448"/>
                </a:move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close/>
              </a:path>
              <a:path fill="darkenLess" w="25233" h="21600">
                <a:moveTo>
                  <a:pt x="11694" y="14299"/>
                </a:moveTo>
                <a:lnTo>
                  <a:pt x="13539" y="14299"/>
                </a:lnTo>
                <a:lnTo>
                  <a:pt x="13539" y="17989"/>
                </a:lnTo>
                <a:lnTo>
                  <a:pt x="17926" y="17989"/>
                </a:lnTo>
                <a:lnTo>
                  <a:pt x="17926" y="10800"/>
                </a:lnTo>
                <a:lnTo>
                  <a:pt x="7307" y="10800"/>
                </a:lnTo>
                <a:lnTo>
                  <a:pt x="7307" y="17989"/>
                </a:lnTo>
                <a:lnTo>
                  <a:pt x="11694" y="17989"/>
                </a:lnTo>
                <a:close/>
              </a:path>
            </a:pathLst>
          </a:cu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2056"/>
          <p:cNvSpPr/>
          <p:nvPr/>
        </p:nvSpPr>
        <p:spPr>
          <a:xfrm>
            <a:off x="3862440" y="6272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057"/>
          <p:cNvSpPr/>
          <p:nvPr/>
        </p:nvSpPr>
        <p:spPr>
          <a:xfrm>
            <a:off x="6051600" y="62485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2058" descr=""/>
          <p:cNvPicPr/>
          <p:nvPr/>
        </p:nvPicPr>
        <p:blipFill>
          <a:blip r:embed="rId1"/>
          <a:stretch/>
        </p:blipFill>
        <p:spPr>
          <a:xfrm>
            <a:off x="34920" y="333360"/>
            <a:ext cx="7416720" cy="2549520"/>
          </a:xfrm>
          <a:prstGeom prst="rect">
            <a:avLst/>
          </a:prstGeom>
          <a:ln w="0">
            <a:noFill/>
          </a:ln>
        </p:spPr>
      </p:pic>
      <p:grpSp>
        <p:nvGrpSpPr>
          <p:cNvPr id="578" name="Group 2060"/>
          <p:cNvGrpSpPr/>
          <p:nvPr/>
        </p:nvGrpSpPr>
        <p:grpSpPr>
          <a:xfrm>
            <a:off x="1116000" y="3213000"/>
            <a:ext cx="6003720" cy="2087280"/>
            <a:chOff x="1116000" y="3213000"/>
            <a:chExt cx="6003720" cy="2087280"/>
          </a:xfrm>
        </p:grpSpPr>
        <p:sp>
          <p:nvSpPr>
            <p:cNvPr id="579" name="AutoShape 2061"/>
            <p:cNvSpPr/>
            <p:nvPr/>
          </p:nvSpPr>
          <p:spPr>
            <a:xfrm>
              <a:off x="1116000" y="3213000"/>
              <a:ext cx="4681440" cy="1008000"/>
            </a:xfrm>
            <a:prstGeom prst="cloudCallout">
              <a:avLst>
                <a:gd name="adj1" fmla="val 53560"/>
                <a:gd name="adj2" fmla="val 78504"/>
              </a:avLst>
            </a:prstGeom>
            <a:gradFill rotWithShape="0">
              <a:gsLst>
                <a:gs pos="0">
                  <a:srgbClr val="6600ff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九亿、十七亿、三百五十四亿是多少？怎么写呢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0" name="Picture 2062" descr=""/>
            <p:cNvPicPr/>
            <p:nvPr/>
          </p:nvPicPr>
          <p:blipFill>
            <a:blip r:embed="rId2"/>
            <a:stretch/>
          </p:blipFill>
          <p:spPr>
            <a:xfrm>
              <a:off x="6156360" y="4313160"/>
              <a:ext cx="963360" cy="98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-1179360"/>
            <a:ext cx="7128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cc"/>
                </a:solidFill>
                <a:latin typeface="楷体_GB2312"/>
              </a:rPr>
              <a:t>提出问题</a:t>
            </a:r>
            <a:br>
              <a:rPr sz="3200"/>
            </a:br>
            <a:endParaRPr b="1" lang="en-US" sz="3200" spc="-1" strike="noStrike">
              <a:solidFill>
                <a:srgbClr val="6600cc"/>
              </a:solidFill>
              <a:latin typeface="楷体_GB2312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AutoShape 19"/>
          <p:cNvSpPr/>
          <p:nvPr/>
        </p:nvSpPr>
        <p:spPr>
          <a:xfrm>
            <a:off x="824400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22">
            <a:hlinkClick r:id="" action="ppaction://hlinkshowjump?jump=firstslide"/>
          </p:cNvPr>
          <p:cNvSpPr/>
          <p:nvPr/>
        </p:nvSpPr>
        <p:spPr>
          <a:xfrm>
            <a:off x="179280" y="623736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72" h="21600">
                <a:moveTo>
                  <a:pt x="12636" y="3837"/>
                </a:moveTo>
                <a:lnTo>
                  <a:pt x="15212" y="6448"/>
                </a:lnTo>
                <a:lnTo>
                  <a:pt x="15212" y="4707"/>
                </a:lnTo>
                <a:lnTo>
                  <a:pt x="16988" y="4707"/>
                </a:lnTo>
                <a:lnTo>
                  <a:pt x="16988" y="8224"/>
                </a:lnTo>
                <a:lnTo>
                  <a:pt x="19599" y="10800"/>
                </a:lnTo>
                <a:lnTo>
                  <a:pt x="17945" y="10800"/>
                </a:lnTo>
                <a:lnTo>
                  <a:pt x="17945" y="17989"/>
                </a:lnTo>
                <a:lnTo>
                  <a:pt x="7327" y="17989"/>
                </a:lnTo>
                <a:lnTo>
                  <a:pt x="7327" y="10800"/>
                </a:lnTo>
                <a:lnTo>
                  <a:pt x="5673" y="10800"/>
                </a:lnTo>
                <a:close/>
              </a:path>
              <a:path fill="darkenLess" w="25272" h="21600">
                <a:moveTo>
                  <a:pt x="15212" y="6448"/>
                </a:moveTo>
                <a:lnTo>
                  <a:pt x="15212" y="4707"/>
                </a:lnTo>
                <a:lnTo>
                  <a:pt x="16988" y="4707"/>
                </a:lnTo>
                <a:lnTo>
                  <a:pt x="16988" y="8224"/>
                </a:lnTo>
                <a:close/>
              </a:path>
              <a:path fill="darkenLess" w="25272" h="21600">
                <a:moveTo>
                  <a:pt x="11713" y="14299"/>
                </a:moveTo>
                <a:lnTo>
                  <a:pt x="13559" y="14299"/>
                </a:lnTo>
                <a:lnTo>
                  <a:pt x="13559" y="17989"/>
                </a:lnTo>
                <a:lnTo>
                  <a:pt x="17945" y="17989"/>
                </a:lnTo>
                <a:lnTo>
                  <a:pt x="17945" y="10800"/>
                </a:lnTo>
                <a:lnTo>
                  <a:pt x="7327" y="10800"/>
                </a:lnTo>
                <a:lnTo>
                  <a:pt x="7327" y="17989"/>
                </a:lnTo>
                <a:lnTo>
                  <a:pt x="11713" y="17989"/>
                </a:lnTo>
                <a:close/>
              </a:path>
            </a:pathLst>
          </a:cu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24"/>
          <p:cNvSpPr/>
          <p:nvPr/>
        </p:nvSpPr>
        <p:spPr>
          <a:xfrm>
            <a:off x="311040" y="140976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千万一千万地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一千万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26"/>
          <p:cNvSpPr/>
          <p:nvPr/>
        </p:nvSpPr>
        <p:spPr>
          <a:xfrm>
            <a:off x="468360" y="227664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一亿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十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27"/>
          <p:cNvSpPr/>
          <p:nvPr/>
        </p:nvSpPr>
        <p:spPr>
          <a:xfrm>
            <a:off x="900000" y="436248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一百亿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千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28"/>
          <p:cNvSpPr/>
          <p:nvPr/>
        </p:nvSpPr>
        <p:spPr>
          <a:xfrm>
            <a:off x="684360" y="335448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十亿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百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cc"/>
                </a:solidFill>
                <a:latin typeface="楷体_GB2312"/>
              </a:rPr>
              <a:t>对照数位顺序表写数</a:t>
            </a:r>
            <a:br>
              <a:rPr sz="3200"/>
            </a:br>
            <a:endParaRPr b="1" lang="en-US" sz="3200" spc="-1" strike="noStrike">
              <a:solidFill>
                <a:srgbClr val="6600cc"/>
              </a:solidFill>
              <a:latin typeface="楷体_GB2312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utoShape 21"/>
          <p:cNvSpPr/>
          <p:nvPr/>
        </p:nvSpPr>
        <p:spPr>
          <a:xfrm>
            <a:off x="7885080" y="623736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10800"/>
                </a:moveTo>
                <a:lnTo>
                  <a:pt x="17815" y="3794"/>
                </a:lnTo>
                <a:lnTo>
                  <a:pt x="17815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22"/>
          <p:cNvSpPr/>
          <p:nvPr/>
        </p:nvSpPr>
        <p:spPr>
          <a:xfrm>
            <a:off x="8459640" y="6237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3839" y="3794"/>
                </a:moveTo>
                <a:lnTo>
                  <a:pt x="17851" y="10800"/>
                </a:lnTo>
                <a:lnTo>
                  <a:pt x="3839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31">
            <a:hlinkClick r:id="" action="ppaction://hlinkshowjump?jump=firstslide"/>
          </p:cNvPr>
          <p:cNvSpPr/>
          <p:nvPr/>
        </p:nvSpPr>
        <p:spPr>
          <a:xfrm>
            <a:off x="179280" y="623736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72" h="21600">
                <a:moveTo>
                  <a:pt x="12636" y="3837"/>
                </a:moveTo>
                <a:lnTo>
                  <a:pt x="15212" y="6448"/>
                </a:lnTo>
                <a:lnTo>
                  <a:pt x="15212" y="4707"/>
                </a:lnTo>
                <a:lnTo>
                  <a:pt x="16988" y="4707"/>
                </a:lnTo>
                <a:lnTo>
                  <a:pt x="16988" y="8224"/>
                </a:lnTo>
                <a:lnTo>
                  <a:pt x="19599" y="10800"/>
                </a:lnTo>
                <a:lnTo>
                  <a:pt x="17945" y="10800"/>
                </a:lnTo>
                <a:lnTo>
                  <a:pt x="17945" y="17989"/>
                </a:lnTo>
                <a:lnTo>
                  <a:pt x="7327" y="17989"/>
                </a:lnTo>
                <a:lnTo>
                  <a:pt x="7327" y="10800"/>
                </a:lnTo>
                <a:lnTo>
                  <a:pt x="5673" y="10800"/>
                </a:lnTo>
                <a:close/>
              </a:path>
              <a:path fill="darkenLess" w="25272" h="21600">
                <a:moveTo>
                  <a:pt x="15212" y="6448"/>
                </a:moveTo>
                <a:lnTo>
                  <a:pt x="15212" y="4707"/>
                </a:lnTo>
                <a:lnTo>
                  <a:pt x="16988" y="4707"/>
                </a:lnTo>
                <a:lnTo>
                  <a:pt x="16988" y="8224"/>
                </a:lnTo>
                <a:close/>
              </a:path>
              <a:path fill="darkenLess" w="25272" h="21600">
                <a:moveTo>
                  <a:pt x="11713" y="14299"/>
                </a:moveTo>
                <a:lnTo>
                  <a:pt x="13559" y="14299"/>
                </a:lnTo>
                <a:lnTo>
                  <a:pt x="13559" y="17989"/>
                </a:lnTo>
                <a:lnTo>
                  <a:pt x="17945" y="17989"/>
                </a:lnTo>
                <a:lnTo>
                  <a:pt x="17945" y="10800"/>
                </a:lnTo>
                <a:lnTo>
                  <a:pt x="7327" y="10800"/>
                </a:lnTo>
                <a:lnTo>
                  <a:pt x="7327" y="17989"/>
                </a:lnTo>
                <a:lnTo>
                  <a:pt x="11713" y="17989"/>
                </a:lnTo>
                <a:close/>
              </a:path>
            </a:pathLst>
          </a:cu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34"/>
          <p:cNvSpPr/>
          <p:nvPr/>
        </p:nvSpPr>
        <p:spPr>
          <a:xfrm>
            <a:off x="179280" y="3068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九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35"/>
          <p:cNvSpPr/>
          <p:nvPr/>
        </p:nvSpPr>
        <p:spPr>
          <a:xfrm>
            <a:off x="179280" y="36925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十七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36"/>
          <p:cNvSpPr/>
          <p:nvPr/>
        </p:nvSpPr>
        <p:spPr>
          <a:xfrm>
            <a:off x="179280" y="4365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百五十四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39"/>
          <p:cNvSpPr/>
          <p:nvPr/>
        </p:nvSpPr>
        <p:spPr>
          <a:xfrm>
            <a:off x="1911960" y="1916280"/>
            <a:ext cx="485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千 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40"/>
          <p:cNvSpPr/>
          <p:nvPr/>
        </p:nvSpPr>
        <p:spPr>
          <a:xfrm>
            <a:off x="2487960" y="1916280"/>
            <a:ext cx="485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百 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41"/>
          <p:cNvSpPr/>
          <p:nvPr/>
        </p:nvSpPr>
        <p:spPr>
          <a:xfrm>
            <a:off x="3150000" y="1916280"/>
            <a:ext cx="485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十 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42"/>
          <p:cNvSpPr/>
          <p:nvPr/>
        </p:nvSpPr>
        <p:spPr>
          <a:xfrm>
            <a:off x="3772440" y="1844640"/>
            <a:ext cx="485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4"/>
          <p:cNvSpPr/>
          <p:nvPr/>
        </p:nvSpPr>
        <p:spPr>
          <a:xfrm>
            <a:off x="3772440" y="979560"/>
            <a:ext cx="485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亿  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45"/>
          <p:cNvSpPr/>
          <p:nvPr/>
        </p:nvSpPr>
        <p:spPr>
          <a:xfrm>
            <a:off x="2183040" y="1052640"/>
            <a:ext cx="7902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百 亿 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46"/>
          <p:cNvSpPr/>
          <p:nvPr/>
        </p:nvSpPr>
        <p:spPr>
          <a:xfrm>
            <a:off x="3150000" y="765000"/>
            <a:ext cx="4852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十 亿 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47"/>
          <p:cNvSpPr/>
          <p:nvPr/>
        </p:nvSpPr>
        <p:spPr>
          <a:xfrm>
            <a:off x="1594080" y="1052640"/>
            <a:ext cx="7902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千 亿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48"/>
          <p:cNvSpPr/>
          <p:nvPr/>
        </p:nvSpPr>
        <p:spPr>
          <a:xfrm>
            <a:off x="2050920" y="47628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亿    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4187880" y="476280"/>
          <a:ext cx="3624120" cy="2355840"/>
        </p:xfrm>
        <a:graphic>
          <a:graphicData uri="http://schemas.openxmlformats.org/drawingml/2006/table">
            <a:tbl>
              <a:tblPr/>
              <a:tblGrid>
                <a:gridCol w="515880"/>
                <a:gridCol w="420840"/>
                <a:gridCol w="466560"/>
                <a:gridCol w="444600"/>
                <a:gridCol w="444240"/>
                <a:gridCol w="444600"/>
                <a:gridCol w="443160"/>
                <a:gridCol w="444240"/>
              </a:tblGrid>
              <a:tr h="643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  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  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千万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百万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十万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千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百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十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千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百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十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5" name="Text Box 144"/>
          <p:cNvSpPr/>
          <p:nvPr/>
        </p:nvSpPr>
        <p:spPr>
          <a:xfrm>
            <a:off x="3780000" y="2997360"/>
            <a:ext cx="4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54"/>
          <p:cNvSpPr/>
          <p:nvPr/>
        </p:nvSpPr>
        <p:spPr>
          <a:xfrm>
            <a:off x="4211640" y="299736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0   0  0   0   0   0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55"/>
          <p:cNvSpPr/>
          <p:nvPr/>
        </p:nvSpPr>
        <p:spPr>
          <a:xfrm>
            <a:off x="3132000" y="37162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56"/>
          <p:cNvSpPr/>
          <p:nvPr/>
        </p:nvSpPr>
        <p:spPr>
          <a:xfrm>
            <a:off x="4211640" y="370188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0   0  0   0   0   0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57"/>
          <p:cNvSpPr/>
          <p:nvPr/>
        </p:nvSpPr>
        <p:spPr>
          <a:xfrm>
            <a:off x="2556000" y="4437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58"/>
          <p:cNvSpPr/>
          <p:nvPr/>
        </p:nvSpPr>
        <p:spPr>
          <a:xfrm>
            <a:off x="4211640" y="442260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0   0  0   0   0   0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60"/>
          <p:cNvSpPr/>
          <p:nvPr/>
        </p:nvSpPr>
        <p:spPr>
          <a:xfrm>
            <a:off x="3708360" y="37018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61"/>
          <p:cNvSpPr/>
          <p:nvPr/>
        </p:nvSpPr>
        <p:spPr>
          <a:xfrm>
            <a:off x="3708360" y="44226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62"/>
          <p:cNvSpPr/>
          <p:nvPr/>
        </p:nvSpPr>
        <p:spPr>
          <a:xfrm>
            <a:off x="3203640" y="442260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165"/>
          <p:cNvGrpSpPr/>
          <p:nvPr/>
        </p:nvGrpSpPr>
        <p:grpSpPr>
          <a:xfrm>
            <a:off x="4211640" y="476280"/>
            <a:ext cx="1800360" cy="4797360"/>
            <a:chOff x="4211640" y="476280"/>
            <a:chExt cx="1800360" cy="4797360"/>
          </a:xfrm>
        </p:grpSpPr>
        <p:sp>
          <p:nvSpPr>
            <p:cNvPr id="615" name="Line 163"/>
            <p:cNvSpPr/>
            <p:nvPr/>
          </p:nvSpPr>
          <p:spPr>
            <a:xfrm>
              <a:off x="4211640" y="476280"/>
              <a:ext cx="0" cy="4724280"/>
            </a:xfrm>
            <a:prstGeom prst="line">
              <a:avLst/>
            </a:prstGeom>
            <a:ln cap="rnd" w="93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164"/>
            <p:cNvSpPr/>
            <p:nvPr/>
          </p:nvSpPr>
          <p:spPr>
            <a:xfrm>
              <a:off x="6012000" y="549360"/>
              <a:ext cx="0" cy="4724280"/>
            </a:xfrm>
            <a:prstGeom prst="line">
              <a:avLst/>
            </a:prstGeom>
            <a:ln cap="rnd" w="93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cc"/>
                </a:solidFill>
                <a:latin typeface="楷体_GB2312"/>
              </a:rPr>
              <a:t>认识十进制计数法</a:t>
            </a:r>
            <a:br>
              <a:rPr sz="3200"/>
            </a:br>
            <a:endParaRPr b="1" lang="en-US" sz="3200" spc="-1" strike="noStrike">
              <a:solidFill>
                <a:srgbClr val="6600cc"/>
              </a:solidFill>
              <a:latin typeface="楷体_GB2312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31"/>
          <p:cNvSpPr/>
          <p:nvPr/>
        </p:nvSpPr>
        <p:spPr>
          <a:xfrm>
            <a:off x="900000" y="1484280"/>
            <a:ext cx="53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32" descr=""/>
          <p:cNvPicPr/>
          <p:nvPr/>
        </p:nvPicPr>
        <p:blipFill>
          <a:blip r:embed="rId1"/>
          <a:stretch/>
        </p:blipFill>
        <p:spPr>
          <a:xfrm>
            <a:off x="6012000" y="692280"/>
            <a:ext cx="1050840" cy="115092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33"/>
          <p:cNvSpPr/>
          <p:nvPr/>
        </p:nvSpPr>
        <p:spPr>
          <a:xfrm>
            <a:off x="1258920" y="2852640"/>
            <a:ext cx="53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像这样每相邻两个计数单位之间的进率都是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计数方法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叫做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十进制计数法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34"/>
          <p:cNvSpPr/>
          <p:nvPr/>
        </p:nvSpPr>
        <p:spPr>
          <a:xfrm>
            <a:off x="1403280" y="404640"/>
            <a:ext cx="3384720" cy="1008360"/>
          </a:xfrm>
          <a:prstGeom prst="cloudCallout">
            <a:avLst>
              <a:gd name="adj1" fmla="val 75467"/>
              <a:gd name="adj2" fmla="val 38504"/>
            </a:avLst>
          </a:prstGeom>
          <a:solidFill>
            <a:srgbClr val="eeb0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每相邻两个计数单位之间有什么关系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35"/>
          <p:cNvSpPr/>
          <p:nvPr/>
        </p:nvSpPr>
        <p:spPr>
          <a:xfrm>
            <a:off x="8172360" y="623736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10800"/>
                </a:moveTo>
                <a:lnTo>
                  <a:pt x="17815" y="3794"/>
                </a:lnTo>
                <a:lnTo>
                  <a:pt x="17815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楷体_GB2312"/>
              </a:rPr>
              <a:t>练习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4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6912000" cy="10494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5" descr=""/>
          <p:cNvPicPr/>
          <p:nvPr/>
        </p:nvPicPr>
        <p:blipFill>
          <a:blip r:embed="rId2"/>
          <a:stretch/>
        </p:blipFill>
        <p:spPr>
          <a:xfrm>
            <a:off x="3708360" y="1268280"/>
            <a:ext cx="3600360" cy="122400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"/>
          <p:cNvPicPr/>
          <p:nvPr/>
        </p:nvPicPr>
        <p:blipFill>
          <a:blip r:embed="rId3"/>
          <a:stretch/>
        </p:blipFill>
        <p:spPr>
          <a:xfrm>
            <a:off x="2262240" y="2421000"/>
            <a:ext cx="1733400" cy="64764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7" descr=""/>
          <p:cNvPicPr/>
          <p:nvPr/>
        </p:nvPicPr>
        <p:blipFill>
          <a:blip r:embed="rId4"/>
          <a:stretch/>
        </p:blipFill>
        <p:spPr>
          <a:xfrm>
            <a:off x="4148280" y="2421000"/>
            <a:ext cx="1647720" cy="82872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8"/>
          <p:cNvSpPr/>
          <p:nvPr/>
        </p:nvSpPr>
        <p:spPr>
          <a:xfrm>
            <a:off x="973080" y="321300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九百六十万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9"/>
          <p:cNvSpPr/>
          <p:nvPr/>
        </p:nvSpPr>
        <p:spPr>
          <a:xfrm>
            <a:off x="1979640" y="3357720"/>
            <a:ext cx="10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0"/>
          <p:cNvSpPr/>
          <p:nvPr/>
        </p:nvSpPr>
        <p:spPr>
          <a:xfrm>
            <a:off x="2484360" y="324792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1"/>
          <p:cNvSpPr/>
          <p:nvPr/>
        </p:nvSpPr>
        <p:spPr>
          <a:xfrm>
            <a:off x="828720" y="3860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十三亿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2"/>
          <p:cNvSpPr/>
          <p:nvPr/>
        </p:nvSpPr>
        <p:spPr>
          <a:xfrm>
            <a:off x="1835280" y="3860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000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5"/>
          <p:cNvSpPr/>
          <p:nvPr/>
        </p:nvSpPr>
        <p:spPr>
          <a:xfrm>
            <a:off x="4140360" y="321300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6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7"/>
          <p:cNvSpPr/>
          <p:nvPr/>
        </p:nvSpPr>
        <p:spPr>
          <a:xfrm>
            <a:off x="4282920" y="3860640"/>
            <a:ext cx="8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22"/>
          <p:cNvSpPr/>
          <p:nvPr/>
        </p:nvSpPr>
        <p:spPr>
          <a:xfrm>
            <a:off x="3564000" y="321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3"/>
          <p:cNvSpPr/>
          <p:nvPr/>
        </p:nvSpPr>
        <p:spPr>
          <a:xfrm>
            <a:off x="3564000" y="3860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28"/>
          <p:cNvGrpSpPr/>
          <p:nvPr/>
        </p:nvGrpSpPr>
        <p:grpSpPr>
          <a:xfrm>
            <a:off x="395280" y="4292640"/>
            <a:ext cx="3816360" cy="1224000"/>
            <a:chOff x="395280" y="4292640"/>
            <a:chExt cx="3816360" cy="1224000"/>
          </a:xfrm>
        </p:grpSpPr>
        <p:sp>
          <p:nvSpPr>
            <p:cNvPr id="638" name="AutoShape 24"/>
            <p:cNvSpPr/>
            <p:nvPr/>
          </p:nvSpPr>
          <p:spPr>
            <a:xfrm>
              <a:off x="1187280" y="5013360"/>
              <a:ext cx="3024360" cy="503280"/>
            </a:xfrm>
            <a:prstGeom prst="cloudCallout">
              <a:avLst>
                <a:gd name="adj1" fmla="val -48319"/>
                <a:gd name="adj2" fmla="val -71134"/>
              </a:avLst>
            </a:prstGeom>
            <a:solidFill>
              <a:srgbClr val="eeb00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</a:rPr>
                <a:t>你认为哪种写法方便些？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9" name="Picture 25" descr=""/>
            <p:cNvPicPr/>
            <p:nvPr/>
          </p:nvPicPr>
          <p:blipFill>
            <a:blip r:embed="rId5"/>
            <a:stretch/>
          </p:blipFill>
          <p:spPr>
            <a:xfrm>
              <a:off x="395280" y="4292640"/>
              <a:ext cx="723960" cy="113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0" name="Text Box 27"/>
          <p:cNvSpPr/>
          <p:nvPr/>
        </p:nvSpPr>
        <p:spPr>
          <a:xfrm>
            <a:off x="5292720" y="4221000"/>
            <a:ext cx="2087640" cy="398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方便读数、写数，常常把整数或整亿的数改写成用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“万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“亿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作单位的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29">
            <a:hlinkClick r:id="" action="ppaction://hlinkshowjump?jump=firstslide"/>
          </p:cNvPr>
          <p:cNvSpPr/>
          <p:nvPr/>
        </p:nvSpPr>
        <p:spPr>
          <a:xfrm>
            <a:off x="179280" y="623736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72" h="21600">
                <a:moveTo>
                  <a:pt x="12636" y="3837"/>
                </a:moveTo>
                <a:lnTo>
                  <a:pt x="15212" y="6448"/>
                </a:lnTo>
                <a:lnTo>
                  <a:pt x="15212" y="4707"/>
                </a:lnTo>
                <a:lnTo>
                  <a:pt x="16988" y="4707"/>
                </a:lnTo>
                <a:lnTo>
                  <a:pt x="16988" y="8224"/>
                </a:lnTo>
                <a:lnTo>
                  <a:pt x="19599" y="10800"/>
                </a:lnTo>
                <a:lnTo>
                  <a:pt x="17945" y="10800"/>
                </a:lnTo>
                <a:lnTo>
                  <a:pt x="17945" y="17989"/>
                </a:lnTo>
                <a:lnTo>
                  <a:pt x="7327" y="17989"/>
                </a:lnTo>
                <a:lnTo>
                  <a:pt x="7327" y="10800"/>
                </a:lnTo>
                <a:lnTo>
                  <a:pt x="5673" y="10800"/>
                </a:lnTo>
                <a:close/>
              </a:path>
              <a:path fill="darkenLess" w="25272" h="21600">
                <a:moveTo>
                  <a:pt x="15212" y="6448"/>
                </a:moveTo>
                <a:lnTo>
                  <a:pt x="15212" y="4707"/>
                </a:lnTo>
                <a:lnTo>
                  <a:pt x="16988" y="4707"/>
                </a:lnTo>
                <a:lnTo>
                  <a:pt x="16988" y="8224"/>
                </a:lnTo>
                <a:close/>
              </a:path>
              <a:path fill="darkenLess" w="25272" h="21600">
                <a:moveTo>
                  <a:pt x="11713" y="14299"/>
                </a:moveTo>
                <a:lnTo>
                  <a:pt x="13559" y="14299"/>
                </a:lnTo>
                <a:lnTo>
                  <a:pt x="13559" y="17989"/>
                </a:lnTo>
                <a:lnTo>
                  <a:pt x="17945" y="17989"/>
                </a:lnTo>
                <a:lnTo>
                  <a:pt x="17945" y="10800"/>
                </a:lnTo>
                <a:lnTo>
                  <a:pt x="7327" y="10800"/>
                </a:lnTo>
                <a:lnTo>
                  <a:pt x="7327" y="17989"/>
                </a:lnTo>
                <a:lnTo>
                  <a:pt x="11713" y="17989"/>
                </a:lnTo>
                <a:close/>
              </a:path>
            </a:pathLst>
          </a:cu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4000" y="-110808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cc"/>
                </a:solidFill>
                <a:latin typeface="楷体_GB2312"/>
              </a:rPr>
              <a:t>数学如何将整万数或整亿数改写成用</a:t>
            </a:r>
            <a:r>
              <a:rPr b="0" lang="zh-CN" sz="3600" spc="-1" strike="noStrike">
                <a:solidFill>
                  <a:srgbClr val="6600cc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6600cc"/>
                </a:solidFill>
                <a:latin typeface="楷体_GB2312"/>
              </a:rPr>
              <a:t>万</a:t>
            </a:r>
            <a:r>
              <a:rPr b="0" lang="zh-CN" sz="3600" spc="-1" strike="noStrike">
                <a:solidFill>
                  <a:srgbClr val="6600cc"/>
                </a:solidFill>
                <a:latin typeface="Times New Roman"/>
              </a:rPr>
              <a:t>”</a:t>
            </a:r>
            <a:r>
              <a:rPr b="0" lang="zh-CN" sz="3600" spc="-1" strike="noStrike">
                <a:solidFill>
                  <a:srgbClr val="6600cc"/>
                </a:solidFill>
                <a:latin typeface="楷体_GB2312"/>
              </a:rPr>
              <a:t>或</a:t>
            </a:r>
            <a:r>
              <a:rPr b="0" lang="zh-CN" sz="3600" spc="-1" strike="noStrike">
                <a:solidFill>
                  <a:srgbClr val="6600cc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6600cc"/>
                </a:solidFill>
                <a:latin typeface="楷体_GB2312"/>
              </a:rPr>
              <a:t>亿</a:t>
            </a:r>
            <a:r>
              <a:rPr b="0" lang="zh-CN" sz="3600" spc="-1" strike="noStrike">
                <a:solidFill>
                  <a:srgbClr val="6600cc"/>
                </a:solidFill>
                <a:latin typeface="Times New Roman"/>
              </a:rPr>
              <a:t>”</a:t>
            </a:r>
            <a:r>
              <a:rPr b="0" lang="zh-CN" sz="3600" spc="-1" strike="noStrike">
                <a:solidFill>
                  <a:srgbClr val="6600cc"/>
                </a:solidFill>
                <a:latin typeface="楷体_GB2312"/>
              </a:rPr>
              <a:t>作单位</a:t>
            </a:r>
            <a:endParaRPr b="1" lang="en-US" sz="3600" spc="-1" strike="noStrike">
              <a:solidFill>
                <a:srgbClr val="6600cc"/>
              </a:solidFill>
              <a:latin typeface="楷体_GB2312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0:14:50Z</dcterms:created>
  <dc:creator/>
  <dc:description/>
  <cp:keywords/>
  <dc:language>en-US</dc:language>
  <cp:lastModifiedBy>dreamsummit</cp:lastModifiedBy>
  <dcterms:modified xsi:type="dcterms:W3CDTF">2015-05-12T09:29:46Z</dcterms:modified>
  <cp:revision>43</cp:revision>
  <dc:subject/>
  <dc:title>认识整亿数 </dc:title>
</cp:coreProperties>
</file>