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24B91-9ECE-4276-AC23-B8149A28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C82E7-CBBA-4615-8CBB-526AB71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29D5-3D78-4D69-8DA5-18307357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D2020-930C-4296-926C-1249738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590C-F14E-41B3-910C-9CB49D7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031FF-9B92-44B3-9862-047BAF46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2F9BD-1DD8-4098-8291-B75A7BEF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EACF1-ECDE-443F-B4FA-4B901D17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3080-B2D5-423B-8E6A-14C7E08D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397A9-44C7-46DF-919D-A1F56AD2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84845-BD44-4A6A-AA19-7705C879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BAFE6-6A7D-4611-BBF6-14A0F7E7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6873F-7686-4917-86A7-2196E1BD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CB77-844E-4C6D-A278-72F162CB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28A61-A300-4BCE-A770-9F67F8BC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DE74D-DCB4-4C7C-A718-B20CE37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21D7A-8922-4010-9FCB-D215196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08999-9468-4ED6-B1BC-F7D7620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7B343-C612-49B1-899A-424E8764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C4BE0-AFC4-4CAD-AC5E-D115BF62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39136-7319-452B-9202-10BDCE0E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9AC9D-28F1-4527-BF3D-22273065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5F7C3-5E90-490B-B8FD-3F2586DB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1785D-526A-4299-924E-16D0CB9D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5DC49-E8F1-4C14-9990-D8D32A32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E9788-64B8-46B6-A2FE-198CC304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7B8E9-C7AF-45E3-8C71-A54AE73F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A423F-26C3-4090-861B-F0E9BE43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3A704-30E3-4901-AF57-1697623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D7D6A-3BEF-456F-9C79-4A8339B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8631F-54F9-4476-A83C-99963BBC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DFA31-9F35-4EF8-9B74-DD27F63A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EDC99-AE15-40AE-B844-A7D5AE4C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8439A-76A6-438D-80FC-B3403B70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873F8-77B3-41A2-89ED-0087579F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E1298-279B-4D47-9258-489FBE98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675B5-619A-48B4-8E77-C550AB4C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2285D-D51D-41A8-BEBF-5241BADE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E539C-6860-4CB5-8359-6D73076B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66424-B4BE-492E-9FBC-98E3B89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BE1B4-7236-4978-A3F2-602D0C71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12E8F-004C-475C-A182-1D5C9AD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FD6DA-518B-45EA-A0E9-558CE557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026A0-B8D6-4325-A3D5-A460287B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DD59A-0ABE-41E8-A388-5FBFDAFB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A77E1-1209-44F5-A26E-D9A0F93E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888C0-8EBB-49CE-BAC4-904EAB06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92E1A-598B-4CF9-9EB7-737A4786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3BFE3-AE5A-40E9-B15E-13D04CBB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A343C-92AC-4FB3-A18B-356CFE23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00BA4-248F-4C85-87E8-6E64FC27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9EC56-567C-4C38-AEA8-EECE644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08798-4205-4F4F-89CD-0C773BF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6B6B5-9C6F-4916-AEA2-D124BCE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01000-5B7E-47BC-BC7B-143E2B9C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63179-79BD-4CEF-A016-D4C34B79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17939-76DB-4681-9BED-930F4F63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2662A-EDD3-4185-9133-F2F597B0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63B66-324C-40B6-9A09-C6DE8049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0D98D-4C4B-44AE-81E9-3EA1380F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BE80D-52EA-4D25-B2EC-4DAA30D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B2E5D-3F7D-4D2E-81AE-C79435CF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F4ED1-A195-4DE3-9B2D-AA6B54D6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45489-F623-470E-A057-0D41DD9B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F250F-DC00-4136-AC95-9A4421BD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B8BD4-0910-44F7-9872-CEEF9E0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12627-3781-407F-8DAC-E8E5D5F5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3CB4B-398F-438A-B314-5FA3C0E8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1A9AB-EE15-462F-A673-7719CA0C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A392E-2714-4653-9AFA-9FD4C620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B5DD5-7E3B-4873-91AF-78CC0066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622EF-34AE-4FF5-8B2C-0086584D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F839B-9DDC-45C6-8FD3-99F4B996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1B4E8-227B-492B-960F-3EECA30B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F3228-FD28-41E1-B4BC-A2EE1F17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03990-5AC6-4133-9EBE-889730B8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6902B-DA43-4BBB-AD60-2B2C52B3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15348-69FC-428E-AC59-43A119A9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A8CAA-27C2-48E9-B985-17A91754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F221B-69C8-4811-BC6A-EA99F68C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66DDD-B4FF-41EC-9196-58FE7D20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E9C9D-C56F-4D51-B550-961BF2A6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88308-3F48-453C-A1D5-18CDEF60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D0483-CD20-4369-AF63-967AA174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7B8F1-1BB2-4793-82B7-11B6E6B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60E58-A3D8-4C78-9944-BE1F7829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4D21D-2091-485C-A5E5-501B21E6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E6E4E-B096-4886-8826-242FE846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B680F-2E47-46B8-B869-AF27F04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1315D-B4DB-466E-9365-BBFFD4C4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E2FAC-482F-49A6-BB5D-FD6DB6EA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C9485-7930-4EBB-A876-2F19A96B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EEFE1-3862-47FA-8251-45CCE6DA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45C-B07D-4EFB-BFC8-8274EBA4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7F5-482B-4BDD-B5F7-464EA5E9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B27-29CD-4A41-BC68-9C8AD11F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C3F-2EB3-48D2-A33B-ACD59046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38F-4100-4AA4-900E-B366F5D1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DB7-25C1-4F9C-BE0C-167200D7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85F-A66C-4A2E-8FE8-DF623923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BE2-26BE-488E-BD6F-E5725C39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FAC-BD68-43AB-9627-D8B99F75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BAD-64D6-4B63-BDEC-0036E882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02B-F0BD-4DE0-B513-E1194A73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101-8A88-469D-9ABB-EF7509AE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4933-34B4-46A3-8EF1-171B71BE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7FFA-68D6-4C51-848B-0E778A64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7030-0DB8-40CB-912B-0C10468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CAF6-8E44-4D01-A3EB-4E99D30A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6047-F720-4C0F-A5CB-4EABA899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F7D0-3473-411E-8B83-7031D32D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3DA5-E9A4-4EEE-9907-64E5461E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9E0C-92C1-4121-AF11-F5C515A6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D64B-A334-493B-921B-E784972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EE48-48AD-4485-9B7B-9B7E04D3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4F1E-7E97-4F22-AE97-1D33DE1E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395B-2F66-470C-A59D-5FE5F68F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5A37-9F85-4CA9-8E98-F0A0F3C8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1871-729D-496C-82F2-40A6BD54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B9D5-9788-4D14-B384-28C540D3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DD24-5AF6-4580-AFC5-50201CB5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6C6F-DCDB-431D-8235-A1430C15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3474-3241-40A3-8884-C809F9CD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52F60-26AC-424D-81BC-5338B3D5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7F79-32BA-4CDC-8EEF-49E0DBB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225D-1DEE-40E4-A9D4-FE37023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0E49-2AE9-48B5-8AF3-031C9735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E839-94C4-4514-9545-2E612DD6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D599-B1FC-4191-9C55-FA68831E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64B3-9CD3-4353-83B3-0547ACB8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F1C8-6C09-4089-A2CC-3A243C21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CC13-B0F9-4729-8C4D-500B118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3BAEA-432B-45E5-B630-DDF4020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6695-A90F-4C1C-9E44-59F49F7D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23FC9-8603-48FB-9212-6F0E935A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A362-190A-412B-9030-BD94C3D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A52C8-F5AB-4A0F-873F-02A92478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C524-1D11-47ED-B4A8-3EDC4C7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4A53E-8814-47B8-9A69-AE9A19EF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6DC95-2A2D-41CC-A85B-AC4F4C27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00B9-31C9-4BE9-8B57-BB1F3F09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A3490-AD60-4662-83D1-26C9B867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2904A-38F9-47C0-BC6B-86FF7A68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2F8D-6138-4639-B201-050567B2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06769-9B82-4031-B5E0-851C9BEE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92985-4113-40EC-B7B2-E89AFC32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B681-8BCB-48B0-BE5B-C29C33F6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9F992-FBD6-4E1A-B64B-15E8A8E6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8ADA-BE98-4F58-AA8F-12F2493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FE9B0-67B1-4691-AA10-6132D826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49FE-3A51-47B7-98A7-70092D2D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59759-F8E1-47A5-8CE6-8E3DD4DC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928D-67BE-4E14-9AF4-32044B5E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3CE8D-D54D-4959-BE9A-BAA99863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A96E-C448-40D9-A281-6B6348CB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494BE-A47C-4CBD-A660-96D1FB47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8A2A-CF61-4359-B41B-A8DCD4D2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6D222-720B-4D04-BCD0-1964597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20B93-430C-4337-8F4D-9CD84060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3DAD3-8BAF-4EA8-A4D7-9DF2970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A8CA3-968B-48D0-BE99-07628368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65A6F-4DCD-4826-9374-A4664613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624EC-8C31-425B-8721-C7202B18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FAFF0-8E9E-402F-98D6-62E17ECD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143E0-972F-437F-8876-37D220F5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0B2D-84CE-4002-83F1-C7219A24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A4342-97AD-4838-A053-B983D606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E43D-DE9A-4F08-85CB-2B8EAABE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8608-4859-48C7-B6E2-794DCFB5373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172C-0EB8-4618-B9CA-154532E718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3D66-6C41-451C-BA6D-DBB4892DE83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DBC2-C813-4B57-B1A1-296107CD2B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8978-F811-4C1C-97B3-8F9F2AFFF1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25D5-C07E-4862-8C95-99A69657450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6878-5364-407B-89E9-15F4965A0E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478B1-82A5-4935-81A0-5A51FFEC77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469D-0BA6-4BB6-BA3F-F7879A4971D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4725-4BDC-4B2F-A75B-0BC8987AF1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1128-CB12-4602-A208-21B803F12C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FE21-5E88-4EA6-8939-B948DE47E81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9F5-AB47-4568-BB92-0F59CEEA52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CAA5-A4CB-4A2D-89E6-92AA08B69E9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49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实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  观察物体（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6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8"/>
          <p:cNvSpPr/>
          <p:nvPr/>
        </p:nvSpPr>
        <p:spPr>
          <a:xfrm>
            <a:off x="684360" y="17208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图是一块带有方形空洞和圆形空洞的小木板。下列物体中既能堵住圆形空洞，又能堵住方形空洞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711" name="圆角矩形 7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4" name="矩形 10"/>
          <p:cNvSpPr/>
          <p:nvPr/>
        </p:nvSpPr>
        <p:spPr>
          <a:xfrm>
            <a:off x="1949400" y="285264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10" descr=""/>
          <p:cNvPicPr/>
          <p:nvPr/>
        </p:nvPicPr>
        <p:blipFill>
          <a:blip r:embed="rId2"/>
          <a:stretch/>
        </p:blipFill>
        <p:spPr>
          <a:xfrm>
            <a:off x="1835280" y="3414600"/>
            <a:ext cx="550836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1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pic>
        <p:nvPicPr>
          <p:cNvPr id="721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233360" y="1889280"/>
            <a:ext cx="686772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观察生活中的物体　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观察多个物体并画出观察到的图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物体的位置变化规律判断观察位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4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8"/>
          <p:cNvSpPr/>
          <p:nvPr/>
        </p:nvSpPr>
        <p:spPr>
          <a:xfrm>
            <a:off x="611280" y="1701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图分别是谁看到的？连一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组合 1"/>
          <p:cNvGrpSpPr/>
          <p:nvPr/>
        </p:nvGrpSpPr>
        <p:grpSpPr>
          <a:xfrm>
            <a:off x="595440" y="1004760"/>
            <a:ext cx="2809800" cy="668520"/>
            <a:chOff x="595440" y="1004760"/>
            <a:chExt cx="2809800" cy="668520"/>
          </a:xfrm>
        </p:grpSpPr>
        <p:sp>
          <p:nvSpPr>
            <p:cNvPr id="669" name="圆角矩形 13"/>
            <p:cNvSpPr/>
            <p:nvPr/>
          </p:nvSpPr>
          <p:spPr>
            <a:xfrm>
              <a:off x="1479600" y="1117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文本框 13"/>
            <p:cNvSpPr/>
            <p:nvPr/>
          </p:nvSpPr>
          <p:spPr>
            <a:xfrm>
              <a:off x="1479600" y="1104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04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2" name="Picture 61" descr=""/>
          <p:cNvPicPr/>
          <p:nvPr/>
        </p:nvPicPr>
        <p:blipFill>
          <a:blip r:embed="rId2"/>
          <a:stretch/>
        </p:blipFill>
        <p:spPr>
          <a:xfrm>
            <a:off x="3043080" y="2205000"/>
            <a:ext cx="2953080" cy="4119480"/>
          </a:xfrm>
          <a:prstGeom prst="rect">
            <a:avLst/>
          </a:prstGeom>
          <a:ln w="0">
            <a:noFill/>
          </a:ln>
        </p:spPr>
      </p:pic>
      <p:sp>
        <p:nvSpPr>
          <p:cNvPr id="673" name="直接连接符 3"/>
          <p:cNvSpPr/>
          <p:nvPr/>
        </p:nvSpPr>
        <p:spPr>
          <a:xfrm>
            <a:off x="3924360" y="4265640"/>
            <a:ext cx="1152360" cy="7477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直接连接符 22"/>
          <p:cNvSpPr/>
          <p:nvPr/>
        </p:nvSpPr>
        <p:spPr>
          <a:xfrm>
            <a:off x="3713040" y="4952880"/>
            <a:ext cx="1219320" cy="9972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直接连接符 23"/>
          <p:cNvSpPr/>
          <p:nvPr/>
        </p:nvSpPr>
        <p:spPr>
          <a:xfrm flipV="1">
            <a:off x="3670200" y="4149720"/>
            <a:ext cx="1406520" cy="16048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636480" y="1147680"/>
            <a:ext cx="79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一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丽看到的图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13"/>
          <p:cNvSpPr/>
          <p:nvPr/>
        </p:nvSpPr>
        <p:spPr>
          <a:xfrm>
            <a:off x="3203640" y="1876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57" descr=""/>
          <p:cNvPicPr/>
          <p:nvPr/>
        </p:nvPicPr>
        <p:blipFill>
          <a:blip r:embed="rId1"/>
          <a:stretch/>
        </p:blipFill>
        <p:spPr>
          <a:xfrm>
            <a:off x="2151000" y="2332080"/>
            <a:ext cx="50850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组合 1"/>
          <p:cNvGrpSpPr/>
          <p:nvPr/>
        </p:nvGrpSpPr>
        <p:grpSpPr>
          <a:xfrm>
            <a:off x="1062000" y="4067280"/>
            <a:ext cx="7902720" cy="1809720"/>
            <a:chOff x="1062000" y="4067280"/>
            <a:chExt cx="7902720" cy="1809720"/>
          </a:xfrm>
        </p:grpSpPr>
        <p:pic>
          <p:nvPicPr>
            <p:cNvPr id="680" name="Picture 57" descr=""/>
            <p:cNvPicPr/>
            <p:nvPr/>
          </p:nvPicPr>
          <p:blipFill>
            <a:blip r:embed="rId1"/>
            <a:srcRect l="0" t="30863" r="0" b="32223"/>
            <a:stretch/>
          </p:blipFill>
          <p:spPr>
            <a:xfrm>
              <a:off x="1062000" y="4067280"/>
              <a:ext cx="408996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57" descr=""/>
            <p:cNvPicPr/>
            <p:nvPr/>
          </p:nvPicPr>
          <p:blipFill>
            <a:blip r:embed="rId2"/>
            <a:srcRect l="0" t="67782" r="0" b="0"/>
            <a:stretch/>
          </p:blipFill>
          <p:spPr>
            <a:xfrm>
              <a:off x="4874760" y="4233240"/>
              <a:ext cx="4089960" cy="158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2" name="矩形 5"/>
          <p:cNvSpPr/>
          <p:nvPr/>
        </p:nvSpPr>
        <p:spPr>
          <a:xfrm>
            <a:off x="1135080" y="5413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前面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636480" y="141300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图，桌上放着一摞书和一个茶杯，下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五幅图分别是从什么方向看到的？填在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57" descr=""/>
          <p:cNvPicPr/>
          <p:nvPr/>
        </p:nvPicPr>
        <p:blipFill>
          <a:blip r:embed="rId3"/>
          <a:srcRect l="0" t="0" r="0" b="69537"/>
          <a:stretch/>
        </p:blipFill>
        <p:spPr>
          <a:xfrm>
            <a:off x="2260440" y="2637000"/>
            <a:ext cx="4089600" cy="1493640"/>
          </a:xfrm>
          <a:prstGeom prst="rect">
            <a:avLst/>
          </a:prstGeom>
          <a:ln w="0">
            <a:noFill/>
          </a:ln>
        </p:spPr>
      </p:pic>
      <p:sp>
        <p:nvSpPr>
          <p:cNvPr id="685" name="矩形 17"/>
          <p:cNvSpPr/>
          <p:nvPr/>
        </p:nvSpPr>
        <p:spPr>
          <a:xfrm>
            <a:off x="2502000" y="5413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面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矩形 18"/>
          <p:cNvSpPr/>
          <p:nvPr/>
        </p:nvSpPr>
        <p:spPr>
          <a:xfrm>
            <a:off x="3892680" y="5413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面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矩形 19"/>
          <p:cNvSpPr/>
          <p:nvPr/>
        </p:nvSpPr>
        <p:spPr>
          <a:xfrm>
            <a:off x="5361120" y="5413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后面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矩形 20"/>
          <p:cNvSpPr/>
          <p:nvPr/>
        </p:nvSpPr>
        <p:spPr>
          <a:xfrm>
            <a:off x="7326360" y="54054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右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684360" y="17748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幅图分别是从哪个方向看到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16"/>
          <p:cNvSpPr/>
          <p:nvPr/>
        </p:nvSpPr>
        <p:spPr>
          <a:xfrm>
            <a:off x="3276720" y="39718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右面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55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7328160" cy="1871640"/>
          </a:xfrm>
          <a:prstGeom prst="rect">
            <a:avLst/>
          </a:prstGeom>
          <a:ln w="0">
            <a:noFill/>
          </a:ln>
        </p:spPr>
      </p:pic>
      <p:sp>
        <p:nvSpPr>
          <p:cNvPr id="692" name="矩形 14"/>
          <p:cNvSpPr/>
          <p:nvPr/>
        </p:nvSpPr>
        <p:spPr>
          <a:xfrm>
            <a:off x="4643280" y="39718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前面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15"/>
          <p:cNvSpPr/>
          <p:nvPr/>
        </p:nvSpPr>
        <p:spPr>
          <a:xfrm>
            <a:off x="6013440" y="39718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面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17"/>
          <p:cNvSpPr/>
          <p:nvPr/>
        </p:nvSpPr>
        <p:spPr>
          <a:xfrm>
            <a:off x="7236000" y="39718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684360" y="17748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先观察图形，然后分别画出从前面、上面、左面看到的形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17"/>
          <p:cNvSpPr/>
          <p:nvPr/>
        </p:nvSpPr>
        <p:spPr>
          <a:xfrm>
            <a:off x="1332000" y="42591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3135240" y="3046320"/>
            <a:ext cx="30178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8"/>
          <p:cNvSpPr/>
          <p:nvPr/>
        </p:nvSpPr>
        <p:spPr>
          <a:xfrm>
            <a:off x="684360" y="1052640"/>
            <a:ext cx="75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图片是在空中看到的明珠花园小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淘气在“东、南、西”三个门各拍了一张照片。认真观察，下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照片分别是在哪个门拍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东门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南门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西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矩形 17"/>
          <p:cNvSpPr/>
          <p:nvPr/>
        </p:nvSpPr>
        <p:spPr>
          <a:xfrm>
            <a:off x="1692360" y="57326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2" descr=""/>
          <p:cNvPicPr/>
          <p:nvPr/>
        </p:nvPicPr>
        <p:blipFill>
          <a:blip r:embed="rId1"/>
          <a:stretch/>
        </p:blipFill>
        <p:spPr>
          <a:xfrm>
            <a:off x="1825560" y="2781360"/>
            <a:ext cx="5267520" cy="1779480"/>
          </a:xfrm>
          <a:prstGeom prst="rect">
            <a:avLst/>
          </a:prstGeom>
          <a:ln w="0">
            <a:noFill/>
          </a:ln>
        </p:spPr>
      </p:pic>
      <p:grpSp>
        <p:nvGrpSpPr>
          <p:cNvPr id="701" name="组合 1"/>
          <p:cNvGrpSpPr/>
          <p:nvPr/>
        </p:nvGrpSpPr>
        <p:grpSpPr>
          <a:xfrm>
            <a:off x="1332000" y="4964040"/>
            <a:ext cx="6708600" cy="1344600"/>
            <a:chOff x="1332000" y="4964040"/>
            <a:chExt cx="6708600" cy="1344600"/>
          </a:xfrm>
        </p:grpSpPr>
        <p:pic>
          <p:nvPicPr>
            <p:cNvPr id="702" name="Picture 3" descr=""/>
            <p:cNvPicPr/>
            <p:nvPr/>
          </p:nvPicPr>
          <p:blipFill>
            <a:blip r:embed="rId2"/>
            <a:srcRect l="0" t="0" r="0" b="54898"/>
            <a:stretch/>
          </p:blipFill>
          <p:spPr>
            <a:xfrm>
              <a:off x="1332000" y="5167080"/>
              <a:ext cx="3261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3" descr=""/>
            <p:cNvPicPr/>
            <p:nvPr/>
          </p:nvPicPr>
          <p:blipFill>
            <a:blip r:embed="rId3"/>
            <a:srcRect l="0" t="45908" r="0" b="0"/>
            <a:stretch/>
          </p:blipFill>
          <p:spPr>
            <a:xfrm>
              <a:off x="4779000" y="4964040"/>
              <a:ext cx="32616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4" name="矩形 9"/>
          <p:cNvSpPr/>
          <p:nvPr/>
        </p:nvSpPr>
        <p:spPr>
          <a:xfrm>
            <a:off x="3419640" y="573264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10"/>
          <p:cNvSpPr/>
          <p:nvPr/>
        </p:nvSpPr>
        <p:spPr>
          <a:xfrm>
            <a:off x="5940360" y="580536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>
            <a:off x="684360" y="18464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辆汽车从明明面前经过，明明看到的顺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17"/>
          <p:cNvSpPr/>
          <p:nvPr/>
        </p:nvSpPr>
        <p:spPr>
          <a:xfrm>
            <a:off x="7464600" y="18828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③①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2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54658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16:11Z</dcterms:modified>
  <cp:revision>1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