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61EF7-36BC-4C64-AC3F-4E62AEA2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CA0A0-12E8-4F47-8904-921FF73A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CB078-5A2E-4D3A-9C79-269AB391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490B7-57AE-42EB-B24D-1244059A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E55A2-8EA5-4BCD-BFE1-B52F12B5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65F36-C260-41F3-A307-FB856775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CA002-F016-4A8E-8337-225DA370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01CC-48CC-4174-957B-41B21E1A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6E03F-2C6C-4462-B65F-BA49DC43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8AA81-AA74-4060-8BA8-C8DC24E2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F74B5-053D-4FC8-9691-619AD5D9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4E2D5-774B-4F8B-9843-CB8C4C9D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E5592-6749-4701-A220-C626EFFC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706A5-A453-493C-A818-0208BC61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584E1-AF99-4DA1-B614-4D3FC5B1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BDF1B-8029-4FB5-85B9-98E20877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C9C3A-0D58-4616-BF3E-8203AB67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4D91A-E231-46F2-A335-DA86A6CF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EC99F-583D-4D41-B4DE-1128DA7B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D5EE2-EBDC-4872-8FBB-7D5BC9B1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1A83A-346F-4783-8A09-1804D812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CD1BC-6E53-4F88-9BE6-7B013A8A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7EF2F-FF37-47D6-95DF-B1DC9718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5CD1B-80B8-4DC2-80AF-705FF945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CC37F-A8B8-45A6-8CD1-A6CE90A6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C08AF-6AC1-465F-9939-31EB5A2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C5F76-E74A-45CF-A903-EB4C3E42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8EFF6-E7DF-4FBE-9443-94CB5F72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E5A49-AE78-4F2E-B881-C7247A6E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0D425-6B28-4955-A986-4C27AB1D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5C67F-D990-43A4-A9A6-C8995327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5F4D5-E76C-402A-90DA-87E4055B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CE4A5-F78F-4DC3-874D-2D3B6342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2178F-75CC-42AB-BD89-505CF40C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B9462-466A-41BB-BA81-A982F3D4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8BB26-A7C2-418E-AFA4-7DE4EB57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3418C-A7EB-4D9B-951E-E509920B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E8C05-1B0C-42AA-8101-80C7602E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A02C7-DA98-4BED-9CB1-64AF0E3B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0A622-D4BE-4B9B-8BCD-8A071518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E0895-B529-4BDE-8EFF-315087B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374CB-AD19-4B6B-A4F3-12FD109A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EC7B2-9C1E-4085-982D-E65E0E3E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A7846-251C-4F59-A0E0-176C79D7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99EF4-CAED-4CEA-AEAC-06E94231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B2959-2717-40F5-B244-28F24BC7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33AB9-DD6D-4E49-9B23-C5AA951C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63233-CF95-418E-8AE8-00E217E2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A7056-8A19-48ED-B1DA-B59B0BDD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0156C-4730-4723-945F-8116DBBC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031A0-E882-49D7-9A2D-AEC556D0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73E39-9E13-4DD2-B00C-7BA878ED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0DD9E-1A12-4F03-8990-CCBA616C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9A456-A78D-4EF2-82E3-85DFF77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6A356-5EA0-45A5-BA81-AB887B7D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5B249-0142-476C-94C5-13E00489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E9C68-EB6A-41BD-B97F-6F34FDC2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6F605-D41F-4A92-95E8-07E74D03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158C3-A90C-46DF-8C8A-E4CDD671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DCE95-4ACC-4E59-8DB6-A0E33C65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83F0D-9586-4A12-9602-BE1FA1EB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865A8-45CC-4439-9886-1B4496E0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582B8-6810-413A-AE34-5D56FC8B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F0164-05BE-439C-A6EA-BBDBB23D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31677-BBD9-4081-BDD9-56BD5252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3F018-1B76-4E48-8B0C-912A42A0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25257-8929-499E-9717-C4AEF03C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521A7-A306-4BAD-84D2-C596DA4D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49E5F-0782-46EE-BB75-6024CBC0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BC031-6F44-41F7-A849-410F7BF3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A47AD-EE31-4235-849A-E47EA38F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3D258-C74A-4606-AB48-CBCC305A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C13BB-46C8-49EF-943F-DE07E734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ED558-AC91-450A-BDB9-F602D434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954CB-175C-45CB-8AC1-1E76622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D3EDB-DBA5-4F2F-904A-B61BC2BF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E3D71-CEF0-4A31-A73B-ECA15232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15899-1E77-4A0B-ACD9-5FE2DB5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35B78-064D-4533-9CFB-8BE51DE2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7E698-8464-43FE-A1B4-CA032DBA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89619-EC9D-4B9C-B276-AEDDDA51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21D61-5B00-4043-B8EE-48E150BC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CFE62-EA71-43AA-A797-8BDC2A4A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D7255-FCBC-4A66-A47F-B426D2CA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99E9E-8325-453E-853E-97A6867F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74B6C-1BF3-48B4-BE37-33A35811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39A9E-B9FB-454F-98B1-8CBCA659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E842C-724B-49A3-B694-73A372BF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7B455-87DC-4293-915B-61BA21D7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71A3E-7E5F-425D-93E6-67008325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12945-4F23-4D8E-B5B9-C51C40F4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D21F9-5C48-459D-AA55-EE4851A8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2CF63-FBDF-43A0-87DB-EEB7E5F5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019-9909-4AAE-A58D-574C7FAE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A9A-2CA0-4DA9-B3B7-E02D0A22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863-2C64-4CA8-92D0-35341187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7FA-2757-422C-82B2-694892A8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D9E-FF4D-4619-81B9-C451D7AE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55F-62EE-4C45-BCE8-BC10F6B9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D56-8627-4EF4-B5DB-DB4E6BA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23F-D2F0-46E7-8469-0A60F30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091-89E9-4E53-B3D5-053B62F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354-5FC2-4230-8307-D56A963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C5B-B240-4481-8FF0-FA86478B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9DA-F8C6-462F-8C55-DC36F2CA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AC87-7A17-4D57-9FD3-8DAAB4C5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A593-0808-4526-A8DE-F38A9D96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18FC-E8BB-4FC2-BF10-04CFD356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2242-3B15-4DFE-AC14-AB0C9A0B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C53E-294F-4DB7-BCBE-3B9A1D95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38EC-576A-458B-BC9C-DB546D1E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0749-D77B-4364-9C5A-25A4068B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640B-B1E7-4958-8303-EED7AA74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54FD-EDB8-48B9-BF71-B2C7611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7409-D491-42E3-9C4D-5700AE5C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653F-8E22-4199-AC90-D5D6FA70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D418-37AB-4BF6-8E29-B033ED0D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8163-4763-4EAF-9795-2ED5D520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0087-494A-4A0B-8C23-D024FDC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B008-EAC3-4B23-A65D-37BEF64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8EB9-3970-4C2F-9BB8-AF7134AA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4A3B-5605-45C2-BB98-439FB56A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F91A-D0C4-4975-BA20-941360A7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58DA-F3C8-4BAB-BCAB-45F65EA8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4B89-B44F-4651-96DA-5A747F32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81A4-F4B2-4F61-8F05-F3CDC788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361A-6577-4516-804F-5C037ACC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404F-F536-4AE5-8C5E-3446C83D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BE5C-5A6E-4862-93ED-6EF04606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5259-CF0C-44DF-98C2-E37DDA90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85E15-4A36-463F-9F03-00C37BFF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FAFA-F92D-4F86-9FFA-978EA07C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4A58-7BC2-4FEE-A2BD-DE8FFAF6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ED3C-1271-4A7F-9A31-D802F41B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E343-9E7F-454B-BCB5-66425B92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751C-2F24-4265-B4EA-3ACA9B50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8A08-A752-43A1-A493-A1D8AF0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455F-CDA4-4363-9ACB-447CD6B5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83AF-A9EB-498B-8819-479E43DB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BD795-AD8A-4C1A-8377-20E44DE3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3C17-44FD-4DF1-86DE-2EDC5E11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48C59-1AE5-4CC5-9E5C-5D404F48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D125D-E2AE-4762-A9C8-A8C2FCE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5D60-ABD3-453B-B243-C711DEE7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F93E-905E-49A8-BD94-D4876009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81C2-28B4-406B-AC27-3A34FD2C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2CA9C-CE1D-4A14-AEBA-D84E2573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B191-360F-4A94-8117-2F257B0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A0EEA-BC0C-4859-9D6B-D6C236F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DB385-E436-4DA1-BDDC-DF6E2C8E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0BB8-E14D-4A34-A73D-9CD523DC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7439-0740-42F6-9DA2-1F98AF4F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91A4B-BE1B-48CF-86C1-BF73D548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90A35-8B9F-4A3A-B106-4BEA48CE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8E1BC-4E93-4A5E-8074-8638EE99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B8969-9F0A-4C64-9B16-86EDD43C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63A57-C1AF-4F33-8806-7017566E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E2A6-38A5-453D-A0DB-7BC43C82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3FC5D-F1CC-4DB8-A8DB-B96E9B2A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2BA7-1760-4D15-831F-ED3FF613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3691A-47BA-4460-BCC8-0549A1B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B0EC0-C7FA-4C2E-8BAC-3E42099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810D2-5249-476D-8E15-B066BB74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9D816-D8CB-4710-A327-2D297723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32235-99D8-41DE-9D83-128CAF81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7D702-5BCF-4E05-A427-B0312951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1D68-C7F8-433D-996D-1BEF1041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58E3B-26C8-4466-A7F8-EEB06C82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E9EB-5A29-447F-A72B-18F098EA2BF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51A3-08C1-4CA2-B27D-33C59D2F77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A482-7586-488E-986C-5423946FAB7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0EE7-6E3F-4764-9D2B-F2600139FB4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FC2C-E69F-4327-B6AB-A41E6F25362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95D6-915C-45D2-BB79-7384E6BB62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BCB5-6E51-4925-A363-7409F0702D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47E62-AF67-41F7-9924-959F44696B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8A41-5BF3-43CC-8E61-886779695FE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C476-5FA6-4CB4-AE86-B9249FBA8CE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BB40-A767-4215-B87A-091B709C05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7662-9DA7-4538-8545-96F783164B1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ED79-8BA2-4867-BFFE-9114E7E2AAD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1605-68E7-4CF2-9886-050D4B8AB2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49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字母表示数量关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 用字母表示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6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684360" y="1866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三位数，百位上的数字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十位上的数字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个位上的数字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个三位数可以表示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701" name="圆角矩形 7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4" name="矩形 10"/>
          <p:cNvSpPr/>
          <p:nvPr/>
        </p:nvSpPr>
        <p:spPr>
          <a:xfrm>
            <a:off x="879480" y="29732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8"/>
          <p:cNvSpPr/>
          <p:nvPr/>
        </p:nvSpPr>
        <p:spPr>
          <a:xfrm>
            <a:off x="684360" y="1557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乒乓球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克，一个足球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10"/>
          <p:cNvSpPr/>
          <p:nvPr/>
        </p:nvSpPr>
        <p:spPr>
          <a:xfrm>
            <a:off x="5622840" y="1557360"/>
            <a:ext cx="12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8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692360" y="2263680"/>
            <a:ext cx="5183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1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13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233360" y="1889280"/>
            <a:ext cx="6867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运用连续数的特点与用字母表示数的方法解决连续数的求和问题　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运用数量变化的规律解决用字母表示数量关系的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4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8"/>
          <p:cNvSpPr/>
          <p:nvPr/>
        </p:nvSpPr>
        <p:spPr>
          <a:xfrm>
            <a:off x="611280" y="1957320"/>
            <a:ext cx="799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一个自然数，请按要求写出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的自然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第一个自然数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最后一个自然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中间一个自然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三个连续的单数，中间的一个数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三个连续单数的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组合 1"/>
          <p:cNvGrpSpPr/>
          <p:nvPr/>
        </p:nvGrpSpPr>
        <p:grpSpPr>
          <a:xfrm>
            <a:off x="595440" y="1116000"/>
            <a:ext cx="2809800" cy="668520"/>
            <a:chOff x="595440" y="1116000"/>
            <a:chExt cx="2809800" cy="668520"/>
          </a:xfrm>
        </p:grpSpPr>
        <p:sp>
          <p:nvSpPr>
            <p:cNvPr id="669" name="圆角矩形 13"/>
            <p:cNvSpPr/>
            <p:nvPr/>
          </p:nvSpPr>
          <p:spPr>
            <a:xfrm>
              <a:off x="1479600" y="122868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文本框 13"/>
            <p:cNvSpPr/>
            <p:nvPr/>
          </p:nvSpPr>
          <p:spPr>
            <a:xfrm>
              <a:off x="1479600" y="12160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11600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矩形 14"/>
          <p:cNvSpPr/>
          <p:nvPr/>
        </p:nvSpPr>
        <p:spPr>
          <a:xfrm>
            <a:off x="4037040" y="26463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2"/>
          <p:cNvSpPr/>
          <p:nvPr/>
        </p:nvSpPr>
        <p:spPr>
          <a:xfrm>
            <a:off x="5292720" y="26035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7"/>
          <p:cNvSpPr/>
          <p:nvPr/>
        </p:nvSpPr>
        <p:spPr>
          <a:xfrm>
            <a:off x="3851280" y="31798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8"/>
          <p:cNvSpPr/>
          <p:nvPr/>
        </p:nvSpPr>
        <p:spPr>
          <a:xfrm>
            <a:off x="5148360" y="31798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19"/>
          <p:cNvSpPr/>
          <p:nvPr/>
        </p:nvSpPr>
        <p:spPr>
          <a:xfrm>
            <a:off x="3851280" y="37558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20"/>
          <p:cNvSpPr/>
          <p:nvPr/>
        </p:nvSpPr>
        <p:spPr>
          <a:xfrm>
            <a:off x="5435640" y="3755880"/>
            <a:ext cx="14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21"/>
          <p:cNvSpPr/>
          <p:nvPr/>
        </p:nvSpPr>
        <p:spPr>
          <a:xfrm>
            <a:off x="1835280" y="480708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6" descr=""/>
          <p:cNvPicPr/>
          <p:nvPr/>
        </p:nvPicPr>
        <p:blipFill>
          <a:blip r:embed="rId1"/>
          <a:stretch/>
        </p:blipFill>
        <p:spPr>
          <a:xfrm>
            <a:off x="1187280" y="2093760"/>
            <a:ext cx="6421680" cy="8604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8"/>
          <p:cNvSpPr/>
          <p:nvPr/>
        </p:nvSpPr>
        <p:spPr>
          <a:xfrm>
            <a:off x="636480" y="1281240"/>
            <a:ext cx="79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按下图所示的方式摆放餐桌和椅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餐桌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餐桌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餐桌坐多少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此规律摆放下去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餐桌可坐多少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8"/>
          <p:cNvSpPr/>
          <p:nvPr/>
        </p:nvSpPr>
        <p:spPr>
          <a:xfrm>
            <a:off x="971640" y="35622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矩形 17"/>
          <p:cNvSpPr/>
          <p:nvPr/>
        </p:nvSpPr>
        <p:spPr>
          <a:xfrm>
            <a:off x="1042920" y="47149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636480" y="1413000"/>
            <a:ext cx="784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按下图所示的方式摆放圆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堆圆片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此规律摆放下去，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堆圆片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5"/>
          <p:cNvSpPr/>
          <p:nvPr/>
        </p:nvSpPr>
        <p:spPr>
          <a:xfrm>
            <a:off x="2050920" y="3716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8" descr=""/>
          <p:cNvPicPr/>
          <p:nvPr/>
        </p:nvPicPr>
        <p:blipFill>
          <a:blip r:embed="rId1"/>
          <a:stretch/>
        </p:blipFill>
        <p:spPr>
          <a:xfrm>
            <a:off x="1270080" y="2133720"/>
            <a:ext cx="6615000" cy="1439640"/>
          </a:xfrm>
          <a:prstGeom prst="rect">
            <a:avLst/>
          </a:prstGeom>
          <a:ln w="0">
            <a:noFill/>
          </a:ln>
        </p:spPr>
      </p:pic>
      <p:sp>
        <p:nvSpPr>
          <p:cNvPr id="686" name="矩形 8"/>
          <p:cNvSpPr/>
          <p:nvPr/>
        </p:nvSpPr>
        <p:spPr>
          <a:xfrm>
            <a:off x="5005440" y="4292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636480" y="1413000"/>
            <a:ext cx="784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校买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足球，每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；又买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篮球，每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用含有字母的式子表示买足球和篮球一共花了多少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买篮球比买足球多花了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矩形 5"/>
          <p:cNvSpPr/>
          <p:nvPr/>
        </p:nvSpPr>
        <p:spPr>
          <a:xfrm>
            <a:off x="973080" y="3213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矩形 6"/>
          <p:cNvSpPr/>
          <p:nvPr/>
        </p:nvSpPr>
        <p:spPr>
          <a:xfrm>
            <a:off x="611280" y="4292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×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8"/>
          <p:cNvSpPr/>
          <p:nvPr/>
        </p:nvSpPr>
        <p:spPr>
          <a:xfrm>
            <a:off x="636480" y="1413000"/>
            <a:ext cx="784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制药厂六月份排放污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吨，更换设备后，七月份比六月份少排放污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七月份排放污水多少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六、七月份共排放污水多少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矩形 5"/>
          <p:cNvSpPr/>
          <p:nvPr/>
        </p:nvSpPr>
        <p:spPr>
          <a:xfrm>
            <a:off x="755640" y="3213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7"/>
          <p:cNvSpPr/>
          <p:nvPr/>
        </p:nvSpPr>
        <p:spPr>
          <a:xfrm>
            <a:off x="1116000" y="4869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8"/>
          <p:cNvSpPr/>
          <p:nvPr/>
        </p:nvSpPr>
        <p:spPr>
          <a:xfrm>
            <a:off x="636480" y="1413000"/>
            <a:ext cx="784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辆玩具火车的价钱比一辆玩具汽车的价钱多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买一辆玩具火车和两把玩具手枪，一共要花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111600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116000" y="4869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2" descr=""/>
          <p:cNvPicPr/>
          <p:nvPr/>
        </p:nvPicPr>
        <p:blipFill>
          <a:blip r:embed="rId1"/>
          <a:stretch/>
        </p:blipFill>
        <p:spPr>
          <a:xfrm>
            <a:off x="1790640" y="1662120"/>
            <a:ext cx="55339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8"/>
          <p:cNvSpPr/>
          <p:nvPr/>
        </p:nvSpPr>
        <p:spPr>
          <a:xfrm>
            <a:off x="636480" y="1413000"/>
            <a:ext cx="78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公共汽车上原来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在一处公交站下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上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现在这辆公共汽车上有多少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5"/>
          <p:cNvSpPr/>
          <p:nvPr/>
        </p:nvSpPr>
        <p:spPr>
          <a:xfrm>
            <a:off x="1260360" y="2852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21:32Z</dcterms:modified>
  <cp:revision>1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