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gif" ContentType="image/gif"/>
  <Override PartName="/ppt/media/image17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9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用字母表示公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</a:rPr>
              <a:t>二   用字母表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45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49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50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51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52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53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组合 1"/>
          <p:cNvGrpSpPr/>
          <p:nvPr/>
        </p:nvGrpSpPr>
        <p:grpSpPr>
          <a:xfrm>
            <a:off x="1552680" y="2028960"/>
            <a:ext cx="942840" cy="1366920"/>
            <a:chOff x="1552680" y="2028960"/>
            <a:chExt cx="942840" cy="1366920"/>
          </a:xfrm>
        </p:grpSpPr>
        <p:pic>
          <p:nvPicPr>
            <p:cNvPr id="136" name="Picture 23" descr=""/>
            <p:cNvPicPr/>
            <p:nvPr/>
          </p:nvPicPr>
          <p:blipFill>
            <a:blip r:embed="rId1"/>
            <a:stretch/>
          </p:blipFill>
          <p:spPr>
            <a:xfrm>
              <a:off x="1552680" y="2028960"/>
              <a:ext cx="94284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矩形 1"/>
            <p:cNvSpPr/>
            <p:nvPr/>
          </p:nvSpPr>
          <p:spPr>
            <a:xfrm>
              <a:off x="1734480" y="2844720"/>
              <a:ext cx="578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1"/>
          <p:cNvSpPr/>
          <p:nvPr/>
        </p:nvSpPr>
        <p:spPr>
          <a:xfrm>
            <a:off x="1601640" y="3352680"/>
            <a:ext cx="59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的面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作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平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Administrator\Desktop\QQ截图20171120135918.png"/>
          <p:cNvPicPr/>
          <p:nvPr/>
        </p:nvPicPr>
        <p:blipFill>
          <a:blip r:embed="rId2"/>
          <a:stretch/>
        </p:blipFill>
        <p:spPr>
          <a:xfrm>
            <a:off x="3154320" y="1833480"/>
            <a:ext cx="4884840" cy="1332000"/>
          </a:xfrm>
          <a:prstGeom prst="rect">
            <a:avLst/>
          </a:prstGeom>
          <a:ln w="0">
            <a:noFill/>
          </a:ln>
        </p:spPr>
      </p:pic>
      <p:sp>
        <p:nvSpPr>
          <p:cNvPr id="140" name="矩形 1"/>
          <p:cNvSpPr/>
          <p:nvPr/>
        </p:nvSpPr>
        <p:spPr>
          <a:xfrm>
            <a:off x="1601640" y="4564080"/>
            <a:ext cx="595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数学上，一般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周长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面积，正方形的周长公式和面积公式可分别写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755640" y="1374840"/>
            <a:ext cx="8058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填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个文具盒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一本画册比一个文具盒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              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条水渠全长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，已经修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李师傅每天做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零件，王师傅每天做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零件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                                                     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妈妈去买苹果，每千克苹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苹果花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妈妈付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应找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每千克苹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那么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克苹果应花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付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，应找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辆小汽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时行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米，平均每小时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12"/>
          <p:cNvGrpSpPr/>
          <p:nvPr/>
        </p:nvGrpSpPr>
        <p:grpSpPr>
          <a:xfrm>
            <a:off x="1060560" y="767160"/>
            <a:ext cx="4773600" cy="733680"/>
            <a:chOff x="1060560" y="767160"/>
            <a:chExt cx="4773600" cy="733680"/>
          </a:xfrm>
        </p:grpSpPr>
        <p:pic>
          <p:nvPicPr>
            <p:cNvPr id="14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02456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3"/>
            <p:cNvSpPr/>
            <p:nvPr/>
          </p:nvSpPr>
          <p:spPr>
            <a:xfrm>
              <a:off x="1311480" y="76716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6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3"/>
          <p:cNvSpPr/>
          <p:nvPr/>
        </p:nvSpPr>
        <p:spPr>
          <a:xfrm>
            <a:off x="971640" y="2421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一本画册的价钱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5867280" y="2852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未修的米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971640" y="3789360"/>
            <a:ext cx="49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李师傅和王师傅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天一共做的零件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6"/>
          <p:cNvSpPr/>
          <p:nvPr/>
        </p:nvSpPr>
        <p:spPr>
          <a:xfrm>
            <a:off x="3276720" y="4653000"/>
            <a:ext cx="9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7"/>
          <p:cNvSpPr/>
          <p:nvPr/>
        </p:nvSpPr>
        <p:spPr>
          <a:xfrm>
            <a:off x="7162920" y="47023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8"/>
          <p:cNvSpPr/>
          <p:nvPr/>
        </p:nvSpPr>
        <p:spPr>
          <a:xfrm>
            <a:off x="6516720" y="515772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2554200" y="5589720"/>
            <a:ext cx="8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6372360" y="605304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80÷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8"/>
          <p:cNvSpPr/>
          <p:nvPr/>
        </p:nvSpPr>
        <p:spPr>
          <a:xfrm>
            <a:off x="690480" y="1474920"/>
            <a:ext cx="769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本小说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小东每天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看了两个星期还没看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出下面的式子表示的意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           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求出式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7"/>
          <p:cNvSpPr/>
          <p:nvPr/>
        </p:nvSpPr>
        <p:spPr>
          <a:xfrm>
            <a:off x="2195640" y="32558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个星期一共看了多少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2698920" y="378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本小说还剩多少页没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1"/>
          <p:cNvSpPr/>
          <p:nvPr/>
        </p:nvSpPr>
        <p:spPr>
          <a:xfrm>
            <a:off x="1079640" y="4941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×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514520" y="2349360"/>
          <a:ext cx="6442200" cy="2835360"/>
        </p:xfrm>
        <a:graphic>
          <a:graphicData uri="http://schemas.openxmlformats.org/drawingml/2006/table">
            <a:tbl>
              <a:tblPr/>
              <a:tblGrid>
                <a:gridCol w="1247760"/>
                <a:gridCol w="3178080"/>
                <a:gridCol w="2016360"/>
              </a:tblGrid>
              <a:tr h="4572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图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字母意义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字母公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方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 宽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长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面积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正方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边长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长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面积：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444600" indent="-444600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8"/>
          <p:cNvSpPr/>
          <p:nvPr/>
        </p:nvSpPr>
        <p:spPr>
          <a:xfrm>
            <a:off x="977760" y="1474920"/>
            <a:ext cx="762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6516720" y="29242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6156360" y="34718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6156360" y="41194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6156360" y="46958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1050840" y="1197000"/>
            <a:ext cx="762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两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乘。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×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乘号可以省略不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写成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7469280" y="19162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7469280" y="296712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7469280" y="35290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7451640" y="41324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7469280" y="46227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1050840" y="1768320"/>
            <a:ext cx="762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计算下面各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　　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6"/>
          <p:cNvSpPr/>
          <p:nvPr/>
        </p:nvSpPr>
        <p:spPr>
          <a:xfrm>
            <a:off x="1822320" y="241632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4572000" y="2421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2036880" y="296712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4500720" y="2967120"/>
            <a:ext cx="13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1050840" y="1768320"/>
            <a:ext cx="76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含有字母的式子表示下列长方形的周长和面积。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长方形的周长和面积各是多少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1547640" y="3014640"/>
            <a:ext cx="36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×(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×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5292720" y="3198960"/>
            <a:ext cx="2808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1050840" y="920880"/>
            <a:ext cx="74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长方形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，长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，它的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÷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÷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形的宽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比宽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它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×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工程队修一段公路，计划每天修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由于天气不好，实际每天比计划少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后实际修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2050920" y="206064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7294680" y="3143160"/>
            <a:ext cx="5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820880" y="5375160"/>
            <a:ext cx="5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6"/>
          <p:cNvSpPr/>
          <p:nvPr/>
        </p:nvSpPr>
        <p:spPr>
          <a:xfrm>
            <a:off x="995400" y="2825640"/>
            <a:ext cx="7164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理解含有字母的式子表示 的意义“三步法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理解每个字母或数表示的意义分别是什么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辨析含有字母的式子所对应的等量关系式表示的意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．根据等量关系式表示的意义理解含有字母的式子所表示的意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7"/>
          <p:cNvGrpSpPr/>
          <p:nvPr/>
        </p:nvGrpSpPr>
        <p:grpSpPr>
          <a:xfrm>
            <a:off x="957240" y="1062720"/>
            <a:ext cx="5095800" cy="733680"/>
            <a:chOff x="957240" y="1062720"/>
            <a:chExt cx="5095800" cy="733680"/>
          </a:xfrm>
        </p:grpSpPr>
        <p:pic>
          <p:nvPicPr>
            <p:cNvPr id="19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文本框 23"/>
            <p:cNvSpPr/>
            <p:nvPr/>
          </p:nvSpPr>
          <p:spPr>
            <a:xfrm>
              <a:off x="1279440" y="1062720"/>
              <a:ext cx="47736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9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TextBox 36"/>
          <p:cNvSpPr/>
          <p:nvPr/>
        </p:nvSpPr>
        <p:spPr>
          <a:xfrm>
            <a:off x="790560" y="1677960"/>
            <a:ext cx="82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含有字母的式子表示长方形的周长和面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1" descr=""/>
          <p:cNvPicPr/>
          <p:nvPr/>
        </p:nvPicPr>
        <p:blipFill>
          <a:blip r:embed="rId2"/>
          <a:stretch/>
        </p:blipFill>
        <p:spPr>
          <a:xfrm>
            <a:off x="1117440" y="2606760"/>
            <a:ext cx="1962360" cy="11732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6"/>
          <p:cNvSpPr/>
          <p:nvPr/>
        </p:nvSpPr>
        <p:spPr>
          <a:xfrm>
            <a:off x="3505320" y="2606760"/>
            <a:ext cx="36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4376160" y="2606760"/>
            <a:ext cx="13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4415040" y="3206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55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59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63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67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75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含有字母的式子表示的意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用字母表示正方形的周长和面积的计算公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80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84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6"/>
          <p:cNvSpPr/>
          <p:nvPr/>
        </p:nvSpPr>
        <p:spPr>
          <a:xfrm>
            <a:off x="681120" y="2268360"/>
            <a:ext cx="46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足球话（          ）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老师给售货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，应该找回（                 ）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老师去买足球，每个足球的售价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256920" y="23716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8" descr=""/>
          <p:cNvPicPr/>
          <p:nvPr/>
        </p:nvPicPr>
        <p:blipFill>
          <a:blip r:embed="rId1"/>
          <a:stretch/>
        </p:blipFill>
        <p:spPr>
          <a:xfrm>
            <a:off x="5734080" y="2149560"/>
            <a:ext cx="218268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5"/>
          <p:cNvSpPr/>
          <p:nvPr/>
        </p:nvSpPr>
        <p:spPr>
          <a:xfrm>
            <a:off x="2047320" y="3435480"/>
            <a:ext cx="12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6"/>
          <p:cNvSpPr/>
          <p:nvPr/>
        </p:nvSpPr>
        <p:spPr>
          <a:xfrm>
            <a:off x="681120" y="1409760"/>
            <a:ext cx="476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出下面的式子表示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491080" y="1968480"/>
            <a:ext cx="2745000" cy="9572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1355760" y="3473280"/>
            <a:ext cx="670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彩色铅笔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蜡笔的总钱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彩色铅笔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蜡笔的总钱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蜡笔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彩色铅笔的总钱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表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彩色铅笔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盒蜡笔的总钱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6"/>
          <p:cNvSpPr/>
          <p:nvPr/>
        </p:nvSpPr>
        <p:spPr>
          <a:xfrm>
            <a:off x="681120" y="1409760"/>
            <a:ext cx="77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89080" y="1515960"/>
            <a:ext cx="6416640" cy="1551240"/>
          </a:xfrm>
          <a:prstGeom prst="rect">
            <a:avLst/>
          </a:prstGeom>
          <a:ln w="0">
            <a:noFill/>
          </a:ln>
        </p:spPr>
      </p:pic>
      <p:sp>
        <p:nvSpPr>
          <p:cNvPr id="214" name="TextBox 36"/>
          <p:cNvSpPr/>
          <p:nvPr/>
        </p:nvSpPr>
        <p:spPr>
          <a:xfrm>
            <a:off x="719280" y="298944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出下面的式子表示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1273320" y="4095720"/>
            <a:ext cx="76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苹果和橘子的总千克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梨和橘子的总千克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苹果、梨和橘子的总千克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苹果和梨的质量比橘子的质量多的千克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6"/>
          <p:cNvSpPr/>
          <p:nvPr/>
        </p:nvSpPr>
        <p:spPr>
          <a:xfrm>
            <a:off x="517680" y="1409760"/>
            <a:ext cx="771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小明每分钟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。说出下面式子表示的意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517680" y="3735360"/>
            <a:ext cx="8121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>
              <a:lnSpc>
                <a:spcPct val="150000"/>
              </a:lnSpc>
              <a:tabLst>
                <a:tab algn="l" pos="0"/>
                <a:tab algn="l" pos="2146320"/>
                <a:tab algn="l" pos="412416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如果小明每分钟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，求上面三个式子的值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636560" y="2406600"/>
            <a:ext cx="426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表示小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钟走的米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②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表示小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钟走的米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③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表示小明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分钟走的米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636560" y="4475160"/>
            <a:ext cx="426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15×65=97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30×65=19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=60×65=39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1042920" y="1911240"/>
            <a:ext cx="69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的意义相同。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9800" indent="-469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22"/>
          <p:cNvSpPr/>
          <p:nvPr/>
        </p:nvSpPr>
        <p:spPr>
          <a:xfrm>
            <a:off x="1547640" y="3789360"/>
            <a:ext cx="66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7000" indent="-9270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两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乘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两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9"/>
          <p:cNvSpPr/>
          <p:nvPr/>
        </p:nvSpPr>
        <p:spPr>
          <a:xfrm>
            <a:off x="7305480" y="257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8"/>
          <p:cNvSpPr/>
          <p:nvPr/>
        </p:nvSpPr>
        <p:spPr>
          <a:xfrm>
            <a:off x="7305480" y="3182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矩形 12" descr=""/>
          <p:cNvPicPr/>
          <p:nvPr/>
        </p:nvPicPr>
        <p:blipFill>
          <a:blip r:embed="rId3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1" descr="情境导入.png"/>
          <p:cNvPicPr/>
          <p:nvPr/>
        </p:nvPicPr>
        <p:blipFill>
          <a:blip r:embed="rId2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237960" y="1227960"/>
            <a:ext cx="83217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括号里填上合适的式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明原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故事书，捐献给云南灾区小朋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剩（    ）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公共汽车上有乘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，到中山公园站上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车上有（      ）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种糖果每千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，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需（    ）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（   ）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种空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台的总价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，那么一台空调的单价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749960" y="233856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3300"/>
                </a:solidFill>
                <a:latin typeface="宋体"/>
                <a:ea typeface="宋体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380680" y="328464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+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873760" y="3749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733400" y="42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357920" y="5211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÷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"/>
          <p:cNvGrpSpPr/>
          <p:nvPr/>
        </p:nvGrpSpPr>
        <p:grpSpPr>
          <a:xfrm>
            <a:off x="981000" y="1852560"/>
            <a:ext cx="7502760" cy="713520"/>
            <a:chOff x="981000" y="1852560"/>
            <a:chExt cx="7502760" cy="713520"/>
          </a:xfrm>
        </p:grpSpPr>
        <p:sp>
          <p:nvSpPr>
            <p:cNvPr id="97" name="矩形 1"/>
            <p:cNvSpPr/>
            <p:nvPr/>
          </p:nvSpPr>
          <p:spPr>
            <a:xfrm>
              <a:off x="1597680" y="1923480"/>
              <a:ext cx="688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学校计划每月用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吨水，实际平均每月节约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吨水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99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01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2"/>
          <p:cNvGrpSpPr/>
          <p:nvPr/>
        </p:nvGrpSpPr>
        <p:grpSpPr>
          <a:xfrm>
            <a:off x="503280" y="1143000"/>
            <a:ext cx="7378560" cy="666720"/>
            <a:chOff x="503280" y="1143000"/>
            <a:chExt cx="7378560" cy="666720"/>
          </a:xfrm>
        </p:grpSpPr>
        <p:sp>
          <p:nvSpPr>
            <p:cNvPr id="103" name="文本框 13"/>
            <p:cNvSpPr/>
            <p:nvPr/>
          </p:nvSpPr>
          <p:spPr>
            <a:xfrm>
              <a:off x="1671840" y="1190520"/>
              <a:ext cx="621000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含有字母的式子表示的意义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3" descr="C:\Users\Administrator\Desktop\图片6.png"/>
          <p:cNvPicPr/>
          <p:nvPr/>
        </p:nvPicPr>
        <p:blipFill>
          <a:blip r:embed="rId4"/>
          <a:stretch/>
        </p:blipFill>
        <p:spPr>
          <a:xfrm>
            <a:off x="1987560" y="2570040"/>
            <a:ext cx="51688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1120680" y="1635120"/>
            <a:ext cx="68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2979720" y="3054240"/>
            <a:ext cx="40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实际平均每月用水的吨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一个季度计划用水的吨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一个季度实际节约用水的吨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表示实际一年用水的吨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Administrator\Desktop\图片2.png"/>
          <p:cNvPicPr/>
          <p:nvPr/>
        </p:nvPicPr>
        <p:blipFill>
          <a:blip r:embed="rId1"/>
          <a:stretch/>
        </p:blipFill>
        <p:spPr>
          <a:xfrm>
            <a:off x="1611360" y="1268280"/>
            <a:ext cx="5933880" cy="3926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522440" cy="924120"/>
          </a:xfrm>
          <a:prstGeom prst="rect">
            <a:avLst/>
          </a:prstGeom>
          <a:ln w="0">
            <a:noFill/>
          </a:ln>
        </p:spPr>
      </p:pic>
      <p:sp>
        <p:nvSpPr>
          <p:cNvPr id="113" name="矩形 3"/>
          <p:cNvSpPr/>
          <p:nvPr/>
        </p:nvSpPr>
        <p:spPr>
          <a:xfrm>
            <a:off x="2087640" y="1515960"/>
            <a:ext cx="68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面式子中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分别表示哪些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2905560" y="3409920"/>
            <a:ext cx="47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面式子中的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都不能等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并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4"/>
          <p:cNvGrpSpPr/>
          <p:nvPr/>
        </p:nvGrpSpPr>
        <p:grpSpPr>
          <a:xfrm>
            <a:off x="981000" y="2346480"/>
            <a:ext cx="6864480" cy="603000"/>
            <a:chOff x="981000" y="2346480"/>
            <a:chExt cx="6864480" cy="603000"/>
          </a:xfrm>
        </p:grpSpPr>
        <p:sp>
          <p:nvSpPr>
            <p:cNvPr id="116" name="矩形 1"/>
            <p:cNvSpPr/>
            <p:nvPr/>
          </p:nvSpPr>
          <p:spPr>
            <a:xfrm>
              <a:off x="1597680" y="2417400"/>
              <a:ext cx="62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用字母表示正方形的周长公式和面积公式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7" name="组合 3"/>
            <p:cNvGrpSpPr/>
            <p:nvPr/>
          </p:nvGrpSpPr>
          <p:grpSpPr>
            <a:xfrm>
              <a:off x="981000" y="2346480"/>
              <a:ext cx="519840" cy="603000"/>
              <a:chOff x="981000" y="2346480"/>
              <a:chExt cx="519840" cy="603000"/>
            </a:xfrm>
          </p:grpSpPr>
          <p:pic>
            <p:nvPicPr>
              <p:cNvPr id="118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2346480"/>
                <a:ext cx="519840" cy="60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TextBox 1"/>
              <p:cNvSpPr/>
              <p:nvPr/>
            </p:nvSpPr>
            <p:spPr>
              <a:xfrm>
                <a:off x="1083600" y="2442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2"/>
          <p:cNvGrpSpPr/>
          <p:nvPr/>
        </p:nvGrpSpPr>
        <p:grpSpPr>
          <a:xfrm>
            <a:off x="503280" y="1143000"/>
            <a:ext cx="7980480" cy="666720"/>
            <a:chOff x="503280" y="1143000"/>
            <a:chExt cx="7980480" cy="666720"/>
          </a:xfrm>
        </p:grpSpPr>
        <p:sp>
          <p:nvSpPr>
            <p:cNvPr id="122" name="文本框 13"/>
            <p:cNvSpPr/>
            <p:nvPr/>
          </p:nvSpPr>
          <p:spPr>
            <a:xfrm>
              <a:off x="1671840" y="1190520"/>
              <a:ext cx="681192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44600" indent="-1344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含用字母表示正方形的周长和面积的计算公式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组合 1"/>
          <p:cNvGrpSpPr/>
          <p:nvPr/>
        </p:nvGrpSpPr>
        <p:grpSpPr>
          <a:xfrm>
            <a:off x="2238480" y="3403440"/>
            <a:ext cx="942840" cy="1367280"/>
            <a:chOff x="2238480" y="3403440"/>
            <a:chExt cx="942840" cy="1367280"/>
          </a:xfrm>
        </p:grpSpPr>
        <p:pic>
          <p:nvPicPr>
            <p:cNvPr id="125" name="Picture 23" descr=""/>
            <p:cNvPicPr/>
            <p:nvPr/>
          </p:nvPicPr>
          <p:blipFill>
            <a:blip r:embed="rId4"/>
            <a:stretch/>
          </p:blipFill>
          <p:spPr>
            <a:xfrm>
              <a:off x="2238480" y="3403440"/>
              <a:ext cx="94284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2420280" y="4219560"/>
              <a:ext cx="578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4" descr=""/>
          <p:cNvPicPr/>
          <p:nvPr/>
        </p:nvPicPr>
        <p:blipFill>
          <a:blip r:embed="rId5"/>
          <a:stretch/>
        </p:blipFill>
        <p:spPr>
          <a:xfrm>
            <a:off x="4519440" y="3403440"/>
            <a:ext cx="2148120" cy="989280"/>
          </a:xfrm>
          <a:prstGeom prst="rect">
            <a:avLst/>
          </a:prstGeom>
          <a:ln w="0">
            <a:noFill/>
          </a:ln>
        </p:spPr>
      </p:pic>
      <p:sp>
        <p:nvSpPr>
          <p:cNvPr id="128" name="矩形 36"/>
          <p:cNvSpPr/>
          <p:nvPr/>
        </p:nvSpPr>
        <p:spPr>
          <a:xfrm>
            <a:off x="4509000" y="4979880"/>
            <a:ext cx="99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字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示正方形的边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"/>
          <p:cNvGrpSpPr/>
          <p:nvPr/>
        </p:nvGrpSpPr>
        <p:grpSpPr>
          <a:xfrm>
            <a:off x="1552680" y="2028960"/>
            <a:ext cx="942840" cy="1366920"/>
            <a:chOff x="1552680" y="2028960"/>
            <a:chExt cx="942840" cy="1366920"/>
          </a:xfrm>
        </p:grpSpPr>
        <p:pic>
          <p:nvPicPr>
            <p:cNvPr id="130" name="Picture 23" descr=""/>
            <p:cNvPicPr/>
            <p:nvPr/>
          </p:nvPicPr>
          <p:blipFill>
            <a:blip r:embed="rId1"/>
            <a:stretch/>
          </p:blipFill>
          <p:spPr>
            <a:xfrm>
              <a:off x="1552680" y="2028960"/>
              <a:ext cx="942840" cy="9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1734480" y="2844720"/>
              <a:ext cx="578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962440" y="1982880"/>
            <a:ext cx="5171760" cy="111132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1428840" y="374652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的周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形的周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24:00Z</dcterms:modified>
  <cp:revision>5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