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A3A3-EA8B-493D-B444-9924540C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FED8-3AB6-48BD-8D0E-DD83AD11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4E100-B428-4054-8F9D-2FDC0D35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E42E-8A73-4AC1-A439-43BEF210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E17EF-9DFF-41A9-9D75-3F17DAA3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8F559-A4E2-4A1F-AFE8-BA0C920B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5CF5-3F8B-43F0-8A1F-EF8E6ED0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01D29-3726-4B36-922E-ADADA983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1188-D5BA-4B89-84E8-863A7FD6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459D4-F391-40A0-94A2-12726026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226B5-732C-4CB3-BE3A-DB8BC035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66BA1-E840-4E6C-83C0-A56E0527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39D12-5840-43C6-B1CB-E586F75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2DF51-092F-4B53-9656-EB461EC8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28EB3-EE49-4870-B6AC-612842D3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F4813-2D72-4A8B-A659-6888CD94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BCC57-EF76-43AA-9910-BF33699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4010C-363D-4D37-AAB9-F562984A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336AB-EBDA-48A5-A6C7-F4CEE7FE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9497E-2A00-48CF-B8CC-DEA2E77F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94749-07D2-4C6D-9349-9B1159F6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A83A0-7869-4651-9467-D925E68E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E4630-398F-410E-8D25-0F50B49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D5B98-CB52-4BB1-AB3D-8FA0A830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B1853-7B98-442E-B071-4B722CBE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AE6E1-1770-411B-BF8D-B187731C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CFA63-5ED1-4BEC-AF46-EC5F532F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BADD3-9412-424B-A69A-9F1A2A95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320D5-7CCC-4B56-811B-EC23F2D3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3FB40-4AD7-4770-B052-8BE5B92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E3DE8-7C60-4079-9BBD-644F2F43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57058-31B8-4EE2-BA8A-A7750BC4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2BC6B-21B8-4170-BB87-407DCEDF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4B77E-189E-4F22-965F-B878752E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ADEB9-110C-4BB4-88E5-4D4C3608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76B76-EEC1-4106-BDA6-CF04E2EA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BA6B7-1751-4EAD-BB31-699A4205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965EA-322B-4E85-9C68-8D3F03FD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DCAAE-7848-481D-BF59-05CE4C49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F35D6-167F-41B0-8E1C-5F47A5C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F9DAA-9413-438D-86CC-9DF91627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66191-7D1E-4BF0-AC9D-A3DB8187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44300-BB38-4F39-B7A9-35F57AFE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21C6D-B7AF-4479-AA4C-57DB5429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97094-19C8-4803-9A9E-60D2495D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E8807-2A6C-46CF-B147-99F23B07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833ED-C58D-425D-9C37-A9EB3127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FDD7E-347D-41AD-BA8C-EFA49E94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C65C0-5C2E-4A1F-8EDF-825A5FBC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8B3CE-B535-4F80-AA76-17B0E39A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AC827-8A64-471A-8A85-07E0CA5E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C4C18-969D-4EDE-ADB8-B472379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2128D-409A-42AF-8064-97DF510C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13128-89BF-4830-87A2-8B8B821B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21A45-F2AA-4202-99CD-6AB23FA5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3557D-F36F-4982-8629-377A20D2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3B66E-B608-4108-81C8-A828C873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7AB26-11BE-47DE-A73A-16662AEF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F663A-BB92-4A0D-9937-F343A092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43DBD-CCC6-4727-8C78-DDC1ED0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D0F79-5DB3-4864-B694-7110515F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81761-BFF7-4BA3-82BE-1D92521D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6F5CD-1371-4DF5-B48A-71A0338D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4D8AD-1A0D-4A2C-AE6F-852B112E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BE253-06D2-4D5D-8DC9-F36AF020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07FBB-C441-417E-BA10-9152A588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327EE-B461-4364-80F2-6AFF88A9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D703F-1B02-431B-B7A1-3408C02C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38BE4-19A0-4747-BDF7-F52C5CAD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3E131-34AD-464B-B917-13B5622B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7E8A3-0CFF-4CEB-B454-625B16BB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64F2F-7F04-4EA8-8AC6-62B48E37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333A0-E503-4391-BE5D-E3821E37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51498-18FB-417F-9C7B-20CCD8F2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5AC66-E6E7-482B-8C21-79729758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3C4D5-2023-44DF-9068-66DB7B2D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3BE48-51A9-41F3-B22B-5B4BF5C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6982E-3146-4BAD-B202-3774ED4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A8069-8C5F-4726-93CD-5A989C2C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B9D45-151A-4243-91AD-E527D855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25070-BEF8-40F6-8829-A49A4E46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9CBF3-7616-42DB-953E-5BEE00CC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59F9F-564D-421C-BC5F-FDF668A2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38221-8162-4C3F-9C14-084BB67A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60E55-3F4B-4159-8072-D2DC2D00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AD3EA-E50A-433E-B373-445306CE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637FA-E841-4DBE-BFD0-D79E64E8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47FAF-91D5-4F17-9FC8-DC2104F4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A105F-B80C-42DB-AE90-4AF79F37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87A0C-7B14-4F16-B69F-3344175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EA5D9-A652-4DFC-B86A-E66C7474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7ABC8-7095-4406-ADE8-B16AF47C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9B070-A140-4E35-8215-EA904191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D37-BD82-4DA1-BB65-9BEA629F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034-5C75-4D5C-81D9-46035DFC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65E-A43C-4F17-AD5C-74F02911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630-C4D8-4CE9-9E0E-9ABBF21D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E1A-40F0-4CD2-8DFE-3D70D366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BB7-B5B7-45E1-8375-B218EFEB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5ED-14C8-4D40-8D75-A6E2D2B7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431-9DEB-4FD5-BE16-9F015E5A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178-71F1-4868-B8BB-712DE9A0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132-9363-4F09-B5C6-AB21751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D00-BB89-4C26-B312-6AF9B304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CFC-0F90-4085-9E1C-65ED6422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9E33-21A8-4B8F-B617-5A2BAFCD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E152-6D20-4D90-849F-5CB5A890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AEF9-95D3-4597-B7F3-787F2083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F99B-0325-4B93-AC78-45DA4ED9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D3E6-F2F8-4D98-AE4B-565E5389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F52D-6B42-4484-A22B-C75548FE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8D9E-7FF6-43B9-A9F9-07095CC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49AD-01F5-4C56-AADF-854C83DF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1E2E-DD08-4D4A-A280-938FCDD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6F81-BAD4-442E-99FF-5D23599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C512-A6AC-49D4-8EBB-70F91D42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35E3-C08A-4139-AD8B-FE5F2A59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13B0-8DC4-4B57-B273-0BA7E622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8C54-B35E-4F56-A836-5C70AB03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8F50-007B-4D83-BA96-CA564273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32E7-A1CC-4FDC-8816-20457151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BD475-5540-4403-8422-53E0C247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4AFD-A5D8-43EB-8D9E-10AF44FA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AD48-B1A4-4510-97CF-974757A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B89F-313B-4810-B93B-24196D00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382F-AC02-4F23-9A3E-2B44F863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93AF-2725-49B8-8C68-A1951F40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A81B-79F7-46A7-B47C-B94C094A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BF88-359A-4C17-805D-CF8023FE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8A55-9C3B-45DB-9416-8D70FA17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6103-EC61-4D95-A6DF-B65AA1DB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570F-D278-4B3E-9673-C10CE7DA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37F1-16F5-43DE-AE38-2E3C5C5A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CDBC-5D51-4719-8C48-2BBCF14D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22346-597B-41BD-BEAB-B7961CDA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20F3D-0852-470F-824A-EC91369F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9BAE-BC47-4666-9B31-E404A92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2B106-84A5-4262-B9AD-ED28C0DF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586C-690B-4429-BC31-8D85B7D7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14D4-E405-467D-84F1-9BF69B5E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6D70C-DD51-4037-B754-7A39F588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53B0B-3E00-4681-99C1-4A502279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A1F45-A6C2-425B-91A4-D2F22176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23BA0-3A54-4379-9083-FCF9A941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FD9B2-4B8F-4468-A420-CF0AD91C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1AA95-EAB9-4AE6-98EE-9BF814AE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D2905-0993-44F7-95CE-385DE311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4D1D-05EF-40B3-8FCF-F0D96864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68BC-A3F9-4E30-9A6C-40793779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8A6E2-90D8-4E6E-B391-F40F34A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B233-F206-47BA-9E79-DB11519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FF92-1692-4AE5-85D7-9139FAFB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10E8-1F79-4BCC-99BE-D252CAC0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1F41-E6C2-4246-BFE1-E921BC0D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723F-72B9-45F3-9BB9-8C1805EB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D94A9-C54F-46EE-BAAD-AEE8DB7C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23E0-4198-411D-A5A0-0030E273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64224-70ED-4F07-AD83-EC9E17C2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4AEA1-0A0C-4F03-9B6F-74A1DCCB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FE714-CC20-4552-8F1C-519292DF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D9199-89E9-4E05-93D7-B45BF6B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2122-E09A-4DB0-90D3-7FBAF29B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24930-DDB5-423C-9A21-863DD1A2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B3B0A-04CB-4C3A-BBC9-088F9283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7489-D9C2-4550-8D8D-70B1415D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5E9D7-8EB1-4D69-A2A7-5068D2B2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7E46B-3D87-48BC-87B5-0F31BC2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FCE9B-4890-4FE1-B646-81F49130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1F49-6787-4F4D-8B4C-7EEAD2454FF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8E8F-E267-4222-89C3-BF374288D5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0725-19A3-45DF-83FD-DEDAB14DD49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E876-E169-401D-A7A7-93DCA972260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3FFB-2D57-45BA-AB1E-6482138939B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CAF0-CBBB-420C-9E57-E64FE949BE8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622A-B98E-4731-9734-436FD6CA320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90BCD-0EB3-4AC9-A2BD-9C62A3B526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F2B1-F1FF-4DD0-BC4C-D8BB40BDDF2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3297-849E-40E2-90AD-ACA7F344739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683-95C5-424F-8050-D4881D774F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7904-4A7B-4BBC-A4B6-C582D6F4020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DA1-1C5E-4B2A-9A5C-218405EB22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E23E-DD50-4BA9-A47A-0515EF83650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字母表示加法运算定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 用字母表示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8"/>
          <p:cNvSpPr/>
          <p:nvPr/>
        </p:nvSpPr>
        <p:spPr>
          <a:xfrm>
            <a:off x="684360" y="1866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简便方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713" name="圆角矩形 7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矩形 10"/>
          <p:cNvSpPr/>
          <p:nvPr/>
        </p:nvSpPr>
        <p:spPr>
          <a:xfrm>
            <a:off x="1403280" y="2924280"/>
            <a:ext cx="312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)×200÷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1×200÷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2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22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233360" y="1889280"/>
            <a:ext cx="686772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运用凑整规律和拆分规律解决加法简算问题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运用找基准数法解决简算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运用加法运算律解决实际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611280" y="1790640"/>
            <a:ext cx="799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简便方法计算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请你先把算式补充完整，再接着往下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4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94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3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    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1116000"/>
            <a:ext cx="2809800" cy="668520"/>
            <a:chOff x="595440" y="1116000"/>
            <a:chExt cx="2809800" cy="66852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22868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2160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11600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矩形 1"/>
          <p:cNvSpPr/>
          <p:nvPr/>
        </p:nvSpPr>
        <p:spPr>
          <a:xfrm>
            <a:off x="2633760" y="35751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2"/>
          <p:cNvSpPr/>
          <p:nvPr/>
        </p:nvSpPr>
        <p:spPr>
          <a:xfrm>
            <a:off x="4929120" y="3575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6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3"/>
          <p:cNvSpPr/>
          <p:nvPr/>
        </p:nvSpPr>
        <p:spPr>
          <a:xfrm>
            <a:off x="6531120" y="357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4"/>
          <p:cNvSpPr/>
          <p:nvPr/>
        </p:nvSpPr>
        <p:spPr>
          <a:xfrm>
            <a:off x="7530120" y="357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5"/>
          <p:cNvSpPr/>
          <p:nvPr/>
        </p:nvSpPr>
        <p:spPr>
          <a:xfrm>
            <a:off x="882720" y="4076640"/>
            <a:ext cx="40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6"/>
          <p:cNvSpPr/>
          <p:nvPr/>
        </p:nvSpPr>
        <p:spPr>
          <a:xfrm>
            <a:off x="1496160" y="46227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7"/>
          <p:cNvSpPr/>
          <p:nvPr/>
        </p:nvSpPr>
        <p:spPr>
          <a:xfrm>
            <a:off x="3156120" y="573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8"/>
          <p:cNvSpPr/>
          <p:nvPr/>
        </p:nvSpPr>
        <p:spPr>
          <a:xfrm>
            <a:off x="4168080" y="5732640"/>
            <a:ext cx="12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3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9"/>
          <p:cNvSpPr/>
          <p:nvPr/>
        </p:nvSpPr>
        <p:spPr>
          <a:xfrm>
            <a:off x="5800680" y="5732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3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8"/>
          <p:cNvSpPr/>
          <p:nvPr/>
        </p:nvSpPr>
        <p:spPr>
          <a:xfrm>
            <a:off x="800280" y="1474920"/>
            <a:ext cx="780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简便方法计算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请你先把算式补充完整，再接着往下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50        ___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50        ___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×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        ____         ___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Picture 15" descr=""/>
          <p:cNvPicPr/>
          <p:nvPr/>
        </p:nvPicPr>
        <p:blipFill>
          <a:blip r:embed="rId1"/>
          <a:stretch/>
        </p:blipFill>
        <p:spPr>
          <a:xfrm>
            <a:off x="7308720" y="3228840"/>
            <a:ext cx="517680" cy="501840"/>
          </a:xfrm>
          <a:prstGeom prst="rect">
            <a:avLst/>
          </a:prstGeom>
          <a:ln w="0">
            <a:noFill/>
          </a:ln>
        </p:spPr>
      </p:pic>
      <p:sp>
        <p:nvSpPr>
          <p:cNvPr id="684" name="矩形 1"/>
          <p:cNvSpPr/>
          <p:nvPr/>
        </p:nvSpPr>
        <p:spPr>
          <a:xfrm>
            <a:off x="5405400" y="322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15" descr=""/>
          <p:cNvPicPr/>
          <p:nvPr/>
        </p:nvPicPr>
        <p:blipFill>
          <a:blip r:embed="rId2"/>
          <a:stretch/>
        </p:blipFill>
        <p:spPr>
          <a:xfrm>
            <a:off x="5313240" y="3209760"/>
            <a:ext cx="517680" cy="5018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5" descr=""/>
          <p:cNvPicPr/>
          <p:nvPr/>
        </p:nvPicPr>
        <p:blipFill>
          <a:blip r:embed="rId3"/>
          <a:stretch/>
        </p:blipFill>
        <p:spPr>
          <a:xfrm>
            <a:off x="3859200" y="3790800"/>
            <a:ext cx="517680" cy="5018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5" descr=""/>
          <p:cNvPicPr/>
          <p:nvPr/>
        </p:nvPicPr>
        <p:blipFill>
          <a:blip r:embed="rId4"/>
          <a:stretch/>
        </p:blipFill>
        <p:spPr>
          <a:xfrm>
            <a:off x="5156280" y="3790800"/>
            <a:ext cx="517320" cy="501840"/>
          </a:xfrm>
          <a:prstGeom prst="rect">
            <a:avLst/>
          </a:prstGeom>
          <a:ln w="0">
            <a:noFill/>
          </a:ln>
        </p:spPr>
      </p:pic>
      <p:sp>
        <p:nvSpPr>
          <p:cNvPr id="688" name="矩形 2"/>
          <p:cNvSpPr/>
          <p:nvPr/>
        </p:nvSpPr>
        <p:spPr>
          <a:xfrm>
            <a:off x="5870520" y="320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矩形 3"/>
          <p:cNvSpPr/>
          <p:nvPr/>
        </p:nvSpPr>
        <p:spPr>
          <a:xfrm>
            <a:off x="7373880" y="3228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4"/>
          <p:cNvSpPr/>
          <p:nvPr/>
        </p:nvSpPr>
        <p:spPr>
          <a:xfrm>
            <a:off x="7980480" y="320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矩形 5"/>
          <p:cNvSpPr/>
          <p:nvPr/>
        </p:nvSpPr>
        <p:spPr>
          <a:xfrm>
            <a:off x="3948120" y="3811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6"/>
          <p:cNvSpPr/>
          <p:nvPr/>
        </p:nvSpPr>
        <p:spPr>
          <a:xfrm>
            <a:off x="45244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19"/>
          <p:cNvSpPr/>
          <p:nvPr/>
        </p:nvSpPr>
        <p:spPr>
          <a:xfrm>
            <a:off x="5234760" y="379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20"/>
          <p:cNvSpPr/>
          <p:nvPr/>
        </p:nvSpPr>
        <p:spPr>
          <a:xfrm>
            <a:off x="590976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21"/>
          <p:cNvSpPr/>
          <p:nvPr/>
        </p:nvSpPr>
        <p:spPr>
          <a:xfrm>
            <a:off x="1781280" y="4292640"/>
            <a:ext cx="12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22"/>
          <p:cNvSpPr/>
          <p:nvPr/>
        </p:nvSpPr>
        <p:spPr>
          <a:xfrm>
            <a:off x="1827360" y="486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8"/>
          <p:cNvSpPr/>
          <p:nvPr/>
        </p:nvSpPr>
        <p:spPr>
          <a:xfrm>
            <a:off x="636480" y="141300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黄河全长多少千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8"/>
          <p:cNvSpPr/>
          <p:nvPr/>
        </p:nvSpPr>
        <p:spPr>
          <a:xfrm>
            <a:off x="1370160" y="2349360"/>
            <a:ext cx="318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7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7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2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9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70(k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5454720" y="2162160"/>
          <a:ext cx="3024000" cy="1717560"/>
        </p:xfrm>
        <a:graphic>
          <a:graphicData uri="http://schemas.openxmlformats.org/drawingml/2006/table">
            <a:tbl>
              <a:tblPr/>
              <a:tblGrid>
                <a:gridCol w="1510920"/>
                <a:gridCol w="1513080"/>
              </a:tblGrid>
              <a:tr h="5716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70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0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0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636480" y="1413000"/>
            <a:ext cx="784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实验小学四年级同学为地震灾区捐水情况如下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验小学四年级同学共捐水多少瓶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矩形 5"/>
          <p:cNvSpPr/>
          <p:nvPr/>
        </p:nvSpPr>
        <p:spPr>
          <a:xfrm>
            <a:off x="1258920" y="443700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6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1332000" y="2227320"/>
          <a:ext cx="6591240" cy="1203120"/>
        </p:xfrm>
        <a:graphic>
          <a:graphicData uri="http://schemas.openxmlformats.org/drawingml/2006/table">
            <a:tbl>
              <a:tblPr/>
              <a:tblGrid>
                <a:gridCol w="1317600"/>
                <a:gridCol w="1319400"/>
                <a:gridCol w="1317600"/>
                <a:gridCol w="1317600"/>
                <a:gridCol w="1319040"/>
              </a:tblGrid>
              <a:tr h="6012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瓶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8"/>
          <p:cNvSpPr/>
          <p:nvPr/>
        </p:nvSpPr>
        <p:spPr>
          <a:xfrm>
            <a:off x="636480" y="145728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暑假期间，爸爸、妈妈带小亮参观了北京大学、长城、天安门、故宫等景点。算一算，小亮一家人一共花了多少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5"/>
          <p:cNvSpPr/>
          <p:nvPr/>
        </p:nvSpPr>
        <p:spPr>
          <a:xfrm>
            <a:off x="1066680" y="3457440"/>
            <a:ext cx="48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45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4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4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6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1"/>
          <a:stretch/>
        </p:blipFill>
        <p:spPr>
          <a:xfrm>
            <a:off x="6072120" y="3213000"/>
            <a:ext cx="23828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>
            <a:off x="636480" y="1457280"/>
            <a:ext cx="76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实验小学四年级向“希望学校”捐款。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班捐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；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班捐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比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班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四年级同学一共捐款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5"/>
          <p:cNvSpPr/>
          <p:nvPr/>
        </p:nvSpPr>
        <p:spPr>
          <a:xfrm>
            <a:off x="1282680" y="3213000"/>
            <a:ext cx="57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8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8"/>
          <p:cNvSpPr/>
          <p:nvPr/>
        </p:nvSpPr>
        <p:spPr>
          <a:xfrm>
            <a:off x="636480" y="1413000"/>
            <a:ext cx="78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有一群动物在渡口准备过江。现有一大一小两条渡船，这些动物能同时过江吗？如何乘船合适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5"/>
          <p:cNvSpPr/>
          <p:nvPr/>
        </p:nvSpPr>
        <p:spPr>
          <a:xfrm>
            <a:off x="1413000" y="54450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1824120" y="2565360"/>
            <a:ext cx="577224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26:21Z</dcterms:modified>
  <cp:revision>1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