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8C531-0D80-4750-96C2-6D30725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F5ED-3CCF-42C2-939C-1F4170B3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F3933-21E9-407F-B786-40C37FAB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998D8-1778-4565-B4E2-30623A3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CD45-4535-45A3-8CAE-F9CB6EA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E3B9A-7DFF-4325-9718-22B40A8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C836-A617-4175-A9FD-E2088C92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011DF-2F8B-4310-812D-243121AA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EA1B-A44C-4FB0-B2D3-D612F3E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AD77-C326-4343-800D-D60D3562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35F6A-05E9-4F35-9B1C-72AB7544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979E-93C8-4CB0-8BCA-90A21B8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836F-B71B-4B07-B1E5-49AAD220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5E8DB-D53C-4379-B8BB-DAD6E2C9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1CA8D-B13C-4C0D-8E11-95E0E47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B460-4C2B-41C4-ACD9-CD84788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9264-2753-44AF-815C-58F8B33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F74A-7C68-433E-A1FA-7C13806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DF60-A88B-48BB-98EE-88EC5FBE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C2D9D-F963-44D0-8201-435C9C74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E288E-94BD-4692-8A17-F8D613EF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AEC3C-FC9A-4712-BFB2-19118D7F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5383A-99A0-4EC5-B895-F4307111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53464-F7B8-47DB-AC7A-204843F0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4FFC5-DAB3-4F9D-B590-56FDB84D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71BF4-BD21-4599-B59B-F6DE518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B9703-C35F-4B49-B4FE-9AB6EC5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0FF9-6238-4682-81B6-BCC8177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ABCDB-A3F6-4EAC-8D36-82BB698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6AC48-EFAA-4F18-BFAD-72143CA4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EB5E-4A9C-477F-A79C-3DC98FFC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44797-C104-456F-B160-F052BC23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EA7B4-EEDB-4FA9-B036-DA7AAC16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FC418-FEDE-44F6-9EF5-11E7DE5D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7CA7E-2211-4A4B-93D5-98BB09F6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88140-0094-4779-B8FC-9F2600E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75388-9950-4670-9240-08AE5B6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23ED3-3DB3-44A6-B13F-CE23CDF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E9529-E851-476E-BE28-B4CD675F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86BDD-7421-4FF8-A7B5-4D6421F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3AF4E-81F6-402A-AAC9-2C331E4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364CD-35FA-4DDC-9662-6D3597B1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4EDE8-24DA-4D9C-9DA7-7FF07069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461D-1009-40FC-A76F-349CEE9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9A839-9527-421A-A43B-661907E5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3919-88D4-42E5-A465-C71EA4A8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72A3-15CA-42CA-A978-25D9964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2DF2C-45FB-4A56-9E0E-7F3FBF78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D1A84-354A-40DF-8C8D-2B682E75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028FC-1731-4BD4-9CE1-A6A9F553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F975D-3691-43E4-91FF-D00703B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E7567-92B7-4502-A61B-DF4A14F0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98B3-1BE2-4CF5-A805-0B1226A7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9A3E6-A219-45FC-8334-BE1C602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1EA5-4C34-4B03-A9F1-E1E52416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6298-D4D4-42B0-8A4A-697CDA94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DF32-D67B-4292-80E6-54EE8B71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0A528-7972-41A5-8D1F-D008202A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B03E6-2B3A-4E8E-B10C-27247C1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D8F1-941F-427B-91DA-5C263F9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B152E-E616-4127-A406-6E56896D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B6B3D-5CE5-4F7E-8F54-6165D353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0B572-ED18-4422-A870-DE740FA7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AE715-32AB-460E-81F0-7C07EAC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3DC3-C934-4937-B3B4-DB5C0C0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4114D-FA6A-4B51-AB77-B247F2A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9C656-AAB6-403B-A5FD-148E0452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FE0DA-75F7-4E68-9BBE-5414F40B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6FE45-E5B5-463B-BB3C-6428CEA0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F2721-94DF-4F2B-914A-BB64DCCB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A53DB-4ECB-4876-A3F8-91969D00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C8D55-5758-490C-A295-8C7A34A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411D4-D58A-4497-96EF-425382D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19327-EA65-492F-A0BE-08071F5C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0057F-17D8-49B5-9410-D5ECEA9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20873-EC4C-4D88-9CFE-C2B1C5A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E795B-7681-4812-B56D-1708FC8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B44C1-4D6C-4E0F-964A-16F2065A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E713A-8C1E-41C8-9E2A-41EF46A9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79FE6-662E-45BB-81E7-318E1AD4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8DA90-5F15-434F-83A0-B1A040B6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ACF1C-C8DD-4D95-ACD6-E4D0D95B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BD58F-30BC-41D6-8177-01B5C57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0F27C-942F-4C21-A876-9666BA52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18783-0697-4A62-9B86-4F6C880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21A49-CAFD-413E-BC42-6FFF6F1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412BF-F5B3-49A9-9837-6459BE4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5D019-8916-40E7-8F39-DC6E7D7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32284-8981-47B1-9F8C-8DC1192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3AC8A-A8AA-4E94-BCAB-7770614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D9661-7E63-48B0-908B-7D87052E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5C2A5-CDD2-40A6-B3AE-63FB7707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54AD1-2BF9-4D05-9CCB-9BB4C05D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EEB-0957-45BC-AC70-44D9DA3B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4E4-6645-46A1-9125-6BDA04C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B27-7D30-478F-9A0B-C0E99553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CC7-8DF2-43E2-AD4C-2875E8F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4F8-51D9-4B18-A676-E4427A0C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758-7705-4E91-9FF5-0C1D66B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978-47CE-4372-8A05-B52B2D8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44C-DF9D-4C08-8216-8130401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FD7-4454-47B4-91FD-876F5A19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BD7-EF7C-4660-8F37-7BDCCB6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F42-EA37-48C5-8E39-966D9F08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D22-7B0D-4E86-B2C2-CCBF8249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BAD-784E-46F2-AD9C-BEFFBCCE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FB27-F660-49FD-A554-6F852D27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6341-C505-4C9D-B0EF-7F73103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91BB-00AE-479B-A75E-CFA651D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20A6-E9B0-46CF-885A-E3D1E674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923-9283-44C1-952B-FC639C9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98ED-EE4D-4399-B5ED-F9BAA449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E34-3074-4AAA-8EC9-C2E35A7C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4F54-B4AF-4AA0-94A0-A4A0BE7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C0DE-C500-4A56-AF77-986152F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6F94-1595-48DD-93D7-D624E542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40A-94DB-4B4D-9220-F3F33731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D967-C4CB-454B-A660-D8273A50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57B2-29E5-4EA3-BEF4-61324D01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D95D-59CF-4C7B-93A3-0D70438B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8A7C-6416-47CE-AACA-7814FF7A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6EDF-70C1-462C-BAD2-D83058A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B9C8-B901-4C07-87EF-1C5B978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E91E-738D-4CB9-BC2B-338A6C2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028C8-8FBD-45F4-91A1-587AE06D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68D9-72E2-49E8-BD2D-27C1CE6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3D68-7AF0-44CB-9832-226FF7C0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762A-097A-47FC-806C-D4B12587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B212-F238-4A0D-8FEF-FD3072C8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77D1-F766-4D77-858A-E1CE88AE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A846-4DCF-4180-8A56-AA9770B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8BFB-CB89-41A9-8DF2-C0059E17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1ACF-771E-45A7-8759-E709150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DE3F-AF6D-4A6B-8880-7B15D8E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21D2-074D-48DD-B63D-31B4AF3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06C8-5228-4959-BC74-BA7C5A9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18DC-AB03-4696-8797-BED3AB9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D492-EC82-464F-9F54-31A6CB1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7B25-06FE-4393-9F4E-1333A813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01BCF-3713-431B-9FA4-661BC99E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E870-C0FA-400E-8310-C5D3341B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D0F1-51A7-4A7C-AD54-DCF2929B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678D-080A-476E-9C3B-6AF2058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ABE0C-CAF9-4FB2-846A-6DC8AB6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5A05-A8C1-4C24-B53B-FFF88311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822C-5CA2-4BF1-879B-F51AD55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129A-FEFA-4C13-BA51-75355706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90D8-32FA-4FC6-8E82-7E3368A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D8E41-E0E3-4F76-B91F-ED22792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E848-A3EF-4DC1-A61D-5BE9B64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CAD1-5388-4702-A1C2-51EE8D36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C05F-A13C-4715-BB50-FC92EF31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2B83-DC67-4ADC-94AE-5DA50F94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F7050-1E3D-4495-9271-A29AB13F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EA21-49AE-4570-BF62-50953252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3AB9-1C05-4627-9292-1BECF1A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B306-B4A7-441E-952D-93670A62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38B9-14CA-4C8F-8BB1-EE6B25C5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7B22-4F7C-4A3C-99CD-9B81383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F78F-C91F-41F9-9971-C89AB05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361F-FD58-4ABE-BFCF-C3310F5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BC56B-C1A7-4143-BEF8-BD2BE7A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757C-3EE9-4B12-8C77-EFA219F4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E5EE6-642C-4D51-BCBB-6C5E6244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926D-E94B-478B-93AE-D9D31427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4817-30A0-47DE-BA2E-A90E0CBF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12B1B-1189-4A8B-8800-6960CAB0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221FB-1719-405B-BAEB-F48ACBBA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ED5F-DDDC-4365-99D8-61BBDF232AE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25F4-C5E2-4942-A46F-3853977083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5D4-9041-4AB5-9953-C5C6C2A7978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302-0B2F-4C42-8257-E34EBF51AB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6EA-87AC-4D5C-836A-B832588058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8C2-6FFE-49A1-8A85-030FCBDDC0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69F5-11E5-4CFD-A472-93E044F5F5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8A365-2FFE-4541-AEEA-EDC9DAEABB0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C6C7-FA71-4438-8F6C-3B12CC2D62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F28-338E-4ABC-BBCB-2D9BBCD8DE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42C-0BD6-4468-AC90-1D6A15A0EBF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C5C-5835-45E4-83BA-BB00612CFFC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BD67-4BF3-40E3-9718-A06C9BE18B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A88-8234-4041-8A5A-2E3A8DD0C9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乘法的估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1889280"/>
            <a:ext cx="686772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找基准数法解决估算销售量的问题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运用估算解决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25480" y="195732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阳光书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售出图书的数量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，这家书店一年大约能售出图书多少本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116000"/>
            <a:ext cx="2809800" cy="668520"/>
            <a:chOff x="595440" y="111600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228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216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16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矩形 26"/>
          <p:cNvSpPr/>
          <p:nvPr/>
        </p:nvSpPr>
        <p:spPr>
          <a:xfrm>
            <a:off x="1452600" y="32846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0≈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0≈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8≈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800280" y="1474920"/>
            <a:ext cx="78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大润发超市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收银台。每个收银台早晚两班，早班平均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购物袋，晚班平均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购物袋。这个超市一个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约用多少包购物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1"/>
          <p:cNvSpPr/>
          <p:nvPr/>
        </p:nvSpPr>
        <p:spPr>
          <a:xfrm>
            <a:off x="1403280" y="364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)×57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×57×30≈10×60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6480" y="1239840"/>
            <a:ext cx="77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希望小学四年级学生去秋游，费用为每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他们准备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钱，请你估算一下，他们准备的钱够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8"/>
          <p:cNvSpPr/>
          <p:nvPr/>
        </p:nvSpPr>
        <p:spPr>
          <a:xfrm>
            <a:off x="1403280" y="31417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×107≈70×1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7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7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　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684360" y="185724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学校组织一次野外旅游，需要租车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租同一种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车：限乘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辆　小车：限乘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次旅游共有师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2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大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如果租大车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辆，大约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；如果租小车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辆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680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矩形 10"/>
          <p:cNvSpPr/>
          <p:nvPr/>
        </p:nvSpPr>
        <p:spPr>
          <a:xfrm>
            <a:off x="3132000" y="4508640"/>
            <a:ext cx="1011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9" descr=""/>
          <p:cNvPicPr/>
          <p:nvPr/>
        </p:nvPicPr>
        <p:blipFill>
          <a:blip r:embed="rId2"/>
          <a:stretch/>
        </p:blipFill>
        <p:spPr>
          <a:xfrm>
            <a:off x="2463840" y="2421000"/>
            <a:ext cx="4611600" cy="1235160"/>
          </a:xfrm>
          <a:prstGeom prst="rect">
            <a:avLst/>
          </a:prstGeom>
          <a:ln w="0">
            <a:noFill/>
          </a:ln>
        </p:spPr>
      </p:pic>
      <p:sp>
        <p:nvSpPr>
          <p:cNvPr id="685" name="矩形 9"/>
          <p:cNvSpPr/>
          <p:nvPr/>
        </p:nvSpPr>
        <p:spPr>
          <a:xfrm>
            <a:off x="7504200" y="4581360"/>
            <a:ext cx="81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11"/>
          <p:cNvSpPr/>
          <p:nvPr/>
        </p:nvSpPr>
        <p:spPr>
          <a:xfrm>
            <a:off x="2703600" y="5084640"/>
            <a:ext cx="1292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矩形 12"/>
          <p:cNvSpPr/>
          <p:nvPr/>
        </p:nvSpPr>
        <p:spPr>
          <a:xfrm>
            <a:off x="6880320" y="5084640"/>
            <a:ext cx="1292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13"/>
          <p:cNvSpPr/>
          <p:nvPr/>
        </p:nvSpPr>
        <p:spPr>
          <a:xfrm>
            <a:off x="1695600" y="5661000"/>
            <a:ext cx="1292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684360" y="105264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租哪种车最省钱，写出你的计算过程，并进行比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这次旅游共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还是按上面的要求，应该租哪种车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12"/>
          <p:cNvSpPr/>
          <p:nvPr/>
        </p:nvSpPr>
        <p:spPr>
          <a:xfrm>
            <a:off x="1187280" y="152892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8÷50≈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×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8÷30≈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×3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　租小车最省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14"/>
          <p:cNvSpPr/>
          <p:nvPr/>
        </p:nvSpPr>
        <p:spPr>
          <a:xfrm>
            <a:off x="1187280" y="426708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÷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 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3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租大车最省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9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9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32:58Z</dcterms:modified>
  <cp:revision>1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