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3C3D0-8964-4747-B3BD-01E60893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7580F0-EDF7-4111-BCFD-70B7DF22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FAE9D-AFB0-49EA-8480-619C5FE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5DBB5-A052-4683-A351-D77A2C70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C54FCB-323C-43D1-AEAF-7C4F1433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2DF25-C9C2-436F-AE8F-8FB07D76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0DD49-4134-4F28-BA98-A28FFC2E9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637BC-F473-4B3F-890C-601E3073F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B71FDA-C880-4749-9215-9D55533C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D88E6-1573-4065-9BBD-05A0C117A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BCF1E8-DC92-4B4F-9213-502D65DD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9A525-F6B1-4BF1-9C96-4E7EC01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F6C846-FBF0-4589-A2CC-4F0F3574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24BAA-0503-453D-90E2-E4B29284F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DC5564-BB4F-4B28-90CA-1A113B42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66013-81DE-49B2-89A8-B16BBB7B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798B83-21F7-48B2-942B-091CDA28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69107-F221-47AB-B2AE-0D3DFFD6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D7BFF-504F-42EF-BC81-0B8D0052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1A6F19-F681-4A93-AEF0-9E16FC895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9D99BA-2038-4067-ADCE-46C1056D1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703B2-607A-4E1E-801B-49EF2AB5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2685F-1393-46C1-A0D5-12862249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938CC4-5758-4AF9-AD44-1C8F5ED8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BF4D3-DB0C-492E-A3A7-C5F74E668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14C419-27A1-4646-BD5C-29A95DDE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69CCC-B8CB-4FF9-B7D0-99D10F200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2115D1-0489-477C-AD24-58381122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6A4DB-F6D7-4C48-B071-8A13333DE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E2A117-CECE-4A60-8526-17430CCB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BC8D85-61A8-4F20-9483-C3AD656AB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BE0C80-3F2B-444D-8BF9-883BF8017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A780E-EB2C-4A01-835B-A893F6E52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1DFE94-B23D-41DD-9439-DB320DB2A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994A9-2015-43E8-A2C3-A696B21AD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84A5D0-61A9-445B-B91B-2709864D6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C2CBDF-6A4A-4E57-BBC7-90B4998D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878E91-8222-45E3-B703-78312C45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821464-37A1-4553-936D-EE50EAFEE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7CC00E-CC61-433A-90D9-01F0B69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E5A8FD-5A14-4485-B019-562FCC22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9A108C-CC96-4C9A-8178-5C25E66B1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3F4161-77BA-424F-BD61-46850033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131C7A-6516-4B20-9791-033109250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CCB63-0910-455A-8D4E-FCDB3CF6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996861-AD94-48A1-904D-CA44EC44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DAB01-7AF6-43AA-A5B0-1EE6FAF5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347CF0-DF1C-4584-8C9A-DC2B6335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57A981-A7BF-436A-AFFB-BED48E257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0E587-0196-4761-BF6C-643855744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FF1511-8D3A-41C0-8627-832D1924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1B9923-FC52-4703-BE97-B7885F6B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C0E23-109C-48E3-8788-85E9DC49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FAA73-38B5-4493-88EA-A5F4B7CE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916D8-6F88-4964-8D86-9CD3E125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15A51-CC3A-4D42-B642-E1552313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5E026-732F-40AB-97E6-B1A1F6123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8B5EA1-5E7E-4D31-9CE9-B5094ACB8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00DC68-852F-4464-80C9-A2596DBBD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415FF9-404C-4AF9-87F9-226E2FA8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5779D-05C9-4887-A1C1-96DD7B1B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440EC-C2B9-46F6-8417-B9B85B89A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F99B97-02FB-4EEF-B6A2-5F079A59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4A248-E3DB-40ED-96A1-8CF10CC90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9821AD-41DE-4E1F-9478-675700CF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EE35F-3F21-44D3-80D1-AD1A8A438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8E6B25-B966-4ED7-B977-4EB650278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06725A-E752-46CC-871C-5F981F028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153449-9627-4F27-87F4-1B32202F8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3A17E4-7F35-42DF-8724-9C8ADEDDB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0F330F-CE67-4441-A614-7DD28498B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977652-29E8-4C33-A73A-9D26546E0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B0A54C-5AE6-4E99-B97D-9D76944B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3B7E84-6C45-4854-BEED-5BA10F09E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21FCA0-F39B-401E-9FAD-B99D3E7F5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21232-AE6C-4A59-84D7-5BD2031B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4F442E-A4B0-447A-AD29-A12E0D2D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2CF2FD-D4E7-49AB-8270-1FD6DEC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F048E6-562C-4D31-B4B4-1B00E3FD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A4AC89-304D-4957-8436-AFBC7E0C5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B9001E-980C-4714-B6FD-4999F9A9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51B64D-F62A-4612-A6FE-6E0D70CCD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499A70-9380-4AB6-9137-7205C0B7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A1D01-5799-479B-8AC1-0AB36C32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635AD-9A0F-4258-80A7-D54F88E8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5D69AE-87D1-4B9A-B102-F5DC958B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4D2A0D-AC2D-44D5-ABFD-B7C2BFD7C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C378D4-2ACB-454F-A39D-D9B6CAF02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3DC69D-7F04-4DFD-99B9-3F38E576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93A879-EEE3-44FF-A205-FF24177D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84BFF5-9015-4A34-A3E7-9C9C3555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AD275C-B22D-488C-BD52-E37A29109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6D0434-1149-47C4-AD6D-6268B05A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02151-0D68-4395-B1DD-F340797E1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BDBB-854D-4EC4-BA45-98EAD4F1A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1BDA-1567-48D2-99DD-8F493909C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8FAF-F727-48FC-9EAC-423AEAE0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C219-0A97-47C0-98A1-397DD987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DF2E-8C53-4938-81C2-3E65C810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672F-D811-4B96-8ECE-B8BD9C12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22CD-E2EE-4E43-BDA0-A4B57625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9439-B514-477D-A826-D93AAF49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B54-ED66-4410-8925-6F7D8DF4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8BCB-2D1A-44BE-B3D3-54923CA08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2F17-68F9-4929-86CC-DE7EAA1D0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F563-E4C9-4D50-BEB9-F285FBB4A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9F00F-DC10-481F-A281-12A3AD099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900-BF30-4403-AFDD-D3EDB321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B57FE-296E-44A1-BEBC-C9C02D71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0AB12-E707-49B6-97AD-C5DF90C2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DC53-7B3A-48DE-9F44-57874BA2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EF9C8-FFD1-42E0-AE23-3B23F4D0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A3F84-EAB1-487E-93EE-5AF6C3E3E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22873-6682-4980-A0AC-BFE70C99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5468F-5817-4A8B-A0F0-D4FF25F03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7B0A2-1782-4AB7-BAF9-7ACA41A5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205CC-F336-4773-9FFC-469051B72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50E0B-3054-4500-8CC4-EC1EC0FF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FB063-AEB3-4ABB-BFDE-BE1E2FD13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8922-87A0-48DE-A8BF-498D95DC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D5E86-3124-4A4C-AC62-76871A478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FA607-D65A-42DD-BB6A-A4F702B08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3DA74-8BE6-4990-89EF-5D9337F38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52B0CB-AEC3-4F2F-9294-56C194D8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ABEEF-2C62-46A1-8BA9-DE5ABA57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66C3F-A916-49FD-A953-5F7D16C6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A74D7-B2E8-4108-9461-1A40A0854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52A66-91A5-40DE-A207-C2169BD5E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023A-F17B-4244-84CF-8803B0E6F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918FD-852F-4633-AA3D-3664691C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BBD80-62B9-4C16-82A1-579B18700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1CEF8-B050-405C-8ECB-A6F57775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1C91-7B3F-4CE0-87F6-0AB9ACD6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588C7-F70B-401A-89C7-B80B4D31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2BAFA-C0AA-431E-A44D-8B270082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AA942-35D1-4173-8FC6-7F741CE9C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47E1A-B197-4EB6-A5F8-CFDD8CCF9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B9787-0310-47DA-8085-F11E76A7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1BF2B-1008-41C5-AA40-7C2ABD6D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1DAC-FB8A-4FC7-A3FB-F85C880C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5C51C-90D5-49EA-82EB-ECEFB13E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711845-B659-4E0C-A00C-043DB6421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CFE871-7CE6-4D86-8BCE-3CFEB3636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98FACE-566F-4508-90E5-E48273113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21E9A9-50BD-41FC-BEDC-34A5662A0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23FEA-BAF6-4412-91F5-1FB31A73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2F902-BC67-477C-A8C8-9051DD71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482D0-E9BC-42A0-988F-7103DCD9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C9329-586F-4C77-BBE9-4F5CE725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C62A99-DDA0-490B-A4F2-BBA86250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F84892-C330-45B4-B2C8-B767DB9AC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4FED1-4267-4257-A6FB-E4D847E1F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06AB9-8003-4530-BDEC-05EE6E1E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5950F-C7A0-4DDE-B90E-052B23C7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53457-40CA-4124-BC19-4E41E30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9FAA0-77D0-4288-BE48-DFD8489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5EEB5-E622-4CED-9B3B-377B531C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CB0689-8556-4347-B537-DB4507328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2D65DB-E910-45B9-9566-7ECD32F2C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99536-4E16-4855-931B-E84BB6A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533FD-40D5-474D-9A94-D14D96DD6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6ED45-11FA-4D17-9E2C-24D6CA09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F63BF-EB31-408C-BBBF-85BA3A448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CE765-CDAB-4082-A3FD-BD7335DB5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5B9A34-177C-419B-A48F-6B03AEEAB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B4E7B-5A69-419D-AC04-9D67540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21973-C62A-42D9-893A-7DF97442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2C245-100C-4832-A722-43776E59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AA94-9BB4-4D14-A481-F271A867753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B2E7-CAC3-4281-AB6B-04FC93291EAF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8BE7-5C52-434C-89DA-141597EA301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F91B3-58DB-41BD-8DDB-997AC96E8E3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9F22A-2475-436C-964E-EDF07AD8377A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09ABD-2E8B-4359-8851-46F5C98F412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C075-3724-4888-BC02-E947E2225A1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2A0CE-0D34-48DF-9B1A-4B7A01E5693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F6B1-B609-4929-A0D5-88FBF523B6F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dt" idx="7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ftr" idx="8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 type="sldNum" idx="9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4A313-0958-45FD-9C06-862B3206A3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2726-519C-474C-91B3-3960139F5B9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6BF2-8586-460F-9520-BDDF55DD8CF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E383-2844-4891-A748-F6C606A6E43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55321-7304-4C31-B531-AC3B735D5E5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5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646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7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649" name="TextBox 3"/>
          <p:cNvSpPr/>
          <p:nvPr/>
        </p:nvSpPr>
        <p:spPr>
          <a:xfrm>
            <a:off x="495360" y="1251000"/>
            <a:ext cx="81532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三位数乘两位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TextBox 4"/>
          <p:cNvSpPr/>
          <p:nvPr/>
        </p:nvSpPr>
        <p:spPr>
          <a:xfrm>
            <a:off x="3851280" y="592200"/>
            <a:ext cx="4678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三     三位数乘两位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1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652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654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四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5" name="椭圆 40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6" name="椭圆 41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7" name="椭圆 42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658" name="椭圆 43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59" name="椭圆 44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660" name="椭圆 45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  <p:sp>
        <p:nvSpPr>
          <p:cNvPr id="661" name="TextBox 22"/>
          <p:cNvSpPr/>
          <p:nvPr/>
        </p:nvSpPr>
        <p:spPr>
          <a:xfrm>
            <a:off x="3656880" y="37116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f81bd"/>
                </a:solidFill>
                <a:latin typeface="Calibri"/>
                <a:ea typeface="宋体"/>
              </a:rPr>
              <a:t>作业习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731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2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733" name="矩形 3"/>
          <p:cNvSpPr/>
          <p:nvPr/>
        </p:nvSpPr>
        <p:spPr>
          <a:xfrm>
            <a:off x="7029360" y="6553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Arial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4" name="矩形 12" descr=""/>
          <p:cNvPicPr/>
          <p:nvPr/>
        </p:nvPicPr>
        <p:blipFill>
          <a:blip r:embed="rId4"/>
          <a:stretch/>
        </p:blipFill>
        <p:spPr>
          <a:xfrm>
            <a:off x="2031840" y="1328760"/>
            <a:ext cx="52912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2"/>
          <p:cNvSpPr/>
          <p:nvPr/>
        </p:nvSpPr>
        <p:spPr>
          <a:xfrm>
            <a:off x="1233360" y="1889280"/>
            <a:ext cx="686772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三位数乘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积的规律　　　　　　　　　　　　　　　　　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笔算三位数乘两位数解决实际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4600" indent="-4446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应用笔算乘法解决面积问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3" name="组 45"/>
          <p:cNvGrpSpPr/>
          <p:nvPr/>
        </p:nvGrpSpPr>
        <p:grpSpPr>
          <a:xfrm>
            <a:off x="603360" y="1168560"/>
            <a:ext cx="3119400" cy="795960"/>
            <a:chOff x="603360" y="1168560"/>
            <a:chExt cx="3119400" cy="795960"/>
          </a:xfrm>
        </p:grpSpPr>
        <p:sp>
          <p:nvSpPr>
            <p:cNvPr id="664" name="AutoShape 2"/>
            <p:cNvSpPr/>
            <p:nvPr/>
          </p:nvSpPr>
          <p:spPr>
            <a:xfrm>
              <a:off x="1241640" y="1529280"/>
              <a:ext cx="2188800" cy="40932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5" name="AutoShape 11"/>
            <p:cNvSpPr/>
            <p:nvPr/>
          </p:nvSpPr>
          <p:spPr>
            <a:xfrm>
              <a:off x="603360" y="1168560"/>
              <a:ext cx="844560" cy="72072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6" name="文本框 48"/>
            <p:cNvSpPr/>
            <p:nvPr/>
          </p:nvSpPr>
          <p:spPr>
            <a:xfrm>
              <a:off x="1290960" y="150480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  <a:ea typeface="Adobe 黑体 Std R"/>
                </a:rPr>
                <a:t>作业提升方向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8"/>
          <p:cNvSpPr/>
          <p:nvPr/>
        </p:nvSpPr>
        <p:spPr>
          <a:xfrm>
            <a:off x="825480" y="1816200"/>
            <a:ext cx="79945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认真观察，发现规律，再根据规律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发现规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4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1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5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7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7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2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69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35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　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65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85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运用规律直接写出算式的结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1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34×1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73040" indent="-4730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×367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　　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1×45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8" name="组合 1"/>
          <p:cNvGrpSpPr/>
          <p:nvPr/>
        </p:nvGrpSpPr>
        <p:grpSpPr>
          <a:xfrm>
            <a:off x="595440" y="1116000"/>
            <a:ext cx="2809800" cy="668520"/>
            <a:chOff x="595440" y="1116000"/>
            <a:chExt cx="2809800" cy="668520"/>
          </a:xfrm>
        </p:grpSpPr>
        <p:sp>
          <p:nvSpPr>
            <p:cNvPr id="669" name="圆角矩形 13"/>
            <p:cNvSpPr/>
            <p:nvPr/>
          </p:nvSpPr>
          <p:spPr>
            <a:xfrm>
              <a:off x="1479600" y="122868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文本框 13"/>
            <p:cNvSpPr/>
            <p:nvPr/>
          </p:nvSpPr>
          <p:spPr>
            <a:xfrm>
              <a:off x="1479600" y="121608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提升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7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116000"/>
              <a:ext cx="1087200" cy="66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2" name="矩形 6"/>
          <p:cNvSpPr/>
          <p:nvPr/>
        </p:nvSpPr>
        <p:spPr>
          <a:xfrm>
            <a:off x="2265480" y="37497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矩形 16"/>
          <p:cNvSpPr/>
          <p:nvPr/>
        </p:nvSpPr>
        <p:spPr>
          <a:xfrm>
            <a:off x="3346560" y="374976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3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矩形 17"/>
          <p:cNvSpPr/>
          <p:nvPr/>
        </p:nvSpPr>
        <p:spPr>
          <a:xfrm>
            <a:off x="4425840" y="37497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8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矩形 18"/>
          <p:cNvSpPr/>
          <p:nvPr/>
        </p:nvSpPr>
        <p:spPr>
          <a:xfrm>
            <a:off x="2276640" y="42116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矩形 21"/>
          <p:cNvSpPr/>
          <p:nvPr/>
        </p:nvSpPr>
        <p:spPr>
          <a:xfrm>
            <a:off x="3346560" y="4221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6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矩形 22"/>
          <p:cNvSpPr/>
          <p:nvPr/>
        </p:nvSpPr>
        <p:spPr>
          <a:xfrm>
            <a:off x="4429080" y="4221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矩形 23"/>
          <p:cNvSpPr/>
          <p:nvPr/>
        </p:nvSpPr>
        <p:spPr>
          <a:xfrm>
            <a:off x="2265480" y="468468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8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矩形 24"/>
          <p:cNvSpPr/>
          <p:nvPr/>
        </p:nvSpPr>
        <p:spPr>
          <a:xfrm>
            <a:off x="3346560" y="4653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68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矩形 25"/>
          <p:cNvSpPr/>
          <p:nvPr/>
        </p:nvSpPr>
        <p:spPr>
          <a:xfrm>
            <a:off x="4425840" y="4653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53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矩形 26"/>
          <p:cNvSpPr/>
          <p:nvPr/>
        </p:nvSpPr>
        <p:spPr>
          <a:xfrm>
            <a:off x="2265480" y="55497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33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矩形 27"/>
          <p:cNvSpPr/>
          <p:nvPr/>
        </p:nvSpPr>
        <p:spPr>
          <a:xfrm>
            <a:off x="4425840" y="55497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2574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矩形 28"/>
          <p:cNvSpPr/>
          <p:nvPr/>
        </p:nvSpPr>
        <p:spPr>
          <a:xfrm>
            <a:off x="2265480" y="6021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03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矩形 29"/>
          <p:cNvSpPr/>
          <p:nvPr/>
        </p:nvSpPr>
        <p:spPr>
          <a:xfrm>
            <a:off x="4425840" y="602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503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8"/>
          <p:cNvSpPr/>
          <p:nvPr/>
        </p:nvSpPr>
        <p:spPr>
          <a:xfrm>
            <a:off x="800280" y="1474920"/>
            <a:ext cx="78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张叔叔要为公司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套工作服，一共需要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矩形 22"/>
          <p:cNvSpPr/>
          <p:nvPr/>
        </p:nvSpPr>
        <p:spPr>
          <a:xfrm>
            <a:off x="1503360" y="2492280"/>
            <a:ext cx="38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8)×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495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7" name="Picture 18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972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8"/>
          <p:cNvSpPr/>
          <p:nvPr/>
        </p:nvSpPr>
        <p:spPr>
          <a:xfrm>
            <a:off x="636480" y="1413000"/>
            <a:ext cx="7842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有一片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顷的阔叶林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注：公顷是面积单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片阔叶林一年约吸收多少吨二氧化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片阔叶林一天约放出多少千克氧气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矩形 8"/>
          <p:cNvSpPr/>
          <p:nvPr/>
        </p:nvSpPr>
        <p:spPr>
          <a:xfrm>
            <a:off x="1042920" y="421020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5×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577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0" name="Picture 19" descr=""/>
          <p:cNvPicPr/>
          <p:nvPr/>
        </p:nvPicPr>
        <p:blipFill>
          <a:blip r:embed="rId1"/>
          <a:stretch/>
        </p:blipFill>
        <p:spPr>
          <a:xfrm>
            <a:off x="1379520" y="2060640"/>
            <a:ext cx="4970520" cy="1647720"/>
          </a:xfrm>
          <a:prstGeom prst="rect">
            <a:avLst/>
          </a:prstGeom>
          <a:ln w="0">
            <a:noFill/>
          </a:ln>
        </p:spPr>
      </p:pic>
      <p:sp>
        <p:nvSpPr>
          <p:cNvPr id="691" name="矩形 6"/>
          <p:cNvSpPr/>
          <p:nvPr/>
        </p:nvSpPr>
        <p:spPr>
          <a:xfrm>
            <a:off x="1116000" y="530064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52×9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369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8"/>
          <p:cNvSpPr/>
          <p:nvPr/>
        </p:nvSpPr>
        <p:spPr>
          <a:xfrm>
            <a:off x="636480" y="141300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果园里种植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棵桃树，苹果树的棵数是桃树的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，两种树共有多少棵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矩形 5"/>
          <p:cNvSpPr/>
          <p:nvPr/>
        </p:nvSpPr>
        <p:spPr>
          <a:xfrm>
            <a:off x="1258920" y="2573280"/>
            <a:ext cx="63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＋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46×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650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8"/>
          <p:cNvSpPr/>
          <p:nvPr/>
        </p:nvSpPr>
        <p:spPr>
          <a:xfrm>
            <a:off x="636480" y="1457280"/>
            <a:ext cx="78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学校要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个同一类型的鼠标，李老师带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元钱，可以买哪一种？还剩下多少钱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矩形 5"/>
          <p:cNvSpPr/>
          <p:nvPr/>
        </p:nvSpPr>
        <p:spPr>
          <a:xfrm>
            <a:off x="1328760" y="4076640"/>
            <a:ext cx="641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只能买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的那一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3×14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86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00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68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1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元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6" name="Picture 6" descr=""/>
          <p:cNvPicPr/>
          <p:nvPr/>
        </p:nvPicPr>
        <p:blipFill>
          <a:blip r:embed="rId1"/>
          <a:stretch/>
        </p:blipFill>
        <p:spPr>
          <a:xfrm>
            <a:off x="2341440" y="2666880"/>
            <a:ext cx="4246560" cy="12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8"/>
          <p:cNvSpPr/>
          <p:nvPr/>
        </p:nvSpPr>
        <p:spPr>
          <a:xfrm>
            <a:off x="636480" y="1457280"/>
            <a:ext cx="768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一个长方形花圃的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宽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现在如果把宽增加到和长一样长，将花圃变为正方形，面积将增加多少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矩形 5"/>
          <p:cNvSpPr/>
          <p:nvPr/>
        </p:nvSpPr>
        <p:spPr>
          <a:xfrm>
            <a:off x="1282680" y="3213000"/>
            <a:ext cx="573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答：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2×(13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3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42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平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9" name="组合 8"/>
          <p:cNvGrpSpPr/>
          <p:nvPr/>
        </p:nvGrpSpPr>
        <p:grpSpPr>
          <a:xfrm>
            <a:off x="3059640" y="2592360"/>
            <a:ext cx="2376000" cy="3140280"/>
            <a:chOff x="3059640" y="2592360"/>
            <a:chExt cx="2376000" cy="3140280"/>
          </a:xfrm>
        </p:grpSpPr>
        <p:sp>
          <p:nvSpPr>
            <p:cNvPr id="700" name="Text Box 38"/>
            <p:cNvSpPr/>
            <p:nvPr/>
          </p:nvSpPr>
          <p:spPr>
            <a:xfrm>
              <a:off x="3410640" y="3793320"/>
              <a:ext cx="180000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Rectangle 60"/>
            <p:cNvSpPr/>
            <p:nvPr/>
          </p:nvSpPr>
          <p:spPr>
            <a:xfrm>
              <a:off x="3067920" y="33285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2" name="Line 65"/>
            <p:cNvSpPr/>
            <p:nvPr/>
          </p:nvSpPr>
          <p:spPr>
            <a:xfrm>
              <a:off x="3059640" y="3768480"/>
              <a:ext cx="2304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3" name="Text Box 23"/>
            <p:cNvSpPr/>
            <p:nvPr/>
          </p:nvSpPr>
          <p:spPr>
            <a:xfrm>
              <a:off x="3131640" y="5258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Text Box 23"/>
            <p:cNvSpPr/>
            <p:nvPr/>
          </p:nvSpPr>
          <p:spPr>
            <a:xfrm>
              <a:off x="4042080" y="39272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Text Box 23"/>
            <p:cNvSpPr/>
            <p:nvPr/>
          </p:nvSpPr>
          <p:spPr>
            <a:xfrm>
              <a:off x="4500360" y="26006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Text Box 23"/>
            <p:cNvSpPr/>
            <p:nvPr/>
          </p:nvSpPr>
          <p:spPr>
            <a:xfrm>
              <a:off x="3583800" y="392688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Text Box 23"/>
            <p:cNvSpPr/>
            <p:nvPr/>
          </p:nvSpPr>
          <p:spPr>
            <a:xfrm>
              <a:off x="4932360" y="259416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矩形 83"/>
            <p:cNvSpPr/>
            <p:nvPr/>
          </p:nvSpPr>
          <p:spPr>
            <a:xfrm>
              <a:off x="4921200" y="317016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矩形 83"/>
            <p:cNvSpPr/>
            <p:nvPr/>
          </p:nvSpPr>
          <p:spPr>
            <a:xfrm>
              <a:off x="4469040" y="317160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矩形 83"/>
            <p:cNvSpPr/>
            <p:nvPr/>
          </p:nvSpPr>
          <p:spPr>
            <a:xfrm>
              <a:off x="4479840" y="389592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矩形 83"/>
            <p:cNvSpPr/>
            <p:nvPr/>
          </p:nvSpPr>
          <p:spPr>
            <a:xfrm>
              <a:off x="4469040" y="450720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矩形 83"/>
            <p:cNvSpPr/>
            <p:nvPr/>
          </p:nvSpPr>
          <p:spPr>
            <a:xfrm>
              <a:off x="4019400" y="450720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矩形 83"/>
            <p:cNvSpPr/>
            <p:nvPr/>
          </p:nvSpPr>
          <p:spPr>
            <a:xfrm>
              <a:off x="3584520" y="4507200"/>
              <a:ext cx="3776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Line 65"/>
            <p:cNvSpPr/>
            <p:nvPr/>
          </p:nvSpPr>
          <p:spPr>
            <a:xfrm>
              <a:off x="3059640" y="5136480"/>
              <a:ext cx="237600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5" name="矩形 83"/>
            <p:cNvSpPr/>
            <p:nvPr/>
          </p:nvSpPr>
          <p:spPr>
            <a:xfrm>
              <a:off x="4498920" y="522648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6" name="矩形 83"/>
            <p:cNvSpPr/>
            <p:nvPr/>
          </p:nvSpPr>
          <p:spPr>
            <a:xfrm>
              <a:off x="3112920" y="4497480"/>
              <a:ext cx="3776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7" name="矩形 83"/>
            <p:cNvSpPr/>
            <p:nvPr/>
          </p:nvSpPr>
          <p:spPr>
            <a:xfrm>
              <a:off x="4049640" y="522648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8" name="矩形 83"/>
            <p:cNvSpPr/>
            <p:nvPr/>
          </p:nvSpPr>
          <p:spPr>
            <a:xfrm>
              <a:off x="3962520" y="259236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9" name="Text Box 23"/>
            <p:cNvSpPr/>
            <p:nvPr/>
          </p:nvSpPr>
          <p:spPr>
            <a:xfrm>
              <a:off x="4991760" y="525204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0" name="Text Box 23"/>
            <p:cNvSpPr/>
            <p:nvPr/>
          </p:nvSpPr>
          <p:spPr>
            <a:xfrm>
              <a:off x="3623400" y="5239800"/>
              <a:ext cx="28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1" name="矩形 83"/>
            <p:cNvSpPr/>
            <p:nvPr/>
          </p:nvSpPr>
          <p:spPr>
            <a:xfrm>
              <a:off x="4938840" y="3895920"/>
              <a:ext cx="379440" cy="506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2" name="Rectangle 8"/>
          <p:cNvSpPr/>
          <p:nvPr/>
        </p:nvSpPr>
        <p:spPr>
          <a:xfrm>
            <a:off x="684360" y="18669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在下面方框中填入合适的数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3" name="组合 1"/>
          <p:cNvGrpSpPr/>
          <p:nvPr/>
        </p:nvGrpSpPr>
        <p:grpSpPr>
          <a:xfrm>
            <a:off x="595440" y="1052640"/>
            <a:ext cx="2809800" cy="668160"/>
            <a:chOff x="595440" y="1052640"/>
            <a:chExt cx="2809800" cy="668160"/>
          </a:xfrm>
        </p:grpSpPr>
        <p:sp>
          <p:nvSpPr>
            <p:cNvPr id="724" name="圆角矩形 7"/>
            <p:cNvSpPr/>
            <p:nvPr/>
          </p:nvSpPr>
          <p:spPr>
            <a:xfrm>
              <a:off x="1479600" y="1165320"/>
              <a:ext cx="19256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a98e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d4ad86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5" name="文本框 13"/>
            <p:cNvSpPr/>
            <p:nvPr/>
          </p:nvSpPr>
          <p:spPr>
            <a:xfrm>
              <a:off x="1479600" y="1152360"/>
              <a:ext cx="192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zh-CN" sz="24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作业拓展练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2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95440" y="1052640"/>
              <a:ext cx="1087200" cy="668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27" name="矩形 10"/>
          <p:cNvSpPr/>
          <p:nvPr/>
        </p:nvSpPr>
        <p:spPr>
          <a:xfrm>
            <a:off x="3132000" y="2382840"/>
            <a:ext cx="312588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   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8    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    0    0    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9    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8T01:54:42Z</dcterms:created>
  <dc:creator>Administrator</dc:creator>
  <dc:description/>
  <dc:language>en-US</dc:language>
  <cp:lastModifiedBy>相忘于江湖</cp:lastModifiedBy>
  <dcterms:modified xsi:type="dcterms:W3CDTF">2018-01-14T13:28:32Z</dcterms:modified>
  <cp:revision>17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